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DCD-8CE9-4C4E-8E76-34884BAA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94A-213C-49D5-81D6-14C8B5D6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47F-FEFF-4E35-9B80-BA54CC99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004-4AC0-4D9C-B476-2A397F58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540-08F3-4C3E-B358-3EEF14A4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0CC-B049-4EE4-B2D0-FF2E6792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6F3-AF83-434D-810C-EEAD77C9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E6C-29BC-4AC8-A3F6-2C01C8F4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F79-3752-4889-9DBA-B7BC2434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4AB-EB8C-424E-B650-4E6C04E6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7BA-2205-435D-B856-B80416FE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494-851D-4030-ADD5-38A7BEF4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765B-B67C-4D75-9FAB-434B7F0A0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271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413000"/>
            <a:ext cx="8610480" cy="42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Detección de las “verdaderas” necesidades de nuestr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Taller organizado por la Comisión de Problemática del Pequeño y Mediano Estudio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14 de septiembre de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6324480"/>
            <a:ext cx="1218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434440" y="0"/>
            <a:ext cx="6872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705720" y="6324480"/>
            <a:ext cx="1218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239920"/>
            <a:ext cx="2819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0600"/>
            <a:ext cx="62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Nuestra actitud frente a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434440" y="0"/>
            <a:ext cx="709560" cy="555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6553080"/>
            <a:ext cx="5410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3399"/>
                </a:solidFill>
                <a:latin typeface="Tahoma"/>
              </a:rPr>
              <a:t>Las verdaderas necesidades de nuestros cli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268280"/>
            <a:ext cx="2578320" cy="82548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1268280"/>
            <a:ext cx="2577960" cy="82548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708280"/>
            <a:ext cx="5000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2565360"/>
            <a:ext cx="35272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</a:rPr>
              <a:t>Generamos acción a partir de una solicitud explícita de nuestro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</a:rPr>
              <a:t>Somos observadores de la realidad de nuestro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</a:rPr>
              <a:t>Estamos preparados para reaccio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</a:rPr>
              <a:t>Creemos que nuestro rol es fij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10120" y="2492280"/>
            <a:ext cx="3524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</a:rPr>
              <a:t>Estamos permanentemente reflexionando acerca de las formas de proponer acciones para agregar va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</a:rPr>
              <a:t>Aspiramos a ser “socios” de nuestros clientes, aportando valor a través de nuestros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</a:rPr>
              <a:t>Estamos entrenados para preveer y gerenciar soluciones a nuestros 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ahoma"/>
              </a:rPr>
              <a:t>Consideramos que nuestro rol es flexible y se adapta a las neces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11640" y="3645000"/>
            <a:ext cx="6476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4653000"/>
            <a:ext cx="5000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067280" y="5229000"/>
            <a:ext cx="415800" cy="46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705720" y="6324480"/>
            <a:ext cx="1218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860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39920"/>
            <a:ext cx="2819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434440" y="0"/>
            <a:ext cx="709560" cy="555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6553080"/>
            <a:ext cx="5410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Las entrevistas que mantenemos con nuestro cliente son oportunidades únicas que tenemos para detectar las neces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Resulta útil planificar las reuniones: establecer los objetivos y duración de las mismas, consensuando previamente estos aspectos con el cl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Para poder aprovechar al máximo estas reuniones debemos entrenarnos en la “escucha”: entendida como un proceso en el que nos abrimos para informarnos acerca de la problemática y preocupaciones de nuestro cl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Es importante observar atentamente a nuestro interlocu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Puede ser de gran utilidad tomar nota por escrito de lo que está sucediend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2060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as “verdaderas” necesidades: sabemos escuch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6597720"/>
            <a:ext cx="54100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3399"/>
                </a:solidFill>
                <a:latin typeface="Tahoma"/>
              </a:rPr>
              <a:t>Las verdaderas necesidades de nuestros cli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705720" y="6324480"/>
            <a:ext cx="1218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2860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239920"/>
            <a:ext cx="2819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434440" y="0"/>
            <a:ext cx="709560" cy="5554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Una vez que hemos escuchado atentamente a nuestro interlocutor es importante “chequear el lenguaje”: esto significa hacer preguntas para asegurarnos de que comprendimos lo que nos fue comun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Preguntas de este tipo son: Ud quiso decir con esto que las ventas no crecieron lo suficiente? o Qué es para Ud un bajo rendimie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Una vez que creemos haber comprendido el planteo de nuestro cliente es importante saber preguntar para profundizar acerca del tema plante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7840" y="12060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as “verdaderas” necesidades: sabemos escuch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6597720"/>
            <a:ext cx="54100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3399"/>
                </a:solidFill>
                <a:latin typeface="Tahoma"/>
              </a:rPr>
              <a:t>Las verdaderas necesidades de nuestros cli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705720" y="6324480"/>
            <a:ext cx="1218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239920"/>
            <a:ext cx="2819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434440" y="0"/>
            <a:ext cx="709560" cy="555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Muchas veces nuestro cliente cree conocer cuáles son sus neces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Sin embargo, si comenzamos a profundizar en la problemática que nos plantea podemos llegar a la conclusión de que hay necesidades “ocultas” o que requieren de un proceso más profundo para ser detect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Por ello es importante que utilicemos la pregunta en forma efectiva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conocer en forma detallada cuáles son las necesidades re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Por ejemplo: un cliente nos plantea que quiere cambiar el sistema de gestión de la empresa debido a los atrasos reiterados verificados en la utilización del mismo. En cuanto comenzamos a indagar sobre el tema detectamos que el personal no ha sido entrenado en el uso del nuevo sistema y sugerimos un plan de capaci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7840" y="12060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as “verdaderas” necesidades: sabemos pregunt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6597720"/>
            <a:ext cx="54100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3399"/>
                </a:solidFill>
                <a:latin typeface="Tahoma"/>
              </a:rPr>
              <a:t>Las verdaderas necesidades de nuestros cli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705720" y="6324480"/>
            <a:ext cx="1218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860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239920"/>
            <a:ext cx="2819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434440" y="0"/>
            <a:ext cx="709560" cy="555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Es conveniente que hagamos un relevamiento de los distintos procesos administrativos que se llevan a cabo en la empresa para verificar su efica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Es altamente recomendable realizar un estudio del negocio: a qué se dedica nuestro cliente? En qué mercado se desenvuelve? Quiénes sus clientes y proveedo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Podemos volcar nuestro trabajo de investigación en un informe, gráfico para clarificar conceptos y comprender el sistema dentro del cual actúa nuestro cl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Si nos hemos comprometido a hacer averiguaciones, consultas, etc de cualquier tipo es importante que respondamos en tiempo y for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Pedir y proporcionar feedback: es una herramienta útil para saber “dónde estamos” en el proce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840" y="12060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Qué herramientas pueden resultarnos útil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6597720"/>
            <a:ext cx="54100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3399"/>
                </a:solidFill>
                <a:latin typeface="Tahoma"/>
              </a:rPr>
              <a:t>Las verdaderas necesidades de nuestros cli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705720" y="6324480"/>
            <a:ext cx="1218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860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239920"/>
            <a:ext cx="2819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434440" y="0"/>
            <a:ext cx="709560" cy="5554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El estudio del negocio de nuestro cliente nos permitirá tomar un rol activo en nuestro quehacer profe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Esto significa que estaremos en condiciones de proponer nuevas alternativas de servicios que permitan agregar valor a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Una comunicación continua con nuestro cliente nos permitirá detectar las verdaderas necesidades a medida que van apareciendo y la posibilidad de ofrecer una amplia gama de servicios para satisfacerlas en el fut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Debemos tener cuidado de no generar falsas expectativas: siempre es conveniente manejarse con prud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Una actitud proactiva significa más y mejor comunicación lo cual redunda en una mejor calidad de nuestra at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Este proceso significa que vamos a trabajar con otros colaborativamente lo cual supone que debemos estar preparados para trabajar en equ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7840" y="12060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ara qué realizamos este diagnóstic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6597720"/>
            <a:ext cx="54100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3399"/>
                </a:solidFill>
                <a:latin typeface="Tahoma"/>
              </a:rPr>
              <a:t>Las verdaderas necesidades de nuestros cli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18:09:09Z</dcterms:created>
  <dc:creator>WXP</dc:creator>
  <dc:description/>
  <dc:language>en-US</dc:language>
  <cp:lastModifiedBy>WXP</cp:lastModifiedBy>
  <dcterms:modified xsi:type="dcterms:W3CDTF">2006-08-28T21:40:56Z</dcterms:modified>
  <cp:revision>3</cp:revision>
  <dc:subject/>
  <dc:title>Diapositiva 1</dc:title>
</cp:coreProperties>
</file>