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4D9B-5FA8-457B-ACD1-96887918B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07CC-CEF9-4735-86E4-17DC92DDB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121C-8755-455B-A6B3-76584A859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A938-F798-4E4B-B941-468E4F462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7B82-45A9-4C08-B36F-81B7F02E6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4001-CB63-4B49-84C7-529F028FE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D20A-DDFA-4DAB-BDA2-EB0203718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7673-1731-429B-A09A-237EEF14F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AF2D-93CC-4F82-BB3E-20C69E4CC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B756-5BE8-4D06-B854-143D1CDE9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0F9E-EB5A-4D54-9AF9-BA75B2A3B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21DB-B551-4EC0-A2A2-BD7E6EA58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CDA83-BA91-4139-B49E-4EACD4675B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42320" y="399960"/>
            <a:ext cx="4255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 u="sng">
                <a:solidFill>
                  <a:srgbClr val="000000"/>
                </a:solidFill>
                <a:uFillTx/>
                <a:latin typeface="Times New Roman"/>
              </a:rPr>
              <a:t>¿ Como nos ve el cliente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91520" y="1676520"/>
            <a:ext cx="7111440" cy="44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rimera impresión (actitud inicial; entrevista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Hechos posteri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¿Cambia la imagen con posterioridad?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daptarse a la situación existente al inicio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a rel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 u="sng">
                <a:solidFill>
                  <a:srgbClr val="000000"/>
                </a:solidFill>
                <a:uFillTx/>
                <a:latin typeface="Times New Roman"/>
              </a:rPr>
              <a:t>Comunicación Or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438280" y="1905120"/>
            <a:ext cx="483768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Ventaj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Favorece la relación   perso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Facilita el diálog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claración inmediata de las dud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 u="sng">
                <a:solidFill>
                  <a:srgbClr val="000000"/>
                </a:solidFill>
                <a:uFillTx/>
                <a:latin typeface="Times New Roman"/>
              </a:rPr>
              <a:t>Comunicación Escri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02240" y="1625760"/>
            <a:ext cx="6186240" cy="43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Ventaj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Jerarquiza la tarea realiza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stablece parámetros en el víncu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Formaliza el compromiso para ambas par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structura la rel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Genera constancia document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l uso del e-mail agiliza los tiempos, y ofre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ayor claridad y concre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301400" y="228600"/>
            <a:ext cx="6707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 u="sng">
                <a:solidFill>
                  <a:srgbClr val="000000"/>
                </a:solidFill>
                <a:uFillTx/>
                <a:latin typeface="Times New Roman"/>
              </a:rPr>
              <a:t>Factores para la elección del profesion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856880" y="914400"/>
            <a:ext cx="6008040" cy="56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Relación personal prev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Recomendaciones de tercer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Trato perso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Reput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Ubicación del Estud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Variedad de servici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xperiencia en el rub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Honorarios adecua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structura del estud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resentación de la oferta de servici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322280" y="399960"/>
            <a:ext cx="668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 u="sng">
                <a:solidFill>
                  <a:srgbClr val="000000"/>
                </a:solidFill>
                <a:uFillTx/>
                <a:latin typeface="Times New Roman"/>
              </a:rPr>
              <a:t>Razones que permiten acceder al client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828800" y="1828800"/>
            <a:ext cx="5938920" cy="44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pertura de un nuevo negoc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isconformidad con el profes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nteri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Imposibilidad del profesional anter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e continuar asesorándo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747080" y="399960"/>
            <a:ext cx="58546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 u="sng">
                <a:solidFill>
                  <a:srgbClr val="000000"/>
                </a:solidFill>
                <a:uFillTx/>
                <a:latin typeface="Times New Roman"/>
              </a:rPr>
              <a:t>Razones que inciden en la elección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 u="sng">
                <a:solidFill>
                  <a:srgbClr val="000000"/>
                </a:solidFill>
                <a:uFillTx/>
                <a:latin typeface="Times New Roman"/>
              </a:rPr>
              <a:t>del profesion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779840" y="1600200"/>
            <a:ext cx="5853960" cy="48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sesoramiento prev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Requerimiento de otro colega n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apacitado para el asesoramien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Requerimiento de profesional de ot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áre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articipación en organiza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La actuación profesional en la nueva era de las organizaciones.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Dres. C.P. Juan Dzierza y Horacio Fren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1880" y="2286000"/>
            <a:ext cx="8236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Razones para la contratación de un Profes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ara aportar conocimientos y capacidades especi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ara que no solo preste ayuda intensiva en forma transito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ara que aporte un punto de vista imparc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ara aportar a la Dirección argumentos que justifiqu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ecisiones predetermina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 u="sng">
                <a:solidFill>
                  <a:srgbClr val="000000"/>
                </a:solidFill>
                <a:uFillTx/>
                <a:latin typeface="Times New Roman"/>
              </a:rPr>
              <a:t>Primeros contactos con el clien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367280" y="1911240"/>
            <a:ext cx="6696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Vislumbrar sus necesida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uales son sus objetiv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Que pretende de nuestro servicio profes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Que más podemos ofrecer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ual es el alcance del trabajo profesio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Fijar los honorarios profesi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stablecer los puntos fuertes y débiles del cli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526400" y="399960"/>
            <a:ext cx="6314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 u="sng">
                <a:solidFill>
                  <a:srgbClr val="000000"/>
                </a:solidFill>
                <a:uFillTx/>
                <a:latin typeface="Times New Roman"/>
              </a:rPr>
              <a:t>Interpretar las necesidades del client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629000" y="2057400"/>
            <a:ext cx="664812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Verdaderas necesida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Necesidades del profesio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Necesidades de los organismos de contro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y recaud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221840" y="380880"/>
            <a:ext cx="69656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 u="sng">
                <a:solidFill>
                  <a:srgbClr val="000000"/>
                </a:solidFill>
                <a:uFillTx/>
                <a:latin typeface="Times New Roman"/>
              </a:rPr>
              <a:t>Condiciones a tener en cuenta al efectuar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 u="sng">
                <a:solidFill>
                  <a:srgbClr val="000000"/>
                </a:solidFill>
                <a:uFillTx/>
                <a:latin typeface="Times New Roman"/>
              </a:rPr>
              <a:t>nuestros reclamo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248120" y="2362320"/>
            <a:ext cx="7003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Buscar la oportunidad propic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onvencernos previamente de lo  adecuad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e nuestro reclam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685800" y="1905120"/>
          <a:ext cx="7875720" cy="2806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1905120"/>
                    <a:ext cx="7875720" cy="280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1T16:47:56Z</dcterms:created>
  <dc:creator>Luis</dc:creator>
  <dc:description/>
  <dc:language>en-US</dc:language>
  <cp:lastModifiedBy>Luis</cp:lastModifiedBy>
  <dcterms:modified xsi:type="dcterms:W3CDTF">2006-09-06T17:39:34Z</dcterms:modified>
  <cp:revision>11</cp:revision>
  <dc:subject/>
  <dc:title>Sin título de diapositiva</dc:title>
</cp:coreProperties>
</file>