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F7D7-EB41-4B22-BB40-3C8652F6A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EC53-CCB5-4E7A-B4A4-684BCA0A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806E-6ED3-4EEF-8E2E-74BD3B9C8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B19B-F8FB-49BB-86FE-D7ACB0F87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2726-84E2-4317-BD3D-5482296F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BE0D-C978-4089-AC03-FAA1F9A4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7047-9C53-4529-96AE-E8B0305B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5587-48BD-48FB-82CC-C7C6CC9B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458D-A5F2-4ACF-BB18-714006B0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1D3B-9498-4CC3-B41F-E2FB7116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7E9F-42CD-45BE-9506-451A8972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3056-AD99-45E2-88F8-27AFEC21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14B2-4BD9-4518-9273-B4583E717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Tahoma"/>
              </a:rPr>
              <a:t>Impacto de la Comunicación en nuestro Crecimiento Profe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Taller organizado por la Comisión de Problemática del Pequeño y Mediano Estudio Profes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14 de septiembre de 200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8381880" cy="53352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5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¿ </a:t>
            </a:r>
            <a:r>
              <a:rPr b="1" lang="es-AR" sz="3200" spc="-1" strike="noStrike" u="sng">
                <a:solidFill>
                  <a:srgbClr val="000000"/>
                </a:solidFill>
                <a:uFillTx/>
                <a:latin typeface="Times New Roman"/>
              </a:rPr>
              <a:t>Dónde queda plasmada nuestra comunicación con el cliente</a:t>
            </a: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Relev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Seguimiento ( Horas insumida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8381880" cy="53352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8381880" y="0"/>
            <a:ext cx="73980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Times New Roman"/>
              </a:rPr>
              <a:t>¿ </a:t>
            </a:r>
            <a:r>
              <a:rPr b="1" lang="es-AR" sz="3200" spc="-1" strike="noStrike" u="sng">
                <a:solidFill>
                  <a:srgbClr val="000000"/>
                </a:solidFill>
                <a:uFillTx/>
                <a:latin typeface="Times New Roman"/>
              </a:rPr>
              <a:t>Cómo obtener un buen relevamiento, presupuesto y seguimiento</a:t>
            </a: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057320" y="2744640"/>
          <a:ext cx="7029360" cy="26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7320" y="2744640"/>
                    <a:ext cx="7029360" cy="26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0" y="0"/>
            <a:ext cx="8381880" cy="53352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73980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4400" spc="-1" strike="noStrike" u="sng">
                <a:solidFill>
                  <a:srgbClr val="000000"/>
                </a:solidFill>
                <a:uFillTx/>
                <a:latin typeface="Times New Roman"/>
              </a:rPr>
              <a:t>Relevamiento es inver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0" y="0"/>
            <a:ext cx="8381880" cy="53352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73980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Times New Roman"/>
              </a:rPr>
              <a:t>Relev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Circuitos administrativos ( </a:t>
            </a: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duplicidad de pagos, omisión de crédito fiscal</a:t>
            </a: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Encuadramiento impositivo ( </a:t>
            </a: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excención no utilizada</a:t>
            </a: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Punto de equilibrio ( </a:t>
            </a: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roductos con poca o ninguna contribución</a:t>
            </a: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Conocimiento del mercado ( </a:t>
            </a: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osiblidad de comunicar una licitación, apertura de un nuevo canal de comercialización</a:t>
            </a: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 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8381880" cy="53352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8381880" y="0"/>
            <a:ext cx="73980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 u="sng">
                <a:solidFill>
                  <a:srgbClr val="000000"/>
                </a:solidFill>
                <a:uFillTx/>
                <a:latin typeface="Times New Roman"/>
              </a:rPr>
              <a:t>Seguimiento de Horas Insumid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Igual apertura que el presupu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Quien realiza la tarea debe completarla día a d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Idem si el que trabaja es el titular del estudio o si el estudio es unipers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Comparativo con el presupu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Análisis de desví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8381880" cy="53352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8381880" y="0"/>
            <a:ext cx="73980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000000"/>
                </a:solidFill>
                <a:uFillTx/>
                <a:latin typeface="Times New Roman"/>
              </a:rPr>
              <a:t>Benefi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Evitar errores ante trabajos simi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Cobrar honorarios de tareas solicitadas y no presupuestad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Compromiso de los involuc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Titular, empleados y colaboradores bien retribu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Contribución marginal para equipamiento, jubilación, publicaciones, capacitación,etc.</a:t>
            </a: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8381880" cy="53352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8381880" y="0"/>
            <a:ext cx="73980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 u="sng">
                <a:solidFill>
                  <a:srgbClr val="000000"/>
                </a:solidFill>
                <a:uFillTx/>
                <a:latin typeface="Times New Roman"/>
              </a:rPr>
              <a:t>Dos casos re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Respetando las pautas de comun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Priorizando la relación inf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8381880" cy="53352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739800" cy="539640"/>
          </a:xfrm>
          <a:prstGeom prst="rect">
            <a:avLst/>
          </a:prstGeom>
          <a:ln w="0">
            <a:noFill/>
          </a:ln>
        </p:spPr>
      </p:pic>
      <p:pic>
        <p:nvPicPr>
          <p:cNvPr id="75" name="PE01832_" descr=""/>
          <p:cNvPicPr/>
          <p:nvPr/>
        </p:nvPicPr>
        <p:blipFill>
          <a:blip r:embed="rId4"/>
          <a:stretch/>
        </p:blipFill>
        <p:spPr>
          <a:xfrm>
            <a:off x="685800" y="2297160"/>
            <a:ext cx="38098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 u="sng">
                <a:solidFill>
                  <a:srgbClr val="000000"/>
                </a:solidFill>
                <a:uFillTx/>
                <a:latin typeface="Times New Roman"/>
              </a:rPr>
              <a:t>Círculo virtuo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Capaci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Buenos Honor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BD06675_" descr=""/>
          <p:cNvPicPr/>
          <p:nvPr/>
        </p:nvPicPr>
        <p:blipFill>
          <a:blip r:embed="rId4"/>
          <a:stretch/>
        </p:blipFill>
        <p:spPr>
          <a:xfrm>
            <a:off x="927000" y="1981080"/>
            <a:ext cx="3327480" cy="4114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0"/>
            <a:ext cx="8381880" cy="53352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8381880" y="0"/>
            <a:ext cx="73980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22:03:19Z</dcterms:created>
  <dc:creator>a</dc:creator>
  <dc:description/>
  <dc:language>en-US</dc:language>
  <cp:lastModifiedBy>a</cp:lastModifiedBy>
  <dcterms:modified xsi:type="dcterms:W3CDTF">2006-08-30T01:07:21Z</dcterms:modified>
  <cp:revision>23</cp:revision>
  <dc:subject/>
  <dc:title>Presentación de PowerPoint</dc:title>
</cp:coreProperties>
</file>