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2611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16B0-397B-4075-8CFE-5AF03F8166A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or lo general, las personas encargadas de realizar una presentación deben proporcionar material técnico a una audiencia que no suele estar familiarizada con el tema o el vocabulario. Este material suele ser complejo y excesivamente detallado. Para presentar material técnico de forma eficaz, tenga en cuenta las siguientes directrices de Dale Carnegie Training®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úe la cantidad de tiempo disponible y organice el material.  Limite el área del tema que va a tratar en la presentación. Divida la presentación en segmentos definidos. Siga una progresión lógica sin desviarse del tema principal. Concluya la presentación con un resumen, repitiendo los pasos importantes o elaborando una conclusión lóg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nga siempre en mente a la audiencia. Por ejemplo, asegúrese de que los datos son claros y la información es relevante. Intente que el vocabulario y los detalles sean adecuados para la audiencia. Utilice pruebas para respaldar los puntos o procesos clave. Preste atención a las necesidades de los oyentes y conseguirá una audiencia más recep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 la introducción, exponga la importancia del tema para la audiencia. Ofrezca un breve adelanto de la presentación y demuestre el valor que puede tener para los oyentes. Tenga en cuenta el interés y la experiencia de la audiencia en el tema a la hora de elegir el vocabulario, los ejemplos y las ilustraciones que va a utilizar. Céntrese en la importancia que tiene el tema para la audiencia y conseguirá que los oyentes estén más at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ija la mejor conclusión para la audiencia y la presentación. Termine con un resumen, una oferta de opciones, una recomendación de una estrategia o un plan, o con el establecimiento de un objetivo. Intente no desviarse del tema principal durante la presentación y tendrá más posibilidades de alcanzar su obje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ija la mejor conclusión para la audiencia y la presentación. Termine con un resumen, una oferta de opciones, una recomendación de una estrategia o un plan, o con el establecimiento de un objetivo. Intente no desviarse del tema principal durante la presentación y tendrá más posibilidades de alcanzar su obje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FEF5-24E8-415A-9FE8-A79639D6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B54-9080-4565-8FBE-2B68EB8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83E-4787-4C80-BFB0-B4692F45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5E7-3F0D-4CCD-BE79-D4450A31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932-1EE9-43A1-BF27-07BFC35F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EF3-7779-475C-B77F-C28E32B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591F-4626-4612-AC17-50A393B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C981-203B-489A-B79B-3403C6E6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601-DB22-4B9A-82AF-F2BC4C2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B47-1F00-4034-8A0F-3B48B3A5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1EFB-ACF4-4EB5-8F64-1DEB193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933-37A5-4B80-9E6A-B1AD22D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6287-F3AC-46B5-835F-40631967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CD3-126D-43C6-80F6-1C3E14F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B183-8807-4552-A0A1-6556B8B7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1B78-5580-4F43-893B-D9B611AD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7994-A0C5-4B81-B16C-8818FDE1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7DF-02E6-4D52-A4A1-D44B4993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667-24D6-469B-9238-BAE223AF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CB8-E7FB-45A7-9E70-F43D46A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AA3-3FEB-400A-9AB2-0381B9C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192-29E4-4809-867F-72082D6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A12-D3F5-4C1E-BF9E-CF1E694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B24-939B-417D-92C1-681D4C4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f055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ed2d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f2611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029-F247-4B7E-9EF2-E3EDD551675A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4F6-A831-4A7E-ABF7-70FA7CDEDDF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f0557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ed2d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261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53F2-18F9-4A92-A05F-3861952C568B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10F-C99A-44FE-8840-914E01B2C66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f2611"/>
                </a:solidFill>
                <a:latin typeface="Arial"/>
              </a:rPr>
              <a:t>Gestión de la capacidad ociosa</a:t>
            </a:r>
            <a:endParaRPr b="0" lang="en-US" sz="48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écto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Roberto Vi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2696-48E1-4715-9A5A-3CAA455119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5F2D16A-7672-46E0-A691-DB0CAF376537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Cálculo de la capacida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Tiempo de uso disponible x veloc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Local e instalacion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Tiempo disponible: todas las horas del a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Velocidad: la sumatoria de las velocidades de todas las máquinas instaladas en el lug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07A-9B5A-4261-BBA2-056B5D51FD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EDD00-6566-4909-92E1-F005AB97661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álculo de la capacida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iempo de uso disponible x veloc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Máquina fotocopiado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iempo disponible: todas las horas del año menos las que debemos dedicar a realizar el mantenimiento de la máquina y los días u horas no laborab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elocidad: 1.500 fotocopias por h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083-0813-47EA-B779-0C9342BC74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BFC2D-2542-46B3-BA69-46F24FED3BB2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álculo de la capacida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iempo de uso disponible x veloc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perador de la fotocopiado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iempo disponible: 365 días menos días de descanso ( anual, semanal ) por la cantidad de horas de trabajo diarias ( sin contar tiempos de no trabajo 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elocidad: la de la máquina fotocopiad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51B-04C5-41B8-ACE7-8C0F18E93E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069C7-0FD1-49E0-B613-D2AB2A158308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álculo de la capacida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ocal e instalaciones: 365 días x 24 horas x 1.500 fotocopias por hora = 13.140.000 fotocop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áquina fotocopiadora : ((( 365 días – 11 días) x 24 horas ) – 496 horas ) x 1.500 fotocopias por hora = 12.000.000 fotocop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Operador : (((365 días – 125 días ) x 8 horas) – 120 horas) x 1.500 fotocopias por hora = 2.700.000 fotocop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F86-1C1D-4F3A-AE59-039F7A293D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1D23-0462-4BD7-A0E3-FE02F102A65D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emanda esperada: 400.000 fotocopias por 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pacidad máxima: 1.000.000 fotocopias por mes ( Capacidad anual / 12 meses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Nivel de actividad previsto: 400.000 fotocopias por mes ( trabajando dos turnos por día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2 operadores x 2.700.000 fotocopias / 12 me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450.00 fotocopias por 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ECD-82BD-4590-AC4C-6E518D9FF4B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A8DB5-B357-4790-B01A-1A6E228F3400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pacidad ocio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áquina fotocopiadora: 1.000.000 fotocopias – 400.000 fotocopias = 600.000 fotocopias  (60%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Operador: 450.000 fotocopias – 400.000 fotocopias = 50.000 fotocopias (11,1%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ocal e instalaciones: Igual que la máquina fotocopiad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ta es la capacidad ociosa anticipada, la conozco cuando decido a que nivel de actividad preveo opera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CBD-B168-4CC4-A6A3-13DA338CEA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30106-29E2-4E8C-8A93-4E63EC20CFD0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da mes tendremos un nivel de actividad real que puede diferir del previsto, si es menor se produjo capacidad ociosa operativ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pacidad ociosa to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apacidad ociosa anticip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 la demanda estim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apacidad ociosa operativ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 la demanda re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BC7-0AEF-426A-9B16-D861AD5FA1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60044-929F-4972-A5EC-8FC768E09732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xisten dos tipos de cos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de factores de consumo inmedia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penden de la actividad: costos variables (insumos como las hojas o los cartuchos de ton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de factores de uso repetitiv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penden del ti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nsuales: costos fijos (alquileres, amortizaciones, remuneraciones mensualiz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rarios: costos semifijos (remuneraciones jornaliz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977-AB10-4C7E-B824-8306789DEF6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FBD75-9F83-47A5-BE4F-C50A3322E6EB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eterminación del costo unitar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os variabl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ntidad consumida por unidad x Precio insu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os periódic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sto del período / “producción” del perí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oducción” del perío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apac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ivel de actividad (previsto o rea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BF3-7A96-4AE4-8BFC-771242DFCE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2C69B-120D-462D-9D94-A75DB7669341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mensu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ocal: Alquiler $ 1.000 mensu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Máquina fotocopiadora: valor de compra $ 60.000 – Amortización mensual $ 1.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Instalaciones: Amortización mensual $ 2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Encargado: hay dos, uno por turno, sueldo mensual de cada uno con cargas sociales $ 2.4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Operador fotocopiadora: hay dos, uno por turno, tarifa horaria con cargas sociales $ 10, horas de trabajo mensuales 1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D8B-4827-40AE-8BA2-14A48C8FFD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CB2CF-27E7-4B4B-AC30-82227C43891A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ef2611"/>
                </a:solidFill>
                <a:latin typeface="Arial"/>
              </a:rPr>
              <a:t>Introducción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Trataremos de encontrar respuestas a los siguientes interrogantes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Qué es la capacidad ocios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Tiene incidencia en los costos de la empres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Es necesario eliminarla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Podemo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AA3-7CF0-41A3-A2F3-334BD9E704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A0A9D-90A4-4622-8DBF-B1D1A7C2797C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Costos mensu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fijos de capacidad $ 2.200 ( Alquiler del local + Amortización de máquina fotocopiadora e instalaciones 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fijos de operación $ 4.800 ( 2 encargados x $ 2.400 cada uno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semifijos $ 3.200 ( 320 horas hombre x $ 10 por hora hombre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279-0DB8-426F-995A-DF88B740C7E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AE0E5-3F5E-4A58-BC0D-5CE05972C2C6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Costos unit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fijos de capacidad totales $ 2.2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pacidad 1.000.000 un Unitario $ 0,00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. P. A. 400.000 un  Unitario $ 0,00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fijos de operación totales $ 4.8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pacidad  450.000 un  Unitario $ 0,0106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.P.A.  400.000 un   Unitario $ 0,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8E8-39AE-4175-AA84-71094F95367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1AC4A-E3EB-423B-A829-B1B946DBEE3A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Costos unitar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semifijos totales $ 3.2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pacidad $ 10 por hora / 1.406 un por hora (disminuye la velocidad horaria por el tiempo  utilizado en mantenimiento) Unitario $ 0,0071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. P. A. 400.000 un  Unitario $ 0,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4EA-19F7-48DC-B37D-7BD2E2DF71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CAAA7-E766-4F8A-849A-6ED2DDBF2F8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 s/capac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F Capacidad $ 0,002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F Operación  $ 0,010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. Semifijos $ 0,007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otal                 $ 0,019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o de capacidad ociosa               $ 0,005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62440" y="2286000"/>
            <a:ext cx="3695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sto s/ N. P. 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F Capacidad $ 0,005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 F Operación  $ 0,01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. Semifijos $ 0,00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Total                 $ 0,025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8B8-BB28-4D51-B718-DACBBE42A3BE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3CDFD-2946-4C1F-896F-26976E3CFA71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stos totales mensu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 F Capacidad + C F Operación + C Semifijos = $2.200 + $ 4.800 + $ 3.200 = $ 10.2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sto de producción 400.000 un x $ 0,0199 / un = $ 7.9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sto de capacidad ociosa = $10.200 - $7.960 = $2.2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sto unitario de capacidad ociosa = $ 2.240 / 400.000 un = $ 0,00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4A1-6EFC-4798-A812-F4B9232758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032B6-EAD2-41AB-966A-55C57394D2E5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stos de capacidad ociosa anticipada mensu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$ 2.24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¿Qué tratamiento debemos darle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ostrarla como resultado negativo del 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cluirla en el costo de los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culta:  costo unitario $0,02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gregada: costo unitario = costo de producción + costo de capacidad ociosa = $0,0199 + $0,0056 = $0,025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CF6-FBA4-4B22-BCBC-16DF24A040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AD156-14FB-4409-9BAF-78000D26305C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Los costos de capacidad ociosa anticipada mensual se envían a 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¿Debemos calcularlos por producto o línea de producto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i, si queremos obtener estados de resultados por líneas de product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Por lo tanto aunque no los incluyamos en el costo de las unidades producidas es necesario calcular su incidencia por producto: debemos calcular el costo unitar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EA1-737C-4A53-94B0-C90DB27307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05460-8421-421C-9040-6CE0BAE596A2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Influye en los costos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¿Y los costos de capacidad ociosa operativa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Es conveniente que los costos de capacidad ociosa operativa se envíen a 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Pueden o no producirse y tienen que ver con la diferencia entre la demanda esperada y la demanda re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F91-4CEE-4750-A19F-1AA16D8768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9242B-30DA-47E7-92E3-5D4D6A513AAE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Es necesario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Facturación mensu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400.000 un x $ 0,05 = $ 20.00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stos de capacidad ociosa anticipada mensu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$ 2.24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Incidencia del costo de la capacidad ociosa sobre la facturació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$ 2.240 / $ 20.000 = 11,2 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i podemos disminuir la capacidad ociosa un 20 % aumentamos la rentabilidad sobre ventas un 2 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001-09A6-4368-A04B-C90B0C829D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0C1BE-EA62-4CD1-B384-38B32E81FBE5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Es necesario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Análisis de una empresa en la industria farmacéutic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 de producción 15 % de las vent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 de materia prima 80 % del costo de produc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stos de producción sin materia prima 3 % de las vent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Supongamos una capacidad ociosa del 50 % que afecta por igual a todos los facto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 de la capacidad ociosa 1,5 % de las venta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2C5-5B53-44CF-9480-4CF88D08AE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C1A18-FE26-499B-96A9-B827B5AA68C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empresa “produce” bienes o servicios para generar ingresos y de esa manera obtener resultados para retribuir a los dueños del capital invertido en la mism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oducción” actividad que desarrolla la empresa ( comercial, productiva, financiera o de servicios 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pacidad : es la habilidad que tiene la empresa para “producir”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496-DA67-441E-8774-7C99468AF3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CA86B-E930-4B24-A6E5-A0909CFB2D99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En realidad lo que tenemos que tratar de hacer es disminuir los costos de capacidad ocios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Veamos en nuestro caso como una supuesta mejora en realidad empeora la situació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nseguimos captar más clientes incrementando la demanda un 40 %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BBD-D2B1-4EFC-BF75-51B24B990F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08FD1-2499-48EA-A81B-2B99B83B54C8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uevo nivel de actividad previs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400.000 un x 140 % = 560.000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ara esto necesitamos incorporar otro turno: capacidad con dos turnos 450.000 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uevos costos mensuales $ 10.200 + $ 2.400 + $ 1.600 = $ 14.200 ( se agrega un encargado y un operador 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o Producción mensual = 560.000 un x $ 0,0199  =  $ 11.14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sto de capacidad ociosa =  $ 14.200  -  $ 11.144  =   $ 3.05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095-E116-4D03-8755-15BA8A3043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1C049-9E79-40D4-BC2A-643E4502A1C1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Arial"/>
              </a:rPr>
              <a:t>¿Por qué se incrementó el costo de capacidad ociosa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Arial"/>
              </a:rPr>
              <a:t>Porque se incrementó la capacidad ociosa de los costos fijos de operación y semifijos, y su incidencia en el costo total es superior a la de los costos fijos de capacidad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275-0399-435C-A28A-079C7B168D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1A1CC-C993-4634-9BCD-422B3B0FFE4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stos fijos de capacid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apacidad ociosa anterior 60 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ueva capacidad ociosa 1.000.000 un – 560.000 un = 440.000 un ( 44 % 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ostos fijos de operación y semifij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apacidad ociosa anterior 11,1 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ueva capacidad 3 turnos x 2.700.000 un / 12 meses = 675.000 u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Nueva capacidad ociosa 675.000 un – 560.000 un = 115.000 un ( 17 % 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130-87C1-46A6-B085-4F8115069A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AC0E8-1D9D-4791-B084-E8CD46D6513B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eliminarl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Incidencia de los costos fijos de capacid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s totales $ 14.200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s fijos de capacidad $ 2.200  15,5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Incidencia de los costos fijos de operación y semifij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s totales $ 14.20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s fijos de operación $ 4.800 + $ 2.400 = $ 7.200 50,7 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Costos semifijos $ 3.200 + $ 1.600 = $ 4800  33,8%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0CD-3D87-4029-A941-2CCA6C75E2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F9E3C-4192-412A-9D37-186B89BA93A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disminuir los costos de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Arial"/>
              </a:rPr>
              <a:t>¿Por qué tenemos capacidad ociosa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1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Arial"/>
              </a:rPr>
              <a:t>Es menor la demanda del mercado que la capacidad de producció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Posible solución: utilizar precios diferenciales para tratar de incrementar la demand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Alquilar la capacidad excedente a otros productores con problemas de capacida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354-76A3-4A36-8B89-5796AB6F4F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65939-CE33-4E2D-A1B2-C14EEA6EF5DC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disminuir los costos de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¿Por qué tenemos capacidad ociosa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Capacidades desbalanceadas entre máquinas por las que pasa el mismo produc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Posible solución: alquilar capacidad de la máquina con menor capacidad ( tercerizar 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Adquirir capacidad ( comprar ) puede traer como consecuencia el aumento del costo de capacidad ocio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4F7-94C0-4349-B195-0C2CA44B0D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C8135-6E4F-4760-9DC4-8F31D33D7D58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Podemos disminuir los costos de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¿Por qué tenemos capacidad ociosa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Arial"/>
              </a:rPr>
              <a:t>Nuestra demanda no es uniforme a lo largo del añ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Trato de amortiguar la diferencia entre oferta y demanda con stoc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stalo capacidad para cubrir los períodos de mayor demanda: tengo capacidad ociosa en los de menor deman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stalo capacidad para la menor demanda, trato de aumentarla en los períodos de mayor deman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BCD-6777-41CC-B731-91310AC2B0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78863-15A8-4F89-ACE4-6E76B78D6246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ef2611"/>
                </a:solidFill>
                <a:latin typeface="Arial"/>
              </a:rPr>
              <a:t>Conclusión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¿Qué es la capacidad ocios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 la capacidad de “producción” que no podemos vend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¿Tiene incidencia en los costos de la empres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capacidad ociosa nos cuesta parte de los costos fijos y semifij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024-7DE4-4A7B-A5AC-DD06593A82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D77F1-E451-4A20-8507-EF28A272EC11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ef2611"/>
                </a:solidFill>
                <a:latin typeface="Arial"/>
              </a:rPr>
              <a:t>Conclusión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¿Es necesario eliminarl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o que hay que hacer es disminuir los costos que se generan por ell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¿Podemo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¿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375-0740-4B5E-8116-3694A91F9F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5E909-6683-4F0B-B5CE-5CA858B3406D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empresa para “producir” consume distintos factores, algunos en forma inmediata, otros perduran en el tiempo y tienen un uso repetitiv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nsumo inmediato: varían de acuerdo a la activid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Uso repetitivo: permanecen constantes en el ti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os factores que no se consumen en el primer uso son los que determinan la capacidad de “producir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A7D-283B-406E-8837-44D7C4895F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19DF8-3B20-412E-9069-DD280F20D428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Cómo define la empresa la cantidad a produci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uanto puede producir (capacida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uanto necesita producir (demand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producción, “nivel de actividad”, está condicionada por el máximo de los dos elementos anterior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o puede superar la capac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o produce lo que no puede “vender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7B8-E0D4-4549-81F0-BB9268C24E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6A361-2DEB-42DD-8A47-585B8FE27304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Centro de fotocopia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Factores a utiliz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e consumo inmediat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rtuchos de to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Hoj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B66-CC48-4868-846A-9399C89CF3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5A39A-31A3-4085-9D20-E02D2B37730C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Factores a utiliz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e uso repetitiv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ocal donde nos ubicar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áquina fotocopia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tras instalaciones (estanterías para ubicar los cartuchos de toner, las hojas y las fotocopi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cargado y operador de la fotocopia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F0F-72B8-4CC7-B30A-06A0D36678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CB74C-00DC-4229-B733-F4F9D50E223F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Qué factor define la capacida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a máquina fotocopiad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Utilizamos el 100% de su capacida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pende de la demanda de fotocopi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Qué pasa si la demanda es inferior a la capacida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No utilizamos el 100% de la capac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E39E-0B0D-4436-9B9C-035EFACCBB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6E8B0-FB84-47F1-A771-56798BD4ECAB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f05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ef2611"/>
                </a:solidFill>
                <a:latin typeface="Arial"/>
              </a:rPr>
              <a:t>¿Qué es la capacidad ociosa?</a:t>
            </a:r>
            <a:endParaRPr b="0" lang="en-US" sz="4200" spc="-1" strike="noStrike">
              <a:solidFill>
                <a:srgbClr val="ef261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 la capacidad de “producción” no utilizad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 aquella parte de los factores de uso repetitivo no usada en la produc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Todos los factores de uso repetitivo tienen capacidad ocios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¿Todos los factores de uso repetitivo tienen la misma capacida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pacidad Ociosa - CPCECABA - 04/10/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D731-B75D-4D47-AC20-D63422ADA8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9C181-F94C-4E70-A151-C57345BEA44B}" type="datetime1">
              <a:rPr lang="en-US"/>
              <a:t>07/28/26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NT</cp:lastModifiedBy>
  <dcterms:modified xsi:type="dcterms:W3CDTF">2006-10-06T17:47:30Z</dcterms:modified>
  <cp:revision>16</cp:revision>
  <dc:subject/>
  <dc:title>Presentación de PowerPoint</dc:title>
</cp:coreProperties>
</file>