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9E17-93C3-44EE-B1F8-45F5F12C8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A0F5-07EF-4321-9806-A82C6E0F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5E27-9FDD-4FA8-9C0D-57668832B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F381-0665-4830-8169-02624AE22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C2D0-FB6A-4EC8-AE9D-4DD2322B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1618-85E5-481C-B3AD-BDA7750C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7448-896F-467D-B7A3-634E52C2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79DC-32DE-4797-AC77-74B6D6C9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0386-5668-4E72-A551-DBC8EA8B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A30F-E2F3-46C6-9180-EAD5774F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AE7A-DE6E-4D6E-9102-24AD690A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F67A-2739-403C-A32D-4994BD1F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0089-254D-44AE-A948-43246D6729B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rabajo.gov.ar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04640" y="324000"/>
            <a:ext cx="1224000" cy="630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51520" y="971640"/>
            <a:ext cx="1081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. 88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uevo Mode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0280" y="179280"/>
            <a:ext cx="1584360" cy="1297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157720" y="179280"/>
            <a:ext cx="1349280" cy="1297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88600" y="1258920"/>
            <a:ext cx="1473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ELLO FECHADOR DE RECEPC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23920" y="1763640"/>
            <a:ext cx="109440" cy="1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33360" y="1763640"/>
            <a:ext cx="108000" cy="1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57360" y="1763640"/>
            <a:ext cx="108000" cy="1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65360" y="1763640"/>
            <a:ext cx="108000" cy="1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71560" y="1763640"/>
            <a:ext cx="109800" cy="1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81360" y="1763640"/>
            <a:ext cx="107640" cy="1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89000" y="1763640"/>
            <a:ext cx="108000" cy="1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97000" y="1763640"/>
            <a:ext cx="108000" cy="1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05000" y="1763640"/>
            <a:ext cx="108000" cy="1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13000" y="1763640"/>
            <a:ext cx="108000" cy="19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41360" y="1763640"/>
            <a:ext cx="108000" cy="19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1763640"/>
            <a:ext cx="109440" cy="1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19200" y="1763640"/>
            <a:ext cx="109800" cy="1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9720" y="176364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.U.I.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84600" y="1763640"/>
            <a:ext cx="1774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ellido y nombre o denominació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24240" y="2195640"/>
            <a:ext cx="99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pendencia (1)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58440" y="2195640"/>
            <a:ext cx="60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so AF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97360" y="2195640"/>
            <a:ext cx="1080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13360" y="2195640"/>
            <a:ext cx="10764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05360" y="2195640"/>
            <a:ext cx="10944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0640" y="3276720"/>
            <a:ext cx="10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ódigo de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)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06440" y="3276720"/>
            <a:ext cx="1093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nominación ART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34840" y="3276720"/>
            <a:ext cx="203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cha de inicio Contrato: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      /        /      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24240" y="3564000"/>
            <a:ext cx="236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ódigo de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bra Socia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correspondiente a la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ividad del empleador (2):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75880" y="3635280"/>
            <a:ext cx="86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nominació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880" y="3924360"/>
            <a:ext cx="288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ódigo Identificación de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venio Colectivo de Trabajo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iente a la actividad principal del empleador (3):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0280" y="8388360"/>
            <a:ext cx="5473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1) Se indicará Agencia Nº o denominación de la dependencia ante la que se encuentre inscripto el contribuyente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2) Resolución General Nº 3834 (DGI) – texto sustituido por R.G.Nº712, sus modificatorias  y complementarias (Anexo IV)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3) Consultar en </a:t>
            </a:r>
            <a:r>
              <a:rPr b="0" lang="es-ES" sz="7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trabajo.gov.a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4) A: Alta; B: Baja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5) Resolución General AFIP Nº 485/1999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l: Datos obligatorios; ll: Si fuera necesario informarlo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63880" y="395280"/>
            <a:ext cx="303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STEMA DE REGISTRA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 ALTAS Y BA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33360" y="1619280"/>
            <a:ext cx="6191280" cy="1008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3680" y="2771640"/>
            <a:ext cx="175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OS DEL EMPLEA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3360" y="2700360"/>
            <a:ext cx="619128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62480" y="3995640"/>
            <a:ext cx="109440" cy="1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87920" y="3995640"/>
            <a:ext cx="107640" cy="1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71920" y="3995640"/>
            <a:ext cx="108000" cy="1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95560" y="3995640"/>
            <a:ext cx="108000" cy="1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79920" y="3995640"/>
            <a:ext cx="108000" cy="1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10800" y="3995640"/>
            <a:ext cx="86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nominació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0640" y="4284720"/>
            <a:ext cx="304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Clave Bancaria Unificada </a:t>
            </a: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(C.B.U.),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destinada al reinteg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de asignaciones familiares (Régimen Compensado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61000" y="4356000"/>
            <a:ext cx="108000" cy="1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94080" y="4356000"/>
            <a:ext cx="109440" cy="1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19520" y="4356000"/>
            <a:ext cx="108000" cy="1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03520" y="4356000"/>
            <a:ext cx="108000" cy="1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27520" y="4356000"/>
            <a:ext cx="108000" cy="1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11520" y="4356000"/>
            <a:ext cx="108000" cy="1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63560" y="3276720"/>
            <a:ext cx="1098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89000" y="3276720"/>
            <a:ext cx="1080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73360" y="3276720"/>
            <a:ext cx="1080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97000" y="3276720"/>
            <a:ext cx="10800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81360" y="3276720"/>
            <a:ext cx="107640" cy="19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33360" y="4643280"/>
          <a:ext cx="6120000" cy="3744720"/>
        </p:xfrm>
        <a:graphic>
          <a:graphicData uri="http://schemas.openxmlformats.org/drawingml/2006/table">
            <a:tbl>
              <a:tblPr/>
              <a:tblGrid>
                <a:gridCol w="431640"/>
                <a:gridCol w="3024360"/>
                <a:gridCol w="2664000"/>
              </a:tblGrid>
              <a:tr h="21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4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. Domicilios de explotación de la activid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. Códigos de actividad y denominación (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_ _ _ _ _ _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_ _ _ _ _ _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_ _ _ _ _ _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_ _ _ _ _  _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_ _ _ _ _ _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_ _ _ _ _ _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_ _ _ _ _ _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_ _ _ _ _ _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_ _ _ _ _ _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_ _ _ _ _ _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_ _ _ _ _ _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7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_ _ _ _ _ _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_ _ _ _ _ _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_ _ _ _ _ _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5082840" y="2124000"/>
            <a:ext cx="11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upa per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de: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     /      /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35520" y="4356000"/>
            <a:ext cx="108000" cy="1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41720" y="4356000"/>
            <a:ext cx="109440" cy="1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67160" y="4356000"/>
            <a:ext cx="108000" cy="1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51160" y="4356000"/>
            <a:ext cx="108000" cy="1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75160" y="4356000"/>
            <a:ext cx="108000" cy="1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59160" y="4356000"/>
            <a:ext cx="108000" cy="1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81360" y="4356000"/>
            <a:ext cx="108000" cy="1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7920" y="4356000"/>
            <a:ext cx="109440" cy="1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13360" y="4356000"/>
            <a:ext cx="108000" cy="1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97360" y="4356000"/>
            <a:ext cx="108000" cy="1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21360" y="4356000"/>
            <a:ext cx="108000" cy="1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05360" y="4356000"/>
            <a:ext cx="108000" cy="1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29360" y="4356000"/>
            <a:ext cx="107640" cy="1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560" y="4356000"/>
            <a:ext cx="109440" cy="1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45000" y="4356000"/>
            <a:ext cx="108000" cy="1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53000" y="4356000"/>
            <a:ext cx="108000" cy="1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03560" y="3995640"/>
            <a:ext cx="109800" cy="1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29000" y="3995640"/>
            <a:ext cx="108000" cy="1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13360" y="3995640"/>
            <a:ext cx="107640" cy="1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37000" y="3995640"/>
            <a:ext cx="108000" cy="1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21000" y="3995640"/>
            <a:ext cx="108000" cy="1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98800" y="3635280"/>
            <a:ext cx="108000" cy="1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06800" y="3635280"/>
            <a:ext cx="108000" cy="1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13000" y="3635280"/>
            <a:ext cx="109800" cy="1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22800" y="3635280"/>
            <a:ext cx="107640" cy="1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30440" y="3635280"/>
            <a:ext cx="108000" cy="1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89360" y="3635280"/>
            <a:ext cx="109440" cy="1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4640" y="3276720"/>
            <a:ext cx="216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04640" y="363528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4640" y="399564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4640" y="4356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6080" y="3276720"/>
            <a:ext cx="203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6080" y="3635280"/>
            <a:ext cx="203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06080" y="3995640"/>
            <a:ext cx="203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5720" y="4356000"/>
            <a:ext cx="226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53680" y="179280"/>
            <a:ext cx="183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OS DEL TRABAJA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0280" y="179280"/>
            <a:ext cx="6193080" cy="287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7240" y="7380360"/>
            <a:ext cx="1541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40680" y="7451640"/>
            <a:ext cx="161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éfono: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7812000"/>
            <a:ext cx="655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 que suscribe, Don ………………………………. en su carácter de (10) …………………., afirma que los datos consigna-dos en este formulario, son correctos y completos, y que ha confeccionado esta Declaración Jurada sin omitir ni falsear dato alguno que deba contener, siendo fiel expresión de la verda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0280" y="7740720"/>
            <a:ext cx="6510240" cy="57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00280" y="7524720"/>
            <a:ext cx="335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ugar y Fecha      Firma del contribuyente o Respons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16280" y="752472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0280" y="7380360"/>
            <a:ext cx="151308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44640" y="7380360"/>
            <a:ext cx="1566720" cy="287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60280" y="539640"/>
          <a:ext cx="6172200" cy="6612120"/>
        </p:xfrm>
        <a:graphic>
          <a:graphicData uri="http://schemas.openxmlformats.org/drawingml/2006/table">
            <a:tbl>
              <a:tblPr/>
              <a:tblGrid>
                <a:gridCol w="2305080"/>
                <a:gridCol w="934920"/>
                <a:gridCol w="1008360"/>
                <a:gridCol w="1008000"/>
                <a:gridCol w="9158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ámite a realizar (A-B-M-AA- AB) (6)            l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IL o CUIT (si correspondiera)                    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ellidos y Nombres                                      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ódigo y denominación Obra Social (2)         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micilio (Explotación / Actividad)                I           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ódigo y denominación de modalidad de contratación (2)                                              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ódigo y denominación puest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empeñado (7)                                           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to remuneración pactada                         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ódigo y denominación mod. Liquidació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 la remuneración (8)                                  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ca trabajador agropecuario (Si / No)       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cha de inicio de la relación laboral (dd/mm/aaaa)                                                 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cha de finalización de la relació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boral (dd/mm/aaaa), mod. a plazo fijo        l              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firmación alta telefónica, por alta anticipada. Código.                                         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cha de llamado (dd/mm/aaaa)                    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cha de cese de la relación labor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 código (dd/mm/aaaa), en caso bajo (9)      I  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micilio Real (de corresponde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o. de teléfono / dirección de mail                ll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cha de nacimiento (dd/mm/aaaa)              l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ódigo y denominación del nivel de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mación (9)                                                 l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ca de incapacidad/discapacidad (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 No)                                                              I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.B.U de Identificación cuenta sueldo            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404640" y="8675640"/>
            <a:ext cx="61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9000" y="8307360"/>
            <a:ext cx="64800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6)  A: Alta; B: Baja; M: Modificación; AA: Anulación de Alta; AB: Anulación de Baja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7) Resolución Superintendencia de Riesgo de Trabajo 244/2006 (Anexo II)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8) 1. Mes, 2. Quincena, 3. Semana, 4. Día, 5. Hora, 6. Piez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9)  Resolución General AFIP 1891-2006 Anexo IV (texto año 2006)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10) Titular, presidente, socio, representante legal o apoderado, u otro responsable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I: Dato obligatorio; II: Si fuera necesario informarlo; lll: Optativo; lV: Deberá denunciarse hasta  5 días hábiles posteriores a alta; V: En caso de poseer el dato ingresarlo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76640" y="755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76640" y="971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76640" y="826920"/>
            <a:ext cx="0" cy="633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76640" y="1547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6640" y="20509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76640" y="2484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76640" y="2843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76640" y="3203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76640" y="3564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6640" y="3924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16:01:10Z</dcterms:created>
  <dc:creator>garciap</dc:creator>
  <dc:description/>
  <dc:language>en-US</dc:language>
  <cp:lastModifiedBy>a</cp:lastModifiedBy>
  <dcterms:modified xsi:type="dcterms:W3CDTF">2006-07-14T16:54:45Z</dcterms:modified>
  <cp:revision>35</cp:revision>
  <dc:subject/>
  <dc:title>Diapositiva 1</dc:title>
</cp:coreProperties>
</file>