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5B4-3DFE-4D7B-BC9A-B644946F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2738-BD82-41CE-9929-1AA5B79D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107-1D43-4049-944F-5B5C81F0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35F-3DA0-4974-9736-1D156632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A0BE-6F9D-43DC-A58F-F1653CB2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E829-8C95-4137-A6E4-B2ED70FE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0D45-53D4-443B-BB96-771A5AED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B642-6B0F-4286-9E99-B703574D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6203-33E8-49AC-A8E8-CCDAA76F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C36A-AB2D-4F80-8C31-D4ECFCCB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3568-50DB-48ED-87AE-E8F68027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820B-B11A-47E7-84DF-C8C59345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98D0-692C-46E3-B16D-62D47E47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6554-F14D-4C73-A6C5-D915F42D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CB08-9BA2-4C89-8ECD-30E1097C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7513-1785-447F-BB2A-155EBF66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3118-131B-433F-AFEB-ADDE6AE2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51F-867C-49FD-A65F-2F9E4E64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9EA-ABC5-4E64-BCBD-5C994BEC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4FC-46EB-47FF-87DE-98D272B4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FB17-1AB0-4F40-BD04-D5F83FE6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F5F9-7051-4479-9EE0-16411E09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A9E-CA22-42B4-9954-117B0B37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EB24-8018-494A-9615-C77FD363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85EB-8567-47C4-821C-D738FDC1998C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250920" y="6165720"/>
            <a:ext cx="1581120" cy="495360"/>
          </a:xfrm>
          <a:prstGeom prst="rect">
            <a:avLst/>
          </a:prstGeom>
          <a:ln w="0">
            <a:noFill/>
          </a:ln>
        </p:spPr>
      </p:pic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B060-49C5-496C-9542-2E6B56035EB9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0920" y="6165720"/>
            <a:ext cx="1581120" cy="495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333399"/>
                </a:solidFill>
                <a:latin typeface="Arial Black"/>
              </a:rPr>
              <a:t>LA NORMATIVA Y LA JURISPRUD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00"/>
                </a:solidFill>
                <a:latin typeface="Tahoma"/>
              </a:rPr>
              <a:t>IMPACTO EN LA ECONOMIA Y EN LAS RR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84320" y="1905120"/>
            <a:ext cx="7864560" cy="37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3333cc"/>
                </a:solidFill>
                <a:latin typeface="Arial Narrow"/>
              </a:rPr>
              <a:t>Deshomolog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Arial Narrow"/>
              </a:rPr>
              <a:t>Los acuerdos homologados judicialmente -  o por el SECLO - tienen carác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Arial Narrow"/>
              </a:rPr>
              <a:t>de cosa juzgada y no pueden ser judicialmente impugnados, salvo que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Arial Narrow"/>
              </a:rPr>
              <a:t>demuestre vicio en la voluntad de las partes (</a:t>
            </a:r>
            <a:r>
              <a:rPr b="0" lang="es-AR" sz="2000" spc="-1" strike="noStrike">
                <a:solidFill>
                  <a:srgbClr val="3333cc"/>
                </a:solidFill>
                <a:latin typeface="Arial Narrow"/>
              </a:rPr>
              <a:t>PLENARIO</a:t>
            </a:r>
            <a:r>
              <a:rPr b="1" lang="es-AR" sz="2000" spc="-1" strike="noStrike">
                <a:solidFill>
                  <a:srgbClr val="3333cc"/>
                </a:solidFill>
                <a:latin typeface="Arial Narrow"/>
              </a:rPr>
              <a:t>  </a:t>
            </a:r>
            <a:r>
              <a:rPr b="1" i="1" lang="es-AR" sz="2000" spc="-1" strike="noStrike">
                <a:solidFill>
                  <a:srgbClr val="3333cc"/>
                </a:solidFill>
                <a:latin typeface="Arial Narrow"/>
              </a:rPr>
              <a:t>LAFALCE </a:t>
            </a:r>
            <a:r>
              <a:rPr b="0" lang="es-AR" sz="2000" spc="-1" strike="noStrike">
                <a:solidFill>
                  <a:srgbClr val="3333cc"/>
                </a:solidFill>
                <a:latin typeface="Arial Narrow"/>
              </a:rPr>
              <a:t>1970</a:t>
            </a:r>
            <a:r>
              <a:rPr b="1" lang="es-AR" sz="2000" spc="-1" strike="noStrike">
                <a:solidFill>
                  <a:srgbClr val="3333cc"/>
                </a:solidFill>
                <a:latin typeface="Arial Narrow"/>
              </a:rPr>
              <a:t>)</a:t>
            </a:r>
            <a:r>
              <a:rPr b="0" lang="es-AR" sz="2000" spc="-1" strike="noStrike">
                <a:solidFill>
                  <a:srgbClr val="3333cc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cc"/>
                </a:solidFill>
                <a:latin typeface="Arial Narrow"/>
              </a:rPr>
              <a:t>Sin embargo,  recientemente esta pacífica jurisprudencia ha sido alter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Arial Narrow"/>
              </a:rPr>
              <a:t>SALA V   en “Vivas c/ Peugeot” se declaró la nulidad de un acuerdo SEC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Arial Narrow"/>
              </a:rPr>
              <a:t>SALA I   en  “Bruno c/ Peugeot” ratificó el acue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Arial Narrow"/>
              </a:rPr>
              <a:t>SALA II  en “Arguello Vera” ratificó el acuer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3600" y="2708280"/>
            <a:ext cx="9176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Arial Narrow"/>
              </a:rPr>
              <a:t>L</a:t>
            </a:r>
            <a:r>
              <a:rPr b="1" lang="es-AR" sz="4000" spc="-1" strike="noStrike">
                <a:solidFill>
                  <a:srgbClr val="3333cc"/>
                </a:solidFill>
                <a:latin typeface="Arial Narrow"/>
              </a:rPr>
              <a:t>EGISLACION RECIENTE Y PROYECTOS 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3333cc"/>
                </a:solidFill>
                <a:latin typeface="Arial Narrow"/>
              </a:rPr>
              <a:t>TRATAMIENTO EN EL CON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280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cc"/>
                </a:solidFill>
                <a:latin typeface="Tahoma"/>
              </a:rPr>
              <a:t>                               </a:t>
            </a:r>
            <a:r>
              <a:rPr b="0" lang="es-ES" sz="3200" spc="-1" strike="noStrike">
                <a:solidFill>
                  <a:srgbClr val="3333cc"/>
                </a:solidFill>
                <a:latin typeface="Tahoma"/>
              </a:rPr>
              <a:t>IUS VARIAND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6984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Art.  66   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LCT  El empleador está facultado para introducir todos aquellos cambios relativos a las formas y modalidades de la prestación del trabajo, en tanto esos cambios no importen un ejercicio irrazonable de esa facultad, ni alteren modalidades esenciales del contrato, ni causen perjuicio material o moral al trabajador. Cuando el empleador disponga medidas vedadas por este artículo, al trabajador le asistirá la posibilidad de considerarse despedido sin ca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La</a:t>
            </a: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 LEY 26088 – 21.IV.06  - agreg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ó</a:t>
            </a: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“...o </a:t>
            </a: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accionar persiguiendo el restablecimiento de las condiciones alteradas ...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por </a:t>
            </a: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procedimiento sumarísimo, no pudiéndose innovar en las condiciones y modalidades de trabajo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salvo que sean generales para el establecimiento o sección,</a:t>
            </a: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 hasta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que recaiga </a:t>
            </a: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sentencia definitiva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Limitar causales y tiempos para accion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33cc"/>
                </a:solidFill>
                <a:latin typeface="Tahoma"/>
              </a:rPr>
              <a:t>Respetar todos los NI de la norma, no solo algun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33cc"/>
                </a:solidFill>
                <a:latin typeface="Tahoma"/>
              </a:rPr>
              <a:t>La medida de no innovar solo en el marco de la acción judici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        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PROYECTOS CON MEDIA SANCION DE LA CÁMARA DE      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DIPUTADO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cc"/>
                </a:solidFill>
                <a:latin typeface="Tahoma"/>
              </a:rPr>
              <a:t>Art. 80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Podrá pedirse anualmente y deberá entregarse dentro de los   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30 dias.  Sanción: 3 meses de la mejor remuner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cc"/>
                </a:solidFill>
                <a:latin typeface="Tahoma"/>
              </a:rPr>
              <a:t>BLANQUEO.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Sanea la prórroga, por decreto, de la emergencia económica  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LEY 25.561 – BO. 7.I.02 - vig. 14.VII.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Dec.883/02 – BO.29.V.02 - vig. 26.III.0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Dec.662/03 – BO.21.III.03 – vig. 30.VI.0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Dec.256/03 – BO.26.VI.03 – vig. 31.XII.0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Dec.1351/03 – BO.6.I.04 – vig.31.III.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Dec.369/04 – BO.2.IV.04 – vig.30.VI.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Dec.823./04 – BO.28.VI.04 – vig.31.XII.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Dec.2014/04 – BO.20.I.05  reduce al 80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Ley 25972 – BO. 17.XII.04 suspende despidos “hasta que la tasa de   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desocupación del INDEC resulte inferior al 10%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Dec.1433/05 – BO.23.XI.05 reduce al 50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DICTÁMENES DE LA COMISIÓN DE LEGISLACIÓN LABORAL DE LA CÁMARA DE DIPUTADO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Tahoma"/>
              </a:rPr>
              <a:t>Art. 12</a:t>
            </a:r>
            <a:r>
              <a:rPr b="0" lang="es-AR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Supresión o reducción de beneficios individuales mediante acuerdos, serán nulos y sin va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Art.18</a:t>
            </a:r>
            <a:r>
              <a:rPr b="1" lang="es-ES" sz="2400" spc="-1" strike="noStrike">
                <a:solidFill>
                  <a:srgbClr val="10738a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iempo de servicio “mientras haya durado la vinculación entre las partes”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aun qu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no hay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prestación efectiva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.  I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cluiría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así 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spensiones,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serva del puesto, licencias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CT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dice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“efectivamente trabajado desde el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mienzo de la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inculación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715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DICTÁMENES DE LA COMISIÓN DE LEGISLACIÓN LABORAL DE LA CÁMARA DE DIPUTADOS (cont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2349360"/>
            <a:ext cx="844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Art.19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sidera tiempo de servicio al plazo de preaviso, aún cuando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lo omita y no haya prestación efec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Art. 67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anciones   descargo previo directo o ante el MITRA,  sin plaz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ción: su regulación por CCT  (ya lo tienen much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cc"/>
                </a:solidFill>
                <a:latin typeface="Tahoma"/>
              </a:rPr>
              <a:t>Art.245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“En despidos sin justa causa indemnización de un mes de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sueldo por año de servicio o fracción mayor de 3 meses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tomando como base la mejor remuneración mensual, normal y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habitual devengada durante el último año o fracción menor.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Mínimo 2 meses de sueldo 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Tope indemnizatorio, eliminado y 2 meses como mínimo (+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preaviso)  Va mas allá de Vizzoti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99760" y="533160"/>
            <a:ext cx="76438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DICTÁMENES DE LA COMISIÓN DE LEGISLACIÓN LABORAL DE LA CÁMARA DE DIPUTADOS (cont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694640" cy="31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Art.256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scripción: amplía el plazo para los créditos no derivados de la extinción de la relación tales como diferencias salariales, vacaciones, SAC., manteniendo el</a:t>
            </a: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 2 años para las indemnizaciones por antigüedad, falta</a:t>
            </a: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 preaviso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85071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 Narrow"/>
              </a:rPr>
              <a:t>     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DICTAMENES DE LA COMISION LABORAL DE LA CAMARA     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DE DIPUTADOS  (cont.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915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Tahoma"/>
              </a:rPr>
              <a:t>C. 158 OIT  1982   TERMINACION DE LA RELAC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Tahoma"/>
              </a:rPr>
              <a:t>                            </a:t>
            </a:r>
            <a:r>
              <a:rPr b="0" lang="es-AR" sz="2400" spc="-1" strike="noStrike">
                <a:solidFill>
                  <a:srgbClr val="3333cc"/>
                </a:solidFill>
                <a:latin typeface="Tahoma"/>
              </a:rPr>
              <a:t>DE TRA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Elimina la justa causa de desp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Tiene 33 ratificaciones, en Latinoamérica solo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Brasil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en 1995 y lo denunció en 199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Consagra la “estabilidad propia” (absolu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85071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 Narrow"/>
              </a:rPr>
              <a:t>     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DICTAMENES DE LA COMISION LABORAL DE LA CAMARA     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DE DIPUTADOS  (cont.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52480" y="2057400"/>
            <a:ext cx="82915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AR" sz="2800" spc="-1" strike="noStrike">
                <a:solidFill>
                  <a:srgbClr val="3333cc"/>
                </a:solidFill>
                <a:latin typeface="Tahoma"/>
              </a:rPr>
              <a:t>Imposición de costas</a:t>
            </a: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La ley 18345 de Procedimiento Laboral impone las costas al venc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La Dip. Delia Bisutti ARI pide modificar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   “</a:t>
            </a: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se podrán imponer al trabajador  las costas solo en el supuesto de rechazo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Tahoma"/>
              </a:rPr>
              <a:t>total</a:t>
            </a: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 de la demanda. Si la demanda fuera parcialmente rechazada, paga el empleado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3333cc"/>
                </a:solidFill>
                <a:latin typeface="Arial Narrow"/>
              </a:rPr>
              <a:t>CONSECUE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6262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FALTA DE SEGURIDAD JURÍD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LITIGIOS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PROMUEVE EL DESPIDO COMO SOLUC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FRENA LA IN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IMPULSA LA INF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416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cc"/>
                </a:solidFill>
                <a:uFillTx/>
                <a:latin typeface="Arial Narrow"/>
              </a:rPr>
              <a:t>                                                                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Arial Narrow"/>
              </a:rPr>
              <a:t>JURISPRUDENCIA</a:t>
            </a:r>
            <a:br>
              <a:rPr sz="3600"/>
            </a:br>
            <a:r>
              <a:rPr b="1" lang="es-AR" sz="3600" spc="-1" strike="noStrike">
                <a:solidFill>
                  <a:srgbClr val="3333cc"/>
                </a:solidFill>
                <a:latin typeface="Arial Narrow"/>
              </a:rPr>
              <a:t>   SOLIDARIDAD</a:t>
            </a:r>
            <a:br>
              <a:rPr sz="3600"/>
            </a:br>
            <a:r>
              <a:rPr b="1" lang="es-ES" sz="2400" spc="-1" strike="noStrike">
                <a:solidFill>
                  <a:srgbClr val="3333cc"/>
                </a:solidFill>
                <a:latin typeface="Arial Narrow"/>
              </a:rPr>
              <a:t>Fallo plenario 309 de la C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NAT    </a:t>
            </a:r>
            <a:r>
              <a:rPr b="1" lang="es-ES" sz="2400" spc="-1" strike="noStrike">
                <a:solidFill>
                  <a:srgbClr val="3333cc"/>
                </a:solidFill>
                <a:latin typeface="Arial Narrow"/>
              </a:rPr>
              <a:t>  3.III.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07588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Ramírez, María Isidora c/ Russo Comunicaciones e Insumos S.A. y otro s/ despido”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doctrina obligatoria para los jueces del fuero,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dice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que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en los casos de responsabilidad solidaria prevista por el art. 30 de la LCT, el trabajador puede demandar en forma directa a la empresa usuaria de los servicios 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contratista o subcontratista de trabajos o servicios que correspondan a la actividad normal y específica propia de su establecimiento, sin necesidad de traer al juicio a estos últimos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ndamento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las previsiones del art. 705 del Código Civil, que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dice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que el acreedor puede exigir el pago del total de la deuda a todos los deudores solidarios en conjunto, o a cualquiera de ello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n este supuesto, las empresas demandadas podrán citar como terceros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nteresados a los referidos contratistas, para que tomen intervención en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el proceso, y eventualmente reclamarles los importes que puedan verse obligados a abonar a través de una acción de repeti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6720" y="1066680"/>
            <a:ext cx="82072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111320" y="685800"/>
            <a:ext cx="7804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AR" sz="4000" spc="-1" strike="noStrike">
                <a:solidFill>
                  <a:srgbClr val="333399"/>
                </a:solidFill>
                <a:latin typeface="Tahoma"/>
              </a:rPr>
              <a:t>                            </a:t>
            </a:r>
            <a:r>
              <a:rPr b="1" lang="es-AR" sz="2400" spc="-1" strike="noStrike">
                <a:solidFill>
                  <a:srgbClr val="333399"/>
                </a:solidFill>
                <a:latin typeface="Tahoma"/>
              </a:rPr>
              <a:t>JURISPRUDENCIA                            </a:t>
            </a:r>
            <a:br>
              <a:rPr sz="2400"/>
            </a:br>
            <a:r>
              <a:rPr b="1" lang="es-AR" sz="2400" spc="-1" strike="noStrike">
                <a:solidFill>
                  <a:srgbClr val="333399"/>
                </a:solidFill>
                <a:latin typeface="Tahoma"/>
              </a:rPr>
              <a:t>                     TOPE INDEMNIZATORIO</a:t>
            </a:r>
            <a:br>
              <a:rPr sz="4000"/>
            </a:br>
            <a:br>
              <a:rPr sz="4000"/>
            </a:br>
            <a:r>
              <a:rPr b="1" lang="es-AR" sz="2000" spc="-1" strike="noStrike">
                <a:solidFill>
                  <a:srgbClr val="333399"/>
                </a:solidFill>
                <a:latin typeface="Tahoma"/>
              </a:rPr>
              <a:t>Vizotti c/ AMSA      14.IX.04  CNAT. Sala II</a:t>
            </a:r>
            <a:r>
              <a:rPr b="1" lang="es-A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AR" sz="2000" spc="-1" strike="noStrike">
                <a:solidFill>
                  <a:srgbClr val="333399"/>
                </a:solidFill>
                <a:latin typeface="Tahoma"/>
              </a:rPr>
              <a:t>y CSJN</a:t>
            </a:r>
            <a:br>
              <a:rPr sz="4000"/>
            </a:br>
            <a:r>
              <a:rPr b="0" lang="es-AR" sz="2400" spc="-1" strike="noStrike">
                <a:solidFill>
                  <a:srgbClr val="333399"/>
                </a:solidFill>
                <a:latin typeface="Tahoma"/>
              </a:rPr>
              <a:t>Es</a:t>
            </a:r>
            <a:r>
              <a:rPr b="0" lang="es-A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una desvinculación de un excluido de CCT. previa a la duplicación de la ley de Emergencia 25561. </a:t>
            </a:r>
            <a:br>
              <a:rPr sz="2400"/>
            </a:br>
            <a:r>
              <a:rPr b="0" lang="es-A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Reconoce la validez jurídica del régimen tarifario para  despidos, admite la razonabilidad de los parámetros elegidos (antigüedad y salario) y, obviamente, no modifica el art.  245 LCT</a:t>
            </a:r>
            <a:br>
              <a:rPr sz="2400"/>
            </a:br>
            <a:r>
              <a:rPr b="0" lang="es-A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acha de inconstitucional y confiscatorio en cuanto afecta en mas del 33% la expectativa indemnizatoria.</a:t>
            </a:r>
            <a:br>
              <a:rPr sz="2400"/>
            </a:br>
            <a:br>
              <a:rPr sz="2400"/>
            </a:br>
            <a:r>
              <a:rPr b="0" lang="es-A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 es vinculante ni obligatorio para Trib. Inferiores </a:t>
            </a:r>
            <a:br>
              <a:rPr sz="2400"/>
            </a:br>
            <a:r>
              <a:rPr b="0" lang="es-A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e excede la SCJN al pretender legislar (nuevo tope ?)</a:t>
            </a:r>
            <a:br>
              <a:rPr sz="2400"/>
            </a:br>
            <a:r>
              <a:rPr b="0" lang="es-AR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13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55080" y="68580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s-AR" sz="3600" spc="-1" strike="noStrike">
                <a:solidFill>
                  <a:srgbClr val="3333cc"/>
                </a:solidFill>
                <a:latin typeface="Tahoma"/>
              </a:rPr>
              <a:t>LRT    los arts. mas atacad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art.  39    Opción por la vía civ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art.  46    Comisiones Méd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art.   6     Listado de enferme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art.  15    Pago en cuotas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61760" y="2285640"/>
            <a:ext cx="776124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ahoma"/>
              </a:rPr>
              <a:t>AQUINO c/ CARGO SERVICIOS INDUSTRIALE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CSJN 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IX 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 algunas consideraciones ajenas a la cuestión y la firma de 3 de los jueces que votaron en GOROSITO en sentido contrario, la Corte declaró la inconstitucionalidad del art. 39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LRT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. Es una rara unanimidad, con diversidad de fundamentos y hasta votos que destacan las bondades del sist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Corte asume, como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en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VIZZOTTI, facultades legislativas al apartarse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, en algunos votos, de la norma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, ignorando las modificaciones que el DNU 1278 introdujo en materia de indemnizaciones ($ 55000 a $ 180000 + 50000 para la incapacidad 100%), descalifica las prestaciones dinerarias, médicas, de rehabilitación y recolocación como elemento que acerca valores de ambos sistemas (el de la LRT y el civil) y formula una recomendación impropia a las empresas para que se aseguren para cubrir los nuevos reclam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400" y="10663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3333cc"/>
                </a:solidFill>
                <a:latin typeface="Arial Narrow"/>
              </a:rPr>
              <a:t>           </a:t>
            </a:r>
            <a:r>
              <a:rPr b="1" lang="es-AR" sz="4400" spc="-1" strike="noStrike">
                <a:solidFill>
                  <a:srgbClr val="3333cc"/>
                </a:solidFill>
                <a:latin typeface="Arial Narrow"/>
              </a:rPr>
              <a:t>LRT – JURISPRUDENCIA</a:t>
            </a:r>
            <a:br>
              <a:rPr sz="4400"/>
            </a:br>
            <a:r>
              <a:rPr b="1" lang="es-AR" sz="4400" spc="-1" strike="noStrike">
                <a:solidFill>
                  <a:srgbClr val="3333cc"/>
                </a:solidFill>
                <a:latin typeface="Arial Narrow"/>
              </a:rPr>
              <a:t>   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INDEMNIZACION</a:t>
            </a:r>
            <a:r>
              <a:rPr b="1" lang="es-AR" sz="4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590920"/>
            <a:ext cx="8077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3333cc"/>
                </a:solidFill>
                <a:latin typeface="Arial Narrow"/>
              </a:rPr>
              <a:t>                                 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s-AR" sz="4800" spc="-1" strike="noStrike">
                <a:solidFill>
                  <a:srgbClr val="3333cc"/>
                </a:solidFill>
                <a:latin typeface="Arial Narrow"/>
              </a:rPr>
              <a:t>                          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s-AR" sz="4800" spc="-1" strike="noStrike">
                <a:solidFill>
                  <a:srgbClr val="3333cc"/>
                </a:solidFill>
                <a:latin typeface="Arial Narrow"/>
              </a:rPr>
              <a:t>                                 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JURISPRUDENCIA</a:t>
            </a:r>
            <a:br>
              <a:rPr sz="2800"/>
            </a:br>
            <a:br>
              <a:rPr sz="2800"/>
            </a:br>
            <a:r>
              <a:rPr b="0" lang="es-AR" sz="2800" spc="-1" strike="noStrike">
                <a:solidFill>
                  <a:srgbClr val="3333cc"/>
                </a:solidFill>
                <a:latin typeface="Arial Narrow"/>
              </a:rPr>
              <a:t>       </a:t>
            </a:r>
            <a:r>
              <a:rPr b="1" lang="es-AR" sz="2800" spc="-1" strike="noStrike">
                <a:solidFill>
                  <a:srgbClr val="3333cc"/>
                </a:solidFill>
                <a:latin typeface="Arial Narrow"/>
              </a:rPr>
              <a:t>COMISIONES MEDICAS</a:t>
            </a:r>
            <a:br>
              <a:rPr sz="2800"/>
            </a:br>
            <a:r>
              <a:rPr b="1" lang="es-AR" sz="2800" spc="-1" strike="noStrike">
                <a:solidFill>
                  <a:srgbClr val="3333cc"/>
                </a:solidFill>
                <a:latin typeface="Arial Narrow"/>
              </a:rPr>
              <a:t>      </a:t>
            </a:r>
            <a:r>
              <a:rPr b="0" lang="es-AR" sz="2400" spc="-1" strike="noStrike">
                <a:solidFill>
                  <a:srgbClr val="3333cc"/>
                </a:solidFill>
                <a:latin typeface="Arial Narrow"/>
              </a:rPr>
              <a:t>Castillo  c/  Cerámica Alberdi   SC Mza. – CSJN  IX 04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2971440"/>
            <a:ext cx="777240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SCJ impugnó el artículo 46 inciso 1º, que establece que las resoluciones de las Comisiones Médicas son apelables ante la Justicia Feder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ostuvo que los accidentes de trabajo son conflictos entre trabajadores, empleadores y ART, y l</a:t>
            </a: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 accidentados pueden recurrir directamente ante el Juez del Trabajo de cada provincia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.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10666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333399"/>
                </a:solidFill>
                <a:latin typeface="Tahoma"/>
              </a:rPr>
              <a:t>                            </a:t>
            </a:r>
            <a:r>
              <a:rPr b="1" lang="es-AR" sz="2400" spc="-1" strike="noStrike">
                <a:solidFill>
                  <a:srgbClr val="333399"/>
                </a:solidFill>
                <a:latin typeface="Tahoma"/>
              </a:rPr>
              <a:t>JURISPRUDENCIA</a:t>
            </a:r>
            <a:r>
              <a:rPr b="1" lang="es-AR" sz="4400" spc="-1" strike="noStrike">
                <a:solidFill>
                  <a:srgbClr val="333399"/>
                </a:solidFill>
                <a:latin typeface="Tahoma"/>
              </a:rPr>
              <a:t>          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533520" y="1905120"/>
            <a:ext cx="7772400" cy="26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LISTADO DE ENFERMEDA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Figueroa  c/  Paglia  Cam.Trab.Cordoba Sala I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Inconstitucionalidad art. 4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33cc"/>
                </a:solidFill>
                <a:latin typeface="Tahoma"/>
              </a:rPr>
              <a:t>Fallos recient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Swiss Med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chat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Parolac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supuestos deleg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profesor de go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Arial Narrow"/>
              </a:rPr>
              <a:t>Carino c/ </a:t>
            </a:r>
            <a:r>
              <a:rPr b="1" lang="es-AR" sz="2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Arial Narrow"/>
              </a:rPr>
              <a:t>Argencard  </a:t>
            </a:r>
            <a:r>
              <a:rPr b="1" lang="es-AR" sz="2800" spc="-1" strike="noStrike">
                <a:solidFill>
                  <a:srgbClr val="3333cc"/>
                </a:solidFill>
                <a:latin typeface="Arial Narrow"/>
              </a:rPr>
              <a:t>   </a:t>
            </a:r>
            <a:r>
              <a:rPr b="1" lang="es-ES" sz="2800" spc="-1" strike="noStrike">
                <a:solidFill>
                  <a:srgbClr val="3333cc"/>
                </a:solidFill>
                <a:latin typeface="Arial Narrow"/>
              </a:rPr>
              <a:t>CNAT. </a:t>
            </a:r>
            <a:r>
              <a:rPr b="1" lang="es-AR" sz="2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Arial Narrow"/>
              </a:rPr>
              <a:t>Sala III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6000" y="2276280"/>
            <a:ext cx="735336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spedido con tope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$ 1237.68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ultimo sueldo $ 2760.- reclamó además por dos reducciones salariales (agosto de 2000 – consentida por escrito – y enero 2002 – no objetada hasta la demand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Sala III entendió que no debe haber rebajas salariales por cuanto el trabajador continuó realizando las mismas tareas, reajustando su sueldo a $ 3240.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rdenó pagar las diferencias retroactivas y calcular la indemnización sobre la totalidad del sueldo con una disminución del 33% (Vizzot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26:43Z</dcterms:created>
  <dc:creator>FDT</dc:creator>
  <dc:description/>
  <dc:language>en-US</dc:language>
  <cp:lastModifiedBy>-</cp:lastModifiedBy>
  <dcterms:modified xsi:type="dcterms:W3CDTF">2006-08-16T02:07:01Z</dcterms:modified>
  <cp:revision>73</cp:revision>
  <dc:subject/>
  <dc:title>Diapositiva 1</dc:title>
</cp:coreProperties>
</file>