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9D7-22D0-4E64-B346-6F02CE44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89E-CDE5-40B6-AEB3-F9F1CD81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37D-AC8F-47A8-8A09-3456B9D1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FC8-C500-43C2-A62A-18BB05A4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78A2-B3AA-4BB0-B5C2-F1BEF1A7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7EAA-D7BD-4514-917A-92FFB89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4C8-5C8E-4F5D-805C-097F7D5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4CB2-AB2D-4F4D-91A8-ECF174A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52B-1445-40FC-8C7B-945F51A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B1F-A97D-432E-8567-8640DBC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861-6323-4A6C-A4A8-E74E05B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266-A2E1-494C-8459-43318C6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B8C-650D-4FE0-A58B-E612DFB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503B-C79E-4A78-AF02-0D4BBF7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5DF-9BA5-453F-AC57-C3CF9D05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A76B-3205-4E32-862D-353CF563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7AAF-1F0B-4650-B240-0F42ADC9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8DB-1B7E-4E10-B252-40EA1ED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380-CDCA-43D3-98AF-D1034EE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14C-B285-4285-B13A-D76D4BD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723-0660-4256-AC64-0093821C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076-CCEE-46B4-93EA-351F2F2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03F-DBC1-4E7C-A3B9-404AF70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EA2-E616-4CA5-949C-568BBD2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499-9B7F-493F-9EA2-8DD1A29E9BA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887-0F3D-45E1-9683-373934A78F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Courier New"/>
              </a:rPr>
              <a:t>Las opiniones vertidas en este trabajo o en la exposiciòn </a:t>
            </a: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Courier New"/>
              </a:rPr>
              <a:t>NO COMPROMETEN</a:t>
            </a:r>
            <a:r>
              <a:rPr b="0" lang="es-ES" sz="4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Courier New"/>
              </a:rPr>
              <a:t>los  criterios sustentados por la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0" lang="es-ES" sz="4400" spc="-1" strike="noStrike">
                <a:solidFill>
                  <a:srgbClr val="ffffcc"/>
                </a:solidFill>
                <a:latin typeface="Courier New"/>
              </a:rPr>
              <a:t>ADMINISTRACION FEDERAL DE INGRESOS PUBL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340560"/>
            <a:ext cx="8785080" cy="61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Incorpòrase como inciso g) del artículo 3°, RG N º 10 (  RG 1349)  el siguient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" En todos los supuestos contemplados en los incisos precedentes, además de los recaudos propios que para cada caso se establecen, deberá acreditarse la existencia y veracidad del domicilio fiscal denunciado, acompañando como mínimo DOS (2) de las siguientes constancias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ertificado de domicilio expedido por autoridad policial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Acta de constatación notarial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Fotocopia de alguna factura de servicio público a nombre del contribuyente o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Fotocopia del título de propiedad o contrato de alquiler o de "leasing", del inmueble cuyo domicilio se denunci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Fotocopia del extracto de cuenta bancaria o del resumen de tarjeta de crédito, cuando el solicitante sea el titular de tales servici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Fotocopia de la habilitación municipal o autorización municipal equivalente, cuando la actividad del solicitante se ejecute en inmuebles que requieran de la misma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En casos especiales o cuando circunstancias particulares lo justifiquen, la dependencia interviniente podrá requerir y/o aceptar otros documentos o comprobantes que, a su criterio, acrediten fehacientemente el domicilio fiscal denunciado."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.G. 4.120/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B.O. 05/02/199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20" y="2154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UJE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85896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RT. 1* RG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RT.LEY GCI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49 INC. A Y 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4170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NO 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2846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MP.UNIP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SOC.COOP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RT. 1* RG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5280" y="50846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RG N* 415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ICT. 14 /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172260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SOC.COMERC.(19.55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TODO OTRO TIPO DE SO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ASOC. CIVI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FIDEICOMIS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FONDOS COMUNES INVE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1052640"/>
            <a:ext cx="0" cy="10810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1341360"/>
            <a:ext cx="0" cy="31672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1341360"/>
            <a:ext cx="3603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4508640"/>
            <a:ext cx="3603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565360"/>
            <a:ext cx="4316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48360" y="691920"/>
            <a:ext cx="1584360" cy="6490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12000" y="1052640"/>
            <a:ext cx="0" cy="647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645000"/>
            <a:ext cx="0" cy="1944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4581360"/>
            <a:ext cx="8636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716280"/>
            <a:ext cx="360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589720"/>
            <a:ext cx="504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5827680"/>
            <a:ext cx="34560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NO PRESENTACIO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MULTA HASTA $ 5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RT. 38.1 LEY 26.04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000" y="582768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ODOS L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DMINISTRA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431496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SE PRESENTA P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F: 65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4920" y="11592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D.JJ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GANANCI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RT. 27 RG 181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SUJE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11592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MPADRON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74920" y="150660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PERIO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OBLIGATORI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150660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JERC. ANU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CERRA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31-08-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31622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FORMA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PRESENTAC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31622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APLICATIV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GANANCIA-SOCIEDADES -5.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NF.P/FINES FISCALES 1.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3162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SE DEBE SEGUI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LAS PAUTAS DEL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2* PARRAFO ART 2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920" y="5106960"/>
            <a:ext cx="16556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SUJE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4581360"/>
            <a:ext cx="179892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COOP. ESC. RECONO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RG 264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8920" y="4437000"/>
            <a:ext cx="1944720" cy="792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ENT. QUE ADM Y P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ACT. HOSPITALARIAS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LA ADM.PUBLIC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7440" y="4581360"/>
            <a:ext cx="179856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BOMB.VOLU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RECONOCIDOS OFI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602136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COM. INDI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INSC. RENAC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33800" y="6093000"/>
            <a:ext cx="2230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INST. RELIOGIOS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REG.SEC DE CULTO N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47628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54936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1916280"/>
            <a:ext cx="1728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3645000"/>
            <a:ext cx="12956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573360"/>
            <a:ext cx="719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4869000"/>
            <a:ext cx="0" cy="14396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4869000"/>
            <a:ext cx="2174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6308640"/>
            <a:ext cx="2890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6308640"/>
            <a:ext cx="792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67280" y="4797360"/>
            <a:ext cx="4334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4797360"/>
            <a:ext cx="792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5589720"/>
            <a:ext cx="287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NO PRESENT. DD.JJ GCIAS</a:t>
            </a:r>
            <a:br>
              <a:rPr sz="2800"/>
            </a:b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ARTICULO 28 RG 1.81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SOCIACIONES COOPERADORAS RECONOCIDAS (ART. 1* RG 264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SOC.FUND. Y DE DEMAS PERSONAS DE EXISTENCIA IDEAL SIN FINES DE LUCRO QUE DESTINEN   LOS FONDOS QUE ADMINISTREN Y/O DISPONGAN  A LA PROMOCIÒN DE ACTIVIDADES HOSPITALARIAS BAJO LA ORBITA DE LA ADMINISTRACION PUBLICA ( </a:t>
            </a:r>
            <a:r>
              <a:rPr b="0" lang="es-ES" sz="1200" spc="-1" strike="noStrike">
                <a:solidFill>
                  <a:srgbClr val="ffffcc"/>
                </a:solidFill>
                <a:latin typeface="Arial Black"/>
              </a:rPr>
              <a:t>NACIONAL, PROVINCIAL O MUNICIPAL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COMUNIDADES INDIGENAS, INSCRIPTAS EN EL  RENACI (LEY 23.302) O ASOCIACIONES SIN FINES DE LUCRO QUE  DESTINEN FONDOS AL MANTENIMIENTO Y FOMENTO DE LA CULTURA INDIGENA CUYOS INTEGRANTES RESULTEN SER MIEMBROS ACTIVOS DE ALGUNA COMINIDAD ABORIGEN (ART. 75 INC.17 CONST.NACION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INSTITUCIONES RELIGIOSAS INSCRIPTA EN EL L REGISTRO EXISTENTE EN EL AMBITO DE LA SECRETARIA DE CULTO DE LA NA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28954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 Black"/>
              </a:rPr>
              <a:t>A.F.I.P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 Black"/>
              </a:rPr>
              <a:t>CONST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FAL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INFORM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DENTRO DE LOS 20 DIA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HABILES PRES. F699(N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MITE REQUER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8380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LA ENTIDAD CUMP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REQUER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24922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E ARCHIVAN L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CTUACIONES, SE LE APLIC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ANCION DE HASTA $ 5.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RT. 31 ANTULTIMO PARRF. RG 18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33526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Arial"/>
              </a:rPr>
              <a:t>LA PETICI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Arial"/>
              </a:rPr>
              <a:t>ES UNA ENTID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Arial"/>
              </a:rPr>
              <a:t>GRAVADA EN imp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Arial"/>
              </a:rPr>
              <a:t>a las ganan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170028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No  CUMPLE</a:t>
            </a: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914400"/>
            <a:ext cx="7621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hevara"/>
              </a:rPr>
              <a:t>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838080"/>
            <a:ext cx="281916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mit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certificado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mpadronamiento 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tramite (  F 409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819520"/>
            <a:ext cx="3353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 Black"/>
              </a:rPr>
              <a:t>Hasta que l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 Black"/>
              </a:rPr>
              <a:t>a.f.i.p. No emi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 Black"/>
              </a:rPr>
              <a:t>FORM,709 (n.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ffffcc"/>
                </a:solidFill>
                <a:latin typeface="Arial Black"/>
              </a:rPr>
              <a:t>o rechace  FOR.40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4267080"/>
            <a:ext cx="4419720" cy="2590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) LA ENTIDAD DEBE PRESENTAR DD.JJ PERO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BONAR IMPUESTO A LAS GCI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) NO LE DEBERAN LOS TERCEROS PRACTIC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ENCIONES Y/O PERCEPCION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3)SI LA ENTIDAD ENCUADRA EN EL ART.81 INC.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 LA LEY DEL IMPTO A LAS GCIAS , LAS DON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DUCIDAS POR TERCEROS QUEDARAN SUJETAS A 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QUE ESTA SEA RECONOCIDA POR LA AFI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) LA ENTIDAD DEBE CUMPLIR CON LA OBLIGACION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CTUAR COMO AGENTE DE RETENCION CUANDO COR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5) DEBE PRESENTAR LAS DD.JJ INFORMATIVAS SEGÚ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AS RESOLUCIONES GENERALES EN VIGENCI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267080"/>
            <a:ext cx="2819520" cy="16002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BE INGRESAR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RRESPO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ALDO DE IMP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ANAN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.V.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CIA MIN.P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3657600"/>
            <a:ext cx="0" cy="609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371600" y="1143000"/>
            <a:ext cx="9907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1143000"/>
            <a:ext cx="0" cy="16765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.F.I.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MIT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.E.E. (F:409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304920"/>
            <a:ext cx="198108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SCALIZ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UMPL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ORM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990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CR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BANCA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18288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MPORTA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2666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ONST.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F.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BASE DE DA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505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CT. APO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43434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ONST.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OCUM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51814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UMPL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BJETO SO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6172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STINO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BIENES 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OND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6172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TRAS PAUT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UDIT.FISC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533520"/>
            <a:ext cx="3045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533520"/>
            <a:ext cx="6858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160020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243828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32767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11480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9528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79132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6477120"/>
            <a:ext cx="9907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1295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1371600"/>
            <a:ext cx="16002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E DETECT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RREGULARI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27664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ORM.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 PLAZ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1068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UBLICA 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AGINA WE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762120"/>
            <a:ext cx="0" cy="5331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828800" y="1600200"/>
            <a:ext cx="9144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9810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28954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2133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XIST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RRE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ALV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30481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OCUMENTAC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ATOS APORT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40384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JUEZ ADM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S.FUN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49528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JANDO SI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FEC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 40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6095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SDE PR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 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60958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GRAV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743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657600"/>
            <a:ext cx="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46483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5562720"/>
            <a:ext cx="0" cy="533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80720" y="64008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1522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E INTIMA L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PRESENT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1219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UMPLIMEN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2860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E PIER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9400" y="4572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24680" y="762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2468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2895480"/>
            <a:ext cx="0" cy="3812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40600" y="3284640"/>
            <a:ext cx="175248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MULTA D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HASTA 5.0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RT.39.(26.044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765000"/>
            <a:ext cx="647640" cy="2160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2280" y="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.F.I.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CHAZ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.E.E. (F:409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A ENT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UE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2193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MIT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SOLU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UNDADA (art.8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4382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TIFICA L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ISMA PROC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ART. 100 LEY DE PROC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76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ES.NUEVAMEN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 699 (N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ORRIGIEN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MOTIVO DE RECHAZ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1219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MANIFESTAR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ISCONFORM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(Art.9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2193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TA SIMPLE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CUERDO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G 112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1219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NTRO DE L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15 DIAS HABI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DMINIST.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TIFICA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2590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RGUM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JURIDICO 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RUEB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51460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L ORGANISM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UEDE PEDIR NUE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LEMEN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HASTA 20 DH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3733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E CUMPLIMENTA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QUER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365760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A ENT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SPON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876920"/>
            <a:ext cx="15238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 ARCHIVA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CTU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3809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NTO DE LOS 2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.H.A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JUEZ ADM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ITE RESOLUC.FUN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62920" y="3809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CEP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VE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CTO ADM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62920" y="548640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ITE FORM.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TIFICA EL MISM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UBLICA EN PAG WE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00600" y="4952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CHAZ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ISCONFORM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TIF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502920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A 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UE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609588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ESENT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609588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CURSO 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RT.74 D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EY PRO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457200"/>
            <a:ext cx="30456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4572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9144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2133720"/>
            <a:ext cx="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9144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1676520"/>
            <a:ext cx="4572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21337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95680" y="2971800"/>
            <a:ext cx="53352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4290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4267080"/>
            <a:ext cx="3812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53280" y="4724280"/>
            <a:ext cx="0" cy="7621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724280"/>
            <a:ext cx="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114440" y="5334120"/>
            <a:ext cx="6858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133720" y="4191120"/>
            <a:ext cx="3808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457200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5791320"/>
            <a:ext cx="0" cy="5331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514600" y="6324480"/>
            <a:ext cx="8380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6324480"/>
            <a:ext cx="762120" cy="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304920"/>
            <a:ext cx="16002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FEC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4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914400"/>
            <a:ext cx="1600200" cy="15238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ERTIFICA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CONOCIMIEN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OVIS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152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CREDI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A 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N TRA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1219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E DEB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BONAR IMP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 LAS GCI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22096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E LE DEB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ACTIC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TENCIONES 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ERCEP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1600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MPTO 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AS GC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0120" y="33526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.V.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4191120"/>
            <a:ext cx="2057400" cy="1828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I LA 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NCUADRA EN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RT.81 INC. 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OS DONANT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UEDEN DEDUCI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AS MISMAS, POR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MPORTE QU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DMITE LA LE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29718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BLIGA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581280"/>
            <a:ext cx="14479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ESEN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D.JJ IMP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Y PREVISION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44956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D.JJ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FORMATIV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5105520"/>
            <a:ext cx="25146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CTU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OMO AGENTE DE RETE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Y/PERCEP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304920"/>
            <a:ext cx="0" cy="48006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304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1447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2590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105520"/>
            <a:ext cx="12189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1447920"/>
            <a:ext cx="1523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629400" y="2133720"/>
            <a:ext cx="914400" cy="3808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514600"/>
            <a:ext cx="1371600" cy="8380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76320"/>
            <a:ext cx="1447560" cy="1066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HAS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ISION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 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 RECHAZO 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4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4572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6172200"/>
            <a:ext cx="5639040" cy="6094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UEGO DE LA EMISION DEL F:411, LA AFIP REALIZ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ISCALIZACION PARA EMISON DE F:709 NM O DEJAR SI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FECTO EL MISMO MEDIANTE RES.FUNDAD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6172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CURS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RT.74D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LEY 11683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477120"/>
            <a:ext cx="13716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522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NTIDAD CON EXE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:709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N V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60 DIAS HABI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DMINISTRA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NTES VENC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ES. F: 37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1522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E DEBE INFORM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TODA MOFICA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ALIZ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1447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.F.I.P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SCALIZ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43200" y="1447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 EXISTE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IRREGULARIDA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14479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 EMIT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ORM 709 N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 PLAZ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29718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XIST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RRE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O SALV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3886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OCUMENTAC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ATOS APORT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8006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JUEZ ADM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ES.FUN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7913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JANDO SI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FEC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 37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5791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SDE V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 EXE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57913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GRAV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11280" y="2565360"/>
            <a:ext cx="4191120" cy="1523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Arial"/>
              </a:rPr>
              <a:t>DESDE LA FECHA DE VTO DE L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Arial"/>
              </a:rPr>
              <a:t>EXENCION Y HASTA QUE LA AFIP S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Arial"/>
              </a:rPr>
              <a:t>EXPIDA LA ENTIDAD CONSERVA S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Arial"/>
              </a:rPr>
              <a:t>CONDICION DE EXENTA, CUANDO 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Arial"/>
              </a:rPr>
              <a:t>F: 373 ESTA PRESENTADO EN TERMIN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60948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60948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1066680"/>
            <a:ext cx="0" cy="3812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19320" y="2362320"/>
            <a:ext cx="0" cy="6094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358128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449568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5410080"/>
            <a:ext cx="0" cy="3812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6095880"/>
            <a:ext cx="7621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609588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09680" y="1905120"/>
            <a:ext cx="5335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182880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64080" y="443700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APELA ART.7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DR.LEY 1168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2080" y="577224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ESENT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: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84720" y="6093000"/>
            <a:ext cx="935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219640" y="5084640"/>
            <a:ext cx="0" cy="7207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 rot="21297000">
            <a:off x="2124000" y="1125000"/>
            <a:ext cx="5295960" cy="365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56002b"/>
                </a:solidFill>
                <a:latin typeface="Arial Black"/>
              </a:rPr>
              <a:t>ASPECTOS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56002b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56002b"/>
                </a:solidFill>
                <a:latin typeface="Arial Black"/>
              </a:rPr>
              <a:t>RELEVANTES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56002b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56002b"/>
                </a:solidFill>
                <a:latin typeface="Arial Black"/>
              </a:rPr>
              <a:t>DE LA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56002b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56002b"/>
                </a:solidFill>
                <a:latin typeface="Arial Black"/>
              </a:rPr>
              <a:t>FISCALIZACI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56002b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549360"/>
            <a:ext cx="68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440" y="1413000"/>
            <a:ext cx="908712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TRABAJO PREPARADO POR EL CDR MAIOLO NICOL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66"/>
                </a:solidFill>
                <a:latin typeface="Arial Black"/>
              </a:rPr>
              <a:t>PORQUE FISCALIZA LA A.F.I.P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s-ES" sz="1200" spc="-1" strike="noStrike">
                <a:solidFill>
                  <a:srgbClr val="ffffcc"/>
                </a:solidFill>
                <a:latin typeface="Arial Black"/>
              </a:rPr>
              <a:t>LA EXENCION ME LA OTORGA LA LEY DE IMPT A LAS GANANCIAS ,  PERO EL DR EN SU ARTICULO 34, DETERMINA QUE LA AFIP LA DEBE RECONOCER. ( DICT 2/95  DAL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66"/>
                </a:solidFill>
                <a:latin typeface="Arial Black"/>
              </a:rPr>
              <a:t>QUE DEBE FISCALIZAR LA AFI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) ASPECTOS FORMALES – DOMICILIO- DD.JJ`GCIAS –RETENC. INF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B) Que se cumplan los requisitos establecidos por la Ley (dict 86/200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1) Forma Social ( art.20 ley de Gcia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2) Actividad  ( RG 1432) ( tiendan al bien publico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( dict.4/98-DAL, 35/68 DATF – 136/92 (DAT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3) No explotar juegos , ni espectàcul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 59/93 (DAT) 74/96 DAL-dict 54/96 (D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4) Destino de las Ganancias y Patrimonio Social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(dict 219/98 DALT.-61/94 DAL-  fallo : Pro-Ayuda a Niños Atipicos ( CNACAF) 4 de julio de 1995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Instrucc. N* 89/72 (DPNF)-dict 54/96 (D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5) No exista una finalidad de lucro encubierta (Realidad Economica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 4/98 DAL- dict 82/2002 DAT- dict 91/94 (DAL)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Inst. de Informaciones Comerciales  Parana ( CNAPARANA  DICT 84/99 (DAL) dict 52/2000 (D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   </a:t>
            </a: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6) Remunerac. Elenco Dirtectivo Dict 45/2001- Dict 19/9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889280" y="1039680"/>
            <a:ext cx="557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6360" y="76320"/>
            <a:ext cx="49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PRUEBA DOCUME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EL CUMPLIMIENTO DEL OBJE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990720"/>
            <a:ext cx="883944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ORMATIVA APLIC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ECRETO REGLAMENTARIO DE LA LEY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PROCEDIMIENTOS ADMINISTR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ECRETO N 1759/91 ( 31/04/1972) ART.46 AL 6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LA A.F.I.P. PONDERA ESENCIALMENTE LA PRUE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OCUMENTAL, REGLADA EN EL ARTICULO 58 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MITE A LOS ARTICULOS 16 Y 27 A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ESTAS DEBEN SER CONTESTES CON LO EXPUESTO EN EL ARTICULO CORRESPONDIENTE DEL ESTATUTO DE LA ENT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LAS EROGACIONES DEBEN ENCONTR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LACIONADAS CON EL OBJETO Y CON LAS PRUEBAS DOCUM.APORTA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RECORDAR: ( ART. 33 1* PARRAF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TODA LAS REGISTRACIONES CONTABLES DEBERAN ESTAR RESPALDADAS POR LOS COMPROBANT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SOLO DE LA FE QUE ESTOS MEREZCAN SURGIRA EL VALOR PROBATORIO DE AQUELL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Times New Roman"/>
              </a:rPr>
              <a:t>INTERROGANTE</a:t>
            </a:r>
            <a:r>
              <a:rPr b="0" lang="es-ES" sz="2800" spc="-1" strike="noStrike">
                <a:solidFill>
                  <a:srgbClr val="cc0099"/>
                </a:solidFill>
                <a:latin typeface="Times New Roman"/>
              </a:rPr>
              <a:t>: QUE OCURRE CON EL DICTAMEN DE PROFESIONAL DICTAMINANTE DEL BALANCE APORTADO X LA INSTITUC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RESOL.GENERAL N* 1415 (07-01-2003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FACTUR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OBJETO ¨-ART. 1*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OPERACIONES COMPRENDI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LOCACIONES Y PRESTACIONES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SERVICIOS (INC.B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Verdana"/>
              </a:rPr>
              <a:t>SUJETOS –ART. 5 INC.B) LEY 11.683 T.O.199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LAS PERSONAS JURIDICAS DEL CODIGO CIVIL Y L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SOCIEDADADES, ASOCICIONES Y ENTIDADES A L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QUE EL DERECHO PRIVADO RECONOCE LA CALIDAD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Verdana"/>
              </a:rPr>
              <a:t>DE SUJETOS DE DERECH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Verdana"/>
              </a:rPr>
              <a:t>SUJETOS EXENTOS ART.7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cc"/>
                </a:solidFill>
                <a:latin typeface="Verdana"/>
              </a:rPr>
              <a:t>(ANEXO I INC.K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Verdana"/>
              </a:rPr>
              <a:t>LAS ENTIDADES 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E) RELIGIOSAS F)ASOC-FUNDAC Y ENTIDADES CIVILES S/FINES DE LUCRO G)MUTUALES M) CLUBES DEPORTIV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ESTOS ENTES DEBEN NO CUMPLIMENTAR EL REQUISITO DE REGISTRACION , TITULO III, ART. N* 36 Y SGTE, EXECEPTO QUE  LO REQUIERAN OTROS ORGANISM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         </a:t>
            </a: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DEBEN ENTREGAR COMPROBANTES: ANEXO I) APARTADO B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         </a:t>
            </a: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INCISO D) CUANDO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A) EL ADQUIRENTE, PRESTATARIO O LOCATARIO REQUIERA LA ENTREGA DEL COMPROBANTE QUE RESPALDA LA OPERACIÓN EFECTUAD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B) LA OPERAC. SE ENCUENTRE ALCANZADA PO EL I.V.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es-ES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5640" y="260280"/>
            <a:ext cx="756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 Black"/>
              </a:rPr>
              <a:t>CONCEPTOS CONTROVERTI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5640" y="1484280"/>
            <a:ext cx="2879640" cy="576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CTIVIDAD LUCRATIV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35280" y="1341360"/>
            <a:ext cx="2880000" cy="792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AMENES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91/2004- 24/2005- 4/9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31/98</a:t>
            </a:r>
            <a:r>
              <a:rPr b="0" lang="es-ES" sz="1200" spc="-1" strike="noStrike">
                <a:solidFill>
                  <a:srgbClr val="ffffcc"/>
                </a:solidFill>
                <a:latin typeface="Arial Black"/>
              </a:rPr>
              <a:t>(DAL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42920" y="3573360"/>
            <a:ext cx="1944720" cy="576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RT.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SOLU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87640" y="3645000"/>
            <a:ext cx="25923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DIT.61/94 (DAL) – 24/2005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(DAT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00000" y="4316400"/>
            <a:ext cx="2087640" cy="6253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BONO CONTRI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RIF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87640" y="4292640"/>
            <a:ext cx="1727280" cy="6253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31/9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2276640"/>
            <a:ext cx="2879640" cy="576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CTIVIDAD COMER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4000" y="2276640"/>
            <a:ext cx="2879640" cy="576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 6/2000-D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82/2002 (DAT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4360" y="2924280"/>
            <a:ext cx="2879640" cy="576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CTIVIDAD AGROPE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2924280"/>
            <a:ext cx="2879640" cy="576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 62/2002 (DAT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 131/2001(D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5084640"/>
            <a:ext cx="2087640" cy="625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REMUNERA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ELENC.DIRE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16360" y="5108400"/>
            <a:ext cx="2087280" cy="625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89/96 (DAT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45/2001(DA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6920" y="5950080"/>
            <a:ext cx="2087640" cy="6253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ESPECT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PUBLIC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16360" y="5972040"/>
            <a:ext cx="2087280" cy="625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 59/93(DAT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DICT. 74/96 (D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3828960"/>
            <a:ext cx="6096240" cy="1905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4280"/>
            <a:ext cx="7391520" cy="17877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IMPUESTO A LAS GANACIAS</a:t>
            </a:r>
            <a:br>
              <a:rPr sz="4000"/>
            </a:br>
            <a:r>
              <a:rPr b="0" lang="en-US" sz="2000" spc="-1" strike="noStrike">
                <a:solidFill>
                  <a:srgbClr val="ffcc00"/>
                </a:solidFill>
                <a:latin typeface="Impact"/>
              </a:rPr>
              <a:t>TEXTO ORDENADO EN 1.997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Impact"/>
              </a:rPr>
              <a:t>DECRETO REGLAMENTARIO 1.344/98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Resolucion General n* 1815/0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SOLUC.GENERAL   729/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SOLUC.GENERAL  885/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844640"/>
            <a:ext cx="0" cy="18716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152280"/>
            <a:ext cx="3886200" cy="2133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Para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reconoci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como ex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por la A.F.I.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 Black"/>
              </a:rPr>
              <a:t>(art. 34 DR deIMPTO GCIAS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 Black"/>
              </a:rPr>
              <a:t>Dict 5/200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437000"/>
            <a:ext cx="6019560" cy="22100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Se deben empadronar en 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gistr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tidades ex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(resolucion general n* 729/9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Art. 1 de la RG 18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2276640"/>
            <a:ext cx="0" cy="21603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00360" y="189000"/>
            <a:ext cx="27511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RG 729/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B.0.01/12/19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CREA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REGISTRO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NTIDAD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XENT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F: 69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F: 698/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160020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NTRE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14 Y 18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FEBRERO 20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N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PRESENTA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Dict.72/0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ENT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GRAVA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ART.20 RG 72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11480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R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885/2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15/08/2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EXCEP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ENT.RELIGIOS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COOPERADO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4191120"/>
            <a:ext cx="1706760" cy="11095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ACREDITA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DE DO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PARA REC. EXEN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1911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SE DEB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UTILIZA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PAR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41911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EMPADRONA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N EL R.E.E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7913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SOLICIT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RENOVACION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EXENC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N.E. N* 4/2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60948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81080"/>
            <a:ext cx="457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1981080"/>
            <a:ext cx="5331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4475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200400"/>
            <a:ext cx="9907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9144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64832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4648320"/>
            <a:ext cx="6098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5105520"/>
            <a:ext cx="0" cy="6094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44280"/>
            <a:ext cx="5811840" cy="64947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Entidade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que inician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actividad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Encuadradas en la Ley 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impuesto a las ganancias, tex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ordenado en 199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Articulo 20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</a:rPr>
              <a:t>INCISOS:</a:t>
            </a:r>
            <a:r>
              <a:rPr b="0" lang="en-US" sz="2400" spc="-1" strike="noStrike">
                <a:solidFill>
                  <a:srgbClr val="ffff66"/>
                </a:solidFill>
                <a:latin typeface="Chevar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hevara"/>
              </a:rPr>
              <a:t>b-d-e-f-g-m-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66880" y="152280"/>
            <a:ext cx="35053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R</a:t>
            </a: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equisitos pa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Reempadronar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0280"/>
            <a:ext cx="30477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presentar en l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agencia de inscripc</a:t>
            </a: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727280"/>
            <a:ext cx="2210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F: 69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Nuevo model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Art. 2 rg 181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160020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Documentac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Anexo i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 Black"/>
              </a:rPr>
              <a:t>rg.181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20040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i no pos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213000"/>
            <a:ext cx="221004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f: 460/j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200400"/>
            <a:ext cx="2210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Cumplien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lo requeri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r.g. N* 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28800" y="533520"/>
            <a:ext cx="8380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33520"/>
            <a:ext cx="0" cy="11430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2057400"/>
            <a:ext cx="609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0574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514600"/>
            <a:ext cx="0" cy="6858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57600"/>
            <a:ext cx="60984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 Black"/>
              </a:rPr>
              <a:t>A.F.I.P. verif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No h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observ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343400"/>
            <a:ext cx="2209680" cy="12193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Emit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F.40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Arial Black"/>
              </a:rPr>
              <a:t>Certificado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Arial Black"/>
              </a:rPr>
              <a:t>empadronamien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Arial Black"/>
              </a:rPr>
              <a:t>en tram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Arial Black"/>
              </a:rPr>
              <a:t>Art.3 rg 18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 Black"/>
              </a:rPr>
              <a:t>Lo publica e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 Black"/>
              </a:rPr>
              <a:t>la pagi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 Black"/>
              </a:rPr>
              <a:t>institu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Arial Black"/>
              </a:rPr>
              <a:t>WWW.AFIP .GOV. 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La entidad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es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</a:rPr>
              <a:t>empadrona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5029200"/>
            <a:ext cx="2286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01336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5627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15000" y="617220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66520" y="6248520"/>
            <a:ext cx="8384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95640" y="44280"/>
            <a:ext cx="4681440" cy="12747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0" y="4392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"/>
              </a:rPr>
              <a:t>ANEXO II</a:t>
            </a:r>
            <a:br>
              <a:rPr sz="4000"/>
            </a:b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RESOL. GENERAL N* 1.81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413000"/>
            <a:ext cx="842472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ONSTANCIA DE INSCRIPCION (CUIT)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RESOLUCION EXPEDIDA LA AFIP, SI SE POSE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ONSTANCIAS DE PRESENTACION DE FORMULARIOS 698- 698/I, 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UANDO SE POSEE F: 709 O F709 (NM), SE DEBE PRESENTAR JUNTO C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FORMULARIO 373- SOLICITUD DE RENOVACION DE EXENCION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ESTATUTOS O NORMAS DE FUNCIONAMIENTO- </a:t>
            </a: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FIRMADAS EN TODAS SU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HOJAS POR EL REPRESENTANTE LEG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MODIFICACIONES AL ESTATUTO, NO INFORMADAS AL ORGANISMO (FIRMADO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ULTIMA ACTA VIGENTE DE DESIGNACION DE AUTORIDADES ( F: 2 IGJ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N* DE RUBRICA,FECHA Y FOLIO DEL LIBRO, RUBRICADO X IGJ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S DE SITUACION PATRIMONIAL O BALANCES GENERA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S DE RECURSOS Y GA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 DE EVOLUCION DEL PATRIMONIO NE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 DE ORIGEN Y APLICACIÓN DE FOND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MEMO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TODA LA INFORMACION ANTES DETALLADA CORRESPONDE A LOS TRES (3) ULTIMOS EJERCICIOS ECONOMICOS VENCIDOS A L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FECHA DE SOLICITUD  DE EXENCIÒN, LOS ESTADOS CONTABLES DEBEN ESTAR CERTIFICADOS X EL CONSEJO PROFES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DATOS ACTUALIZADO DEL DOMICIL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CONSTANCIAS DE PRESENTACION DE DD.JJ DE GCIAS Y RG 4120, DE CORRESPOND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INFOMACION  DE DONACIONES (RG 1872/05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ACREDITACION DE PERSONERIA JURIDIC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76720" y="2924280"/>
            <a:ext cx="2568600" cy="1563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5300640"/>
            <a:ext cx="8638920" cy="1584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98100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8900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2232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DOMICILIO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907920"/>
            <a:ext cx="2232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98100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IS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206064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OD.CIV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8880" y="263700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.G.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8880" y="328464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.G. 3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MODIFICATO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25888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 domicilio fiscal de las personas jurídicas será el lugar donde se encuentre situada la dirección o administración principal y efectiva de las mismas, cuando el domicilio legal no coincida con dicho lugar         (.DICT.117/200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28608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RT. 44, 89 AL 1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08880" y="1989000"/>
            <a:ext cx="1779480" cy="648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Y 11.68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ART. 3*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763640" y="476280"/>
            <a:ext cx="165600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476280"/>
            <a:ext cx="0" cy="5047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628640"/>
            <a:ext cx="0" cy="432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708280"/>
            <a:ext cx="0" cy="5763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476280"/>
            <a:ext cx="21607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476280"/>
            <a:ext cx="0" cy="431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1640" y="1628640"/>
            <a:ext cx="0" cy="360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3038400"/>
            <a:ext cx="230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DONDE SE EJERCE LA ADMINISTRACIÓN SUPERIOR, EJECUTIVA Y GERENCIAL</a:t>
            </a: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 “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867280" y="3573360"/>
            <a:ext cx="720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4508640"/>
            <a:ext cx="0" cy="7920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2:04:57Z</dcterms:created>
  <dc:creator>Investigaciones</dc:creator>
  <dc:description/>
  <dc:language>en-US</dc:language>
  <cp:lastModifiedBy>C.P.C.E.C.A.B.A.</cp:lastModifiedBy>
  <dcterms:modified xsi:type="dcterms:W3CDTF">2006-09-12T22:00:16Z</dcterms:modified>
  <cp:revision>62</cp:revision>
  <dc:subject/>
  <dc:title>Impuesto a las ganancias</dc:title>
</cp:coreProperties>
</file>