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20.png" ContentType="image/png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3F4-4951-47F9-B4BF-2CE520F3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D38C-D8B2-4FA2-8648-38173AC3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A2B-B492-4BEA-9A86-46FCEDC42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63C6-D751-4E69-9E93-918A2C41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BCA-0695-41CF-BF91-49BB4FE5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DE4-F0A1-4A74-9762-338F8002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433-6807-42CF-9AA9-93D74F34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B31-662A-4E6C-97E4-5D2F9474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1D9-D9BC-462D-8E8F-105A8899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7E4-F00D-46CD-9EF3-40AC65C61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012D-0950-4997-81B3-F131CAC0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4386-941F-4C85-908D-13F7B34D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4375-F086-4ECD-A849-7DF6EB575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 experiencia del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tador Púb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91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sentación efectuada por el Contador Público Osvaldo Silves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PCECABA, 29 de agosto d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0C2-3FEE-4EF6-8939-AEEFF57BC9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237960"/>
          <a:ext cx="9144000" cy="638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960"/>
                    <a:ext cx="914400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7F8-8F88-43E8-AF15-B5274317FC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237960"/>
          <a:ext cx="9144000" cy="638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960"/>
                    <a:ext cx="914400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7C6-D7D8-4788-A685-D5734575B4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37960"/>
          <a:ext cx="9144000" cy="638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960"/>
                    <a:ext cx="914400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A52-8B21-4F19-BEB3-9EF147A259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237960"/>
          <a:ext cx="9144000" cy="638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960"/>
                    <a:ext cx="914400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6CFB-40AB-49BE-B039-6EEB9EC130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231840"/>
          <a:ext cx="9070920" cy="658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1840"/>
                    <a:ext cx="9070920" cy="658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F25-7E9D-4925-9B91-E9BD397F7C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237960"/>
          <a:ext cx="9144000" cy="638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960"/>
                    <a:ext cx="914400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FDE9-FF94-4C8F-A993-7CB96ED94E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237960"/>
          <a:ext cx="9144000" cy="638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960"/>
                    <a:ext cx="914400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88F-644B-4A2B-AF76-2DA340C111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237960"/>
          <a:ext cx="9144000" cy="638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960"/>
                    <a:ext cx="914400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AF37-9B1A-4797-B643-91EDD07F632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237960"/>
          <a:ext cx="9144000" cy="638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960"/>
                    <a:ext cx="914400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20E-380D-4812-9615-7575C5A952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237960"/>
          <a:ext cx="9144000" cy="638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960"/>
                    <a:ext cx="914400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993-86DD-4AA7-B477-CA70B542472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D998-E150-49C7-AA07-2F2CFAEEE7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237960"/>
          <a:ext cx="9144000" cy="638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960"/>
                    <a:ext cx="914400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DF05-A37B-401D-B599-D6404850FF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237960"/>
          <a:ext cx="9144000" cy="638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7960"/>
                    <a:ext cx="914400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41120" y="158760"/>
            <a:ext cx="381240" cy="328680"/>
          </a:xfrm>
          <a:custGeom>
            <a:avLst/>
            <a:gdLst>
              <a:gd name="textAreaLeft" fmla="*/ 21240 w 381240"/>
              <a:gd name="textAreaRight" fmla="*/ 360000 w 381240"/>
              <a:gd name="textAreaTop" fmla="*/ 21240 h 328680"/>
              <a:gd name="textAreaBottom" fmla="*/ 307440 h 328680"/>
            </a:gdLst>
            <a:ahLst/>
            <a:rect l="textAreaLeft" t="textAreaTop" r="textAreaRight" b="textAreaBottom"/>
            <a:pathLst>
              <a:path w="25050" h="21600">
                <a:moveTo>
                  <a:pt x="0" y="0"/>
                </a:moveTo>
                <a:lnTo>
                  <a:pt x="25050" y="0"/>
                </a:lnTo>
                <a:lnTo>
                  <a:pt x="25050" y="21600"/>
                </a:lnTo>
                <a:lnTo>
                  <a:pt x="0" y="21600"/>
                </a:lnTo>
                <a:close/>
              </a:path>
              <a:path fill="lightenLess" w="25050" h="21600">
                <a:moveTo>
                  <a:pt x="0" y="0"/>
                </a:moveTo>
                <a:lnTo>
                  <a:pt x="25050" y="0"/>
                </a:lnTo>
                <a:lnTo>
                  <a:pt x="23650" y="1400"/>
                </a:lnTo>
                <a:lnTo>
                  <a:pt x="1400" y="1400"/>
                </a:lnTo>
                <a:close/>
              </a:path>
              <a:path fill="darken" w="25050" h="21600">
                <a:moveTo>
                  <a:pt x="25050" y="0"/>
                </a:moveTo>
                <a:lnTo>
                  <a:pt x="25050" y="21600"/>
                </a:lnTo>
                <a:lnTo>
                  <a:pt x="23650" y="20200"/>
                </a:lnTo>
                <a:lnTo>
                  <a:pt x="23650" y="1400"/>
                </a:lnTo>
                <a:close/>
              </a:path>
              <a:path fill="darkenLess" w="25050" h="21600">
                <a:moveTo>
                  <a:pt x="25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50" y="20200"/>
                </a:lnTo>
                <a:close/>
              </a:path>
              <a:path fill="lighten" w="25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E911-40E9-4079-A37C-6A1F6A1F1E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188-AE43-414A-B795-F2C95F862A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EE62-A24B-4EF6-BC7E-2D26FCB2D53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4C71-5621-4378-9453-7703BFA003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77DD-41DF-43AB-9B9E-E15C7D8C0E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FC5-AAB4-4FBD-B564-EE13E64C02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D829-8C94-42D8-A8B6-59F4A95E05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27F-BEFC-4819-B5F2-FB55C9FF7A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1268280"/>
            <a:ext cx="662472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Análisis Laboral y 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cuesta a 200 jóvenes profes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nicet + Facultad de Ciencias Sociales (UN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872-222D-4378-824C-F36D8700FA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243000"/>
          <a:ext cx="9144000" cy="637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43000"/>
                    <a:ext cx="914400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A72-2E68-4F31-A497-93C2AAACED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7T23:50:52Z</dcterms:created>
  <dc:creator>Osvaldo Silvestre</dc:creator>
  <dc:description/>
  <dc:language>en-US</dc:language>
  <cp:lastModifiedBy>Osvaldo Silvestre</cp:lastModifiedBy>
  <dcterms:modified xsi:type="dcterms:W3CDTF">2006-08-28T16:19:37Z</dcterms:modified>
  <cp:revision>7</cp:revision>
  <dc:subject/>
  <dc:title>La experiencia del Contador Público</dc:title>
</cp:coreProperties>
</file>