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C5CC9-9F9D-4F17-B629-868E833BF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C6C99-DE12-4072-95CB-FEEAE9988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FCE3-7CEF-41CC-A544-A2C1280F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98736-E23E-42DB-9D67-A7AEDA136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73DFA-6CF5-4332-A118-DA24FE15C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982D2-A865-4201-93BC-D8123171E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11EC6-FD4E-4E1A-9D8D-8928A6CA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ACD3B-A98F-4BFD-AB6A-8E5F64529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D3CE3-E381-4730-AA0F-D127A9CB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3B964-A33B-4008-A255-7D4DDF4A4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8CDC7-3D9D-4FAD-8062-CF345BB59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64D5-DF56-4639-9C85-C3A4551AA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1402-43F2-4F9F-8FD9-EB66B5D13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48475-D7FB-47A0-BB90-253B18973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CCDD3-0233-42E6-B563-DD497C698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19775-6225-4EA8-8009-C0D941696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00BA5-10FF-433E-830D-9FF8262C5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CE17-1E60-4A4D-8C3C-4B8044B7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FBC9F-4FA7-4A1E-8A6F-02E466BE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BE7B-2DF2-4C1C-919C-B6F4A688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B3D9-B76E-421B-90F1-24DE96BB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14F2-C0B9-48D6-A826-FB1EE2639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6CFE-3084-4D84-B88B-7C71400E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02546-8C1D-40E4-A0EA-3F17ED1E0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26B9-F430-49AF-87A5-07DA198DAD0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310A-7C8C-441F-8E65-2AA9579E7F9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NORARIOS DE LA SINDICATURA Y SU CONTROL. </a:t>
            </a:r>
            <a:endParaRPr b="0" lang="en-US" sz="4000" spc="-1" strike="noStrike">
              <a:solidFill>
                <a:srgbClr val="333399"/>
              </a:solidFill>
              <a:latin typeface="Tahoma"/>
            </a:endParaRPr>
          </a:p>
        </p:txBody>
      </p:sp>
      <p:sp>
        <p:nvSpPr>
          <p:cNvPr id="3" name="PlaceHolder 2"/>
          <p:cNvSpPr>
            <a:spLocks noGrp="1"/>
          </p:cNvSpPr>
          <p:nvPr>
            <p:ph type="ftr" idx="5"/>
          </p:nvPr>
        </p:nvSpPr>
        <p:spPr/>
        <p:txBody>
          <a:bodyPr/>
          <a:p>
            <a:r>
              <a:t>Dra. C.P.N. Juana Eva Bilenca.</a:t>
            </a:r>
          </a:p>
        </p:txBody>
      </p:sp>
      <p:sp>
        <p:nvSpPr>
          <p:cNvPr id="4" name="PlaceHolder 3"/>
          <p:cNvSpPr>
            <a:spLocks noGrp="1"/>
          </p:cNvSpPr>
          <p:nvPr>
            <p:ph type="sldNum" idx="6"/>
          </p:nvPr>
        </p:nvSpPr>
        <p:spPr/>
        <p:txBody>
          <a:bodyPr/>
          <a:p>
            <a:fld id="{F72F719A-3710-40AB-B23B-190EC53957CD}" type="slidenum">
              <a:t>1</a:t>
            </a:fld>
          </a:p>
        </p:txBody>
      </p:sp>
      <p:sp>
        <p:nvSpPr>
          <p:cNvPr id="5" name="PlaceHolder 4"/>
          <p:cNvSpPr>
            <a:spLocks noGrp="1"/>
          </p:cNvSpPr>
          <p:nvPr>
            <p:ph type="dt" idx="4"/>
          </p:nvPr>
        </p:nvSpPr>
        <p:spPr/>
        <p:txBody>
          <a:bodyPr/>
          <a:p>
            <a:r>
              <a:rPr lang="en-US"/>
              <a:t>23/08/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CULO 271 LCQ</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cance del artículo: perforación del piso vs. merituación de la importancia de la labor profesional, tiempo que demandó la tarea, efectividad de la misma, calidad del servicio profesional prestado, en forma diligente y responsable.</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o manifiesto del derecho aplicabl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ón al profesional de una justa retribució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62E4E300-375C-4355-A063-5EE737574B1F}" type="slidenum">
              <a:t>10</a:t>
            </a:fld>
          </a:p>
        </p:txBody>
      </p:sp>
      <p:sp>
        <p:nvSpPr>
          <p:cNvPr id="6" name="PlaceHolder 5"/>
          <p:cNvSpPr>
            <a:spLocks noGrp="1"/>
          </p:cNvSpPr>
          <p:nvPr>
            <p:ph type="dt" idx="1"/>
          </p:nvPr>
        </p:nvSpPr>
        <p:spPr/>
        <p:txBody>
          <a:bodyPr/>
          <a:p>
            <a:r>
              <a:rPr lang="en-US"/>
              <a:t>23/08/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800" spc="-1" strike="noStrike" u="sng">
                <a:solidFill>
                  <a:srgbClr val="000000"/>
                </a:solidFill>
                <a:uFillTx/>
                <a:latin typeface="Tahoma"/>
              </a:rPr>
              <a:t>El caso particular de las quiebras sin activo y de inexistencia de acreedo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 Inexistencia de </a:t>
            </a:r>
            <a:r>
              <a:rPr b="1" lang="en-US" sz="2400" spc="-1" strike="noStrike">
                <a:solidFill>
                  <a:srgbClr val="000000"/>
                </a:solidFill>
                <a:latin typeface="Tahoma"/>
              </a:rPr>
              <a:t>base regulatoria y porcentuales para la regulación del honorario–“del artículo, literalmente establece, teniendo en consideración la labor realizada”.</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2) La hipótesis que plantea el artículo son diferentes: en un caso se trata de falta o insuficiencia de activo y en el otro de inexistencia de pasiv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8C376363-CB5E-4EA6-BF29-8CC6B7F2EFB2}" type="slidenum">
              <a:t>11</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Establece asimismo la prelación de los privilegios especiales y demás gastos del concurso frente a la justa retribución declamada en su hermenéutic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n estos casos la labor del funcionario no tiene remuneracion o lo tiene en un grado muy escaso, viéndose por tanto desplazada la retribución del funcionario concursal.</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078B78EF-E8B2-47B6-BC79-B66FBAC9AD21}" type="slidenum">
              <a:t>12</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800" spc="-1" strike="noStrike" u="sng">
                <a:solidFill>
                  <a:srgbClr val="000000"/>
                </a:solidFill>
                <a:uFillTx/>
                <a:latin typeface="Tahoma"/>
              </a:rPr>
              <a:t>Modificación del régimen legal actual en los casos de quiebras sin activos.</a:t>
            </a:r>
            <a:endParaRPr b="0" lang="en-US" sz="2800" spc="-1" strike="noStrike">
              <a:solidFill>
                <a:srgbClr val="000000"/>
              </a:solidFill>
              <a:latin typeface="Tahoma"/>
            </a:endParaRPr>
          </a:p>
          <a:p>
            <a:pPr marL="3358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e busque una solución que desde lo legal permita la reducción sustancial de los trámites a realizar una vez declarada la quiebra en procesos falimentarios carentes de activo, lo cual redundará, obvio es señalarlo, en beneficio del propio juzgado, evitando el consiguiente dispendio jurisdiccional; y</a:t>
            </a:r>
            <a:endParaRPr b="0" lang="en-US" sz="2400" spc="-1" strike="noStrike">
              <a:solidFill>
                <a:srgbClr val="000000"/>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e analicen distintas alternativas que tiendan a asegurar a los profesionales intervinientes, incluyendo al síndico y su letrado patrocinante, </a:t>
            </a: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5B07791A-8A2A-4E34-8BC8-E5233E8DBD4D}" type="slidenum">
              <a:t>13</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na retribución por las etapas y tareas cumplidas.</a:t>
            </a:r>
            <a:endParaRPr b="0" lang="en-US" sz="2400" spc="-1" strike="noStrike">
              <a:solidFill>
                <a:srgbClr val="000000"/>
              </a:solidFill>
              <a:latin typeface="Tahoma"/>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n tanto que, el criterio que sigue en general la Cámara Nacional de de Apelaciones en lo Comercial, es el que queda de manifiesto por ejemplo en el fallo “Seibel, Alberto R. s/ Quiebra”, Sala B, 25/11/98, en el cual se niega tal posibilidad quedando las costas a cargo del deudor.</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ás allá del derecho de los profesionales a tener acceso a una regulación de honorarios, al menos cierto es que la imposición de costas al acreedo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70BE3326-76E2-4BC6-9362-3E1D3D0E79E4}" type="slidenum">
              <a:t>14</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ticionante de la quiebra,  implica un apartamiento del  principio  general consagrado  en cuanto a que el pedido de quiebra,  no tiene como finalidad primordial la  percepción de determinada  acreencia, sino la declaración de falencia ante la existencia del estado de cesación de pagos, no pareciendo razonable cargar  o imponer al acreedor las costas de esta acción, a menos que  el pedido de quiebra fuera notoriamente abusivo o  sea finalmente rechazado, cuándo el  primer perjudicado de  la mora del deudor y/o su  falta de pago,  es el propio  peticionante  de la quiebr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B0A4D1C2-31D3-406F-8FD1-E00B67E32C79}" type="slidenum">
              <a:t>15</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ahoma"/>
              </a:rPr>
              <a:t>Las modificaciones introducidas por la Ley 26.086, en punto a la incorporación de los incisos 11) y 12) al art. 14 LCQ, no dejan lugar a dudas del incremento de las tareas a cargo de la sindicatura, las cuales deberán ser ponderadas en oportunidad de las regulaciones de honorarios.</a:t>
            </a: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Dra. C.P.N. Juana Eva Bilenca.</a:t>
            </a:r>
          </a:p>
        </p:txBody>
      </p:sp>
      <p:sp>
        <p:nvSpPr>
          <p:cNvPr id="4" name="PlaceHolder 3"/>
          <p:cNvSpPr>
            <a:spLocks noGrp="1"/>
          </p:cNvSpPr>
          <p:nvPr>
            <p:ph type="sldNum" idx="3"/>
          </p:nvPr>
        </p:nvSpPr>
        <p:spPr/>
        <p:txBody>
          <a:bodyPr/>
          <a:p>
            <a:fld id="{D9E88CE0-31D6-4AB8-929F-91E36498A590}" type="slidenum">
              <a:t>16</a:t>
            </a:fld>
          </a:p>
        </p:txBody>
      </p:sp>
      <p:sp>
        <p:nvSpPr>
          <p:cNvPr id="5" name="PlaceHolder 4"/>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ografía Consultada.</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égimen de Concursos y Quiebras Ley 24.522 – 13ª edición actualizada y ampliada –Adolfo A. N. Rouillon- Editorial Astrea de Alfredo y Ricardo de Palm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norarios en Concursos y Quiebras – Guillermo Mario Pesaresi/ Julio Federico Passarón – Editorial Astrea de Alfredo y Ricardo de Palm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BAF6A1E5-DD68-40D6-883C-6F4B175A50F6}" type="slidenum">
              <a:t>2</a:t>
            </a:fld>
          </a:p>
        </p:txBody>
      </p:sp>
      <p:sp>
        <p:nvSpPr>
          <p:cNvPr id="6" name="PlaceHolder 5"/>
          <p:cNvSpPr>
            <a:spLocks noGrp="1"/>
          </p:cNvSpPr>
          <p:nvPr>
            <p:ph type="dt" idx="1"/>
          </p:nvPr>
        </p:nvSpPr>
        <p:spPr/>
        <p:txBody>
          <a:bodyPr/>
          <a:p>
            <a:r>
              <a:rPr lang="en-US"/>
              <a:t>23/08/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GULACION DE HONORARIOS</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ulos 265 / 272  L.C.Q</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ículos 287 y 289 L.C.Q.</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ículos 240 y  244 L.C.Q.</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ículos ccts: 13, 30, 31, 32- párr.3º, 51, 52, 54,</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6 párr.Verif. Tardía,   59-párr.6º,   65,      67,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05C54158-11F6-4AF0-9B43-144B501045EF}" type="slidenum">
              <a:t>3</a:t>
            </a:fld>
          </a:p>
        </p:txBody>
      </p:sp>
      <p:sp>
        <p:nvSpPr>
          <p:cNvPr id="6" name="PlaceHolder 5"/>
          <p:cNvSpPr>
            <a:spLocks noGrp="1"/>
          </p:cNvSpPr>
          <p:nvPr>
            <p:ph type="dt" idx="1"/>
          </p:nvPr>
        </p:nvSpPr>
        <p:spPr/>
        <p:txBody>
          <a:bodyPr/>
          <a:p>
            <a:r>
              <a:rPr lang="en-US"/>
              <a:t>23/08/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GULACION DE HONORARIO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5-párr.3º,87-párr.3º, 94 y ss, 165, 173, 200-párr.3º, 209,  218, 222, 225 y ss, 228, 229-párr.1º y 2º, 230, 232, 233, 251, 257, 258 in fine, 259, 260-párr.5º, 260-párr.7º, 261, 262-párr.5º, 263, 264, 292 y remisión al 291 inc. 1º) L.19551.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3505E534-DC94-470B-BC69-7C7E3B14B0D4}" type="slidenum">
              <a:t>4</a:t>
            </a:fld>
          </a:p>
        </p:txBody>
      </p:sp>
      <p:sp>
        <p:nvSpPr>
          <p:cNvPr id="6" name="PlaceHolder 5"/>
          <p:cNvSpPr>
            <a:spLocks noGrp="1"/>
          </p:cNvSpPr>
          <p:nvPr>
            <p:ph type="dt" idx="1"/>
          </p:nvPr>
        </p:nvSpPr>
        <p:spPr/>
        <p:txBody>
          <a:bodyPr/>
          <a:p>
            <a:r>
              <a:rPr lang="en-US"/>
              <a:t>23/08/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O EN CASO DE ACUERDO</a:t>
            </a:r>
            <a:endParaRPr b="0" lang="en-US" sz="4400" spc="-1" strike="noStrike">
              <a:solidFill>
                <a:srgbClr val="333399"/>
              </a:solidFill>
              <a:latin typeface="Tahoma"/>
            </a:endParaRPr>
          </a:p>
        </p:txBody>
      </p:sp>
      <p:sp>
        <p:nvSpPr>
          <p:cNvPr id="107"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total de honorarios que corresponda, de conformidad con el tope legal:</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l síndico</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l letrado del síndico</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l letrado del deudo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sumatoria no puede ser inferior al 1% ni superior al 4%, sobre el monto del Activo “prudencialmente estimado por el juez o tribunal, ni exceder del 4% del “pasivo verificad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A3673ACA-DCA5-441E-84FC-391682E81B08}" type="slidenum">
              <a:t>5</a:t>
            </a:fld>
          </a:p>
        </p:txBody>
      </p:sp>
      <p:sp>
        <p:nvSpPr>
          <p:cNvPr id="6" name="PlaceHolder 5"/>
          <p:cNvSpPr>
            <a:spLocks noGrp="1"/>
          </p:cNvSpPr>
          <p:nvPr>
            <p:ph type="dt" idx="1"/>
          </p:nvPr>
        </p:nvSpPr>
        <p:spPr/>
        <p:txBody>
          <a:bodyPr/>
          <a:p>
            <a:r>
              <a:rPr lang="en-US"/>
              <a:t>23/08/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O EN CASO DE ACUERDO</a:t>
            </a:r>
            <a:endParaRPr b="0" lang="en-US" sz="4400" spc="-1" strike="noStrike">
              <a:solidFill>
                <a:srgbClr val="333399"/>
              </a:solidFill>
              <a:latin typeface="Tahoma"/>
            </a:endParaRPr>
          </a:p>
        </p:txBody>
      </p:sp>
      <p:sp>
        <p:nvSpPr>
          <p:cNvPr id="109"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so mínimo: Si efectuados los cómputos precedentes, el resultado es inferior a 2 sueldos del secretario del juzgado concursal, el quantum total es el de los 2 sueldo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ctivo prudencialmente estimado” superior a $100.000.000.-: el quantum total no puede exceder del 1%.</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1A8E9C65-B007-4B0B-969A-26E24F1B1A0A}" type="slidenum">
              <a:t>6</a:t>
            </a:fld>
          </a:p>
        </p:txBody>
      </p:sp>
      <p:sp>
        <p:nvSpPr>
          <p:cNvPr id="6" name="PlaceHolder 5"/>
          <p:cNvSpPr>
            <a:spLocks noGrp="1"/>
          </p:cNvSpPr>
          <p:nvPr>
            <p:ph type="dt" idx="1"/>
          </p:nvPr>
        </p:nvSpPr>
        <p:spPr/>
        <p:txBody>
          <a:bodyPr/>
          <a:p>
            <a:r>
              <a:rPr lang="en-US"/>
              <a:t>23/08/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O EN CASO DE ACUERDO</a:t>
            </a:r>
            <a:endParaRPr b="0" lang="en-US" sz="4400" spc="-1" strike="noStrike">
              <a:solidFill>
                <a:srgbClr val="333399"/>
              </a:solidFill>
              <a:latin typeface="Tahoma"/>
            </a:endParaRPr>
          </a:p>
        </p:txBody>
      </p:sp>
      <p:sp>
        <p:nvSpPr>
          <p:cNvPr id="111"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unas cuestiones : El tope legal del 1%:</a:t>
            </a:r>
            <a:endParaRPr b="0" lang="en-US" sz="2800" spc="-1" strike="noStrike">
              <a:solidFill>
                <a:srgbClr val="000000"/>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s piso mínimo?</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s tope máximo?</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ebe cotejarse con el 4% del pasivo verificado?</a:t>
            </a:r>
            <a:endParaRPr b="0" lang="en-US" sz="28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D569850A-B0D5-40EA-A5B3-833C5452523C}" type="slidenum">
              <a:t>7</a:t>
            </a:fld>
          </a:p>
        </p:txBody>
      </p:sp>
      <p:sp>
        <p:nvSpPr>
          <p:cNvPr id="6" name="PlaceHolder 5"/>
          <p:cNvSpPr>
            <a:spLocks noGrp="1"/>
          </p:cNvSpPr>
          <p:nvPr>
            <p:ph type="dt" idx="1"/>
          </p:nvPr>
        </p:nvSpPr>
        <p:spPr/>
        <p:txBody>
          <a:bodyPr/>
          <a:p>
            <a:r>
              <a:rPr lang="en-US"/>
              <a:t>23/08/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PUTO EN CASO DE ACUERDO- BASE REGULATORIA</a:t>
            </a:r>
            <a:endParaRPr b="0" lang="en-US" sz="4000" spc="-1" strike="noStrike">
              <a:solidFill>
                <a:srgbClr val="333399"/>
              </a:solidFill>
              <a:latin typeface="Tahoma"/>
            </a:endParaRPr>
          </a:p>
        </p:txBody>
      </p:sp>
      <p:sp>
        <p:nvSpPr>
          <p:cNvPr id="113" name="PlaceHolder 2"/>
          <p:cNvSpPr>
            <a:spLocks noGrp="1"/>
          </p:cNvSpPr>
          <p:nvPr>
            <p:ph/>
          </p:nvPr>
        </p:nvSpPr>
        <p:spPr>
          <a:xfrm>
            <a:off x="11826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 verificado: Algunas consideracion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 insinuado tempestivament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 verificado por auto art. 36 LCQ.</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 art. 39 LCQ, capítulo 3º.</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identes de verificación tardíos y revisión con sentencia firme a la fecha de homologación.</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6F90868D-B326-40AC-B113-82190FF72CC6}" type="slidenum">
              <a:t>8</a:t>
            </a:fld>
          </a:p>
        </p:txBody>
      </p:sp>
      <p:sp>
        <p:nvSpPr>
          <p:cNvPr id="6" name="PlaceHolder 5"/>
          <p:cNvSpPr>
            <a:spLocks noGrp="1"/>
          </p:cNvSpPr>
          <p:nvPr>
            <p:ph type="dt" idx="1"/>
          </p:nvPr>
        </p:nvSpPr>
        <p:spPr/>
        <p:txBody>
          <a:bodyPr/>
          <a:p>
            <a:r>
              <a:rPr lang="en-US"/>
              <a:t>23/08/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PUTO EN CASO DE ACUERDO- BASE REGULATORIA</a:t>
            </a:r>
            <a:endParaRPr b="0" lang="en-US" sz="4000" spc="-1" strike="noStrike">
              <a:solidFill>
                <a:srgbClr val="333399"/>
              </a:solidFill>
              <a:latin typeface="Tahoma"/>
            </a:endParaRPr>
          </a:p>
        </p:txBody>
      </p:sp>
      <p:sp>
        <p:nvSpPr>
          <p:cNvPr id="115" name="PlaceHolder 2"/>
          <p:cNvSpPr>
            <a:spLocks noGrp="1"/>
          </p:cNvSpPr>
          <p:nvPr>
            <p:ph/>
          </p:nvPr>
        </p:nvSpPr>
        <p:spPr>
          <a:xfrm>
            <a:off x="11826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identes en trámi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as por su orde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ivo cer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leyes de “emergencia económica” y decreto de pesificación: valor real de los pasivos, pesificación vs. incidente de revisión por tipo de cambio.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ra. C.P.N. Juana Eva Bilenca.</a:t>
            </a:r>
          </a:p>
        </p:txBody>
      </p:sp>
      <p:sp>
        <p:nvSpPr>
          <p:cNvPr id="5" name="PlaceHolder 4"/>
          <p:cNvSpPr>
            <a:spLocks noGrp="1"/>
          </p:cNvSpPr>
          <p:nvPr>
            <p:ph type="sldNum" idx="3"/>
          </p:nvPr>
        </p:nvSpPr>
        <p:spPr/>
        <p:txBody>
          <a:bodyPr/>
          <a:p>
            <a:fld id="{6A3E5B99-CBE0-471F-AE8F-5C0CEA9FFC38}" type="slidenum">
              <a:t>9</a:t>
            </a:fld>
          </a:p>
        </p:txBody>
      </p:sp>
      <p:sp>
        <p:nvSpPr>
          <p:cNvPr id="6" name="PlaceHolder 5"/>
          <p:cNvSpPr>
            <a:spLocks noGrp="1"/>
          </p:cNvSpPr>
          <p:nvPr>
            <p:ph type="dt" idx="1"/>
          </p:nvPr>
        </p:nvSpPr>
        <p:spPr/>
        <p:txBody>
          <a:bodyPr/>
          <a:p>
            <a:r>
              <a:rPr lang="en-US"/>
              <a:t>23/08/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8:31:56Z</dcterms:created>
  <dc:creator>JB</dc:creator>
  <dc:description/>
  <dc:language>en-US</dc:language>
  <cp:lastModifiedBy>...</cp:lastModifiedBy>
  <dcterms:modified xsi:type="dcterms:W3CDTF">2006-08-23T19:37:18Z</dcterms:modified>
  <cp:revision>17</cp:revision>
  <dc:subject/>
  <dc:title>HONORARIOS EN CONCURSOS Y QUIEBRAS</dc:title>
</cp:coreProperties>
</file>