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B77-8F59-4F9A-AB46-C77DE9B6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020-8F0F-4526-AE5D-122E0C4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E3D-A3FA-482D-AC55-1693A429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AF1-53A5-4D59-ADD4-65A6C21E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0685-0C43-4FED-A99F-CCEECCF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AF7-38E2-4858-93D4-DDAD7F2E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0D54-1DDF-462F-B7EF-4145021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076-6719-4FB4-9FD4-3E1A778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FE27-914D-462B-B915-C65748A9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35FA-BC16-41B9-BE77-0142CC72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541-AC72-4773-9D47-E764403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302-6D87-48CB-AC2F-BC1E635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B07-D669-49D5-B71F-3A8272B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0B74-737B-46F0-AA58-C200205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217-10DC-4B26-AC43-59262E14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9958-59EB-4F5B-B5D4-B917DC1F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950-A305-4794-951D-58043A86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3D6-612A-4EE1-B01D-F48B2141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3CF-D8AD-4C84-B0D5-D813B9F6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EDC-D9FA-4554-A467-8248273B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129-3C0B-495E-BFDA-876CA2A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EA4-BBAA-46BB-B546-F0D4D43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28D-16C7-4953-9F0F-2C74B589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AA5-85D8-4050-BCD5-E74C3F9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435A-19BC-4C6E-AE3A-FDFB0D3479C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E3F8-9F34-4E87-8EB4-63B78478622B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66"/>
                </a:solidFill>
                <a:latin typeface="Times New Roman"/>
              </a:rPr>
              <a:t>Aspectos Contable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8840" y="4114800"/>
            <a:ext cx="77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Asociaciones Civiles y Fundaci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56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ulio 200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isión Revisora de Cue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266688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aracterísticas del órgano de fiscal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Funciones y tareas asign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imilitudes y diferencias con la sindicatura de 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ociedades comerci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ticularidades de su inform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cance de sus responsabi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0640" y="38052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CUENCIA PARA LA PRESENTACION DE LOS ESTADOS CONTAB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eparación de los estados contables por el 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uditoría por el profesio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misión del dictamen dirigido a la C.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raslado de la Comisión Directiva  a la Comisión Revisora de Cuen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omisión Revisora de Cuentas emite inform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.D. aprueba y pone a disposición de los so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.D. remite copia a la I.G.J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o trata la A.G.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Si se modifica,  se presenta en la I.G.J. con las modificaciones aprob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29718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Dr. C.P. Jorge Mick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41893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gradece su atenc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ERECHO CONT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ncepto del Dr. Eduardo M. Favier Dubois (p)</a:t>
            </a:r>
            <a:r>
              <a:rPr b="0" i="1" lang="es-ES_tradnl" sz="3200" spc="-1" strike="noStrike">
                <a:solidFill>
                  <a:srgbClr val="003366"/>
                </a:solidFill>
                <a:latin typeface="Times New Roman"/>
              </a:rPr>
              <a:t>   Rama del derecho que tiene por objeto   disciplinar en su contenido y forma a la contabilidad, como una manifestación del “derecho económico”, en tutela del orden social en general y de los terceros en particul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Sujetos tutelados por el Derecho Cont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83343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Times New Roman"/>
              </a:rPr>
              <a:t>Socios</a:t>
            </a:r>
            <a:r>
              <a:rPr b="0" lang="es-ES_tradnl" sz="2200" spc="-1" strike="noStrike">
                <a:solidFill>
                  <a:srgbClr val="003366"/>
                </a:solidFill>
                <a:latin typeface="Times New Roman"/>
              </a:rPr>
              <a:t>:Los socios no administradores tienen el derecho de conocer, controlar, aprobar o desaprobar la gestion de los administrado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Times New Roman"/>
              </a:rPr>
              <a:t>Terceros inmediatos</a:t>
            </a:r>
            <a:r>
              <a:rPr b="0" lang="es-ES_tradnl" sz="2200" spc="-1" strike="noStrike">
                <a:solidFill>
                  <a:srgbClr val="003366"/>
                </a:solidFill>
                <a:latin typeface="Times New Roman"/>
              </a:rPr>
              <a:t>: Son los titulares de relaciones juridicas concretas y directas con la entidad (Acreedores comerciales, financieros y fiscales), tambien el plantel de personal rentado y de voluntariado; y las organizaciones gremiales que los representan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Times New Roman"/>
              </a:rPr>
              <a:t>El Estado</a:t>
            </a:r>
            <a:r>
              <a:rPr b="0" lang="es-ES_tradnl" sz="2200" spc="-1" strike="noStrike">
                <a:solidFill>
                  <a:srgbClr val="003366"/>
                </a:solidFill>
                <a:latin typeface="Times New Roman"/>
              </a:rPr>
              <a:t>: A traves de sus diversos organismos AFIP, ANSES, Ministerio de Trabajo, IGJ, UIF y entes especificos relacionados con la actividad que desarrolla la entidad. El ambito judicial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Times New Roman"/>
              </a:rPr>
              <a:t>Los terceros remotos</a:t>
            </a:r>
            <a:r>
              <a:rPr b="0" lang="es-ES_tradnl" sz="2200" spc="-1" strike="noStrike">
                <a:solidFill>
                  <a:srgbClr val="003366"/>
                </a:solidFill>
                <a:latin typeface="Times New Roman"/>
              </a:rPr>
              <a:t>: La sociedad en su conjunto, cuestión vinculada al orden publico económico y ético en el cual se desenvuelve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stados Cont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3343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Concepto vertido por el Dr. Ignacio González Garcia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Times New Roman"/>
              </a:rPr>
              <a:t>El usuario no habitual de estados contables debe entender que los mismos no son ni exactos ni correctos ni reflejan en forma precisa el valor real del ente, y que en realidad consisten principalmente en estimaciones lo mas razonables posibles de la representación de su patrimonio. Ese patrimonio actual depende en grado sumo de hechos, transacciones o aconteceres futuros pendientes de ocurrir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EXPOSICION DE LOS ESTADOS CONTA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R.T. Nº 11 y 19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Plan de cuentas - terminología adecuada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stados  contables  básic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ado de situación patrimonial  o   balance gener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ado de recursos y gast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ado de evolución del patrimonio ne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ado de flujo de efectiv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ados de Resultados Netos y por ten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5880" y="820440"/>
            <a:ext cx="5716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STADOS CONTABLES BASICOS</a:t>
            </a:r>
            <a:br>
              <a:rPr sz="2400"/>
            </a:b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(anexos, notas, dictamen e inform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413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I Bienes de Us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II Inversion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III Bienes Intang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IV Previsiones y Reser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V Recursos Ordinari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VI 13\90 Detalles de Subsidios 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Donaciones Estata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VII Gastos de Administr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nexo VIII Gastos específic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ctamen del Auditor Exter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Informe de los Revisores de Cuent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lgunos</a:t>
            </a: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SPECTOS ESPE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Times New Roman"/>
              </a:rPr>
              <a:t>Rubro Creditos - Morosidad y previsión de incobrabilidad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Times New Roman"/>
              </a:rPr>
              <a:t>Intangibles - Valuaciones y consideraciones particulare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Times New Roman"/>
              </a:rPr>
              <a:t>Bienes de Uso - Asignación de vida útil y régimen de amortizació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Times New Roman"/>
              </a:rPr>
              <a:t>Donaciones es especie - Valuaciones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33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Libros Obligatorios - Res. 07/2005 IGJ (Art. 373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Actas - Comision Directiva - Asambleas - Comision Fiscalizado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Asoci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Inventarios y Balan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Di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66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Libros operativamente  obligato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Subdiario – IVA compr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Subdiario – IVA vent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Subdiario - Movimiento de fon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May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66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Registros auxilia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Subdiarios de acuerdo a la actividad que se desarrol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Libro de Sueldos Ley 20.74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stado de Flujo de Efectivo (Metodo Directo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2057400"/>
          <a:ext cx="7772400" cy="4559040"/>
        </p:xfrm>
        <a:graphic>
          <a:graphicData uri="http://schemas.openxmlformats.org/drawingml/2006/table">
            <a:tbl>
              <a:tblPr/>
              <a:tblGrid>
                <a:gridCol w="4800600"/>
                <a:gridCol w="1523880"/>
                <a:gridCol w="1447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CIEMB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RIACION DEL EFECTIV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ndos al inicio del ejercici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ndos al Cierre del Ejercici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mentos   del   perio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USA DE LAS VARIACIONES DEL EFECTIV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greso por Cobro Cuotas Social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gresos por Ingresos Diverso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gresos Por Compra de Bienes de Us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gresos Por Remuneraciones y Cargas Social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gresos Por Compra de Bienes y Servicio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7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1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TAL AUMENTO DEL PERIO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9:42:04Z</dcterms:created>
  <dc:creator>jmicko</dc:creator>
  <dc:description/>
  <dc:language>en-US</dc:language>
  <cp:lastModifiedBy>Thelma Karen Stretcu</cp:lastModifiedBy>
  <cp:lastPrinted>2006-07-13T19:29:35Z</cp:lastPrinted>
  <dcterms:modified xsi:type="dcterms:W3CDTF">2006-08-09T14:01:34Z</dcterms:modified>
  <cp:revision>32</cp:revision>
  <dc:subject/>
  <dc:title>ASPECTOS CONTABLES</dc:title>
</cp:coreProperties>
</file>