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197-356C-4B5C-BFF9-015FD03D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211-52B5-48EC-A445-AACAFE7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965-7B4F-41C6-9D78-4CF79AAC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84B-9809-4423-BCAF-BF98C555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486-61C0-45F2-BF7F-DDAF8147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F75-85C7-4A27-80A1-3A2822BF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C1E5-4BAA-4B0A-874F-B146144C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3D43-7F84-47FA-BAE8-211CAD4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F559-1B41-416F-8AD3-9363083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453A-EA22-4C7C-B626-B50F7D8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7D1-8CAE-43C6-BE58-0FB192B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E84-6A0E-4BC6-9DFD-40C08664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AEE-DD3A-4D6F-8A7D-5202C94D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D30-F28C-473D-984F-6B802BD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1DFB-1C76-40A2-96A8-EA1D380E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DB2E-F676-43AB-BCFF-FB65C763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50A4-5B80-4545-A8DA-72CB9D0A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3228-9CA1-4914-B53A-D3D2EB9C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B222-3ECC-4EC5-879E-3A005805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5C77-3838-44E0-89B9-E542712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5EF0-415E-45DE-BEA4-48E22D5F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8B4A-9B2B-4766-AD22-514D261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87C-6B65-47D2-9CE9-0CEEB105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77F9-FA71-4768-9267-B60FCFE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C808-5B96-48BC-A820-074DE9D9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3CAC-94C1-4D9B-82B2-36639953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611A-1B4C-4D0F-8739-939ACAA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1D89-9F90-4A9C-9BA0-E4594D4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1B7C-DB33-4190-9667-F89E758C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113E-433D-4E83-9B5F-7802C799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4F5-03D7-47D9-B8A4-89BF2ECC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926-C6A9-462B-99D5-C444C806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4B7-55B1-41FC-9AB0-36688D19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69F-CA36-45A3-994C-76FEC95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2FC-CC94-4FFE-8EB1-09B101E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236-8F64-41B6-B0BC-E22482F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E168-13CC-4F28-92BA-7F3772C8AD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1F2C-F809-4962-8368-4C1F8134A551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CF6E-78DA-4D02-8644-B6B266E125B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52480" y="44956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7e3f00"/>
                  </a:solidFill>
                  <a:miter/>
                </a:ln>
                <a:solidFill>
                  <a:srgbClr val="7e3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El Financiero "</a:t>
            </a:r>
            <a:endParaRPr b="0" i="1" lang="en-US" sz="1800" spc="1" strike="noStrike">
              <a:ln w="28440">
                <a:solidFill>
                  <a:srgbClr val="7e3f00"/>
                </a:solidFill>
                <a:miter/>
              </a:ln>
              <a:solidFill>
                <a:srgbClr val="7e3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17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981080"/>
            <a:ext cx="3886200" cy="3505320"/>
          </a:xfrm>
          <a:prstGeom prst="rect">
            <a:avLst/>
          </a:prstGeom>
          <a:solidFill>
            <a:srgbClr val="0000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" y="2057400"/>
            <a:ext cx="376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solidad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0” tiempo para Anali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ucho” tiempo en “montar informac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nfoque Ana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7320" y="3124080"/>
            <a:ext cx="2731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Reactivo, Control a posteri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rol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rol Presupues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reparar información para el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igue dirección de los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No lidera agenda estraté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rencia” el presu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sión y rol de anal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rientado al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nfocado en p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981080"/>
            <a:ext cx="3886200" cy="3505320"/>
          </a:xfrm>
          <a:prstGeom prst="rect">
            <a:avLst/>
          </a:prstGeom>
          <a:solidFill>
            <a:srgbClr val="0000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057400"/>
            <a:ext cx="3886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Us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solidación/ análisis/ Inteligencia del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dicado al pensamiento estraté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nfoque cre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18120" y="3200400"/>
            <a:ext cx="3645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Promotor/ proactivo: control en el ori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rol estratégico/creación de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Interacción continua con el 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Se apoya en negocios para desarrollo de inici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uía-orienta la agenda estraté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rencia el portafolio de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isión y rol de consul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Orientado al aprendizaje contin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nfocado en relaciones (capital relac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2819160" y="3504600"/>
            <a:ext cx="3505320" cy="457200"/>
          </a:xfrm>
          <a:prstGeom prst="flowChartMerge">
            <a:avLst/>
          </a:prstGeom>
          <a:solidFill>
            <a:srgbClr val="e517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334120"/>
            <a:ext cx="3886200" cy="838080"/>
          </a:xfrm>
          <a:prstGeom prst="ellipse">
            <a:avLst/>
          </a:prstGeom>
          <a:solidFill>
            <a:srgbClr val="ff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ucho manejo de Información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co pensamiento estraté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410080"/>
            <a:ext cx="3886200" cy="838440"/>
          </a:xfrm>
          <a:prstGeom prst="ellipse">
            <a:avLst/>
          </a:prstGeom>
          <a:solidFill>
            <a:srgbClr val="ff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oco en liderazgo de estrategias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ucha interacción con negocio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9360" y="15238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fil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6080" y="15238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fil requerido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4120" y="457200"/>
            <a:ext cx="718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l perfil de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l merc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71000" y="76212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3640" y="1741320"/>
            <a:ext cx="786456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cimiento  en el Área de Finanz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eriencia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función actual del financi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c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del perfil del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querimiento del mercado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768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8200" y="30492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ecimiento  en el Área de Finan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peri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447920"/>
            <a:ext cx="786456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Áreas de especialización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nanzas Corporativ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laneamiento Financie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nanciamiento de Consum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yectos de Invers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ercio 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deicomiso Financier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estructuración de Deu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743200"/>
            <a:ext cx="80168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rrera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oker de seguros. (1992-95)  Seguros de vida y patrimonial- Responsable de cobranzas y 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ederación de Cs. Económicas (1996-1999)  Responsable administrativo. Primera experiencia en mercado de cap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resa Constructora (2000) Gerente de administración y finanzas. Proyectos de Inversión de obra civi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permercados COTO   (2001-Actual) Gerente Financiero . Finanzas Corpor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2480" y="4648320"/>
            <a:ext cx="7410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Formación Acadé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ador Publico- Universidad de Belgrano (1990-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pecialista en mercado de Capitales – Instituto Argentino de Mercado de Capitales (19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estría en Finanzas- Universidad Torcuato Di Tella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760" y="5715000"/>
            <a:ext cx="782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ocente Universi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de Administración Financiera - Universidad CAECE 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de Economía monetaria y mercados financieros - Universidad de Belgrano (1998-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0320" y="330120"/>
            <a:ext cx="607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función actual del financi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905120"/>
            <a:ext cx="832176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gerente financiero de una empresa hoy esta ligado a toda la organización. La combinación de factores tales como la competencia creciente, la inflación persistente, la explosión tecnológica, Las crisis politicas y las operaciones internacionales han ligado al área financiera a formar parte de la toma de decisiones en las organiz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fondos de las empresas son mal asignados, el crecimiento será lento y escaso y van en detrimento del accion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entender íntimamente el negocio y relacionar los complejos mercados financieros con la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0320" y="330120"/>
            <a:ext cx="607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función actual del financi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3640" y="1560600"/>
            <a:ext cx="8550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ol mas relacionado con los negocios y apoyo a la gestión de la estrategia global de la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úa como intermediario entre las operaciones de la empresa y los mercados financi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s dedicación al apoyo de toma de decisiones que a las actividades transac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crementar la riqueza del accion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estión del capital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erenciar el riesgo financi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r como asesor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cilitar la comunicación con diferentes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ocimiento abarcativo de finanzas y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0320" y="330120"/>
            <a:ext cx="607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función actual del financi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ctores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3640" y="1560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9960" y="1789200"/>
            <a:ext cx="7937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isiones del gerente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 Decisiones de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álisis de proyectos (estimación de costos, riesgos, opciones futu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sorería  (calculo y colocación de fon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astos independientes de proyectos (capital fijo y administra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dquision de otras empresas (calculo de costos y riesg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191120"/>
            <a:ext cx="7924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. Decisiones de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dentificar fuentes de financiamiento (propios , acciones y deu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lculo de costos de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valuación de ventas y desventajas (señales del mercado, impacto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sobre el control de la empres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4120" y="457200"/>
            <a:ext cx="718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l perfil de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l merc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355840"/>
            <a:ext cx="786456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fil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plitud 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tivación ganadora para tener éxito- Autoest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peramento para soportar cambios en la regla de ju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pacidad para aprender y escu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scar la mas alta sinergia en sus op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pacidad para captar oportunidades de negocio, persuadir clientes y enfrentar obstácu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der y piloto de tor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erfil profesional sólido y transparente en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1600" y="168768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erfil del gerente financiero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2362320"/>
            <a:ext cx="78645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xperiencia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la toma de desiciones , habilidad de mando y resolución de 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esarrollo del sentido común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habilidad de evaluar información de forma inteligente , con madurez, razonamiento y experiencia en la toma de decisión. El sentido comun y buen juicio es valioso en el manejo de probl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reativ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habilidad para combinar y asociar ideas para lograr un resultado nuevo y util.  El mayor valor de la creatividad esta en el desarrollo de altern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olvencia técnica y profesional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sólidos conocimientos en la materia financiera, expertise en el vocabulario  y tecnicas especificas del are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Relaciones humana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tener la habilidad de adaptarse a los distintos tipos de clientes internos y externos para formar unas red de r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3760" y="1687680"/>
            <a:ext cx="40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ualidades personales del pe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2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4120" y="457200"/>
            <a:ext cx="718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l perfil de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l merc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2438280"/>
            <a:ext cx="7864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laneamiento de corto y largo plazo de los requerimientos financieros de la compañ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álisis de variables endógenas y exógenos del mercado, competencia y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álisis de índices económicos y 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álisis del futuro mediante un planning y proye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ducación económica constante en medios especializ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onsabilidad en las relaciones con bancos y entidades financi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álisis de las contingencias que pueden afectar a la compañía, elecciones, crisis económicas, devaluaciones, compras de empresas, deuda externa, política fisca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4120" y="168768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querimiento del per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120" y="457200"/>
            <a:ext cx="718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racterísticas del perfil de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miento del mercado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23:29:28Z</dcterms:created>
  <dc:creator>Flia Giambir</dc:creator>
  <dc:description/>
  <dc:language>en-US</dc:language>
  <cp:lastModifiedBy>Coto c.i.c.s.a.</cp:lastModifiedBy>
  <dcterms:modified xsi:type="dcterms:W3CDTF">2006-07-24T21:53:26Z</dcterms:modified>
  <cp:revision>14</cp:revision>
  <dc:subject/>
  <dc:title>Diapositiva 1</dc:title>
</cp:coreProperties>
</file>