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D8D736-1D9A-477B-854D-AEEAE3C311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557E63-4047-4F6F-8D83-F8DC10E28F3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68FA7B-A3F0-4077-94DA-6D01A6A579E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CA0CD-1762-42E0-AB35-9BF7CB1216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DDEB6-F4B9-40B0-8754-631A9E9A73E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99A68-840B-43A3-88D9-FA6C1B2FE1D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2BEAE-6250-43C8-BA7F-3BCE9C1BA9E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4D865-AD71-4079-8252-1D2F710051D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4116B-022A-4E68-AB32-BE2E71CDFB8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324CF4-57A0-4B44-8533-CEB839799EE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06C3A-BA28-44D3-8B18-FE453EF421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75E43-4A7D-4154-8A9E-4C37159596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2F3FD-88AE-4D91-A217-211A2AE9A47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AE419-1946-41A6-8FA5-32E792DC4B3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60BA5C-8915-4B77-9174-7D4EC265B35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A117EA-5B7B-43E9-BB4F-A7CF7202486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F1CF9A-C11A-4FFE-AB23-65B4AAE52F6C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CB447-6B7C-479C-A2B3-33D5D1499144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6088-541E-4909-B7A2-72C328FAF747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4164-EA80-4723-9ED5-1B2B3A405BE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E2E0-F7B4-40D6-8D4D-7FF09ADB092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DBC3-03C4-4578-8696-96B17542D4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B017E2-27D1-491A-A33A-0802AA355EA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0BFC5-E57B-48E7-A590-147A403ECE6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CB422-77C1-447E-AA1B-88941601CE7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0729F-7DBF-4F4E-9678-49039E4F3670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B8C4-452C-434D-8DDA-790AF3EA746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1AB3-0259-41D8-9844-37039C37B33D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19FC-6E0D-4C72-83C3-BAF3633C9A6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0D4B-A250-456E-8414-CFCD42BEF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5F7C5-0EC6-4640-A32F-2663226700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DD4A8-3CDB-49AE-8486-4745621807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CB883-1AB7-4C11-BAC6-7889A3D581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E549F-F7D8-46C7-9BE7-8EA7B0A120C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734AC-76D0-489D-B388-243CC47DBA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19B66-6AAE-4BFF-9BF0-941E6570C1C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E6849-4DBF-4727-B71F-6D577B1386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8360" y="838080"/>
            <a:ext cx="8207280" cy="142920"/>
          </a:xfrm>
          <a:prstGeom prst="rect">
            <a:avLst/>
          </a:prstGeom>
          <a:gradFill rotWithShape="0">
            <a:gsLst>
              <a:gs pos="0">
                <a:srgbClr val="ffffff">
                  <a:alpha val="56078"/>
                </a:srgbClr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932360" y="6492960"/>
            <a:ext cx="4321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ffffff"/>
                </a:solidFill>
                <a:latin typeface="Arial"/>
              </a:rPr>
              <a:t>Liliana Barrionuevo y Pablo D. Wagn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7F278-8C27-4E9A-8BC9-C24AC7FE83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8360" y="838080"/>
            <a:ext cx="8207280" cy="142920"/>
          </a:xfrm>
          <a:prstGeom prst="rect">
            <a:avLst/>
          </a:prstGeom>
          <a:gradFill rotWithShape="0">
            <a:gsLst>
              <a:gs pos="0">
                <a:srgbClr val="ffffff">
                  <a:alpha val="56078"/>
                </a:srgbClr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32360" y="6492960"/>
            <a:ext cx="4321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ffffff"/>
                </a:solidFill>
                <a:latin typeface="Arial"/>
              </a:rPr>
              <a:t>Liliana Barrionuevo y Pablo D. Wagn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F4B2D-A7BE-47AB-8BF2-C8C900986A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68360" y="1341360"/>
            <a:ext cx="8207280" cy="142920"/>
          </a:xfrm>
          <a:prstGeom prst="rect">
            <a:avLst/>
          </a:prstGeom>
          <a:gradFill rotWithShape="0">
            <a:gsLst>
              <a:gs pos="0">
                <a:srgbClr val="ffffff">
                  <a:alpha val="56078"/>
                </a:srgbClr>
              </a:gs>
              <a:gs pos="100000">
                <a:srgbClr val="3333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32360" y="6492960"/>
            <a:ext cx="4321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ffffff"/>
                </a:solidFill>
                <a:latin typeface="Arial"/>
              </a:rPr>
              <a:t>Liliana Barrionuevo y Pablo D. Wagner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36360" y="547560"/>
            <a:ext cx="9144000" cy="22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Arial"/>
              </a:rPr>
              <a:t>Ciclo</a:t>
            </a: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Costos: Su aplicación para el control </a:t>
            </a:r>
            <a:br>
              <a:rPr sz="3200"/>
            </a:br>
            <a:r>
              <a:rPr b="1" lang="es-ES" sz="3200" spc="-1" strike="noStrike">
                <a:solidFill>
                  <a:srgbClr val="ffffff"/>
                </a:solidFill>
                <a:latin typeface="Arial"/>
              </a:rPr>
              <a:t>y la toma de decisiones</a:t>
            </a:r>
            <a:br>
              <a:rPr sz="3200"/>
            </a:br>
            <a:br>
              <a:rPr sz="2000"/>
            </a:b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Primera conferencia</a:t>
            </a:r>
            <a:br>
              <a:rPr sz="3200"/>
            </a:br>
            <a:r>
              <a:rPr b="1" lang="es-AR" sz="3200" spc="-1" strike="noStrike">
                <a:solidFill>
                  <a:srgbClr val="ffffff"/>
                </a:solidFill>
                <a:latin typeface="Arial"/>
              </a:rPr>
              <a:t>El control de stocks como herramienta de control de cos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3645000"/>
            <a:ext cx="9144000" cy="30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618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xpositores: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Liliana Barrionuevo</a:t>
            </a:r>
            <a:br>
              <a:rPr sz="3200"/>
            </a:b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Pablo D. Wagner</a:t>
            </a:r>
            <a:br>
              <a:rPr sz="3200"/>
            </a:br>
            <a:br>
              <a:rPr sz="32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echa: 19 de julio de 2006.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sentado en el Consejo Profesional de Ciencias Económicas de la Ciudad Autónoma de Buenos Aires (C.P.C.E.C.A.B.A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DFA607-0180-4FB9-8CA1-B0985BCB8E69}" type="slidenum">
              <a:t>1</a:t>
            </a:fld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49200" y="-1004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Costo por Diferencia de Invent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03600" y="1847880"/>
            <a:ext cx="3585960" cy="574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66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055960" y="2639880"/>
            <a:ext cx="398160" cy="287640"/>
          </a:xfrm>
          <a:prstGeom prst="plus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055960" y="3790800"/>
            <a:ext cx="398160" cy="1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01800" y="2852640"/>
            <a:ext cx="3586320" cy="5749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66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03600" y="4008600"/>
            <a:ext cx="3585960" cy="574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66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479600" y="4943520"/>
            <a:ext cx="6045120" cy="14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79600" y="5302080"/>
            <a:ext cx="5976720" cy="57492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6666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2847960" y="1919160"/>
            <a:ext cx="3321000" cy="48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xistencia Inicial</a:t>
            </a:r>
            <a:endParaRPr b="0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2847960" y="2998800"/>
            <a:ext cx="332100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mpras y Gastos</a:t>
            </a:r>
            <a:endParaRPr b="0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847960" y="4057560"/>
            <a:ext cx="332100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Existencia Final</a:t>
            </a:r>
            <a:endParaRPr b="0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623960" y="5372280"/>
            <a:ext cx="5711760" cy="480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 Black"/>
              </a:rPr>
              <a:t>Costo por Diferencia de Inventario</a:t>
            </a:r>
            <a:endParaRPr b="0" lang="en-US" sz="20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3CF794-A644-4A94-A423-13A1F8DF2C1C}" type="slidenum">
              <a:t>10</a:t>
            </a:fld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esventajas del cálculo del costo por diferencia de inventario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0" y="1413000"/>
            <a:ext cx="9144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guntas que no se pueden contestar con este méto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21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¿Cuánto se gana por la venta de cada product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¿El costo determinado incluye ineficiencia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¿Qué ineficiencias se produjeron y cuál es su caus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¿Cuál es el producto o línea de productos más convenient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A7A5-9E40-45B5-AFAA-BA4E942CFA21}" type="slidenum">
              <a:t>11</a:t>
            </a:fld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esventajas del cálculo del costo por diferencia de inventario (Cont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1926720"/>
            <a:ext cx="91440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reguntas que no se pueden contestar con este métod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¿Puede ser que un producto esté subsidiando el costo de otr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¿Qué costos pueden ser eliminados al suprimir un producto o línea de product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¿Permite aparear ingresos con costos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B57D-0487-429D-8E34-2B2FCB21B9A0}" type="slidenum">
              <a:t>12</a:t>
            </a:fld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esventajas del cálculo del costo por diferencia de inventario (Cont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229600" cy="528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8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Arial Unicode MS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s un costo global, no tiene el detalle necesario para analizar los componentes que lo determin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Arial Unicode MS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Impide el control por componente del costo y por área de respons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Arial Unicode MS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Es un control “ex – post”, no sirve para garantizar una seguridad razonable sobre los activ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AB68-CEDF-44E2-ABC0-5221F5177BB0}" type="slidenum">
              <a:t>13</a:t>
            </a:fld>
          </a:p>
        </p:txBody>
      </p:sp>
    </p:spTree>
  </p:cSld>
  <p:transition spd="med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Desventajas del cálculo del costo por diferencia de inventario (Cont.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Arial Unicode MS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Puede incluir sustracciones y otras diferencias de inventario que no se originen en el co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Arial Unicode MS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Mal utilizado puede incluir resultados por tenenci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Arial Unicode MS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o permite encarar políticas de reducción integrada de cost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ffffff"/>
              </a:buClr>
              <a:buFont typeface="Arial Unicode MS"/>
              <a:buChar char="x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Arial"/>
              </a:rPr>
              <a:t>No sirve para entender como optimizar el co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E4D1C-770D-4701-B7FF-EF17BCA02901}" type="slidenum">
              <a:t>14</a:t>
            </a:fld>
          </a:p>
        </p:txBody>
      </p:sp>
    </p:spTree>
  </p:cSld>
  <p:transition spd="med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Importancia del control de inventari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Su impacto sobre la contabilidad y la gest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3E250-C773-48A5-892E-848D38D0B1A6}" type="slidenum">
              <a:t>15</a:t>
            </a:fld>
          </a:p>
        </p:txBody>
      </p:sp>
    </p:spTree>
  </p:cSld>
  <p:transition spd="med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-360"/>
            <a:ext cx="9144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IMPACTOS 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651640" y="1905120"/>
            <a:ext cx="3492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estión financ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724280" y="1447920"/>
            <a:ext cx="44197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olíticas de abastecimi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2590920"/>
            <a:ext cx="4500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Decisiones del negocio (outsourc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1981080"/>
            <a:ext cx="349236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asivos comerci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791320" y="4191120"/>
            <a:ext cx="370656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seguramiento del control in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91320" y="3429000"/>
            <a:ext cx="385128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estión de comp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3809880"/>
            <a:ext cx="27716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osto de 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295280"/>
            <a:ext cx="298764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Activos corrie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-457200" y="2590920"/>
            <a:ext cx="39607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Costo de pro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5791320"/>
            <a:ext cx="48942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SIGNO del resultado fi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124080"/>
            <a:ext cx="15825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867280" y="5029200"/>
            <a:ext cx="35258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estión de ven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4495680"/>
            <a:ext cx="38005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Gastos de oper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219640" y="5715000"/>
            <a:ext cx="392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Política de planificación tributa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-304920" y="5105520"/>
            <a:ext cx="4816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Impuesto a las gananci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57200" y="549360"/>
            <a:ext cx="3529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a CONTABI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08840" y="549360"/>
            <a:ext cx="3492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Arial"/>
              </a:rPr>
              <a:t>la GEST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3200400"/>
            <a:ext cx="244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CONTROL 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505320" y="3200400"/>
            <a:ext cx="2232000" cy="7920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3429000" y="1676160"/>
            <a:ext cx="914400" cy="1523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 flipV="1">
            <a:off x="3276720" y="2362320"/>
            <a:ext cx="838080" cy="8380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3048120" y="2819520"/>
            <a:ext cx="76176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267080" y="4038480"/>
            <a:ext cx="76320" cy="1690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>
            <a:off x="3809520" y="4038480"/>
            <a:ext cx="381240" cy="1143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3516120" y="4038480"/>
            <a:ext cx="446040" cy="6145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H="1">
            <a:off x="2666520" y="3733920"/>
            <a:ext cx="762120" cy="304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1523520" y="3505320"/>
            <a:ext cx="197028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V="1">
            <a:off x="5257800" y="1828800"/>
            <a:ext cx="457200" cy="13716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5486400" y="2209680"/>
            <a:ext cx="533520" cy="99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791320" y="3047760"/>
            <a:ext cx="609480" cy="368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486400" y="4038480"/>
            <a:ext cx="762120" cy="17528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4038480"/>
            <a:ext cx="762120" cy="10670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791320" y="3886200"/>
            <a:ext cx="503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3657600"/>
            <a:ext cx="762120" cy="76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26EE-C610-4452-B802-5E6E22E504E8}" type="slidenum">
              <a:t>16</a:t>
            </a:fld>
          </a:p>
        </p:txBody>
      </p:sp>
    </p:spTree>
  </p:cSld>
  <p:transition spd="med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ffffff"/>
                </a:solidFill>
                <a:latin typeface="Arial"/>
              </a:rPr>
              <a:t>Las dificultades más comunes y las fallas más frecuente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8C2F53-1293-47C4-A34D-B6CF6C245D84}" type="slidenum">
              <a:t>17</a:t>
            </a:fld>
          </a:p>
        </p:txBody>
      </p:sp>
    </p:spTree>
  </p:cSld>
  <p:transition spd="med"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Dificultades más comun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Inaplicabilidad de un sistema de costo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Gestión financiera: iliquidez, sobreendeudamiento, cargas financieras evitabl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Riesgos: desabastecimiento, exceso de inmovilizaciones, pérdidas por deterioros, sustracciones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Arial"/>
              </a:rPr>
              <a:t>Imposibilidad de confirmar las causas de las diferencias de todo tipo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1CB6F-FE26-4B3C-AAED-7A66F5A0F8E8}" type="slidenum">
              <a:t>18</a:t>
            </a:fld>
          </a:p>
        </p:txBody>
      </p:sp>
    </p:spTree>
  </p:cSld>
  <p:transition spd="med"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Fallas más frecuent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4920" y="1483920"/>
            <a:ext cx="901080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Licuamiento de diferencias de inventario y de la ineficiencia en el uso de material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Ocultamiento de errores y omisione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Dilución de resultados de tenenci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Deformación de la asignación de resultados en el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Aprovisionamiento a destiempo y en magnitudes erróne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Desconocimiento de la inmovilización rea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Arial"/>
              </a:rPr>
              <a:t>Desconocimiento del verdadero capital de trabaj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FCBD-C45B-4BFC-A0D6-633626EFA604}" type="slidenum">
              <a:t>19</a:t>
            </a:fld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9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Objetivo de la reunió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2708280"/>
            <a:ext cx="8229600" cy="1612800"/>
          </a:xfrm>
          <a:prstGeom prst="rect">
            <a:avLst/>
          </a:prstGeom>
          <a:solidFill>
            <a:srgbClr val="3333cc"/>
          </a:solidFill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 fontScale="80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tender y reflexionar acerca de los conceptos teóricos de costos y su relación con el control de stocks.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7DFF05-C5C2-4F5B-B83F-6456EEFDB402}" type="slidenum">
              <a:t>2</a:t>
            </a:fld>
          </a:p>
        </p:txBody>
      </p:sp>
    </p:spTree>
  </p:cSld>
  <p:transition spd="med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Requerimientos de un sistema de gestión para el control de stock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2F68C3-D7C7-4727-B8BB-BAD619618172}" type="slidenum">
              <a:t>20</a:t>
            </a:fld>
          </a:p>
        </p:txBody>
      </p:sp>
    </p:spTree>
  </p:cSld>
  <p:transition spd="med"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equerimientos de un sistema de gestión para el control de stoc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81080" y="161136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ffff"/>
                </a:solidFill>
                <a:latin typeface="Arial"/>
              </a:rPr>
              <a:t>Del catálogo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Clasificación de ítems por material y familia de material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Clasificación por criticidad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Codificación modular compatible con el plan de cuentas contable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Codificación que permita identificar el lugar físico (geográfico) del almacenamiento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Codificación identificatoria de los distintos estados, p.ej. depósitos propios, tránsito, en poder de tercero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Composición actualizada con revisión técnica o ingenieril permanente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CA16F-0AA0-4CFC-AC6A-3071637E60F6}" type="slidenum">
              <a:t>21</a:t>
            </a:fld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equerimientos de un sistema de gestión para control de stoc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50920" y="16844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ffff"/>
                </a:solidFill>
                <a:latin typeface="Arial"/>
              </a:rPr>
              <a:t>De los componentes monetarios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Distintos tipos de moneda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Precios de distintos proveedores para un mismo material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Precios de distintas fechas para un mismo material y proveedor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Actualización de precios por distintos índic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Identificación de precios por fecha de compra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Convergencia de partes de precio en distintas moneda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8D94-8801-4AFC-833E-FC85738C8E89}" type="slidenum">
              <a:t>22</a:t>
            </a:fld>
          </a:p>
        </p:txBody>
      </p:sp>
    </p:spTree>
  </p:cSld>
  <p:transition spd="med"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equerimientos de un sistema de gestión para control de stoc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723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500" spc="-1" strike="noStrike">
                <a:solidFill>
                  <a:srgbClr val="ffffff"/>
                </a:solidFill>
                <a:latin typeface="Arial"/>
              </a:rPr>
              <a:t>De la operatividad: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Movimientos individuales en unidades </a:t>
            </a:r>
            <a:r>
              <a:rPr b="1" lang="es-AR" sz="2500" spc="-1" strike="noStrike">
                <a:solidFill>
                  <a:srgbClr val="ffffff"/>
                </a:solidFill>
                <a:latin typeface="Arial"/>
              </a:rPr>
              <a:t>Y / O </a:t>
            </a: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en peso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Clasificación de las entradas por orígen: proveedor, otro depósito, devolución de client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Clasificación de las salidas por destino: sector consumidor, otro depósito, devolución a proveedores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Orden de almacenamiento para facilitar la guarda y localización inequívoca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Resumen periódico de movimientos</a:t>
            </a:r>
            <a:r>
              <a:rPr b="1" lang="es-AR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en unidades</a:t>
            </a:r>
            <a:r>
              <a:rPr b="1" lang="es-AR" sz="2500" spc="-1" strike="noStrike">
                <a:solidFill>
                  <a:srgbClr val="ffffff"/>
                </a:solidFill>
                <a:latin typeface="Arial"/>
              </a:rPr>
              <a:t> Y / O </a:t>
            </a: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pesos, por subtotales y totales según lo anterior, e INDIVIDUAL por material.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Simulaciones para proyección o evaluación de alternativa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76F7-79BF-4EF8-AD3E-40BFC2B3EBEA}" type="slidenum">
              <a:t>23</a:t>
            </a:fld>
          </a:p>
        </p:txBody>
      </p:sp>
    </p:spTree>
  </p:cSld>
  <p:transition spd="med"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equerimientos de un sistema de gestión para control de stoc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De la operatividad (Con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ruzamiento con las registraciones de deudas comerciales y de créditos por ven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Existencias en unidades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 Y / O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esos, por subtotales y totales según lo anterior, e INDIVIDUAL por mater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Determinación individual por material de punto máximo, punto mínimo, punto de pedido, punto de reposi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Validación automática del material con el tipo de movimiento y precio consider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Salidas predeterminadas para el sistema de costos, la contabilidad general, el planeamiento y las liquidaciones tributari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8C752-1B3C-4C78-95F8-C702B4FBF35C}" type="slidenum">
              <a:t>24</a:t>
            </a:fld>
          </a:p>
        </p:txBody>
      </p:sp>
    </p:spTree>
  </p:cSld>
  <p:transition spd="med"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equerimientos de un sistema de gestión para control de stoc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81080" y="161136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Del ambiente de contro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Líneas claras de responsabilidad y autoridad, por normas escri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lanificación de volúmenes a almacenar, a ser requeridos por la producción, a entreg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ontroles de cumplimiento de lo planifi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oordinación de todo el circuito de circulación del capital de trabajo, en especial los sectores operativos con el sector de finanz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Seguimiento y control de deshechos, descartes, mermas y materiales o productos rechaz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2F60-636D-4BE1-830C-E5499A467B2C}" type="slidenum">
              <a:t>25</a:t>
            </a:fld>
          </a:p>
        </p:txBody>
      </p:sp>
    </p:spTree>
  </p:cSld>
  <p:transition spd="med"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-2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equerimientos de un sistema de gestión para control de stoc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24000" y="168444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Del ambiente de control (Con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Políticas de seguridad ante sustracciones (acceso restringido al depósito mediante llaves magnéticas, registro de entrada/salida), protección ante siniestros, ante la necesidad de condiciones especiales de almacenami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Movimientos documentados, prenumeración y firma de intervinientes y supervis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Procedimiento de recepción, que incluya control de cantidad y calidad, verificación de órden de compra. Copia al sector de pago a proveedor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B9EAC-5420-44D7-B5A9-B58FA2BF8860}" type="slidenum">
              <a:t>26</a:t>
            </a:fld>
          </a:p>
        </p:txBody>
      </p:sp>
    </p:spTree>
  </p:cSld>
  <p:transition spd="med"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Requerimientos de un sistema de gestión para control de stoc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Del ambiente de control (Cont.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Exhaustivo seguimiento y control de </a:t>
            </a:r>
            <a:r>
              <a:rPr b="1" lang="es-AR" sz="2400" spc="-1" strike="noStrike">
                <a:solidFill>
                  <a:srgbClr val="ffffff"/>
                </a:solidFill>
                <a:latin typeface="Arial"/>
              </a:rPr>
              <a:t>movimientos entre depósitos</a:t>
            </a: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Recuentos físicos, con modalidades acordes a la actividad y naturaleza de los bienes almacenados (rotativos, anual al cierre, anual a otra fecha, estacionalidad) y determinando la frecuencia en base al grado de control interno exist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ontrol de CORTE de la documentación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Separación de funciones de custodia física, recuento físico, registración contable, administración del subsistema, compras, ven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F748-2BDF-4E77-976C-3C5DDB74235A}" type="slidenum">
              <a:t>27</a:t>
            </a:fld>
          </a:p>
        </p:txBody>
      </p:sp>
    </p:spTree>
  </p:cSld>
  <p:transition spd="med"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Qué información puede extraerse de un sistema de inventari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5C0133-CF59-4654-BD7B-B0FC7CE6AC46}" type="slidenum">
              <a:t>28</a:t>
            </a:fld>
          </a:p>
        </p:txBody>
      </p:sp>
    </p:spTree>
  </p:cSld>
  <p:transition spd="med"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-612720" y="-98280"/>
            <a:ext cx="1015344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Qué información puede extraerse de un sistema de inventari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3520" y="1787400"/>
            <a:ext cx="7991280" cy="546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1800" indent="-3618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mpras por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mpras por proveedor o por otro orig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egas por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ntregas por cliente o por otro desti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sumos por materi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sumos por respons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nsumos por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stos por produc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1800" indent="-36180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83F56-9C9C-4CC9-8818-24FA2A160DCD}" type="slidenum">
              <a:t>29</a:t>
            </a:fld>
          </a:p>
        </p:txBody>
      </p:sp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8244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09480" y="105552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437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Comic Sans MS"/>
              </a:rPr>
              <a:t>Introducción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1437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Comic Sans MS"/>
              </a:rPr>
              <a:t>El Costo de no contar con un sistema de cost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80000"/>
              </a:lnSpc>
              <a:spcBef>
                <a:spcPts val="1437"/>
              </a:spcBef>
              <a:buClr>
                <a:srgbClr val="ffff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Comic Sans MS"/>
              </a:rPr>
              <a:t>Desventajas del cálculo del costo por diferencia de inventario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1437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Comic Sans MS"/>
              </a:rPr>
              <a:t>Importancia del control de inventarios. Su impacto sobre la contabilidad y la gestión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1437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Comic Sans MS"/>
              </a:rPr>
              <a:t>Las dificultades más comunes y las fallas más frecuente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1437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Comic Sans MS"/>
              </a:rPr>
              <a:t>Requerimientos de un sistema de gestión para el control de stock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1437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Comic Sans MS"/>
              </a:rPr>
              <a:t>Qué información puede extraerse de un sistema de inventarios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1437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Comic Sans MS"/>
              </a:rPr>
              <a:t>Cómo aprovechar la información del sistema para un control efectivo y eficiente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1437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300" spc="-1" strike="noStrike">
                <a:solidFill>
                  <a:srgbClr val="ffffff"/>
                </a:solidFill>
                <a:latin typeface="Comic Sans MS"/>
              </a:rPr>
              <a:t>Conclusion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60642B-A88D-42CB-9B1D-FB4D8EFD379F}" type="slidenum">
              <a:t>3</a:t>
            </a:fld>
          </a:p>
        </p:txBody>
      </p:sp>
    </p:spTree>
  </p:cSld>
  <p:transition spd="med"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70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Qué información puede extraerse de un sistema de inventarios (Cont)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8088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stos por cl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ostos por zona geográf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Margen de seguridad de stock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Diferencias de eficiencia en el uso de los mater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Inmovilización “on line”: total, por material o producto, por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400" spc="-1" strike="noStrike">
                <a:solidFill>
                  <a:srgbClr val="ffffff"/>
                </a:solidFill>
                <a:latin typeface="Arial"/>
              </a:rPr>
              <a:t>Costo financiero del inventario total, por material o producto, por depósito (tercerización ?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C2A9-93FC-4A00-9B77-57B8C7E07125}" type="slidenum">
              <a:t>30</a:t>
            </a:fld>
          </a:p>
        </p:txBody>
      </p:sp>
    </p:spTree>
  </p:cSld>
  <p:transition spd="med"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ómo aprovechar la información del sistema para un control efectivo y eficie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3EBFFD-CD09-4920-B9A0-9C77ED2AF9DA}" type="slidenum">
              <a:t>31</a:t>
            </a:fld>
          </a:p>
        </p:txBody>
      </p:sp>
    </p:spTree>
  </p:cSld>
  <p:transition spd="med"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124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"/>
              </a:rPr>
              <a:t>Cómo aprovechar la información del sistema para un control efectivo y eficiente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Involucrar a la más alta Dirección en el funcionamiento y uso del sistem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Monitorear permanentemente su funcionamient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Establecer “salidas tipo”, su periodicidad y oportun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3ED3-36F2-4209-8744-1737C2FA35C7}" type="slidenum">
              <a:t>32</a:t>
            </a:fld>
          </a:p>
        </p:txBody>
      </p:sp>
    </p:spTree>
  </p:cSld>
  <p:transition spd="med"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Arial"/>
              </a:rPr>
              <a:t>GARANTIZAR el uso del sistem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Enlazando cada “salida tipo” con una rutina o procedimiento operativo a llevar a cabo en los sectores involucr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Arial"/>
              </a:rPr>
              <a:t>NO GENERANDO información paralela fuera del sistema sobre los elementos que el sistema informa o prove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-252360" y="124920"/>
            <a:ext cx="95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500" spc="-1" strike="noStrike">
                <a:solidFill>
                  <a:srgbClr val="ffffff"/>
                </a:solidFill>
                <a:latin typeface="Arial"/>
              </a:rPr>
              <a:t>Cómo aprovechar la información del sistema para un control efectivo y eficiente (cont.)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DE29-B1D3-4C63-8603-C60C655D1197}" type="slidenum">
              <a:t>33</a:t>
            </a:fld>
          </a:p>
        </p:txBody>
      </p:sp>
    </p:spTree>
  </p:cSld>
  <p:transition spd="med"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5FE87-2511-43E9-91AA-0E801FA51E5D}" type="slidenum">
              <a:t>34</a:t>
            </a:fld>
          </a:p>
        </p:txBody>
      </p:sp>
    </p:spTree>
  </p:cSld>
  <p:transition spd="med"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control de las existencias constituye: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l “comando” con más IMPACTO en los resultados genuinos, 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la fuente de control más importante, para “servirse” a la hora de trazar el camino de una decis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080F-107A-4AD4-BEFF-F60A55FF617E}" type="slidenum">
              <a:t>35</a:t>
            </a:fld>
          </a:p>
        </p:txBody>
      </p:sp>
    </p:spTree>
  </p:cSld>
  <p:transition spd="med">
    <p:zoom dir="ou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 decir que SIN control de las existenci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no se puede contar con un sistema de COSTOS, ento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no se puede contar con un sistema de gestión, ento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no es posible tomar DECIS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fffff"/>
                </a:solidFill>
                <a:latin typeface="Arial"/>
              </a:rPr>
              <a:t>Conclusi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E8C5B-72B6-467B-B044-E24E4A3B3D53}" type="slidenum">
              <a:t>36</a:t>
            </a:fld>
          </a:p>
        </p:txBody>
      </p:sp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33520" y="2361960"/>
            <a:ext cx="82296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</a:rPr>
              <a:t>El costo de no contar con un sistema de costo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B56999-DE44-40BC-BE1C-801B0270886F}" type="slidenum">
              <a:t>4</a:t>
            </a:fld>
          </a:p>
        </p:txBody>
      </p:sp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468360" y="-28440"/>
            <a:ext cx="82296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  <a:ea typeface="Arial"/>
              </a:rPr>
              <a:t>El costo de no contar con un sistema de cos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 conocer los cos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equivale 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NO CONOC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LO QUE SE HACE EN UN ENT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7DB9-45CA-477D-B3AF-1423C0377B99}" type="slidenum">
              <a:t>5</a:t>
            </a:fld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68360" y="331920"/>
            <a:ext cx="82296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  <a:ea typeface="Arial"/>
              </a:rPr>
              <a:t>El costo de no contar con un sistema de cost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2143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Generar información APTA para la toma de decision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¿Cuándo la información es APTA?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Cuando cumple con determinadas CUALIDADES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72240-29E3-4D84-A7EE-DB2706D767E1}" type="slidenum">
              <a:t>6</a:t>
            </a:fld>
          </a:p>
        </p:txBody>
      </p:sp>
    </p:spTree>
  </p:cSld>
  <p:transition spd="med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68360" y="331920"/>
            <a:ext cx="82296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  <a:ea typeface="Arial"/>
              </a:rPr>
              <a:t>El costo de no contar con un sistema de cost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1628280"/>
            <a:ext cx="8229600" cy="543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ributos indiscutible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incidencia razonable con la realidad: esencial, neutral, comple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rensib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stemát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conómic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tinen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erific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portun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f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9B7D-D163-4DEB-B721-C1ACFEFFE593}" type="slidenum">
              <a:t>7</a:t>
            </a:fld>
          </a:p>
        </p:txBody>
      </p:sp>
    </p:spTree>
  </p:cSld>
  <p:transition spd="med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468360" y="331920"/>
            <a:ext cx="8229600" cy="144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fffff"/>
                </a:solidFill>
                <a:latin typeface="Arial"/>
                <a:ea typeface="Arial"/>
              </a:rPr>
              <a:t>El costo de no contar con un sistema de costo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468360" y="1666800"/>
            <a:ext cx="8229600" cy="26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s decir que NO se puede disponer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 información APT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 no se dispone d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formación sobre los COST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3852720"/>
            <a:ext cx="82087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 costo de no conocer los costos es casi INFIN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hay límites para cuantificar el costo 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RDER UNA DECISIÓN ALTERNA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1696-42D9-4C79-98F1-D7C922AE8EEC}" type="slidenum">
              <a:t>8</a:t>
            </a:fld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333399"/>
            </a:gs>
            <a:gs pos="100000">
              <a:srgbClr val="106fe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ffffff"/>
                </a:solidFill>
                <a:latin typeface="Arial"/>
              </a:rPr>
              <a:t>Desventajas del cálculo del costo por diferencia de inventari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FE04A8-3DEA-4461-82A3-478D6B7FB898}" type="slidenum">
              <a:t>9</a:t>
            </a:fld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21:22:58Z</dcterms:created>
  <dc:creator>Pablo Wagner</dc:creator>
  <dc:description/>
  <dc:language>en-US</dc:language>
  <cp:lastModifiedBy>CONT</cp:lastModifiedBy>
  <cp:lastPrinted>2006-07-18T16:14:02Z</cp:lastPrinted>
  <dcterms:modified xsi:type="dcterms:W3CDTF">2006-07-19T21:16:11Z</dcterms:modified>
  <cp:revision>6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75677981</vt:r8>
  </property>
  <property fmtid="{D5CDD505-2E9C-101B-9397-08002B2CF9AE}" pid="3" name="_AuthorEmail">
    <vt:lpwstr>pwagner@cponline.org.ar</vt:lpwstr>
  </property>
  <property fmtid="{D5CDD505-2E9C-101B-9397-08002B2CF9AE}" pid="4" name="_AuthorEmailDisplayName">
    <vt:lpwstr>Pablo D. Wagner</vt:lpwstr>
  </property>
  <property fmtid="{D5CDD505-2E9C-101B-9397-08002B2CF9AE}" pid="5" name="_EmailSubject">
    <vt:lpwstr>otro sí</vt:lpwstr>
  </property>
</Properties>
</file>