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37A7-B248-49CE-8099-71BBB0D8C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A475-6B21-4942-8EB4-B320B05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0280-AFE6-462E-AEFD-362EE04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C9E5-D777-43AD-92C0-D36088A01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B3A3-57FB-4F96-8CC7-8847CB05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60A5-270F-4C4F-BD3A-A5DD840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8904-883B-44CD-B238-7508195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0342-BAC5-4054-A029-BFE6DF7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D251-19D6-47E0-A9A5-5165C41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2A25-EF02-4D60-A37F-08CA1DEA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7159-4A09-4987-BA7B-8D5619A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F6F1-EC87-4574-AAF6-F53881E2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4196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FA14-9EDE-41F0-8A1A-C8170F06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1989000"/>
            <a:ext cx="684360" cy="1900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3860640"/>
            <a:ext cx="684360" cy="2997360"/>
          </a:xfrm>
          <a:prstGeom prst="rect">
            <a:avLst/>
          </a:prstGeom>
          <a:gradFill rotWithShape="0">
            <a:gsLst>
              <a:gs pos="0">
                <a:srgbClr val="15a0ff">
                  <a:alpha val="89019"/>
                </a:srgbClr>
              </a:gs>
              <a:gs pos="100000">
                <a:srgbClr val="1289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684360" cy="1989000"/>
          </a:xfrm>
          <a:prstGeom prst="rect">
            <a:avLst/>
          </a:prstGeom>
          <a:gradFill rotWithShape="0">
            <a:gsLst>
              <a:gs pos="0">
                <a:srgbClr val="1289db"/>
              </a:gs>
              <a:gs pos="100000">
                <a:srgbClr val="15a0ff">
                  <a:alpha val="8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99692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INANCIACION AGROPECU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1480" y="3456000"/>
            <a:ext cx="638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Fideicomisos Agropecuarios y SG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45336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xposición de la Dra. M. Susana Paz de Massone, C.P.C.E., 16 de Agosto d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067280" y="558720"/>
            <a:ext cx="4608360" cy="76032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708120"/>
            <a:ext cx="849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99"/>
                </a:solidFill>
                <a:latin typeface="Arial"/>
              </a:rPr>
              <a:t>Participantes del Fideicomiso Agropecuario 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8651520" y="384156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832400" y="1159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3643200"/>
            <a:ext cx="432000" cy="290520"/>
          </a:xfrm>
          <a:prstGeom prst="rightArrow">
            <a:avLst>
              <a:gd name="adj1" fmla="val 50000"/>
              <a:gd name="adj2" fmla="val 3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2276640"/>
            <a:ext cx="1584360" cy="1049040"/>
          </a:xfrm>
          <a:prstGeom prst="downArrowCallout">
            <a:avLst>
              <a:gd name="adj1" fmla="val 37761"/>
              <a:gd name="adj2" fmla="val 37757"/>
              <a:gd name="adj3" fmla="val 16667"/>
              <a:gd name="adj4" fmla="val 6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duc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ymes seleccio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3645000"/>
            <a:ext cx="1468440" cy="530280"/>
          </a:xfrm>
          <a:prstGeom prst="flowChartDocument">
            <a:avLst/>
          </a:prstGeom>
          <a:solidFill>
            <a:srgbClr val="abb3d5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70080" y="3618000"/>
            <a:ext cx="1141560" cy="45864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2205000"/>
            <a:ext cx="2016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nanci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administra  bienes fideicomiti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321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267080"/>
            <a:ext cx="1295280" cy="1393920"/>
          </a:xfrm>
          <a:custGeom>
            <a:avLst/>
            <a:gdLst>
              <a:gd name="textAreaLeft" fmla="*/ 0 w 1295280"/>
              <a:gd name="textAreaRight" fmla="*/ 1295640 w 1295280"/>
              <a:gd name="textAreaTop" fmla="*/ 348480 h 1393920"/>
              <a:gd name="textAreaBottom" fmla="*/ 104544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734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dores del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1628640"/>
            <a:ext cx="57610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G.R.: Organizador, avalista y operador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242100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4720" y="3573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3964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55640" y="378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4292640"/>
            <a:ext cx="1224000" cy="84276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tulos de deuda con oferta  púb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589720"/>
            <a:ext cx="1216080" cy="34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443640" y="508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9080" y="595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(Beneficiar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488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tras de Camb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mitidas en dólares por los Fiduciantes a su orden y avaladas por la S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Las Pymes Seleccionadas ceden  al Fiduciario la propiedad fiduciaria de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éditos sobre los “Boletos” por los “commodities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roducir y/o a cosec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El Exportador, cede en garantía al Fiduciario, la propiedad fiduciaria de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turas Cobranzas de Expor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El Acopiador/exportador librará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garé en dóla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 la vista y sin protesto, a favor del Fiduciario por cada uno de los Boletos cedidos, luego de recibir de las Pymes Seleccionadas la cantidad de producto comprometido en los Boletos resp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2240" y="907920"/>
            <a:ext cx="69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escripción de los bienes fideicomit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92880" y="1159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7280" y="5222520"/>
            <a:ext cx="7129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Los Fiduciantes (las PyMEs Seleccionadas) libran letras de cambio a la vista, en dólares estadounidenses, a su or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Las letras de cambio son avaladas por la SG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 El Fiduciario y los Fiduciantes constituyen el Fideicomiso que se integra con las Letras de Cambio emitidas por los Fiduciantes a su orden, aceptadas y garantizadas por la SGR, por el saldo de capital mas intere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El Fiduciario emite Títulos de Deuda a los efectos de ser colocados por Oferta Públ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Se colocan los Títulos de Deuda por Oferta Pública entre inversores y con el producido de la misma se les desembolsa el dinero a las PyMEs para financiar las cosechas de los productos que se exportarán a través de un Exporta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2760" y="548640"/>
            <a:ext cx="549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ctr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Descripción gráfica del 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4840" y="1124640"/>
            <a:ext cx="71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tapa 1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: Adquisición de títulos de deuda emitidos por el Fideicomi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1920" y="288756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2760" y="1159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4720" y="380196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177336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250668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1909800"/>
            <a:ext cx="1554480" cy="914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ítulos de deuda con oferta 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860640"/>
            <a:ext cx="1368720" cy="86544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Letras de cambio)     PyMes Garantiz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2852640"/>
            <a:ext cx="1944720" cy="72072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ien fideicomi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icial (dine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35600" y="4006800"/>
            <a:ext cx="1797120" cy="574560"/>
          </a:xfrm>
          <a:prstGeom prst="leftArrowCallout">
            <a:avLst>
              <a:gd name="adj1" fmla="val 25002"/>
              <a:gd name="adj2" fmla="val 25000"/>
              <a:gd name="adj3" fmla="val 52130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G.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3357720"/>
            <a:ext cx="1216080" cy="34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3932280"/>
            <a:ext cx="2158920" cy="720720"/>
          </a:xfrm>
          <a:prstGeom prst="rightArrowCallout">
            <a:avLst>
              <a:gd name="adj1" fmla="val 25002"/>
              <a:gd name="adj2" fmla="val 25000"/>
              <a:gd name="adj3" fmla="val 49925"/>
              <a:gd name="adj4" fmla="val 6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DUCIANTES P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eccionada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27960" y="4292640"/>
            <a:ext cx="860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guimiento Oper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7960" y="3860640"/>
            <a:ext cx="8604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valúa riesgo Py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81600" y="2060640"/>
            <a:ext cx="11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948360" y="2827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371628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08880" y="4724280"/>
            <a:ext cx="87948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cibe contragarnt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68640" y="2276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276640"/>
            <a:ext cx="274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274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endCxn id="150" idx="0"/>
          </p:cNvCxnSpPr>
          <p:nvPr/>
        </p:nvCxnSpPr>
        <p:spPr>
          <a:xfrm flipV="1" rot="10800000">
            <a:off x="1907280" y="2204640"/>
            <a:ext cx="1656720" cy="172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2" idx="1"/>
          </p:cNvCxnSpPr>
          <p:nvPr/>
        </p:nvCxnSpPr>
        <p:spPr>
          <a:xfrm flipV="1">
            <a:off x="6732360" y="4022280"/>
            <a:ext cx="795960" cy="272160"/>
          </a:xfrm>
          <a:prstGeom prst="bentConnector3">
            <a:avLst>
              <a:gd name="adj1" fmla="val 498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48" idx="1"/>
            <a:endCxn id="151" idx="1"/>
          </p:cNvCxnSpPr>
          <p:nvPr/>
        </p:nvCxnSpPr>
        <p:spPr>
          <a:xfrm>
            <a:off x="6732360" y="4293720"/>
            <a:ext cx="795960" cy="180360"/>
          </a:xfrm>
          <a:prstGeom prst="bentConnector3">
            <a:avLst>
              <a:gd name="adj1" fmla="val 498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48" idx="2"/>
            <a:endCxn id="156" idx="1"/>
          </p:cNvCxnSpPr>
          <p:nvPr/>
        </p:nvCxnSpPr>
        <p:spPr>
          <a:xfrm>
            <a:off x="6732720" y="4293720"/>
            <a:ext cx="776880" cy="623160"/>
          </a:xfrm>
          <a:prstGeom prst="bentConnector3">
            <a:avLst>
              <a:gd name="adj1" fmla="val 498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6" idx="0"/>
            <a:endCxn id="147" idx="4"/>
          </p:cNvCxnSpPr>
          <p:nvPr/>
        </p:nvCxnSpPr>
        <p:spPr>
          <a:xfrm flipV="1">
            <a:off x="4176360" y="3573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 flipV="1">
            <a:off x="414036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7080" y="1557360"/>
            <a:ext cx="1006200" cy="4572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7080" y="2062080"/>
            <a:ext cx="1006200" cy="384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2349360"/>
            <a:ext cx="1096920" cy="5479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24400" y="1434600"/>
            <a:ext cx="64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tapa 2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: Entrega del producto al exportador y su posterior embarqu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233680"/>
            <a:ext cx="684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Las PyMEs Seleccionadas y el Exportador firman los Boletos de Compraventa de Cereales, Oleaginosos y demás productos de la Agricultu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Las PyMEs Seleccionadas ceden las cobranzas provenientes de los Boletos al Fiduciari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omo medio de repago alternativo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El Exportador embarca el producto a exportar cuyas cobranzas de exportación son cedidas en garantía al Fiduciario por el Contrato de Ces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3844800"/>
            <a:ext cx="274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83076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417672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3240000"/>
            <a:ext cx="1871640" cy="647640"/>
          </a:xfrm>
          <a:prstGeom prst="rightArrowCallout">
            <a:avLst>
              <a:gd name="adj1" fmla="val 25002"/>
              <a:gd name="adj2" fmla="val 25000"/>
              <a:gd name="adj3" fmla="val 48166"/>
              <a:gd name="adj4" fmla="val 6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313080"/>
            <a:ext cx="1295280" cy="601560"/>
          </a:xfrm>
          <a:prstGeom prst="leftArrowCallout">
            <a:avLst>
              <a:gd name="adj1" fmla="val 25002"/>
              <a:gd name="adj2" fmla="val 25000"/>
              <a:gd name="adj3" fmla="val 35887"/>
              <a:gd name="adj4" fmla="val 66673"/>
            </a:avLst>
          </a:prstGeom>
          <a:solidFill>
            <a:srgbClr val="ff71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4583160"/>
            <a:ext cx="1006560" cy="457200"/>
          </a:xfrm>
          <a:prstGeom prst="rect">
            <a:avLst/>
          </a:prstGeom>
          <a:solidFill>
            <a:srgbClr val="ff71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portador del 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48440" y="3340080"/>
            <a:ext cx="1555920" cy="54936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ranzas de expor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44800" y="4537080"/>
            <a:ext cx="1555920" cy="547560"/>
          </a:xfrm>
          <a:prstGeom prst="flowChartTermina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Producto a expor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3038400"/>
            <a:ext cx="1513080" cy="116532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leto de Compraventa de Cereales, Oleaginosos y demás productos de la Agricultu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90800"/>
            <a:ext cx="1006560" cy="4572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496960"/>
            <a:ext cx="1006560" cy="384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0" idx="0"/>
            <a:endCxn id="182" idx="1"/>
          </p:cNvCxnSpPr>
          <p:nvPr/>
        </p:nvCxnSpPr>
        <p:spPr>
          <a:xfrm flipH="1" flipV="1" rot="5400000">
            <a:off x="4127040" y="2306160"/>
            <a:ext cx="349920" cy="111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5" idx="0"/>
            <a:endCxn id="179" idx="1"/>
          </p:cNvCxnSpPr>
          <p:nvPr/>
        </p:nvCxnSpPr>
        <p:spPr>
          <a:xfrm flipH="1" rot="16200000">
            <a:off x="1879200" y="3746880"/>
            <a:ext cx="924840" cy="12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3"/>
            <a:endCxn id="176" idx="0"/>
          </p:cNvCxnSpPr>
          <p:nvPr/>
        </p:nvCxnSpPr>
        <p:spPr>
          <a:xfrm flipV="1">
            <a:off x="4500720" y="3914280"/>
            <a:ext cx="864000" cy="89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6372360" y="3240000"/>
            <a:ext cx="274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3960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4824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8" idx="2"/>
            <a:endCxn id="176" idx="1"/>
          </p:cNvCxnSpPr>
          <p:nvPr/>
        </p:nvCxnSpPr>
        <p:spPr>
          <a:xfrm rot="10800000">
            <a:off x="5795280" y="3614040"/>
            <a:ext cx="12531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6" idx="2"/>
            <a:endCxn id="182" idx="2"/>
          </p:cNvCxnSpPr>
          <p:nvPr/>
        </p:nvCxnSpPr>
        <p:spPr>
          <a:xfrm flipV="1" rot="16200000">
            <a:off x="5146920" y="3095640"/>
            <a:ext cx="43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 flipV="1">
            <a:off x="7812000" y="3960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2720" y="4437000"/>
            <a:ext cx="274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8720" y="234792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44920" y="862920"/>
            <a:ext cx="639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ctr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Descripción gráfica del proceso </a:t>
            </a:r>
            <a:r>
              <a:rPr b="0" lang="es-AR" sz="22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4400" y="18720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66405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2995560"/>
            <a:ext cx="274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4437000"/>
            <a:ext cx="27432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14842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tapa 3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: Cobro de la exportación, liquidación de divisas y rescate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títulos de deuda emitidos por el Fideic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8920" y="862920"/>
            <a:ext cx="639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ctr" pos="262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Descripción gráfica del proceso </a:t>
            </a:r>
            <a:r>
              <a:rPr b="0" lang="es-AR" sz="22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7120" y="1159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9080" y="4941720"/>
            <a:ext cx="7272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El importador del exterior deposita en la cuenta indicada por el Exportador, el pago de las Cobranzas de Exportación Cedidas al fideicomis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El Exportador realiza las operaciones necesarias para ingresar las divisas provenientes del pago de las Cobranzas de Exportación Cedidas, y cierra cambio, comunicando a las entidades financieras intervinientes que el producido en pesos, provenientes de dicho ingreso de divisas y operación de cambio, ha sido cedido en pago al Fiduciar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. Con el dinero obtenido, el Fiduciario cancela los Títulos de Deuda en su equivalente a moneda nacional al tipo de cambio aplicado a las liquidaciones de las Cobranzas de Exportación Cedi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313524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371628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3427560"/>
            <a:ext cx="27468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3440" y="4076640"/>
            <a:ext cx="1006560" cy="457200"/>
          </a:xfrm>
          <a:prstGeom prst="rect">
            <a:avLst/>
          </a:prstGeom>
          <a:solidFill>
            <a:srgbClr val="ff71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portador del 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01920" y="2492280"/>
            <a:ext cx="1019160" cy="503280"/>
          </a:xfrm>
          <a:prstGeom prst="rect">
            <a:avLst/>
          </a:prstGeom>
          <a:solidFill>
            <a:srgbClr val="ff71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932280"/>
            <a:ext cx="1096920" cy="5475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371628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2906640" y="2995200"/>
            <a:ext cx="1440360" cy="41652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4356000" y="2492280"/>
            <a:ext cx="1081080" cy="50328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6000" y="3139920"/>
            <a:ext cx="1079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2276640"/>
            <a:ext cx="1216080" cy="34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2779560"/>
            <a:ext cx="1225800" cy="69084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ítulos de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87280" y="3139920"/>
            <a:ext cx="1268640" cy="46044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branzas de export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0"/>
            <a:endCxn id="207" idx="1"/>
          </p:cNvCxnSpPr>
          <p:nvPr/>
        </p:nvCxnSpPr>
        <p:spPr>
          <a:xfrm flipH="1" flipV="1" rot="5400000">
            <a:off x="1914120" y="2652120"/>
            <a:ext cx="3960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 flipV="1">
            <a:off x="1836720" y="364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2" idx="2"/>
            <a:endCxn id="208" idx="2"/>
          </p:cNvCxnSpPr>
          <p:nvPr/>
        </p:nvCxnSpPr>
        <p:spPr>
          <a:xfrm flipH="1" rot="16200000">
            <a:off x="4956120" y="3510720"/>
            <a:ext cx="635760" cy="757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8" idx="6"/>
            <a:endCxn id="214" idx="2"/>
          </p:cNvCxnSpPr>
          <p:nvPr/>
        </p:nvCxnSpPr>
        <p:spPr>
          <a:xfrm flipV="1">
            <a:off x="6749640" y="3416040"/>
            <a:ext cx="594360" cy="79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457200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82400" y="836280"/>
            <a:ext cx="63579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Mecanismo de repa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20184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hubiera un evento cambiario o imposibilidad de exportar, existen medios alternativos de repago a los inversores. Para lo cual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Fiduciario deberá gestionar  el cobr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éditos Ced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tras de Camb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valadas po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G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volucrada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garé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rado por el Acopiador/Expor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9080" y="1989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incipal fuente de repago de los V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Títulos de deuda) son l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branzas de Exportación Cedi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4040" y="1825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6360" y="907920"/>
            <a:ext cx="5543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99"/>
                </a:solidFill>
                <a:latin typeface="Arial"/>
              </a:rPr>
              <a:t>Régimen imposi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tratarse de un fideicomiso financiero co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ferta públ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se pod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Deducir las Utilidades provenientes del fideicomiso en año fiscal que correspo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Deducir la ganancia de los intereses abonados a los inversores de los Títu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 Exceptuar del Impuesto sobre los Débitos y Créditos en Cta. Cte. Bancaria, a las cuentas utilizadas en forma exclusiva, para el desarrollo específico de su a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) Las operaciones financieras relativas a la emisión, colocación , transferencia, amortización, intereses y cancelación de los Títulos,  están exentas  del I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92880" y="182520"/>
            <a:ext cx="549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4360" y="442800"/>
            <a:ext cx="79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II. Sociedades de Garantía Recípro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134136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33399"/>
                </a:solidFill>
                <a:latin typeface="Arial"/>
              </a:rPr>
              <a:t>Qué es una S.G.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2435400"/>
            <a:ext cx="7129440" cy="2288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Sociedades de Garantía Recípro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SGR) son un nuevo tipo societario regulado por la Ley 24.467, cuyo órgano de contralor es la Subsecretaría de la Pequeña y Mediana Empresa (SEPY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torgar garantí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faciliten el acceso al crédito y el desarrollo de otros proyectos productivos de l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y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Socios Partícipes). Además brindan asesoramiento técnico, económico y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71640" y="1852560"/>
            <a:ext cx="7559640" cy="28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6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ilita el acceso al crédito a los Socios Partícipes (Py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6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orga garantías por el cumplimiento de obligaciones de los socios participes (Py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6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jora el riesgo credit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6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e sensiblemente los costos de financi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112536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33399"/>
                </a:solidFill>
                <a:latin typeface="Arial"/>
              </a:rPr>
              <a:t>Ventajas de una SG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40000" y="105264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Tipos de S.G.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1628640"/>
            <a:ext cx="2592360" cy="338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e5e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76360" y="2058120"/>
            <a:ext cx="2232000" cy="2378880"/>
            <a:chOff x="1476360" y="2058120"/>
            <a:chExt cx="2232000" cy="2378880"/>
          </a:xfrm>
        </p:grpSpPr>
        <p:sp>
          <p:nvSpPr>
            <p:cNvPr id="241" name=""/>
            <p:cNvSpPr/>
            <p:nvPr/>
          </p:nvSpPr>
          <p:spPr>
            <a:xfrm>
              <a:off x="2013120" y="205812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Arial"/>
                </a:rPr>
                <a:t>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6360" y="2492280"/>
              <a:ext cx="2232000" cy="19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miten el acceso a cualquier PyME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92720" y="1700280"/>
            <a:ext cx="2809800" cy="33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e5e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53760" y="206064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Cer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492280"/>
            <a:ext cx="2521080" cy="19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valan a PyMEs que están relacionadas con la cadena de valor del socio pro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980720" y="907560"/>
            <a:ext cx="57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)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deicomiso, Ley 24.441………………………………………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cepto de Securitización…………………………………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ticipantes en un fideicomiso……………………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ctivos securitizables…………………………………………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os de estructura: Bono Senior, Bono Junior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quemas básicos de amortización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. Aspectos particulares de los Fideicomisos Agropec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ticipantes…………………………………………………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cripción de los bienes fideicomitidos…………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cripción de las etapas del proceso……………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canismo de repago…………………………………………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égimen impositivo……………………………………………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é es una SGR…………………………….………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entajas………………………………………………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ipos de SGR ……………………………………………………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ndo de Riesgo …………………………………..……………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ipos de garantías ……………………………...………………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ómina de SGR autorizadas …………………..………………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cios Partícipes (Pymes) clasificación………………………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GR como instrumento en el sector agropecuario………......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89000"/>
            <a:ext cx="244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8920" y="65246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71640" y="1701720"/>
            <a:ext cx="806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ociedad administra u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ndo de Riesg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stituido por los aportes de los Socios Protectores, cuya función es la cobertura de las garantías otorgadas a los Socios Partícipes.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Fondo de Riesgo se compone con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porte de los Socios Protector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ndimientos de la Inversión del propio Fondo de Riesg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cupero de las garantías abonada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asignaciones de los resultados de la sociedad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aciones priv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86364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99"/>
                </a:solidFill>
                <a:latin typeface="Arial"/>
              </a:rPr>
              <a:t>Fondo de Ries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57080" y="1889280"/>
            <a:ext cx="77756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spcAft>
                <a:spcPts val="1576"/>
              </a:spcAft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otorgar 3 tipos de Garantías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10000"/>
              </a:lnSpc>
              <a:spcBef>
                <a:spcPts val="1349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inancieras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facilitar el acceso a créditos en el mercado financiero y de capi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10000"/>
              </a:lnSpc>
              <a:spcBef>
                <a:spcPts val="1349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8c8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omerciales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valan el cumplimiento de operaciones comerciales ante terceros (proveedo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10000"/>
              </a:lnSpc>
              <a:spcBef>
                <a:spcPts val="1349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8c8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écnicas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vales relacionados al cumplimiento de garantías otorgadas por los socios partici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7800" y="907920"/>
            <a:ext cx="345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Tipos de Garantía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87280" y="1894320"/>
            <a:ext cx="73454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349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24 SGRs autorizadas actualmente por la SEPYME para op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incipal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306864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GR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cio Pro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rantizar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nco Nación, Bco. Ciudad y 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uar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ar Arg.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yme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robras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aval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itera General Deheza (A.G.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roaval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nco Macro 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anzar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tellone Hnos.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zul Pyme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nco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rantía de Valores           Caj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836640"/>
            <a:ext cx="53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33399"/>
                </a:solidFill>
                <a:latin typeface="Arial"/>
              </a:rPr>
              <a:t>Nómina de SGRs autoriz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26920" y="1719360"/>
            <a:ext cx="784872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90000"/>
              </a:lnSpc>
              <a:spcBef>
                <a:spcPts val="1349"/>
              </a:spcBef>
              <a:spcAft>
                <a:spcPts val="15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SGRs que registran operaciones de financiamiento estructurado con oferta pública son la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RANTIZAR SG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21 operaciones ($ 199 mill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GROAVAL SG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2 operaciones ($ 38 millo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RANTÍA DE VALORES SG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2 operaciones ($ 39 mill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VAL RURAL SG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2 operaciones ($ 28 mill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ROBO SG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2 operaciones ($ 11 mill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990000"/>
              </a:buClr>
              <a:buFont typeface="Wingdings" charset="2"/>
              <a:buChar char="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ólo dos SGRs están inscriptas y supervisadas por el B.C.R.A, por ende, sus avales son clasificados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rantía Preferida “A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Trebuchet MS"/>
              </a:rPr>
              <a:t>GARANTIZAR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6303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Trebuchet MS"/>
              </a:rPr>
              <a:t>GARANTIA DE VALORES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19280" y="83664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333399"/>
                </a:solidFill>
                <a:latin typeface="Arial"/>
              </a:rPr>
              <a:t>Nómina de SGRs autorizada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620720" y="1916280"/>
            <a:ext cx="60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Calificación PyMEs según criterios de la SEP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00000" y="2708280"/>
          <a:ext cx="8064360" cy="2041200"/>
        </p:xfrm>
        <a:graphic>
          <a:graphicData uri="http://schemas.openxmlformats.org/drawingml/2006/table">
            <a:tbl>
              <a:tblPr/>
              <a:tblGrid>
                <a:gridCol w="961920"/>
                <a:gridCol w="1505160"/>
                <a:gridCol w="1352520"/>
                <a:gridCol w="1353960"/>
                <a:gridCol w="1352520"/>
                <a:gridCol w="1538280"/>
              </a:tblGrid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PO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GROPECU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DUSTRIA 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NE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MER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STRU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IC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27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9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1.8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45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4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EQU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1.8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5.4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10.8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3.24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2.5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E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10.8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43.2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86.4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21.6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$20.000.0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1116000" y="508464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* Ventas Anu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79640" y="620640"/>
            <a:ext cx="71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SOCIOS PARTICI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Acciones Clase A (PyM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55640" y="1004760"/>
            <a:ext cx="77770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ciedades de Garantía Recípro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o instrumento en el sector agropec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74920" y="2345040"/>
            <a:ext cx="619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instrumentos financieros avalados por las SGR, que facilitan el financiamiento a través de la Bolsa de Comer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deicomisos Financieros con Ofert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 Negoc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88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ques de Pago Diferido Ava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78640" y="189000"/>
            <a:ext cx="33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I) Sociedades de Garantía Recíp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656892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28420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53080"/>
            <a:ext cx="25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16 de Agosto d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7640" y="2157480"/>
            <a:ext cx="604872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fideicomiso implica la </a:t>
            </a: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transferencia de un dominio a una tercera person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sólo a título de confianza (fiducia),  porque se entiende que esta persona cumplirá el encargo encomendado por quien le transmite l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210200"/>
            <a:ext cx="6408720" cy="1739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abrá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ideicomis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cuando una persona (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fiduciante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) transmita la propiedad fiduciaria de bienes determinados a otra (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), quien se obliga a ejercerla en beneficio de quien se designe en el contrato (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beneficiari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) y a transmitirlo a cumplimiento de un plazo o condición al fiduciante, al beneficiario o al fideicomisari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6000" y="3722760"/>
            <a:ext cx="156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ey 24.4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37280" y="1584360"/>
            <a:ext cx="221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Fideicom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9480" y="98100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. Conceptos básicos del Fideicomiso Financ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266760"/>
            <a:ext cx="68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I. Fideicomisos Agropecuar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6453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2421000"/>
            <a:ext cx="7848720" cy="172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proceso de financiamient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que consiste en agrupar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activos presentes o futur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, homogéneos o de similares característic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 fin d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tilizar el producido de sus flujos o garantizar con los mismos, el repago de  los intereses y del capital de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títulos - valore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colocados en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oferta públic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privad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6920" y="1557360"/>
            <a:ext cx="50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99"/>
                </a:solidFill>
                <a:latin typeface="Arial"/>
              </a:rPr>
              <a:t>Concepto de Securit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2720" y="100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56000" y="558720"/>
            <a:ext cx="4608720" cy="76032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12682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"/>
              </a:rPr>
              <a:t>Participantes del Fideicom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50120" y="3500280"/>
            <a:ext cx="1039680" cy="1079640"/>
          </a:xfrm>
          <a:prstGeom prst="downArrowCallout">
            <a:avLst>
              <a:gd name="adj1" fmla="val 25002"/>
              <a:gd name="adj2" fmla="val 25000"/>
              <a:gd name="adj3" fmla="val 17307"/>
              <a:gd name="adj4" fmla="val 6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loc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645000"/>
            <a:ext cx="431640" cy="290520"/>
          </a:xfrm>
          <a:prstGeom prst="rightArrow">
            <a:avLst>
              <a:gd name="adj1" fmla="val 50000"/>
              <a:gd name="adj2" fmla="val 371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2637000"/>
            <a:ext cx="1513080" cy="688680"/>
          </a:xfrm>
          <a:prstGeom prst="downArrowCallout">
            <a:avLst>
              <a:gd name="adj1" fmla="val 54932"/>
              <a:gd name="adj2" fmla="val 54927"/>
              <a:gd name="adj3" fmla="val 16667"/>
              <a:gd name="adj4" fmla="val 6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duc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9440" y="3573360"/>
            <a:ext cx="1468440" cy="530280"/>
          </a:xfrm>
          <a:prstGeom prst="flowChartDocument">
            <a:avLst/>
          </a:prstGeom>
          <a:solidFill>
            <a:srgbClr val="abb3d5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5520" y="3573360"/>
            <a:ext cx="1141560" cy="4590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573360"/>
            <a:ext cx="1488960" cy="5065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ÍT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5440" y="2708280"/>
            <a:ext cx="1081080" cy="463680"/>
          </a:xfrm>
          <a:prstGeom prst="flowChartPunchedCar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alificad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Ries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2708280"/>
            <a:ext cx="1203120" cy="51588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gente de Registro y 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9440" y="2708280"/>
            <a:ext cx="1441440" cy="43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1440" y="4437000"/>
            <a:ext cx="1079640" cy="865080"/>
          </a:xfrm>
          <a:prstGeom prst="flowChartDecision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NV / BC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4437000"/>
            <a:ext cx="1152720" cy="863640"/>
          </a:xfrm>
          <a:prstGeom prst="flowChartDecision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sesor Le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/>
          <p:nvPr/>
        </p:nvCxnSpPr>
        <p:spPr>
          <a:xfrm>
            <a:off x="8940600" y="384156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74" name=""/>
          <p:cNvSpPr/>
          <p:nvPr/>
        </p:nvSpPr>
        <p:spPr>
          <a:xfrm>
            <a:off x="7165800" y="4869000"/>
            <a:ext cx="13687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ctr" anchorCtr="1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5080" y="3645000"/>
            <a:ext cx="398520" cy="287280"/>
          </a:xfrm>
          <a:prstGeom prst="rightArrow">
            <a:avLst>
              <a:gd name="adj1" fmla="val 50000"/>
              <a:gd name="adj2" fmla="val 34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645000"/>
            <a:ext cx="398160" cy="287280"/>
          </a:xfrm>
          <a:prstGeom prst="rightArrow">
            <a:avLst>
              <a:gd name="adj1" fmla="val 50000"/>
              <a:gd name="adj2" fmla="val 346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32130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300720" y="328464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5080" y="4149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924360" y="4149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30160" y="11592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7440" y="5373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Benefici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1125360"/>
            <a:ext cx="3673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ones de tarj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ntas a cob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j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31305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Activos   securitiz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765000"/>
            <a:ext cx="792000" cy="5400720"/>
          </a:xfrm>
          <a:custGeom>
            <a:avLst/>
            <a:gdLst>
              <a:gd name="textAreaLeft" fmla="*/ 506160 w 792000"/>
              <a:gd name="textAreaRight" fmla="*/ 792360 w 792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11592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5689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84360" y="90792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Conceptos de estru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720" y="27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no 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687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Bono Ju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6840"/>
            <a:ext cx="54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el título con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yor calidad crediti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incipalmente distribuido entre los invers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4448160"/>
            <a:ext cx="5472000" cy="9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el aforo / protección de la emisión. Se encuentr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ordinado al Bono Sen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 inversor natural es el que origina los créd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8560" y="180828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 dos tipos de B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2720" y="100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0000" y="2018160"/>
            <a:ext cx="482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quemas básicos de amor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3440" y="3629160"/>
            <a:ext cx="2951280" cy="18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clases subordinadas no cobran hasta que la clase Senior no es totalmente cancelada (capital e intere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9800" y="3643200"/>
            <a:ext cx="2951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ari Pas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s las clases cobran al mismo tiempo en forma proporcional a su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3176640" y="2053440"/>
            <a:ext cx="1208880" cy="194400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5077440" y="2095200"/>
            <a:ext cx="1222920" cy="187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56000" y="93492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Conceptos de estru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11592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) A. Conceptos básicos del Fideicomiso 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0560" y="2205000"/>
            <a:ext cx="80294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s Pymes seleccionadas, productoras de los cereales y proveedoras habituales del expor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ganizador, Avalis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Operador Técn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.G.R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volucr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duciario Financie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Banco o entidad que administra los bienes fideicomi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ortad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fectuará el acopio de los cereales y exportará los bienes fideicomitidos a los destinatarios finales (importadores del exterior). Una vez recibido el pago, se obliga a rendir las Cobranzas de Exportación Cedidas en dólares estadounidenses a través de la aplicación de las divisas originadas en dichas cobran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1880" y="981000"/>
            <a:ext cx="75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Participantes del Fideicomiso Agropec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9640" y="26028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. Aspectos particulares de los Fideicomisos Agropecu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65689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8:52:00Z</dcterms:created>
  <dc:creator>Angie Massone</dc:creator>
  <dc:description/>
  <dc:language>en-US</dc:language>
  <cp:lastModifiedBy>Thelma Karen Stretcu</cp:lastModifiedBy>
  <dcterms:modified xsi:type="dcterms:W3CDTF">2006-08-18T19:34:05Z</dcterms:modified>
  <cp:revision>37</cp:revision>
  <dc:subject/>
  <dc:title>Diapositiva 1</dc:title>
</cp:coreProperties>
</file>