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405d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40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405d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50000">
                  <a:srgbClr val="fc98a8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e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-380880" y="609588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352000" y="64879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CE2-A423-479D-A646-0E9A3A6AA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405d"/>
                </a:solidFill>
                <a:latin typeface="Times New Roman"/>
              </a:rPr>
              <a:t>NOVEDADES SOBRE EL SICAM</a:t>
            </a:r>
            <a:endParaRPr b="0" lang="en-US" sz="4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ORATOR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11160" y="5432400"/>
            <a:ext cx="636984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jo Profesional de Ciencias Económica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udad Autónoma de Buen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i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9880" y="48006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 de Agost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04920" y="3733920"/>
            <a:ext cx="31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ra. Silvia Alz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151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5405d"/>
                </a:solidFill>
                <a:latin typeface="Arial"/>
              </a:rPr>
              <a:t>Ley 24.476 – Reglamentada por Decreto 1454-05 y RG 2017-06 AFIP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lan es de carácter perman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olida deuda al 30-09-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xiste requisito de edad para poder acogerse 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otas de la moratoria se descontaran directamente del haber previsional (código de descuento de Ans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plica para obtener las prestaciones de Jubilación, Prestación por Edad Avanzada, Retiro por Invalidez y Pensión por Fall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1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405d"/>
                </a:solidFill>
                <a:latin typeface="Arial"/>
              </a:rPr>
              <a:t>Decreto 1454-05. Condición de regularidad para RTI y PxFAA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7914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 podrá acceder si completa los 30 años de servicios con aportes, 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15 años de servicios con aportes, si el afiliado hubiera acreditado 12 meses de aportes dentro de los últimos 60 (como autónomo pago dentro del mes de vto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fallecimiento, debe acreditarse la afiliación antes del fall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151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405d"/>
                </a:solidFill>
                <a:latin typeface="Arial"/>
              </a:rPr>
              <a:t>Ley 25.865 (Art.6 25.994) y 24.476</a:t>
            </a:r>
            <a:endParaRPr b="0" lang="en-US" sz="32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25.8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uda a 12-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60 c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sitito de edad para acceder a la P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ce el 15-01-2007 (prorrogable hasta el 15-01-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928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24.4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uda a 09-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60 c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tiene limite de 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tiene vencimiento (es perman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677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5405d"/>
                </a:solidFill>
                <a:latin typeface="Arial"/>
              </a:rPr>
              <a:t>Moratorias 25.865, 25.994 y 24.476 acceso al beneficio con descuento de las cuotas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791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debe abonar la primer cuota (la que perfecciona el acogimient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deben abonar todas las cuotas que venzan hasta el inicio del tram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debe abonar la cuota con Vto. 22-06-06, no importa en que estado se encuentre el expediente (en pago, en trámite, en inici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77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5405d"/>
                </a:solidFill>
                <a:latin typeface="Arial"/>
              </a:rPr>
              <a:t>Moratorias 25.865, 25.994 y 24.476 acceso al beneficio con descuento de las cuotas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791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partir del mes de Julio-06 Anses actuará como agente de retención de las cuotas que venzan a partir de dicho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los afiliados al Régimen de Capitalización la retención será desde 08-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endrá del retroactivo las cuotas que vencieron desde el inicio hasta el a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endrá del mensual, desde el a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tención podrá superar el 20% del haber (no se puede “estirar” más las cuo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es retendrá si la cuota es igual o inferior a $360. Si supera, el afiliado deberá abonarla directamente en AF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"/>
              </a:rPr>
              <a:t>Art. 6 Ley 25.994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trabajadores que durante el transcurso del año 2004, cumplan la edad requerida para acceder a la PBU, tendrán derecho a inscribirse en la moratoria aprobada por la ley 25.865  en las condiciones dispuestas hasta el 31 de julio del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mismo, todos aquellos trabajadores que, a partir del 1° de enero de 2004, tengan la edad requerida para acceder a la PBU 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e encuentren inscriptos en la moratoria por la ley 25.865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odrán solicitar y acceder a las prestaciones previsionales a las que tengan dere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638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ieron la edad ANTES del 01-01-05, hay</a:t>
            </a:r>
            <a:r>
              <a:rPr b="0" lang="es-ES" sz="28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ienes no se acogieron a la moratoria de la Ley 25.86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76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acogerse hasta el 15-01-2007, con la cantidad de cuotas e intereses al 26-07-2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pagar la deuda en cuotas o al contado (hasta 60 cuo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solicitar el beneficio previ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6388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ieron la edad ANTES del 01-01-05, hay</a:t>
            </a:r>
            <a:r>
              <a:rPr b="0" lang="es-ES" sz="30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: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791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ienes se acogieron a la moratoria de la Ley 25.86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7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dían reformular el plan de 20 a 60 cu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ueden incluir nueva deuda en el plan reformul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zo para reformular: 31-07-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empre que se haya acogido a la moratoria y/o haberla recalculado, pueden solicitar el beneficio previ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791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simismo, todos aquellos trabajadores que, a partir del 1° de enero de 2004, tengan la edad requerida para acceder a la Prestación Básica Universal de la Ley 24.241 y se encuentren inscriptos en la moratoria por la Ley 25.865, podrán solicitar y acceder a las prestaciones previsionales a las que tengan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Dentro de los trabajadores que cumplen con la edad a partir del 1° de enero de 2004 en adelante, hay:</a:t>
            </a:r>
            <a:endParaRPr b="0" lang="en-US" sz="30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69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es se acogieron al plan antes del 19/01/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rán acceder a las prestaciones previsionales cuando cumplan la 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podrán reform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núan pagando las cu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es no se acogieron al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pueden acogerse a la mora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cumplan la edad no pueden pedir el beneficio, salvo que paguen la deuda al contado por el régimen general o que puedan entrar en el plan de la Ley 24.47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791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percepción del beneficio previsional por parte de los trabajadores mencionados en los párrafos precedentes se encuentra sujeta al estricto cumplimiento del pago de las cuotas de la deuda reconoc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drán solicitar y acceder a las prestaciones previsionales a las que tengan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BU, PC, PAP y 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tación por Edad Avan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Pensión por fallecimiento (Circ.GP 16/0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Retiro por Invalidez (Circ.GP 16/0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6388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5405d"/>
                </a:solidFill>
                <a:latin typeface="Arial Unicode MS"/>
                <a:ea typeface="Arial Unicode MS"/>
              </a:rPr>
              <a:t>Art. 6 Ley 25.994</a:t>
            </a:r>
            <a:endParaRPr b="0" lang="en-US" sz="3600" spc="-1" strike="noStrike">
              <a:solidFill>
                <a:srgbClr val="e5405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stación por Edad Avan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10 años de servicios con aportes computables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s 5 años dentro de los últimos 8 inmediatos anteriores al c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mbos, SÍ se podrán completar a través de los servicios declarados y regularizados por la moratoria del Art.6 de la Ley 25.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antigüedad de la afiliación de 5 años con aportes regulares no se considerará cumplida si se regularizan con la morat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antigüedad en la afiliación sólo se prueba con afiliación contempor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19:03:56Z</dcterms:created>
  <dc:creator>RC//</dc:creator>
  <dc:description/>
  <dc:language>en-US</dc:language>
  <cp:lastModifiedBy>Roberto D Lennox</cp:lastModifiedBy>
  <cp:lastPrinted>2003-08-04T16:42:40Z</cp:lastPrinted>
  <dcterms:modified xsi:type="dcterms:W3CDTF">2006-08-10T18:27:45Z</dcterms:modified>
  <cp:revision>87</cp:revision>
  <dc:subject/>
  <dc:title>INCORPORACIÓN OBLIGATORIA AL S.I.J.P. Art. 2 ley 24.241</dc:title>
</cp:coreProperties>
</file>