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624638" cy="9734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B341-1F95-4B7B-8BB2-33484154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9DAE-44AD-4EB6-94F2-1319DDFF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BB55-27EB-44AC-98A3-7E073A05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EAC2-1615-4D0B-AEC5-1473E261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6458-4BA0-4C79-88AA-81F54F8B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E925-A6A8-4568-B139-C81CA61D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4A96-918C-4BB0-BB5B-00FDEDD5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46EA-6C4A-4018-900F-869029D0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B81D-5700-4AEF-823C-0BB8C12F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DCD9-701A-43D1-989A-BCAF82F7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7BD0-2F47-4508-A85D-4606AB3D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052F-C788-4807-89EA-B3361FC5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5C2F-B784-46B3-9F92-74373BBB2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C.  P.  C.  E.  C.  A.  B.  A</a:t>
            </a:r>
            <a:br>
              <a:rPr sz="3500"/>
            </a:br>
            <a:br>
              <a:rPr sz="3000"/>
            </a:b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“COMISION DE</a:t>
            </a:r>
            <a:br>
              <a:rPr sz="3000"/>
            </a:b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 REGISTROS CONTABLES, LABORALES,TRIBUTARIOS Y SOCIALES Y SU DOCUMENTACION </a:t>
            </a:r>
            <a:r>
              <a:rPr b="1" lang="es-MX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ESPALDATORIA”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TALLER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SOBRE: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GISTROS CONTABLES EN SOPORTES NO TRADICIONALES ART 61 DE LA L.S.C.;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ámite para obtener la autorización de los órganos de contralor (IGJ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59C1-0859-4692-920A-C85BCCA96892}" type="slidenum">
              <a:t>1</a:t>
            </a:fld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EY DE SOCIEDADES COMERCIALES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CCION IX: De la Documentación y de la Co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523880"/>
            <a:ext cx="815328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t. 6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drá prescindirse del cumplimiento de las formalidades impuestas por el Art. 53 del Código de Comercio para llevar los libros en la medida que la autoridad de control o el Registro Publico de Comercio autoricen la sustitución de los mismos por ordenadores medio mecánicos o magnéticos u otros salvo el de Inventarios y Bal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etición deberá incluir una adecuada descripción del sistema, con dictamen técnico o antecedente de su utilización, la que, una vez autorizada, deberá transcribirse en el libro de Inventarios y Balan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Los pedidos de autorización se consideraran automáticamente aprobados dentro de los treinta días de efectuados, si no mediar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observación previa o rechazo funda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El libro Diario podrá ser llevado con asientos globales que no comprendan periodos mayores de un 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sistema de contabilización debe permitir la individualización de las operaciones, las correspondientes cuentas deudoras y acreedora y su posterior verificación, con arreglo al Art. 43 del Código de Comer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FDEB-905A-4AF9-BC79-B9F0E4FF6EC0}" type="slidenum">
              <a:t>10</a:t>
            </a:fld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SOLUCION GENERAL  I.G.J.  6/80                 MEDIOS MECANICOS Y OTR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. 8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A los fines del análisis de las solicitudes de autorización a que se refiere el Art. 61 de la L.S.C., debe presentar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exposición ampliada del sistema a utilizar, precisando, en su caso, los propósitos de la modificación propuesta y sus diferencias con el sistema anterior. Se acompañara diagramación de los elementos a emplear, ejemplificando su u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Designación del libro, registro, etc., donde constara la contabilización de análi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stración técnica del grado de inalterabilidad de las registraciones que aseguren el medio a emplear dentro del sistema contable propue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información requerida en este articulo, será firmada por profesional en ciencias económicas, matriculado, que no sea gerente, administrador o socio, ni este en relación de dependencia con la entidad interes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6516-F91D-4854-9394-9361D07CF3CD}" type="slidenum">
              <a:t>11</a:t>
            </a:fld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3360" y="1828800"/>
            <a:ext cx="801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SOLUCIÓN GENERAL I.G.J. Nº 7/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7160" y="2513160"/>
            <a:ext cx="559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oletín Oficial Nº 30724 - Pág. 12 a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echa de Publicación: 25/08/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6960" y="3732120"/>
            <a:ext cx="841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rt. 4 – Vigencia: A los 180 días de su publicació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21/02/0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rt. 6 – Punto 6.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decuación de us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ejercicio inmedi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guiente a la vig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609480"/>
            <a:ext cx="8439120" cy="510552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666720"/>
            <a:ext cx="7837560" cy="7340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ef6f1"/>
                </a:solidFill>
                <a:latin typeface="Times New Roman"/>
              </a:rPr>
              <a:t>INSPECCIÓN GENERAL DE JUSTI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def6f1"/>
                </a:solidFill>
                <a:latin typeface="Times New Roman"/>
              </a:rPr>
              <a:t>Ministerio de Justicia y Derechos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bandera" descr=""/>
          <p:cNvPicPr/>
          <p:nvPr/>
        </p:nvPicPr>
        <p:blipFill>
          <a:blip r:embed="rId2"/>
          <a:stretch/>
        </p:blipFill>
        <p:spPr>
          <a:xfrm>
            <a:off x="7877160" y="762120"/>
            <a:ext cx="609480" cy="482400"/>
          </a:xfrm>
          <a:prstGeom prst="rect">
            <a:avLst/>
          </a:prstGeom>
          <a:ln w="0">
            <a:noFill/>
          </a:ln>
        </p:spPr>
      </p:pic>
      <p:pic>
        <p:nvPicPr>
          <p:cNvPr id="65" name="escnac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398520" y="663480"/>
            <a:ext cx="525240" cy="733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22280" y="5943600"/>
            <a:ext cx="35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968F-E24D-4BFA-A7E4-1847E0242F2A}" type="slidenum">
              <a:t>12</a:t>
            </a:fld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38520" y="608040"/>
            <a:ext cx="76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IBRO IV – TÍTULO II – REGISTRACIÓN CO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7440" y="1528920"/>
            <a:ext cx="858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t. 280 Sistemas de Registración Con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t. 281 Libro Inventario y Bal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t. 282 Registro por ordenadores, medios mecánic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gnéticos u otros (Art. 61 Ley 19550) – Pres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t. 283 Procedimientos – Aprobación tác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t. 284 Obligatoriedad de la autorización prev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bros ant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t. 285 Registración contable en listado de hojas móv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t. 286 Sistema de Registración Contable en compact dis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tros discos ópticos y microfil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t. 287 Información periódica medios mecánicos, Mag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95BC-8C3C-4B6B-AF67-9716ECF8150F}" type="slidenum">
              <a:t>13</a:t>
            </a:fld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10960" y="684360"/>
            <a:ext cx="8704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t. 280 3. Ofrezcan elevado grado de inalter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t. 282 1. Primer testimonio de Escritura Pública de la                                       solicitu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Compromiso de preservar la l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Extender en papel los regis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Mantener la vigencia de las máquinas lect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t. 283 Aprobación tácita (Si dentro de los 30 días no tie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servacion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t. 284 Acreditación dentro de los 10 días de los regist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teriores, mediante copia certificada de la foja do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e la nota correspondiente firmada por representante legal y síndico o Acta de constatación nota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6FAA-9EAD-44BF-A4CF-59AA3967D6D5}" type="slidenum">
              <a:t>14</a:t>
            </a:fld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3840" y="318960"/>
            <a:ext cx="8280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t. 285 Hojas Móv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cuadernación cada 500 ho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rimera página contendr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Nombre de la soci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nominación del regis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úmero de la primera y última pág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Fe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Firma representante legal y sínd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t. 286 Discos ópticos / microfil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6. Acta de regist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ntificación del sop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ntidad de regis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Perio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Primera y última regist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7. La Actas deben estar firmadas por el representante leg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imestralmente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l Órgano de Fiscalización emitirá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forme sobre las condiciones exig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52C3-38AF-4C5D-A530-83686B06699C}" type="slidenum">
              <a:t>15</a:t>
            </a:fld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5600" y="838080"/>
            <a:ext cx="8862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t. 287Información periód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 - Informe anual de Contador Público sob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Descripción exacta del sistema util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Opinión sobre concordancia con el autor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no existir observaciones, la IGJ emitirá una certificación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agregará al libro Inventario y Balance, siendo condi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cesaria para que se considere la contabilidad regular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le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 - Informe de actualización técnica cada 2 años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I - La IGJ puede exigir el vuelco a papel del mov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able de acuerdo a su volume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F1C5-3314-4F5A-8EF5-75F865A21D5D}" type="slidenum">
              <a:t>16</a:t>
            </a:fld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79760" y="3138480"/>
            <a:ext cx="7687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cc"/>
                </a:solidFill>
                <a:latin typeface="Arial"/>
              </a:rPr>
              <a:t>CONTENIDOS DE LA PRESENT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66840" y="3886200"/>
            <a:ext cx="73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66cc"/>
                </a:solidFill>
                <a:latin typeface="Arial"/>
              </a:rPr>
              <a:t>AL   ENTE  DE  CONTR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51A5-A047-46B4-90CE-2FD2087A8718}" type="slidenum">
              <a:t>17</a:t>
            </a:fld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90400" y="380880"/>
            <a:ext cx="2544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8880" y="914400"/>
            <a:ext cx="818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RMULARIO DEL ENTE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LICITUD DEL PEDIDO DE AUTOR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STEMA DE INFORMACIÓN CO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GISTROS POR LOS QUE SE SOLICITA HABIL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DELO DE LOS LI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 DE CU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STEMA DE ALMACE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TUACIÓN FRENTE A LAS RESOLUCIONES IGJ 9/98 - 3/03 - 7/03 – 1362/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ERTIFICACIONES CON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915840"/>
            <a:ext cx="8299440" cy="487692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677B-F2EC-46A8-87FF-FB037A79070E}" type="slidenum">
              <a:t>18</a:t>
            </a:fld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43200" y="685800"/>
            <a:ext cx="7274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1. FORMULARIO DEL ENTE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6320" y="2833560"/>
            <a:ext cx="754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rmulario Nº 9 IG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rancelado de acuerdo a trámite Normal o Ur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70A5-8105-478F-8740-D79A64536585}" type="slidenum">
              <a:t>19</a:t>
            </a:fld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Expositores:</a:t>
            </a:r>
            <a:br>
              <a:rPr sz="3400"/>
            </a:br>
            <a:br>
              <a:rPr sz="3400"/>
            </a:b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3400"/>
            </a:b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        Dr. Jorge Sanchez Pastor</a:t>
            </a:r>
            <a:br>
              <a:rPr sz="3400"/>
            </a:b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3400"/>
            </a:b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Dra. Gladis R. Giménez</a:t>
            </a:r>
            <a:br>
              <a:rPr sz="3400"/>
            </a:b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3400"/>
            </a:br>
            <a:br>
              <a:rPr sz="3400"/>
            </a:b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Coordinador: </a:t>
            </a:r>
            <a:br>
              <a:rPr sz="3400"/>
            </a:br>
            <a:br>
              <a:rPr sz="3400"/>
            </a:b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Dr. Mario Jorge Lascala</a:t>
            </a:r>
            <a:br>
              <a:rPr sz="3400"/>
            </a:b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       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E4E1-6B13-4D52-8077-B915C245D307}" type="slidenum">
              <a:t>2</a:t>
            </a:fld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9080" y="457200"/>
            <a:ext cx="8163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2. SOLICITUD DEL PEDIDO DE AUTOR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885960" y="1219320"/>
          <a:ext cx="7385040" cy="4626000"/>
        </p:xfrm>
        <a:graphic>
          <a:graphicData uri="http://schemas.openxmlformats.org/drawingml/2006/table">
            <a:tbl>
              <a:tblPr/>
              <a:tblGrid>
                <a:gridCol w="421920"/>
                <a:gridCol w="6118920"/>
                <a:gridCol w="844200"/>
              </a:tblGrid>
              <a:tr h="254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a de Órgano de Administrac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e Social. Efectivida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omisos técnic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de consulta, lectura e impres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 de información por parte de organismos de control o de tercer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nces tecnológic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omiso de conservar el libro Inventarios y Balances cumpliendo normas legales vig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estación del sistema de archivo de los registros, por los que se solicita autorizac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ma del Representante Legal o Apoderado – Acreditación de personer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0789-069F-478F-B31F-6AED096D575C}" type="slidenum">
              <a:t>20</a:t>
            </a:fld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96440" y="457200"/>
            <a:ext cx="7453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3. SISTEMA DE INFORMACIÓN CO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73280" y="1600200"/>
          <a:ext cx="7761240" cy="4398840"/>
        </p:xfrm>
        <a:graphic>
          <a:graphicData uri="http://schemas.openxmlformats.org/drawingml/2006/table">
            <a:tbl>
              <a:tblPr/>
              <a:tblGrid>
                <a:gridCol w="422280"/>
                <a:gridCol w="6119640"/>
                <a:gridCol w="1219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ña institucion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 del sistema de informac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-2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quema del circuito contabl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-2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stración técnica del grado de inalterabilida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taforma tecnológic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ridad informática / Accesos / Back-up / Plan de contingenci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vo de la documentación respaldatori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tas de Confiabilida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-2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y periodicidad de numeración de los registr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-2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2AF9-1E5B-4ADD-84F4-8C81C415BFB4}" type="slidenum">
              <a:t>21</a:t>
            </a:fld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89600" y="457200"/>
            <a:ext cx="75524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4. REGISTROS POR LOS QUE SE SOLIC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HABILI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773280" y="2728800"/>
          <a:ext cx="7626240" cy="1538280"/>
        </p:xfrm>
        <a:graphic>
          <a:graphicData uri="http://schemas.openxmlformats.org/drawingml/2006/table">
            <a:tbl>
              <a:tblPr/>
              <a:tblGrid>
                <a:gridCol w="421920"/>
                <a:gridCol w="6119640"/>
                <a:gridCol w="1084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os y Registros actualmente en us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os y Registros que siguen en us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ominación con la que se solicita habilitación, de los registros que se reemplaza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-2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FE3C-1A29-40BA-8041-F0FA58525CC3}" type="slidenum">
              <a:t>22</a:t>
            </a:fld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70240" y="457200"/>
            <a:ext cx="5443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5. MODELO DE LOS LIS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73280" y="2728800"/>
          <a:ext cx="7626240" cy="1155960"/>
        </p:xfrm>
        <a:graphic>
          <a:graphicData uri="http://schemas.openxmlformats.org/drawingml/2006/table">
            <a:tbl>
              <a:tblPr/>
              <a:tblGrid>
                <a:gridCol w="421920"/>
                <a:gridCol w="6119640"/>
                <a:gridCol w="1084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blanco – Por duplic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ifica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sitos de Individualización de los Lista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634E-9C3D-4E01-959B-B56BF67DF3BD}" type="slidenum">
              <a:t>23</a:t>
            </a:fld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773280" y="2805120"/>
          <a:ext cx="7626240" cy="1185840"/>
        </p:xfrm>
        <a:graphic>
          <a:graphicData uri="http://schemas.openxmlformats.org/drawingml/2006/table">
            <a:tbl>
              <a:tblPr/>
              <a:tblGrid>
                <a:gridCol w="421920"/>
                <a:gridCol w="6119640"/>
                <a:gridCol w="1084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de Cuen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 de Cost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lle de referencias frecuentes del sistem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628200" y="457200"/>
            <a:ext cx="3944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6. PLAN DE CU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45080" y="547560"/>
            <a:ext cx="9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282-2-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DCF5-983A-48B0-BCBA-96DFA78F244A}" type="slidenum">
              <a:t>24</a:t>
            </a:fld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41800" y="457200"/>
            <a:ext cx="6250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7. SISTEMA DE ALMACE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73280" y="1343160"/>
          <a:ext cx="7626240" cy="4524120"/>
        </p:xfrm>
        <a:graphic>
          <a:graphicData uri="http://schemas.openxmlformats.org/drawingml/2006/table">
            <a:tbl>
              <a:tblPr/>
              <a:tblGrid>
                <a:gridCol w="422280"/>
                <a:gridCol w="6119640"/>
                <a:gridCol w="1084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ación del medio de Almacenamien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leza y calidad del soporte a utilizar para el almacenamiento de los registr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-2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es internos a implementar en la operatoria de almacenamien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ias de Segurida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uadern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lterabilidad de los registros – Función HAS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as de Regis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-6/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ización del encuadern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de archivo actual y su diferencia con el propues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32CF-664B-4EA6-B408-FEF45E6C28F5}" type="slidenum">
              <a:t>25</a:t>
            </a:fld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70160" y="457200"/>
            <a:ext cx="81421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8. SITUACIÓN FRENTE A LAS RESOLU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IGJ 9/98 – 3/03 – 7/03 – 1362/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4E9F-686B-46D9-99FB-9C71CA600E08}" type="slidenum">
              <a:t>26</a:t>
            </a:fld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773280" y="3200400"/>
          <a:ext cx="7626240" cy="395280"/>
        </p:xfrm>
        <a:graphic>
          <a:graphicData uri="http://schemas.openxmlformats.org/drawingml/2006/table">
            <a:tbl>
              <a:tblPr/>
              <a:tblGrid>
                <a:gridCol w="421920"/>
                <a:gridCol w="6119640"/>
                <a:gridCol w="1084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limiento del pago de las Tas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708120" y="457200"/>
            <a:ext cx="17780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9. T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A14B-8821-419F-AB55-D30BEECEA04C}" type="slidenum">
              <a:t>27</a:t>
            </a:fld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8560" y="457200"/>
            <a:ext cx="6330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10. CERTIFICACIONES CON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73280" y="1752480"/>
          <a:ext cx="7989840" cy="1795680"/>
        </p:xfrm>
        <a:graphic>
          <a:graphicData uri="http://schemas.openxmlformats.org/drawingml/2006/table">
            <a:tbl>
              <a:tblPr/>
              <a:tblGrid>
                <a:gridCol w="422280"/>
                <a:gridCol w="6119640"/>
                <a:gridCol w="1447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o actual de los registros y libros rubrica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-2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especial sobre autorización de medios de registración (Dictámen precalificatorio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técnico exigido por el Art. 61, Ley 1955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689040" y="45370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81360" y="3603600"/>
            <a:ext cx="77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QUISITOS OBLIGATORIOS DEL TRÁMITE PRECAL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4140360"/>
            <a:ext cx="7385040" cy="22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9.2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xpedirse sobre el estado de vigencia de la socie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anifestar la disolución de pleno derecho, de acuerdo al Contrato Social o la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mprobación de otras caus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anifestar si existen Actas que contemplen la Convocatoria a disolu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cuadramiento frente al Art. 299 de LS, indicando inci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9.3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go de ta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9.4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egalización de la firma del Profesional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61600" y="2514600"/>
            <a:ext cx="2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1960" y="2514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1960" y="3809880"/>
            <a:ext cx="28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AFE6-9C78-47DD-A366-140E9F31CCEB}" type="slidenum">
              <a:t>28</a:t>
            </a:fld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ORMAS TRANSIT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T. 6. Inc. 6....” las sociedades que ya posean autorización deberán adecuar las mismas al Título II del Libro IV a partir del ejercicio inmediato siguiente a la vigencia de Res. 7/2005 (21-2-06).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berán evaluar si es menester hacer presentaciones para adecuarse a dichas nor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6205-2035-4F7F-AA56-0252E622C2CA}" type="slidenum">
              <a:t>29</a:t>
            </a:fld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1. FUNDAMENTOS LEG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DIGO DE COMERCIO Art. 43 – 44 – 5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EY DE SOCIEDADES COMERCIALES Art. 60 – 6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SOLUCION GENERAL  IGJ  6/80 Art. 83 reemplazado por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SOLUCION GENERAL IGJ 7/05 ART.280- 28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6094-9A54-496E-B966-0DD3AA22A57D}" type="slidenum">
              <a:t>3</a:t>
            </a:fld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IBRO IV : Título  II- 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RT. 284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VEZ LOGRADA LA AUTORIZACION  DE LOS REGISTROS por ordenadores, medios mecánicos, magnéticos u otros (ART.61 L.S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BE DISCONTINUARSE EL USO DE LOS REGISTROS MANUALES QUE SE SUSTITUY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1816-B861-4178-BA97-7B6F28A3D0B9}" type="slidenum">
              <a:t>30</a:t>
            </a:fld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EBE ACREDITARSE ANTE LA IGJ dentro de los 10 días siguientes media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PIA CERTIFICAD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la foja donde conste la NOTA respectiva suscripta por e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EPRESENTANTE LEGAL Y EL SINDICO, o ACTA NOTARIAL efectuada a pedido de é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ondrá NOTA en el sistema informático(IGJ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ponden los Directores y Síndicos, por la infracción de la soci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70D9-300E-4882-852D-71A1D98C118F}" type="slidenum">
              <a:t>31</a:t>
            </a:fld>
          </a:p>
        </p:txBody>
      </p:sp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1219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obligación de efectuar el cierre es recomendable realizarla aún tratándose de medios de almacenamiento del ART. 61 L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67CB-9570-44DF-A00E-0C30BCF8EA50}" type="slidenum">
              <a:t>32</a:t>
            </a:fld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ojas Móvi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t. 285 Encuadernación cada 500 hojas o cierre de ejerc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rimera página contendr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Nombre de la soci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Denominación del regis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Número de la primera y última pág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Fe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Firma representante legal y sínd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21D9-4F73-4FC5-8B52-9CCFACADE5A9}" type="slidenum">
              <a:t>33</a:t>
            </a:fld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743200" y="1371600"/>
            <a:ext cx="3987720" cy="431964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71960" y="2811600"/>
            <a:ext cx="1328760" cy="143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38680" y="1676520"/>
            <a:ext cx="175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05160" y="2171880"/>
            <a:ext cx="2521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GIS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RIGINAL O COPIA N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4343400"/>
            <a:ext cx="26305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RCHIVO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OLI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A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ERIO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14840" y="3122640"/>
            <a:ext cx="125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ces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tiqueta N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89280" y="327492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º INT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0840" y="457200"/>
            <a:ext cx="4653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ETIQUETADO DE CD-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2F29-366F-48C3-8429-DF6DFE940E4A}" type="slidenum">
              <a:t>34</a:t>
            </a:fld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FORMES  PROFESIONALES PERIODIC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t. 286 inc.7:  INFORME ESPECIAL respecto al sistema de almacenamiento en CD-ROM que se registrará en el Libro de Inventarios y Bal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fectuada trimestralmente por el  Organo de fiscalización y firmada por el Representante legal de la soci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2C76-E38A-44E9-B177-2014546A7271}" type="slidenum">
              <a:t>35</a:t>
            </a:fld>
          </a:p>
        </p:txBody>
      </p:sp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rt. 287   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FORME ANUAL DE CONTADOR PUB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bre el Sistema de Registración Contable utilizado en el Ejercicio y el AUTORIZ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ertificación (Sin Observ.) será condición necesaria para que se considere a  la Contabilidad regularmente llevada. Se agregará al Libro de Inventarios y Bala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08E7-D174-422C-8DB0-63052D7ABA5F}" type="slidenum">
              <a:t>36</a:t>
            </a:fld>
          </a:p>
        </p:txBody>
      </p:sp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RT. 287  I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FORME DE ACTUALIZACION TECNICA cada dos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bre la situación de obsolescencia del sistema utilizado  y un proyecto de las medidas y reemplazos necesarios para su actualización técnica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042F-86F5-4EFD-B861-39533B18732C}" type="slidenum">
              <a:t>37</a:t>
            </a:fld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DIGO DE COMERCIO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PITULO III: De lo libros de Comerc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t. 4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do comerciante esta obligado a llevar cuenta y razón de sus operaciones y a tener una contabilidad mercantil organizada sobre una base contable uniforme y de la que resulte un cuadro verídico de sus negocios y una justificación clara de todos y cada uno de los actos susceptibles de registracion contable. Las constancias contables deben complementarse con la documentación respec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0616-A199-4F02-81B5-9C10F3F78B6C}" type="slidenum">
              <a:t>4</a:t>
            </a:fld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T.44    del Cód. de Comercio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Desarrollo didáctic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fine como indispensable los libros DIARIO e INVENTARIO Y BALAN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 deben llevar tambié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) Además, los libros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gistrad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subdiarios necesari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) La documentación contable respald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) que correspondan (ambos anteriores) a una adecuada integración de un sistema de contabilid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) que le exijan: a)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la importanc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b) la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naturaleza de sus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) de modo que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l sistem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refleje con claridad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los actos de su gestión y situación patrimon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B118-8E88-484F-8427-5F1CF7F4D2B6}" type="slidenum">
              <a:t>5</a:t>
            </a:fld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762120"/>
            <a:ext cx="746748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rt. 4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os comerciantes, además de los que en forma especial impongan este Código y otras leyes, deben indispensablemente llevar los siguientes libros: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iario  B) Inventarios y Balances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n perjuicio de ello el comerciante deberá llevar, los libros registrados y la documentación contable que correspondan a un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adecuada integración de un sistema de contabilidad y que le exijan la importancia y naturaleza de sus actividad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modo que de la contabilidad y documentación resulten con claridad los actos de su gestión y su situación patrimon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A7C-D18B-4EB8-AC1D-4333D2B38794}" type="slidenum">
              <a:t>6</a:t>
            </a:fld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1600200"/>
            <a:ext cx="8458200" cy="52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rt. 53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Los libros que sean indispensables conforme las reglas de este Código estarán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encuadernados y foliados,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cuya forma los presentara cada comerciante al Tribunal de Comercio de su domicilio para que se los individualice en la forma que determine el respectivo tribunal superior y se ponga en ellos nota datada y firmada del destino del libro, del nombre de aquel a quien pertenezca y del numero de hojas que conten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8733-D6DE-440C-BC18-6C7F583A6608}" type="slidenum">
              <a:t>7</a:t>
            </a:fld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EY DE SOCIEDADES COMERCIALES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CCION VIII: De la Administración y Represent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. 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oda designación o cesación de administradores debe ser inscripta en los registros correspondientes e incorporada al respectivo legajo de la sociedad. También debe publicarse cuando se tratare de Sociedad de Responsabilidad Limitada o Sociedades por Acciones. La falta de inscripción hará aplicable el Art. 12, sin las excepciones que el mismo prevé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rt. 12: “Las modificaciones no inscriptas regularmente obligan a los socios otorgantes. Son inoponibles a los terceros; no obstante estos pueden alegarlas contra la sociedad y los socios, salvo en las S.A y S.R.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EE9C-7794-4FB2-8F1D-F87D978FAA74}" type="slidenum">
              <a:t>8</a:t>
            </a:fld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EY DE SOCIEDADES COMERCIALES</a:t>
            </a:r>
            <a:br>
              <a:rPr sz="25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CION IX: De la Documentación y de la Contabilida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ART. 61.:(Desarrollo Didáctico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A)Podrá prescindirse del cumplimiento de las formalidades del “encuadernado y foliado” ( Art. 53 del Código de Comercio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B) Siempre que las autoridades de contralor autoricen la sustitu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) por salidas de ordenadores,medios mecánicos o magnéticos u otr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D) El libro de INVENTARIOS Y BALANCES se exceptúa del beneficio anterior: continuará encuadernado y foliad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) La solicitud ante las autoridades de contralor deberá inclui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-1) una adecuada descripción del sistema propuesto con dictamen técnico o antecedentes de su util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-2) el que deberá permitir la individualización de las operacion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-3) las correspondientes cuentas deudoras y acreedo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-4) y su posterior verificación: exigencias del ART.43(C.Com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F) Los pedidos de autorización se considerarán automáticamente aprobados si dentro de los 30 días no mediare observación  o rechazo fundado por el órgano de contralo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G) La resolución que autoriza el cambio y la descripción del nuevo sistema, deberán trascribirse en el libro d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VENTARIO Y BAL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F) El libro DIARIO podrá ser llevado con asientos globales (que procedan de los subdiarios mencionados) que no comprendan períodos mayores a un m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E5FC-A342-4146-B0A7-853F296F506F}" type="slidenum">
              <a:t>9</a:t>
            </a:fld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0T01:20:53Z</dcterms:created>
  <dc:creator>D</dc:creator>
  <dc:description/>
  <dc:language>en-US</dc:language>
  <cp:lastModifiedBy>C.P.C.E.C.A.B.A.</cp:lastModifiedBy>
  <cp:lastPrinted>2005-09-12T09:46:00Z</cp:lastPrinted>
  <dcterms:modified xsi:type="dcterms:W3CDTF">2006-07-17T15:52:02Z</dcterms:modified>
  <cp:revision>84</cp:revision>
  <dc:subject/>
  <dc:title>REGISTROS CONTABLES EN SOPORTES NO TRADICIONALES</dc:title>
</cp:coreProperties>
</file>