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61560" y="691920"/>
            <a:ext cx="493236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63720" y="692280"/>
            <a:ext cx="4930560" cy="3414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4EC3-F6CF-4F57-94E2-D960F10F9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8E39-E81C-4363-9EC7-99290E135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680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5B6F-C2DE-440C-AF48-38874FD0B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456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120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456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120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CE82-B5A8-4EF9-8C53-23CE41F0D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EC5-625E-4425-99FC-E5A9C27A2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9FC-5C32-4B97-AC78-5F038AB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216-1784-41F4-A669-E4F74BF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AFB-7538-4843-92AD-DD5502C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C43-8096-473C-B4F5-171957E1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7480" y="834120"/>
            <a:ext cx="84373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748-4705-46AE-93F1-5E18EAC7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90A-DBC9-41FB-B6F6-FB5D814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BD9C-A29C-4817-AAAE-6E2D3349B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7680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009-A9DB-4CC4-902C-1B50E8E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607-81B2-4606-BD2F-0AB47072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3BF-5B2C-4C09-AE31-F185AE81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7680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10D-6CD7-4560-A4EB-E88C756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456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41200" y="236196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456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41200" y="4307400"/>
            <a:ext cx="2682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604-C8BA-44B4-8787-D0ABEB797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77DC-2B4E-4D54-A757-73B1D1D2B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D026-2DEB-4FB3-BC95-9B8F685DF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A68A-C910-4DC6-B997-82FB3F68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7480" y="834120"/>
            <a:ext cx="84373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C52C-F40C-4D9D-842F-BF498C67E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C4E1-7889-4864-B903-96FC284DD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6800" y="430740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87E9-0751-4A03-B052-A77825A15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6800" y="2361960"/>
            <a:ext cx="4065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1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90C7-E24A-43E0-A757-8A555D1C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CFF-A179-471D-A5F2-963A71BFF5C9}" type="slidenum">
              <a:rPr b="1" lang="es-A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607600" y="839880"/>
          <a:ext cx="664920" cy="3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7600" y="839880"/>
                    <a:ext cx="664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354360" cy="6858000"/>
            <a:chOff x="0" y="0"/>
            <a:chExt cx="635436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49518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2680" y="990720"/>
              <a:ext cx="56116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933720" y="4889520"/>
            <a:ext cx="5280840" cy="318960"/>
            <a:chOff x="3933720" y="4889520"/>
            <a:chExt cx="5280840" cy="318960"/>
          </a:xfrm>
        </p:grpSpPr>
        <p:sp>
          <p:nvSpPr>
            <p:cNvPr id="45" name=""/>
            <p:cNvSpPr/>
            <p:nvPr/>
          </p:nvSpPr>
          <p:spPr>
            <a:xfrm flipH="1">
              <a:off x="3933720" y="4889520"/>
              <a:ext cx="500976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33040" y="4889520"/>
              <a:ext cx="28152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26398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989-32F5-4053-A6F4-EA78CBACC07B}" type="slidenum">
              <a:rPr b="1" lang="es-A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9080" y="1341360"/>
            <a:ext cx="865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OPORTUNIDADES DE NEGOCI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EN ARGENTI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OMO LEER LAS SEÑ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551800" y="5877000"/>
          <a:ext cx="96516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1800" y="5877000"/>
                    <a:ext cx="96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38C-BC75-4FCF-8BD4-58651E5688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3080" y="48888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AMENAZ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440" y="198900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ubsidios Agrícolas y barreras no arancelari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rcados internacionales volát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friamiento de la actividad económ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xceso mundial de ahorro” Bernank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asa de interés US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enos inversión a emergentes (?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estabilidad Política Glob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edio Or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rea del Nor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estabilidad Política Region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ecio Combustibl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AE9A-BA33-453F-82E8-B6AEE9E4B9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3080" y="48888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CRECIMIENTO 2004-200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440" y="198900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ortación de commod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stitución de Import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umo Inte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5B8A-67C5-4091-B40F-14760D89E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3800" y="199980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En los momentos de crisis, sólo la imaginación es más importante que el conocimien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Albert Einstei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Si seguimos haciendo lo que estamos haciendo seguiremos consiguiendo lo que estamos consiguien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Stephen Cove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97680" y="759600"/>
            <a:ext cx="7713000" cy="93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QUE HAC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1FEC-E32D-43C5-A504-8EB09A190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3080" y="76500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CASOS 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Sustitución de importaciones/PyM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440" y="198900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olanatile (Lacas para pis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ranto (Autopartist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tejer (Text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ynox (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Hotele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90F1-7169-49C5-9680-B46E734C0C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3080" y="112536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CASOS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Nueva Burguesía Nacional/ Nacionalización de empres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2565360"/>
            <a:ext cx="7272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 Telecom, Edenor, Transener, Aguas de Córdoba, Aguas de Santa 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anc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 Boston-Werthein, Grupos Nac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 Havanna, Pulte, Cementerios Priv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ADFD-1221-43F4-B4FF-E650CF28B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76500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CASOS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Estatización Parcial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9440" y="235908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tros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les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éli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erolíneas Argenti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eropuertos Argentina 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y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A0E5-658B-4F2C-9883-4C47289F4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0000" y="76500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CASOS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Extranjerizacion de Grandes Grupos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9440" y="235908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C- Petrob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ma Negra- Bras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ener-Eton P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B2ED-A4FD-42DD-AD71-AA8C5F5154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0000" y="76500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OPORTUNIDADES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Negoci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9440" y="1916280"/>
            <a:ext cx="6912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al E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nsumo: electrónica, electrodomésticos,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anca de consumo y py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gración region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ano de obra intensiva de alto valor agregado: software, servicios de conocimiento, educación, TV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gro: forestación, servicios, industrialización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Negocios con el gobierno: infraestructura, energía,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c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iner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olsa: ver acciones con fundamentals sól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B9D0-B4C0-4ADD-A7CB-69FA83325F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3080" y="549000"/>
            <a:ext cx="83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No toda presentación será un éxi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51080" y="2349360"/>
            <a:ext cx="38023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F5B5-B295-4B3B-9DAD-3CB20D72F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GU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5736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FODA DE ARGENTIN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FORTALE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DE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OPORTUN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AMENA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CRECIMIENTO 2004-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QUE HAC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CA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ustitución de importaciones/Py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ueva Burguesía Nacional/ Nacionalización de empres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statización Par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xtranjerizacion de Grandes Grup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PORTUNIDADES-ALGUNOS NEGO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7CF4-2A69-471C-94B3-FC084B753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5480" y="762120"/>
            <a:ext cx="8582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TALEZ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95800" y="1916280"/>
            <a:ext cx="5927400" cy="41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F527-D90A-468B-B4BB-43BF12F51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080" y="48888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FORTALEZ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440" y="198900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taleza política del Gobie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cambio alto (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tuación financiera controlada-blindaje contra financiamiento int`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ávit fis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croeconomía robu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uen h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rsiones (suficientes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26B0-CEFC-4338-8650-42399966B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5480" y="762120"/>
            <a:ext cx="8582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BILIDAD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19440" y="1557360"/>
            <a:ext cx="409608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DDF7-DF19-44B1-B3EB-C823934F68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080" y="48888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DEBILIDADES/DESAFIOS INTERN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9992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l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 nivel de pob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egu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uridad juríd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rru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rsiones insufic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instalada al to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ergía (“ponemos màs bombillas pero sale menos mate” Montama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031E-E283-4F4F-8A2F-908FFDA71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5480" y="762120"/>
            <a:ext cx="8582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ORTUNIDAD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51440" y="1844640"/>
            <a:ext cx="4530600" cy="46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B478-9952-4E46-90A3-5B82E53132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080" y="488880"/>
            <a:ext cx="78483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OPORTUN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440" y="1989000"/>
            <a:ext cx="691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talecimiento Reg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os precios de los commod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ix calidad pre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DEC4-FBB8-4043-83A6-3C3DC4143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58720" y="404640"/>
            <a:ext cx="8582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NAZ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51080" y="1557360"/>
            <a:ext cx="5837400" cy="47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E425-5D6D-460B-8B5E-51DD0ABE8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5:45:10Z</dcterms:created>
  <dc:creator>S&amp;Co</dc:creator>
  <dc:description/>
  <dc:language>en-US</dc:language>
  <cp:lastModifiedBy>usuario</cp:lastModifiedBy>
  <cp:lastPrinted>2001-08-22T20:57:13Z</cp:lastPrinted>
  <dcterms:modified xsi:type="dcterms:W3CDTF">2006-06-22T12:49:42Z</dcterms:modified>
  <cp:revision>520</cp:revision>
  <dc:subject/>
  <dc:title>S&amp;Co</dc:title>
</cp:coreProperties>
</file>