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FEC-6A37-475F-A49B-57F85046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10A-A394-45FB-9AE0-6037B9D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B71-AD9A-4E99-8DA3-44E61C1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A0F-EF50-4F77-B70D-BC620F5B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E2C3-6D75-4347-8EC6-D194063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08E5-084A-40BE-9784-873A57F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BA60-803B-40B7-8404-BD7D3E92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0DB-996A-4299-830D-67E1485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864-5FD0-4D9E-AD96-50CC1D13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747-544A-4E29-B80A-B6BB5DE6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971-F299-41E3-B38A-D901741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8D6-759A-4ADB-8A46-64C23CE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BF6A-BB0D-4703-AC77-D945477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5E86-FDF6-40A4-9300-13DF352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4A5-B81B-4F28-A006-436F1FD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455-5399-4685-B10C-1492F0E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3631-8947-49E7-AD0D-0C69CDCF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AAC-3C22-41EA-B8C5-E9C353C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724-9BEC-4351-8774-738CD78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203-C61E-45EC-9A9B-335B5BD0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350-6802-46B7-AD25-863CC88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8C2-81F2-41DB-B99B-5D91AB2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26F-1C32-4740-9CD8-417A14B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067-D08F-49C8-98CD-1EAD860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AA9C-18AC-41C5-9C05-6C0A599080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365-173A-4AB8-B4E5-15375E9028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ASPECTOS IMPOSITIVO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57800" y="297180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590920"/>
            <a:ext cx="838080" cy="609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124080"/>
            <a:ext cx="838080" cy="609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43400" y="2590920"/>
            <a:ext cx="914400" cy="5331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89548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124080"/>
            <a:ext cx="914400" cy="5335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AS OBLIGACIONES FORM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MISION DE COMPROB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STRACION DE OPER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DUCCIONES ADMIT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TIDADES DEBEN ESTAR RECONOC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PE DEL 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 LA RG 1815 Reconocimiento de la Exen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Régimen de empadronamien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Reconocimiento y denegación de exen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érdida del reconocimiento y renovación del certifica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Acreditación frente a tercer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lazo especial para presentación de DDJ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Incumplimientos: efectos y sancio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 LA RG 1815 Régimen de Información de Don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rocedimientos a observar por donantes y donatari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Empleador como informa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No obligatoriedad de informar ciertas donaciones periódicas o eventu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Carácter de las donaciones a ser informadas por las donatari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GENERAL 1815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ONES JUR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esto a las Gana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esto a la Ganancia Mínima Presu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GENERAL 1815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IFICACIONES POSTERI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G 1853 (prórroga p/vencimientos de DDJ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G 1872 (nuevos aplicativos p/PF y P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LÁUSULA DE DISOLU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 vez realizados todos los bienes y pagadas todas las deudas, el remanente se destinará a una Institución de bien común sin fines de lucro con personería jurídica, domiciliada en el país, con exención vigente otorgada y reconocida por la Administración Federal de Ingresos Públicos – Dirección General Impositiva o al Estado Nacional, Provincial o Municip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 LAS GANANCI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JETOS DEL IMPU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ASA A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BERES FOR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L VALOR AGREG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ARÁCTER 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RAS, LOCACIONES Y SERVICIOS GRAV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OBJETOS GRAV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artículo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Venta de cosa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33"/>
                </a:solidFill>
                <a:latin typeface="Times New Roman"/>
              </a:rPr>
              <a:t>b) Obras, locaciones y prestaciones de servicios incluídas en el art. 3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Importaciones defin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) Prestaciones comprendidas en el inc. e) del art. 3º realizadas en el exteri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836280"/>
            <a:ext cx="40384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OBRAS, LOCACIO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) Trabajos s/Inmueble aj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) Obras sobre Inmueble prop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) Elaboración o fabric. de cosa 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) Obtención de bienes de la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33"/>
                </a:solidFill>
                <a:latin typeface="Times New Roman"/>
              </a:rPr>
              <a:t>e) Locaciones y prestaciones que se indican a contin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2920" y="3645000"/>
            <a:ext cx="38149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iso e) del Art. 3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. Efectuada por bares,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staurante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 Efectuada por hoteles, host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5. Efectuadas por peluqu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7. Efectuadas por tintor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33"/>
                </a:solidFill>
                <a:latin typeface="Times New Roman"/>
              </a:rPr>
              <a:t>21. Restantes locaciones y prestaciones a título oneroso</a:t>
            </a:r>
            <a:r>
              <a:rPr b="1" lang="es-ES_tradnl" sz="16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 s/ LEY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Objetiva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. 7, Inc. h, punto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lación directa con los fines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olicitud de ex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XENCIONES SUBJETIV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STRUCCIÓN 28/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STRUCCIÓN 5/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CTAMEN P.T.N. 46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EY 25.920 (B.O. 09/09/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IMPUESTO A LA GANANCIA MINIMA PRESUNT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HECHO IMPON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J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CAPITAL FEDERAL</a:t>
            </a: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 GEN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CAPITAL FEDERAL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MPADRONAMIENTO A TASA C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GENCIA Y OTORG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CAN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ECHA PRESENT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PROVINCIA DE BUENOS AIRE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STACION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CTIVIDADES COMERCIALES E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nto 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cedente de ese m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QUISITOS PARA SOLICITAR EX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IMPUESTO DE SELL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NACIONAL (Deroga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) PROVINCIA DE BUENOS 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OTROS GRAVAMENE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(PROVINCIA DE BUENOS AIR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MPUESTO INMOBILI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MPUESTO AUTOMO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IVAS - SUBJE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. 20 – Inc.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INCIPIO DE REALIDAD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SOBRE LOS DEBITOS Y CREDITOS 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N LAS TRANSACCIONES FINANCIER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OS TEMAS DE INTE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GO DE AUTONO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RECHOS DE IMPORT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ASPECTOS IMPOSITIVO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L ART. 20 INC. 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IC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Objeto: asistencia soc., salud pública, caridad, benefic., educación, científicas (enunciativo y no taxativ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b) las ganancias y el patrimonio social se destinen a los fines de su cre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c) en ningún caso se distribuyan, directa o indirectamente, entre los so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508640"/>
            <a:ext cx="73454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XCLUS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entidades que obtienen sus recursos, en todo o en parte, de  la explotación de espectáculos públicos, juegos de azar, carreras de caballos y actividades simila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L ART. 20 INC. F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APLIC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) fundaciones y asociaciones o entidades civiles de carácter gremial que desarrollen actividades industriales y/o comer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b) Abonen remuneraciones a elencos directivos, ejecutivos y de contralor por encima de determinada suma (Ley 24475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c) Entidades que tengan vedado el pago de esas remuneraciones (cualquiera sea su mon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CONOCIMIENTO DE LA EXENC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LIGACION DE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REACION DEL REGISTRO DE ENTIDADES EX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CUENCIAS DE NO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RETEN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ME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BRE SUEL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BENEFICIARIOS DEL EX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INFORM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TENCIONES EFECT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OSICION DEL CUERPO DIR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ANTES Y DONACIONES EN DINERO Y EN ESPE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ON DE DECLARACIONES JU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ÓN DE BCES. GRALES.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(solo p/grandes contribuye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21:33:15Z</dcterms:created>
  <dc:creator>Pedro</dc:creator>
  <dc:description/>
  <dc:language>en-US</dc:language>
  <cp:lastModifiedBy>PEDRO</cp:lastModifiedBy>
  <dcterms:modified xsi:type="dcterms:W3CDTF">2006-05-15T01:20:37Z</dcterms:modified>
  <cp:revision>84</cp:revision>
  <dc:subject/>
  <dc:title>ASOCIACIONES CIVILES Y FUNDACIONES</dc:title>
</cp:coreProperties>
</file>