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4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962C-F2F4-406D-B6C7-F37B8D4FC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A76A-CA7E-4DAD-B4D7-B8F7A96F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AB0E0-D5E5-433B-B9AC-F186B91D8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B590E-2859-4C4E-81EC-9A292EF93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93BFC-06B2-4FC3-90E3-67F078AF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6C56-D90C-4E2F-B76C-73128FE8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AE67-55ED-4787-82BC-80EC638D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D690-579D-4990-AEDB-649657B2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BEF6-6369-4C6C-9CAD-CDC1CE0E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30AF-9389-4359-B900-4379BEE8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49F3-1D2C-4E99-89C5-23C6F278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9C9C-E413-4452-8D7D-0130AA960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13CA-77E2-46ED-A31E-511B0EA3AB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pic>
        <p:nvPicPr>
          <p:cNvPr id="41" name="bcra" descr=""/>
          <p:cNvPicPr/>
          <p:nvPr/>
        </p:nvPicPr>
        <p:blipFill>
          <a:blip r:embed="rId1"/>
          <a:stretch/>
        </p:blipFill>
        <p:spPr>
          <a:xfrm>
            <a:off x="2819520" y="762120"/>
            <a:ext cx="3352680" cy="3352680"/>
          </a:xfrm>
          <a:prstGeom prst="rect">
            <a:avLst/>
          </a:prstGeom>
          <a:ln w="0">
            <a:noFill/>
          </a:ln>
        </p:spPr>
      </p:pic>
      <p:sp>
        <p:nvSpPr>
          <p:cNvPr id="42" name="PlaceHolder 1"/>
          <p:cNvSpPr>
            <a:spLocks noGrp="1"/>
          </p:cNvSpPr>
          <p:nvPr>
            <p:ph type="title"/>
          </p:nvPr>
        </p:nvSpPr>
        <p:spPr>
          <a:xfrm>
            <a:off x="685800" y="4647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EFyC</a:t>
            </a:r>
            <a:br>
              <a:rPr sz="4400"/>
            </a:br>
            <a:r>
              <a:rPr b="0" lang="es-ES_tradnl" sz="4400" spc="-1" strike="noStrike">
                <a:solidFill>
                  <a:srgbClr val="000000"/>
                </a:solidFill>
                <a:latin typeface="Times New Roman"/>
              </a:rPr>
              <a:t>Inspección General de         Control de Camb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Times New Roman"/>
              </a:rPr>
              <a:t>Art. 8</a:t>
            </a:r>
            <a:r>
              <a:rPr b="1" lang="es-ES_tradnl" sz="4000" spc="-1" strike="noStrike">
                <a:solidFill>
                  <a:srgbClr val="000000"/>
                </a:solidFill>
                <a:latin typeface="Times New Roman"/>
              </a:rPr>
              <a:t>:</a:t>
            </a:r>
            <a:r>
              <a:rPr b="1" lang="es-ES_tradnl" sz="4400" spc="-1" strike="noStrike" u="sng">
                <a:solidFill>
                  <a:srgbClr val="000000"/>
                </a:solidFill>
                <a:uFillTx/>
                <a:latin typeface="Times New Roman"/>
              </a:rPr>
              <a:t> </a:t>
            </a:r>
            <a:br>
              <a:rPr sz="4400"/>
            </a:br>
            <a:r>
              <a:rPr b="1" lang="es-ES_tradnl" sz="3200" spc="-1" strike="noStrike">
                <a:solidFill>
                  <a:srgbClr val="000000"/>
                </a:solidFill>
                <a:latin typeface="Times New Roman"/>
              </a:rPr>
              <a:t>Proceso Sumarial.</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pección, control y conclusiones: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rchivo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Imputació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Contencioso: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rchiv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Formulación de cargo (apertura de sumari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Justicia en lo Penal Económico o Tribunales Federale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Times New Roman"/>
              </a:rPr>
              <a:t>Art. 10</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l BCRA determinará en forma directa y cierta las divisas no liquidadas ó incorrectamente negociadas.</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Times New Roman"/>
              </a:rPr>
              <a:t>Art. 11</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uando no pueda determinarse en forma cierta el importe de las divisas no liquidadas, el BCRA procederá a estimar de oficio con los elementos que disponga.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edidas Precautoria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fontScale="99000"/>
          </a:bodyPr>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Times New Roman"/>
              </a:rPr>
              <a:t>Art. 17</a:t>
            </a:r>
            <a:r>
              <a:rPr b="0" lang="es-ES" sz="4000" spc="-1" strike="noStrike">
                <a:solidFill>
                  <a:srgbClr val="000000"/>
                </a:solidFill>
                <a:latin typeface="Times New Roman"/>
              </a:rPr>
              <a:t> :</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 sz="3200" spc="-1" strike="noStrike">
                <a:solidFill>
                  <a:srgbClr val="000000"/>
                </a:solidFill>
                <a:latin typeface="Times New Roman"/>
              </a:rPr>
              <a:t>E</a:t>
            </a:r>
            <a:r>
              <a:rPr b="0" lang="es-ES_tradnl" sz="3200" spc="-1" strike="noStrike">
                <a:solidFill>
                  <a:srgbClr val="000000"/>
                </a:solidFill>
                <a:latin typeface="Times New Roman"/>
              </a:rPr>
              <a:t>l </a:t>
            </a:r>
            <a:r>
              <a:rPr b="0" lang="es-ES" sz="3200" spc="-1" strike="noStrike">
                <a:solidFill>
                  <a:srgbClr val="000000"/>
                </a:solidFill>
                <a:latin typeface="Times New Roman"/>
              </a:rPr>
              <a:t>BCRA podrá aplicar las siguientes medida</a:t>
            </a:r>
            <a:r>
              <a:rPr b="0" lang="es-ES_tradnl" sz="3200" spc="-1" strike="noStrike">
                <a:solidFill>
                  <a:srgbClr val="000000"/>
                </a:solidFill>
                <a:latin typeface="Times New Roman"/>
              </a:rPr>
              <a:t>s </a:t>
            </a:r>
            <a:r>
              <a:rPr b="0" lang="es-ES" sz="3200" spc="-1" strike="noStrike">
                <a:solidFill>
                  <a:srgbClr val="000000"/>
                </a:solidFill>
                <a:latin typeface="Times New Roman"/>
              </a:rPr>
              <a:t>para los inspeccionados o sumariados.</a:t>
            </a:r>
            <a:endParaRPr b="0" lang="en-US" sz="3200" spc="-1" strike="noStrike">
              <a:solidFill>
                <a:srgbClr val="000000"/>
              </a:solidFill>
              <a:latin typeface="Times New Roman"/>
            </a:endParaRPr>
          </a:p>
          <a:p>
            <a:pPr marL="603360" indent="-603360" algn="just">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spenderlos para operar en cambios.</a:t>
            </a:r>
            <a:endParaRPr b="0" lang="en-US" sz="3200" spc="-1" strike="noStrike">
              <a:solidFill>
                <a:srgbClr val="000000"/>
              </a:solidFill>
              <a:latin typeface="Times New Roman"/>
            </a:endParaRPr>
          </a:p>
          <a:p>
            <a:pPr marL="603360" indent="-603360" algn="just">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dar curso a permisos de embarque y/o despachos a plaza.</a:t>
            </a:r>
            <a:endParaRPr b="0" lang="en-US" sz="3200" spc="-1" strike="noStrike">
              <a:solidFill>
                <a:srgbClr val="000000"/>
              </a:solidFill>
              <a:latin typeface="Times New Roman"/>
            </a:endParaRPr>
          </a:p>
          <a:p>
            <a:pPr marL="603360" indent="-603360" algn="just">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hibición general de bienes.</a:t>
            </a:r>
            <a:endParaRPr b="0" lang="en-US" sz="3200" spc="-1" strike="noStrike">
              <a:solidFill>
                <a:srgbClr val="000000"/>
              </a:solidFill>
              <a:latin typeface="Times New Roman"/>
            </a:endParaRPr>
          </a:p>
          <a:p>
            <a:pPr marL="603360" indent="-603360" algn="just">
              <a:lnSpc>
                <a:spcPct val="9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hibición para salir del país.</a:t>
            </a:r>
            <a:endParaRPr b="0" lang="en-US" sz="3200" spc="-1" strike="noStrike">
              <a:solidFill>
                <a:srgbClr val="000000"/>
              </a:solidFill>
              <a:latin typeface="Times New Roman"/>
            </a:endParaRPr>
          </a:p>
          <a:p>
            <a:pPr marL="603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Plazos máximos de liquida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   </a:t>
            </a:r>
            <a:r>
              <a:rPr b="0" lang="es-AR" sz="3200" spc="-1" strike="noStrike">
                <a:solidFill>
                  <a:srgbClr val="000000"/>
                </a:solidFill>
                <a:latin typeface="Times New Roman"/>
              </a:rPr>
              <a:t>El cobro de las divisas por exportaciones de bienes,  oficializadas  con   posterioridad  al 06/12/01,  debe  ser  liquidado en el MULC dentro  de  los   plazos  establecidos  por  la SICM  más el plazo adicional dispuesto por el BC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Plazos de la SICM</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Legislación vigente a la fecha: Resolución 120/03 (B.O. 30/04/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60  a  360  días  corridos,  de  acuerdo  a la posición     arancelaria     de     los    bienes expor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cuentan    a   partir   de   la   fecha   de “cumplido de embarq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Times New Roman"/>
              </a:rPr>
              <a:t>Comunicación “B” 799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ispuso que los plazos establecidos en la Resolución  120/03  rigen  tanto  para  las exportaciones   embarcadas   a  partir  del 30/04/03  como  para  las embarcadas con anterioridad a dicha fecha,  en  la  medida que  los  plazos  vigentes  previamente no estuvieran vencid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Plazos adicionales del BCR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3473 (09/02/02): 10 días hábiles adiciona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3534 (25/03/02): 5 días hábiles adiciona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3908 (27/03/03): 30 días hábiles adiciona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3944 (06/05/03): 90 días hábiles adiciona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4361 (14/06/05): 120 días hábiles adicionale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Plazos adcionales del BCRA</a:t>
            </a:r>
            <a:r>
              <a:rPr b="0" lang="es-AR" sz="4400" spc="-1" strike="noStrike">
                <a:solidFill>
                  <a:srgbClr val="000000"/>
                </a:solidFill>
                <a:latin typeface="Times New Roman"/>
              </a:rPr>
              <a:t> (co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m. “A” 4108 (02/03/04): 180 días hábiles adicionales  para  liquidar  cobros de seguro de   crédito   de  exportaciones,  cuando  las operaciones  resulten  impagas por parte del importador del exteri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800" spc="-1" strike="noStrike" u="sng">
                <a:solidFill>
                  <a:srgbClr val="000000"/>
                </a:solidFill>
                <a:uFillTx/>
                <a:latin typeface="Times New Roman"/>
              </a:rPr>
              <a:t>Liquidación de cobros de exportaciones de bienes y servicios fuera de los plazos establecidos</a:t>
            </a:r>
            <a:br>
              <a:rPr sz="3800"/>
            </a:br>
            <a:endParaRPr b="0" lang="en-US" sz="3800" spc="-1" strike="noStrike">
              <a:solidFill>
                <a:srgbClr val="000000"/>
              </a:solidFill>
              <a:latin typeface="Times New Roman"/>
            </a:endParaRPr>
          </a:p>
        </p:txBody>
      </p:sp>
      <p:sp>
        <p:nvSpPr>
          <p:cNvPr id="79" name="PlaceHolder 2"/>
          <p:cNvSpPr>
            <a:spLocks noGrp="1"/>
          </p:cNvSpPr>
          <p:nvPr>
            <p:ph/>
          </p:nvPr>
        </p:nvSpPr>
        <p:spPr>
          <a:xfrm>
            <a:off x="304920" y="2666520"/>
            <a:ext cx="853416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    </a:t>
            </a:r>
            <a:r>
              <a:rPr b="0" lang="es-AR" sz="2800" spc="-1" strike="noStrike">
                <a:solidFill>
                  <a:srgbClr val="000000"/>
                </a:solidFill>
                <a:latin typeface="Times New Roman"/>
              </a:rPr>
              <a:t>Según la Comunicación “A” 3608, para los permisos  de  embarque  cuyos  vencimientos  hayan operado a  partir  del  20/05/02, la entidad bancaria interviniente debe aplica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tipo  de  cambio  de  referencia  informado  por  el B.C.R.A. para el día en que venció la operación,  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tipo  de  cambio  correspondiente al de la fecha de efectiva liquidación, si éste fuera men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Com. “A” 4250:</a:t>
            </a:r>
            <a:r>
              <a:rPr b="1" lang="es-AR" sz="4400" spc="-1" strike="noStrike">
                <a:solidFill>
                  <a:srgbClr val="000000"/>
                </a:solidFill>
                <a:latin typeface="Times New Roman"/>
              </a:rPr>
              <a:t> </a:t>
            </a:r>
            <a:r>
              <a:rPr b="1" lang="es-AR" sz="4400" spc="-1" strike="noStrike" u="sng">
                <a:solidFill>
                  <a:srgbClr val="000000"/>
                </a:solidFill>
                <a:uFillTx/>
                <a:latin typeface="Times New Roman"/>
              </a:rPr>
              <a:t>Gestión de Cobro</a:t>
            </a:r>
            <a:endParaRPr b="0" lang="en-US" sz="4400" spc="-1" strike="noStrike">
              <a:solidFill>
                <a:srgbClr val="000000"/>
              </a:solidFill>
              <a:latin typeface="Times New Roman"/>
            </a:endParaRPr>
          </a:p>
        </p:txBody>
      </p:sp>
      <p:sp>
        <p:nvSpPr>
          <p:cNvPr id="81" name="PlaceHolder 2"/>
          <p:cNvSpPr>
            <a:spLocks noGrp="1"/>
          </p:cNvSpPr>
          <p:nvPr>
            <p:ph/>
          </p:nvPr>
        </p:nvSpPr>
        <p:spPr>
          <a:xfrm>
            <a:off x="533520" y="1523880"/>
            <a:ext cx="81532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informarán bajo esta condición los PE incumplidos que ante DJ del exportador demuestre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ol de cambios en el país del comprado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solvencia del Importador: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Edictos y Verificación del crédit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udor moros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   Iniciación de demand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b) Gestiones de cobro: con informe de auditor extern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BERTAD CAMBIARIA</a:t>
            </a:r>
            <a:br>
              <a:rPr sz="6000"/>
            </a:b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ONTROL DE CAMBIOS</a:t>
            </a:r>
            <a:endParaRPr b="0" lang="en-US" sz="4000" spc="-1" strike="noStrike">
              <a:solidFill>
                <a:srgbClr val="000000"/>
              </a:solidFill>
              <a:latin typeface="Times New Roman"/>
            </a:endParaRPr>
          </a:p>
        </p:txBody>
      </p:sp>
      <p:grpSp>
        <p:nvGrpSpPr>
          <p:cNvPr id="45" name=""/>
          <p:cNvGrpSpPr/>
          <p:nvPr/>
        </p:nvGrpSpPr>
        <p:grpSpPr>
          <a:xfrm>
            <a:off x="3124080" y="1981080"/>
            <a:ext cx="2895840" cy="2590920"/>
            <a:chOff x="3124080" y="1981080"/>
            <a:chExt cx="2895840" cy="2590920"/>
          </a:xfrm>
        </p:grpSpPr>
        <p:sp>
          <p:nvSpPr>
            <p:cNvPr id="46" name=""/>
            <p:cNvSpPr/>
            <p:nvPr/>
          </p:nvSpPr>
          <p:spPr>
            <a:xfrm>
              <a:off x="4038480" y="1981080"/>
              <a:ext cx="990720" cy="2590920"/>
            </a:xfrm>
            <a:prstGeom prst="upDownArrow">
              <a:avLst>
                <a:gd name="adj1" fmla="val 50000"/>
                <a:gd name="adj2" fmla="val 52061"/>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flipV="1">
              <a:off x="3124080" y="2590920"/>
              <a:ext cx="289584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Com. “A” 4250:</a:t>
            </a:r>
            <a:r>
              <a:rPr b="1" lang="es-AR" sz="4400" spc="-1" strike="noStrike">
                <a:solidFill>
                  <a:srgbClr val="000000"/>
                </a:solidFill>
                <a:latin typeface="Times New Roman"/>
              </a:rPr>
              <a:t> </a:t>
            </a:r>
            <a:r>
              <a:rPr b="1" lang="es-AR" sz="4400" spc="-1" strike="noStrike" u="sng">
                <a:solidFill>
                  <a:srgbClr val="000000"/>
                </a:solidFill>
                <a:uFillTx/>
                <a:latin typeface="Times New Roman"/>
              </a:rPr>
              <a:t>Gestión de Cobro</a:t>
            </a:r>
            <a:r>
              <a:rPr b="0" lang="es-AR" sz="4400" spc="-1" strike="noStrike">
                <a:solidFill>
                  <a:srgbClr val="000000"/>
                </a:solidFill>
                <a:latin typeface="Times New Roman"/>
              </a:rPr>
              <a:t> (cont.)</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2285640"/>
            <a:ext cx="8305920" cy="39625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No aplicable para grupo económico. (Importador/Exportado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municación “C” 40209. Determina alcance de vinculación y control entre empres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No exime del eventual sumario de cambi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bro posterior: no se aplica la Com. “A” 360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Faltantes, mermas y/o deficiencias</a:t>
            </a:r>
            <a:br>
              <a:rPr sz="4000"/>
            </a:br>
            <a:r>
              <a:rPr b="1" lang="es-AR" sz="4000" spc="-1" strike="noStrike" u="sng">
                <a:solidFill>
                  <a:srgbClr val="000000"/>
                </a:solidFill>
                <a:uFillTx/>
                <a:latin typeface="Times New Roman"/>
              </a:rPr>
              <a:t>Com. “A” 4025</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uando el monto involucrado no supere el equivalente  a  USD 5.000 por permiso de embarque           Declaración   Jurada   del exportador   y   copia   certificada   de   la documentación    intercambiada    con   el importador,  que  avale  el  concepto  y  el monto no ingresa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
          <p:cNvSpPr/>
          <p:nvPr/>
        </p:nvSpPr>
        <p:spPr>
          <a:xfrm>
            <a:off x="297180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Faltantes, mermas y/o deficiencias</a:t>
            </a:r>
            <a:br>
              <a:rPr sz="4000"/>
            </a:br>
            <a:r>
              <a:rPr b="1" lang="es-AR" sz="4000" spc="-1" strike="noStrike" u="sng">
                <a:solidFill>
                  <a:srgbClr val="000000"/>
                </a:solidFill>
                <a:uFillTx/>
                <a:latin typeface="Times New Roman"/>
              </a:rPr>
              <a:t>Com. “A” 4025</a:t>
            </a:r>
            <a:r>
              <a:rPr b="1" lang="es-AR" sz="4000" spc="-1" strike="noStrike">
                <a:solidFill>
                  <a:srgbClr val="000000"/>
                </a:solidFill>
                <a:latin typeface="Times New Roman"/>
              </a:rPr>
              <a:t> </a:t>
            </a:r>
            <a:r>
              <a:rPr b="0" lang="es-AR" sz="4000" spc="-1" strike="noStrike">
                <a:solidFill>
                  <a:srgbClr val="000000"/>
                </a:solidFill>
                <a:latin typeface="Times New Roman"/>
              </a:rPr>
              <a:t>(cont.)</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uando el monto total involucrado supere el equivalente  a  USD 5.000  por  permiso  de embarque             Documentación  adicional  que permita    certificar   la   genuinidad   de   la oper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
          <p:cNvSpPr/>
          <p:nvPr/>
        </p:nvSpPr>
        <p:spPr>
          <a:xfrm>
            <a:off x="297180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Descuentos y gastos pagaderos en el exterior – Com. “A” 4025</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Las   entidades   a   cargo  del   seguimiento podrán aceptarlos en la medida que consten en el permiso de embarque y el beneficiario sea un no resid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Gastos debitados por los bancos intervinientes – Com. “A” 3590</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punto 1 de  la Comunicación “A” 3473, (reemplazado   por   la   Com.   “A”  3590) permite liquidar los cobros de exportaciones de  bienes  y  servicios,  netos  de  los gastos debitados por los bancos intervinientes en el exterior, </a:t>
            </a:r>
            <a:r>
              <a:rPr b="0" lang="es-ES" sz="3200" spc="-1" strike="noStrike">
                <a:solidFill>
                  <a:srgbClr val="000000"/>
                </a:solidFill>
                <a:latin typeface="Times New Roman"/>
              </a:rPr>
              <a:t>acordes a los usos y costumbres de las operaciones bancarias involucrad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Exportaciones por cuenta y orden de terceros – Com. “A” 3818</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on aquellas exportaciones  encomendadas por   el   propietario   de   la  mercadería   a mandatarios,     consignatarios     u     otros intermediarios para que  efectúen  la  venta de los bienes al exterior por cuenta y orden del mencionado propietario.</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Times New Roman"/>
              </a:rPr>
              <a:t>Exportaciones por cuenta y orden de terceros – Com. “A” 3818</a:t>
            </a:r>
            <a:r>
              <a:rPr b="0" lang="es-AR" sz="4000" spc="-1" strike="noStrike">
                <a:solidFill>
                  <a:srgbClr val="000000"/>
                </a:solidFill>
                <a:latin typeface="Times New Roman"/>
              </a:rPr>
              <a:t> (Cont.)</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ocumentante y propietario, en la medida que así estén nominados en el  permiso  de embarqu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ueden liquidar indistintamente las divisas de esas export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bos son responsables del cumplimiento de la obligación de liquidación de divisa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quidación de servicios prestados a no residentes </a:t>
            </a:r>
            <a:br>
              <a:rPr sz="5400"/>
            </a:br>
            <a:r>
              <a:rPr b="0" lang="en-US" sz="5400" spc="-1" strike="noStrike">
                <a:solidFill>
                  <a:srgbClr val="000000"/>
                </a:solidFill>
                <a:latin typeface="Times New Roman"/>
              </a:rPr>
              <a:t>y de activos no financieros no producidos</a:t>
            </a:r>
            <a:endParaRPr b="0" lang="en-US" sz="5400" spc="-1" strike="noStrike">
              <a:solidFill>
                <a:srgbClr val="000000"/>
              </a:solidFill>
              <a:latin typeface="Times New Roman"/>
            </a:endParaRPr>
          </a:p>
        </p:txBody>
      </p:sp>
      <p:sp>
        <p:nvSpPr>
          <p:cNvPr id="99" name="PlaceHolder 2"/>
          <p:cNvSpPr>
            <a:spLocks noGrp="1"/>
          </p:cNvSpPr>
          <p:nvPr>
            <p:ph type="subTitle"/>
          </p:nvPr>
        </p:nvSpPr>
        <p:spPr>
          <a:xfrm>
            <a:off x="1371600" y="5105160"/>
            <a:ext cx="6400800" cy="533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Cobros de servicios prestados</a:t>
            </a:r>
            <a:br>
              <a:rPr sz="4400"/>
            </a:br>
            <a:r>
              <a:rPr b="1" lang="es-AR" sz="4400" spc="-1" strike="noStrike" u="sng">
                <a:solidFill>
                  <a:srgbClr val="000000"/>
                </a:solidFill>
                <a:uFillTx/>
                <a:latin typeface="Times New Roman"/>
              </a:rPr>
              <a:t>a no resident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Com. “A” 3473 estableció que las divisas por cobros de exportaciones de  servicios  deben  ser liquidadas  en  el  MULC  dentro  de  los 15 días hábiles   contados   </a:t>
            </a:r>
            <a:r>
              <a:rPr b="0" lang="es-ES" sz="2800" spc="-1" strike="noStrike">
                <a:solidFill>
                  <a:srgbClr val="000000"/>
                </a:solidFill>
                <a:latin typeface="Times New Roman"/>
              </a:rPr>
              <a:t>a   partir  de  la  fecha  de  su percepción  en  el  exterior  o  en  el país, o de su acreditación en cuentas del ext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tualmente,  cuentan con un plazo adicional de 120 días hábiles (Com. “A” 436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Times New Roman"/>
              </a:rPr>
              <a:t>Cobros de servicios prestados</a:t>
            </a:r>
            <a:br>
              <a:rPr sz="4400"/>
            </a:br>
            <a:r>
              <a:rPr b="1" lang="es-AR" sz="4400" spc="-1" strike="noStrike" u="sng">
                <a:solidFill>
                  <a:srgbClr val="000000"/>
                </a:solidFill>
                <a:uFillTx/>
                <a:latin typeface="Times New Roman"/>
              </a:rPr>
              <a:t>a no residentes</a:t>
            </a:r>
            <a:r>
              <a:rPr b="0" lang="es-AR" sz="4400" spc="-1" strike="noStrike">
                <a:solidFill>
                  <a:srgbClr val="000000"/>
                </a:solidFill>
                <a:latin typeface="Times New Roman"/>
              </a:rPr>
              <a:t> (Cont.)</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Com. “C” 39547 (17/09/04) dispuso qu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os servicios prestados  a   no  residentes  deben liquidarse  por  el  100%  del  monto  en   divisas efectivamente  percibido,  neto  de  retenciones o descuentos efectuados en el exterior.</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servicios prestados en el país a no residentes, deben    liquidarse    por   el   100%   del   monto percibid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br>
              <a:rPr sz="4000"/>
            </a:br>
            <a:r>
              <a:rPr b="1" lang="es-ES_tradnl" sz="4000" spc="-1" strike="noStrike">
                <a:solidFill>
                  <a:srgbClr val="000000"/>
                </a:solidFill>
                <a:latin typeface="Times New Roman"/>
              </a:rPr>
              <a:t>Decreto 1606 del 05.12.01. Art. 5.</a:t>
            </a:r>
            <a:r>
              <a:rPr b="0" lang="es-ES_tradnl" sz="4000" spc="-1" strike="noStrike">
                <a:solidFill>
                  <a:srgbClr val="000000"/>
                </a:solidFill>
                <a:latin typeface="Times New Roman"/>
              </a:rPr>
              <a:t> </a:t>
            </a:r>
            <a:br>
              <a:rPr sz="4000"/>
            </a:br>
            <a:r>
              <a:rPr b="0" lang="es-ES_tradnl" sz="3600" spc="-1" strike="noStrike">
                <a:solidFill>
                  <a:srgbClr val="000000"/>
                </a:solidFill>
                <a:latin typeface="Times New Roman"/>
              </a:rPr>
              <a:t>Obligatoriedad de ingreso de las divisas de exportació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roga al Decreto 530 del 27.03.1991.</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establece la vigencia del Artículo 1 del Decreto Nº 2581 del 10.04.1964.</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rmas de Aplicación en el Mercado de Cambios.</a:t>
            </a:r>
            <a:br>
              <a:rPr sz="2400"/>
            </a:br>
            <a:r>
              <a:rPr b="0" lang="es-ES_tradnl" sz="2400" spc="-1" strike="noStrike">
                <a:solidFill>
                  <a:srgbClr val="000000"/>
                </a:solidFill>
                <a:latin typeface="Times New Roman"/>
              </a:rPr>
              <a:t> B.C.R.A.</a:t>
            </a:r>
            <a:endParaRPr b="0" lang="en-US" sz="2400" spc="-1" strike="noStrike">
              <a:solidFill>
                <a:srgbClr val="000000"/>
              </a:solidFill>
              <a:latin typeface="Times New Roman"/>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unicación “A” 3473</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2" marL="100584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égimen de negociación de operaciones de comercio exterior.  </a:t>
            </a:r>
            <a:endParaRPr b="0" lang="en-US" sz="2000" spc="-1" strike="noStrike">
              <a:solidFill>
                <a:srgbClr val="000000"/>
              </a:solidFill>
              <a:latin typeface="Times New Roman"/>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unicación “A” 3493</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lvl="2" marL="100584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égimen de Seguimiento de las negociaciones de divisas de exportación.</a:t>
            </a:r>
            <a:endParaRPr b="0" lang="en-US" sz="2000" spc="-1" strike="noStrike">
              <a:solidFill>
                <a:srgbClr val="000000"/>
              </a:solidFill>
              <a:latin typeface="Times New Roman"/>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700" spc="-1" strike="noStrike" u="sng">
                <a:solidFill>
                  <a:srgbClr val="000000"/>
                </a:solidFill>
                <a:uFillTx/>
                <a:latin typeface="Times New Roman"/>
              </a:rPr>
              <a:t>Liquidación de activos no financieros no producidos – Com. “A” 4344</a:t>
            </a:r>
            <a:endParaRPr b="0" lang="en-US" sz="37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    </a:t>
            </a:r>
            <a:r>
              <a:rPr b="0" lang="es-AR" sz="3200" spc="-1" strike="noStrike">
                <a:solidFill>
                  <a:srgbClr val="000000"/>
                </a:solidFill>
                <a:latin typeface="Times New Roman"/>
              </a:rPr>
              <a:t>Los     montos     percibidos     en    moneda extranjera por residentes por la enajenación de  activos  no  financieros  no  producidos, deben   liquidarse   en el  MULC dentro de los    30   días   corridos   de   la   fecha   de  percepción de los fondos en  el  país o en el exterior, o de su acreditación en cuentas del exteri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000000"/>
                </a:solidFill>
                <a:uFillTx/>
                <a:latin typeface="Times New Roman"/>
              </a:rPr>
              <a:t>Liquidación de activos no financieros no producidos – Com. “A” 4344</a:t>
            </a:r>
            <a:r>
              <a:rPr b="0" lang="es-AR" sz="3600" spc="-1" strike="noStrike">
                <a:solidFill>
                  <a:srgbClr val="000000"/>
                </a:solidFill>
                <a:latin typeface="Times New Roman"/>
              </a:rPr>
              <a:t> (Cont.)</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nceptos alcanz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ses de deportist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nt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rc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s de auto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galí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s de licenci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cesiones, arrendamientos y otros contratos transferible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0663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Times New Roman"/>
              </a:rPr>
              <a:t>Régimen aplicable </a:t>
            </a:r>
            <a:br>
              <a:rPr sz="5400"/>
            </a:br>
            <a:r>
              <a:rPr b="0" lang="es-AR" sz="5400" spc="-1" strike="noStrike">
                <a:solidFill>
                  <a:srgbClr val="000000"/>
                </a:solidFill>
                <a:latin typeface="Times New Roman"/>
              </a:rPr>
              <a:t>a los ingresos de capitales</a:t>
            </a:r>
            <a:endParaRPr b="0" lang="en-US" sz="5400" spc="-1" strike="noStrike">
              <a:solidFill>
                <a:srgbClr val="000000"/>
              </a:solidFill>
              <a:latin typeface="Times New Roman"/>
            </a:endParaRPr>
          </a:p>
        </p:txBody>
      </p:sp>
      <p:sp>
        <p:nvSpPr>
          <p:cNvPr id="109" name="PlaceHolder 2"/>
          <p:cNvSpPr>
            <a:spLocks noGrp="1"/>
          </p:cNvSpPr>
          <p:nvPr>
            <p:ph type="subTitle"/>
          </p:nvPr>
        </p:nvSpPr>
        <p:spPr>
          <a:xfrm>
            <a:off x="1371600" y="52045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594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600" spc="-1" strike="noStrike" u="sng">
              <a:solidFill>
                <a:srgbClr val="000000"/>
              </a:solidFill>
              <a:uFillTx/>
              <a:latin typeface="Times New Roman"/>
            </a:endParaRPr>
          </a:p>
        </p:txBody>
      </p:sp>
      <p:sp>
        <p:nvSpPr>
          <p:cNvPr id="111" name="PlaceHolder 2"/>
          <p:cNvSpPr>
            <a:spLocks noGrp="1"/>
          </p:cNvSpPr>
          <p:nvPr>
            <p:ph type="subTitle"/>
          </p:nvPr>
        </p:nvSpPr>
        <p:spPr>
          <a:xfrm>
            <a:off x="456840" y="762120"/>
            <a:ext cx="8381880" cy="5790960"/>
          </a:xfrm>
          <a:prstGeom prst="rect">
            <a:avLst/>
          </a:prstGeom>
          <a:noFill/>
          <a:ln w="0">
            <a:noFill/>
          </a:ln>
        </p:spPr>
        <p:txBody>
          <a:bodyPr lIns="90000" rIns="90000" tIns="46800" bIns="46800" anchor="t">
            <a:noAutofit/>
          </a:bodyPr>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Times New Roman"/>
              </a:rPr>
              <a:t> </a:t>
            </a:r>
            <a:r>
              <a:rPr b="0" lang="es-AR" sz="3000" spc="-1" strike="noStrike">
                <a:solidFill>
                  <a:srgbClr val="000000"/>
                </a:solidFill>
                <a:latin typeface="Times New Roman"/>
              </a:rPr>
              <a:t>Com. “A” 3712 (03/09/02): Las operaciones de endeudamiento financiero con el exterior del SPNF, deben ser ingresadas y liquidadas en el MULC.</a:t>
            </a:r>
            <a:endParaRPr b="0" lang="en-US" sz="3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Times New Roman"/>
              </a:rPr>
              <a:t> </a:t>
            </a:r>
            <a:r>
              <a:rPr b="0" lang="es-AR" sz="3000" spc="-1" strike="noStrike">
                <a:solidFill>
                  <a:srgbClr val="000000"/>
                </a:solidFill>
                <a:latin typeface="Times New Roman"/>
              </a:rPr>
              <a:t>Com. “A” 3820 (25/11/02): Las emisiones de títulos de deuda del SPF y SPNF, que sean denominados en moneda extranjera, y cuyos servicios de capital e intereses no sean exclusivamente pagaderos en pesos en el país, deben ser suscriptos en moneda extranjera y los fondos obtenidos deberán ser liquidados en el MULC.</a:t>
            </a:r>
            <a:endParaRPr b="0" lang="en-US" sz="3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34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13"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4142 (18/05/04):   </a:t>
            </a:r>
            <a:r>
              <a:rPr b="0" lang="es-ES" sz="2800" spc="-1" strike="noStrike">
                <a:solidFill>
                  <a:srgbClr val="000000"/>
                </a:solidFill>
                <a:latin typeface="Times New Roman"/>
              </a:rPr>
              <a:t>Establece   que   el ingreso   y   liquidación   en  el  MULC  de    los  nuevos endeudamientos  de   carácter financiero, deben   realizarse  dentro  de  un  plazo  que  no exceda  los 30 días corridos desde   la   fecha  de  desembolso  de  los  fo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m. “A” 4321 (17/03/05):   Dispuso    que   los</a:t>
            </a:r>
            <a:r>
              <a:rPr b="0" lang="es-ES" sz="2800" spc="-1" strike="noStrike">
                <a:solidFill>
                  <a:srgbClr val="000000"/>
                </a:solidFill>
                <a:latin typeface="Times New Roman"/>
              </a:rPr>
              <a:t> endeudamientos   de  carácter    financiero cuyos   desembolsos fueran mayores a  USD 50.000.000  deben   liquidarse  en  el  MULC dentro  de   los   90   días  corridos desde la fecha de desembolso de los fon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520" y="304920"/>
            <a:ext cx="8458200" cy="62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imes New Roman"/>
              </a:rPr>
              <a:t>Res. Mecon 292/05 – Com. “A” 4354 (26/05/05)</a:t>
            </a:r>
            <a:r>
              <a:rPr b="0" lang="es-A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mplió  a  365  días   corridos   el  plazo   mínimo  de   los endeudamientos financieros  del  SF  y  del  SPNF,  desembolsados  o  renovados a partir del 26/05/0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Times New Roman"/>
              </a:rPr>
              <a:t>Decreto 616/05. Com. “A” 4359 (10/06/05)</a:t>
            </a:r>
            <a:r>
              <a:rPr b="0" lang="es-AR" sz="2800" spc="-1" strike="noStrike">
                <a:solidFill>
                  <a:srgbClr val="000000"/>
                </a:solidFill>
                <a:latin typeface="Times New Roman"/>
              </a:rPr>
              <a:t>. Derogó el Dec. 285/03 y la Res. Mecon 292/05:</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os nuevos endeudamientos financieros ingresados en el MULC y las renovaciones de deudas con el exterior de residentes del SF y del SPNF, realizadas a partir del 10/06/05 inclusive, deben pactarse y mantenerse por plazos mínimos de 365 días corr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762120"/>
            <a:ext cx="7772400" cy="5333760"/>
          </a:xfrm>
          <a:prstGeom prst="rect">
            <a:avLst/>
          </a:prstGeom>
          <a:noFill/>
          <a:ln w="0">
            <a:noFill/>
          </a:ln>
        </p:spPr>
        <p:txBody>
          <a:bodyPr anchor="t">
            <a:normAutofit/>
          </a:bodyPr>
          <a:p>
            <a:pPr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Times New Roman"/>
              </a:rPr>
              <a:t>Excepciones al plazo mínimo de endeudamiento de 365 días</a:t>
            </a:r>
            <a:r>
              <a:rPr b="0" lang="es-AR" sz="3200" spc="-1" strike="noStrike">
                <a:solidFill>
                  <a:srgbClr val="000000"/>
                </a:solidFill>
                <a:latin typeface="Times New Roman"/>
              </a:rPr>
              <a:t>:</a:t>
            </a:r>
            <a:r>
              <a:rPr b="0" lang="es-AR" sz="3400" spc="-1" strike="noStrike">
                <a:solidFill>
                  <a:srgbClr val="000000"/>
                </a:solidFill>
                <a:latin typeface="Times New Roman"/>
              </a:rPr>
              <a:t> </a:t>
            </a:r>
            <a:endParaRPr b="0" lang="en-US" sz="3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aldos de corresponsalía de las entidades autorizadas a operar en cambios, en la medida que no correspondan a líneas financieras de crédito.</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s emisiones primarias de títulos de deuda que cuenten con oferta pública y cotización en mercados autorregulados.</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14040" y="914040"/>
            <a:ext cx="7467480" cy="4724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a:t>
            </a:r>
            <a:endParaRPr b="0" lang="en-US" sz="3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Times New Roman"/>
              </a:rPr>
              <a:t>La Com. “A” 4359 reglamentó la constitución de depósitos no remunerados en EF locales, en dólares estadounidenses por el 30% del total de la operación, cuando se registren a partir del 10/06/05 ingresos en el MULC por los siguientes conceptos:</a:t>
            </a:r>
            <a:endParaRPr b="0" lang="en-US" sz="3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04560" y="380880"/>
            <a:ext cx="8381880" cy="5943600"/>
          </a:xfrm>
          <a:prstGeom prst="rect">
            <a:avLst/>
          </a:prstGeom>
          <a:noFill/>
          <a:ln w="0">
            <a:noFill/>
          </a:ln>
        </p:spPr>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 </a:t>
            </a:r>
            <a:r>
              <a:rPr b="1" lang="es-AR" sz="3200" spc="-1" strike="noStrike" u="sng">
                <a:solidFill>
                  <a:srgbClr val="000000"/>
                </a:solidFill>
                <a:uFillTx/>
                <a:latin typeface="Times New Roman"/>
              </a:rPr>
              <a:t>Constitución de depósitos no remunerado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Times New Roman"/>
              </a:rPr>
              <a:t>Conceptos alcanzados</a:t>
            </a:r>
            <a:endParaRPr b="0" lang="en-US" sz="3200" spc="-1" strike="noStrike">
              <a:solidFill>
                <a:srgbClr val="000000"/>
              </a:solidFill>
              <a:latin typeface="Times New Roman"/>
            </a:endParaRPr>
          </a:p>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udas financieras del SF/SPNF. Renovaciones.</a:t>
            </a:r>
            <a:endParaRPr b="0" lang="en-US" sz="2800" spc="-1" strike="noStrike">
              <a:solidFill>
                <a:srgbClr val="000000"/>
              </a:solidFill>
              <a:latin typeface="Times New Roman"/>
            </a:endParaRPr>
          </a:p>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misiones primarias de acciones de empresas residentes, en la medida que no constituyan fondos de inversión directa.</a:t>
            </a:r>
            <a:endParaRPr b="0" lang="en-US" sz="2800" spc="-1" strike="noStrike">
              <a:solidFill>
                <a:srgbClr val="000000"/>
              </a:solidFill>
              <a:latin typeface="Times New Roman"/>
            </a:endParaRPr>
          </a:p>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siones de portafolio de no residentes destinados a tenencias de moneda local y de activos y pasivos financieros del SF y SPNF.</a:t>
            </a:r>
            <a:endParaRPr b="0" lang="en-US" sz="2800" spc="-1" strike="noStrike">
              <a:solidFill>
                <a:srgbClr val="000000"/>
              </a:solidFill>
              <a:latin typeface="Times New Roman"/>
            </a:endParaRPr>
          </a:p>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nversiones de portafolio de no residentes destinadas a la adquisición en mercados secundarios de valores emitidos por el sector público.</a:t>
            </a:r>
            <a:endParaRPr b="0" lang="en-US" sz="2800" spc="-1" strike="noStrike">
              <a:solidFill>
                <a:srgbClr val="000000"/>
              </a:solidFill>
              <a:latin typeface="Times New Roman"/>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Times New Roman"/>
              </a:rPr>
              <a:t>Conceptos alcanzados</a:t>
            </a:r>
            <a:endParaRPr b="0" lang="en-US" sz="32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m.   “A”  4377   (29/06/05)   incorporó  los siguientes conceptos: </a:t>
            </a:r>
            <a:endParaRPr b="0" lang="en-US" sz="2800" spc="-1" strike="noStrike">
              <a:solidFill>
                <a:srgbClr val="000000"/>
              </a:solidFill>
              <a:latin typeface="Times New Roman"/>
            </a:endParaRPr>
          </a:p>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siones de portafolio de no residentes destinados a la suscripción primaria de títulos emitidos por el B.C.R.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gresos en el MULC por ventas de activos externos de residentes del sector privado, por el excedente que supere el equivalente a USD 2.000.000 por mes calendar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Normas de Aplicación en el Mercado de Cambios.</a:t>
            </a:r>
            <a:br>
              <a:rPr sz="4400"/>
            </a:br>
            <a:r>
              <a:rPr b="0" lang="es-ES_tradnl" sz="4400" spc="-1" strike="noStrike">
                <a:solidFill>
                  <a:srgbClr val="000000"/>
                </a:solidFill>
                <a:latin typeface="Times New Roman"/>
              </a:rPr>
              <a:t>B.C.R.A.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fontScale="77000"/>
          </a:bodyPr>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ción “A” 3722 y complementaria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263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imita la realización de compras de billetes y divisas en moneda extranjera.</a:t>
            </a:r>
            <a:endParaRPr b="0" lang="en-US" sz="2800" spc="-1" strike="noStrike">
              <a:solidFill>
                <a:srgbClr val="000000"/>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ción “A” 3972</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263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égimen aplicable al ingreso y egreso de divisas al mercado local.</a:t>
            </a:r>
            <a:endParaRPr b="0" lang="en-US" sz="2800" spc="-1" strike="noStrike">
              <a:solidFill>
                <a:srgbClr val="000000"/>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520" y="533160"/>
            <a:ext cx="84582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Times New Roman"/>
              </a:rPr>
              <a:t>Conceptos alcanzados</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Resolución   637/05   del   Mecon   incorporó   las siguientes operaciones, a partir del 17/11/05: </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ingreso de fondos al MULC destinado a suscribir la emisión primaria de títulos, bonos  o  certificados de participación    emitidos    por    el    fiduciario   de   un fideicomiso, cuando resulten aplicables a la adquisición de alguno de los activos fideicomiti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533160"/>
            <a:ext cx="8458200" cy="5715000"/>
          </a:xfrm>
          <a:prstGeom prst="rect">
            <a:avLst/>
          </a:prstGeom>
          <a:noFill/>
          <a:ln w="0">
            <a:noFill/>
          </a:ln>
        </p:spPr>
        <p:txBody>
          <a:bodyPr lIns="90000" rIns="90000" tIns="46800" bIns="46800" anchor="t">
            <a:no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quidaciones de residentes originadas en préstamos       en moneda extranjera otorgados por una EF loc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gresos en el  MULC por ventas de activos externos  de  residentes   del   sector  privado,  destinados  a  la suscripción  primaria  de   títulos   públicos  emitidos  por  el  Gob. Nac., cuyos  fondos   sean   aplicados  a  la  compra  de  moneda extranjera para hacer frente a los servicios de su deuda.</a:t>
            </a:r>
            <a:endParaRPr b="0" lang="en-US" sz="2800" spc="-1" strike="noStrike">
              <a:solidFill>
                <a:srgbClr val="000000"/>
              </a:solidFill>
              <a:latin typeface="Times New Roman"/>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portes de inversiones directas en el país, en la medida qu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encuentre  iniciado  el  trámite  de  inscripción de la capitalización   definitiva  del  aporte,  ante  el  Registro Público de Comercio.</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transferencia de los fondos haya sido  ordenada  por el  inversor  o   corresponda  a   una  retransferencia  de  fondos  desde  la  cuenta  en  el  exterior de  la sociedad loca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600" y="533160"/>
            <a:ext cx="868680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ingresos por ventas de participaciones en empresas locales  a  inversores  directos,  en  la  medida que sean respaldados con los respectivos contratos, y:</a:t>
            </a:r>
            <a:endParaRPr b="0" lang="en-US" sz="2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haya iniciado el trámite de modificación del contrato social, ante el Registro Público de Comercio, ó</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encuentre  registrada  la  transferencia  de las nuevas acciones en el Libro de Registro de Acci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920" y="228240"/>
            <a:ext cx="8534160" cy="6248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ingresos por inversiones de no residentes aplicadas  a   la   compra   de   inmuebles,   en    la    medida   que simultáneamente se proceda a la  firma  de  la  escritura  traslativa de dominio a favor del no residen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gresos   por     endeudamientos     con     Organismos Multilaterales  y  Bilaterales  de   Crédito,   y  con    las Agencias Oficiales de Crédito, listadas  en el Anexo de la Com. “A” 432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gresos por endeudamientos financieros con el exterior del  SF  y  SPNF,  en  la medida  que   se  afecten   a   la cancelación  de  deuda  externa  y/o  a   la formación de activos externos a largo plaz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304920"/>
            <a:ext cx="8381880" cy="632448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gresos     por   endeudamientos   financieros  con  el exterior del SPNF, en la  medida que:</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an  contraídos  y  cancelados  a  una  vida promedio no menor a los dos años, y</a:t>
            </a:r>
            <a:endParaRPr b="0" lang="en-US" sz="2800" spc="-1" strike="noStrike">
              <a:solidFill>
                <a:srgbClr val="000000"/>
              </a:solidFill>
              <a:latin typeface="Times New Roman"/>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én   destinados   a    la   inversión   en   activos   no financiero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fondos   de    financiamiento   externo   que  sean  contraídos y cancelados a una vida promedio no menor  a  dos  años,  que   sean   ingresados  por fundaciones y asociaciones civiles, en la medida  que  cumplan  los  requisitos establecidos  en  la Com. “A” 4427.</a:t>
            </a:r>
            <a:endParaRPr b="0" lang="en-US" sz="2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égimen aplicable a los ingresos</a:t>
            </a:r>
            <a:br>
              <a:rPr sz="3600"/>
            </a:br>
            <a:r>
              <a:rPr b="1" lang="en-US" sz="3600" spc="-1" strike="noStrike" u="sng">
                <a:solidFill>
                  <a:srgbClr val="000000"/>
                </a:solidFill>
                <a:uFillTx/>
                <a:latin typeface="Times New Roman"/>
              </a:rPr>
              <a:t>de capitales</a:t>
            </a:r>
            <a:r>
              <a:rPr b="0" lang="en-US" sz="3600" spc="-1" strike="noStrike">
                <a:solidFill>
                  <a:srgbClr val="000000"/>
                </a:solidFill>
                <a:latin typeface="Times New Roman"/>
              </a:rPr>
              <a:t> (Cont.)</a:t>
            </a:r>
            <a:endParaRPr b="0" lang="en-US" sz="3600" spc="-1" strike="noStrike">
              <a:solidFill>
                <a:srgbClr val="000000"/>
              </a:solidFill>
              <a:latin typeface="Times New Roman"/>
            </a:endParaRPr>
          </a:p>
        </p:txBody>
      </p:sp>
      <p:sp>
        <p:nvSpPr>
          <p:cNvPr id="12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onstitución de depósitos no remunerados Excepcion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ciones por parte de las EF de líneas de crédito del exterior de carácter financiero, en  la medida que dentro de los 5 días hábiles los fondos  sean  aplicados   al  otorgamiento  de préstamos locales al SPNF, que cumplan con las condiciones establecidas precedentemen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égimen aplicable a los ingresos</a:t>
            </a:r>
            <a:br>
              <a:rPr sz="3600"/>
            </a:br>
            <a:r>
              <a:rPr b="1" lang="en-US" sz="3600" spc="-1" strike="noStrike" u="sng">
                <a:solidFill>
                  <a:srgbClr val="000000"/>
                </a:solidFill>
                <a:uFillTx/>
                <a:latin typeface="Times New Roman"/>
              </a:rPr>
              <a:t>de capitales</a:t>
            </a:r>
            <a:r>
              <a:rPr b="0" lang="en-US" sz="3600" spc="-1" strike="noStrike">
                <a:solidFill>
                  <a:srgbClr val="000000"/>
                </a:solidFill>
                <a:latin typeface="Times New Roman"/>
              </a:rPr>
              <a:t> (Cont.)</a:t>
            </a:r>
            <a:endParaRPr b="0" lang="en-US" sz="3600" spc="-1" strike="noStrike">
              <a:solidFill>
                <a:srgbClr val="000000"/>
              </a:solidFill>
              <a:latin typeface="Times New Roman"/>
            </a:endParaRPr>
          </a:p>
        </p:txBody>
      </p:sp>
      <p:sp>
        <p:nvSpPr>
          <p:cNvPr id="128" name="PlaceHolder 2"/>
          <p:cNvSpPr>
            <a:spLocks noGrp="1"/>
          </p:cNvSpPr>
          <p:nvPr>
            <p:ph type="subTitle"/>
          </p:nvPr>
        </p:nvSpPr>
        <p:spPr>
          <a:xfrm>
            <a:off x="456840" y="1905120"/>
            <a:ext cx="8001000" cy="4419360"/>
          </a:xfrm>
          <a:prstGeom prst="rect">
            <a:avLst/>
          </a:prstGeom>
          <a:noFill/>
          <a:ln w="0">
            <a:noFill/>
          </a:ln>
        </p:spPr>
        <p:txBody>
          <a:bodyPr lIns="90000" rIns="90000" tIns="46800" bIns="46800" anchor="t">
            <a:noAutofit/>
          </a:bodyPr>
          <a:p>
            <a:pPr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Las operaciones encuadradas bajo este régimen deberán ser informadas al B.C.R.A. en cumplimiento de la Com. “A” 3602. (Pasivos externos del Sector Privado).</a:t>
            </a:r>
            <a:endParaRPr b="0" lang="en-US" sz="32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Los incumplimientos al presente régimen: pasibles de las sanciones previstas en el Régimen Penal Cambiario.</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u="sng">
              <a:solidFill>
                <a:srgbClr val="000000"/>
              </a:solidFill>
              <a:uFillTx/>
              <a:latin typeface="Times New Roman"/>
            </a:endParaRPr>
          </a:p>
        </p:txBody>
      </p:sp>
      <p:sp>
        <p:nvSpPr>
          <p:cNvPr id="130" name="PlaceHolder 2"/>
          <p:cNvSpPr>
            <a:spLocks noGrp="1"/>
          </p:cNvSpPr>
          <p:nvPr>
            <p:ph type="subTitle"/>
          </p:nvPr>
        </p:nvSpPr>
        <p:spPr>
          <a:xfrm>
            <a:off x="533160" y="609480"/>
            <a:ext cx="800100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r. C.P. Julio E. Ghigliazza</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pector Sr. de Control de Cambios</a:t>
            </a:r>
            <a:endParaRPr b="0" lang="en-US" sz="28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ra. C.P. Carolina Roggero</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 de Negociación de divisa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SPECCION GENERAL DE CONTROL DE CAMBIOS</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F.y C. – B.C.R.A.</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bril de 2006</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égimen Penal Cambiario</a:t>
            </a:r>
            <a:br>
              <a:rPr sz="6000"/>
            </a:br>
            <a:endParaRPr b="0" lang="en-US" sz="60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Ley 19.359</a:t>
            </a:r>
            <a:endParaRPr b="0" lang="en-US" sz="5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o. 199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Times New Roman"/>
              </a:rPr>
              <a:t>Art. 1</a:t>
            </a:r>
            <a:r>
              <a:rPr b="0" lang="es-ES_tradnl" sz="4000" spc="-1" strike="noStrike">
                <a:solidFill>
                  <a:srgbClr val="000000"/>
                </a:solidFill>
                <a:latin typeface="Times New Roman"/>
              </a:rPr>
              <a:t>:</a:t>
            </a:r>
            <a:br>
              <a:rPr sz="4000"/>
            </a:br>
            <a:r>
              <a:rPr b="0" lang="es-ES" sz="4000" spc="-1" strike="noStrike">
                <a:solidFill>
                  <a:srgbClr val="000000"/>
                </a:solidFill>
                <a:latin typeface="Times New Roman"/>
              </a:rPr>
              <a:t>Serán reprimidos con las sanciones de la presente Ley:</a:t>
            </a:r>
            <a:r>
              <a:rPr b="0" lang="es-E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5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egociar cambios sin intervención de institución autorizada.</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Operar en cambio sin estar autorizados.</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Falsa declaración cambiaria.</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a:t>
            </a:r>
            <a:r>
              <a:rPr b="0" lang="es-ES_tradnl" sz="3200" spc="-1" strike="noStrike">
                <a:solidFill>
                  <a:srgbClr val="000000"/>
                </a:solidFill>
                <a:latin typeface="Times New Roman"/>
              </a:rPr>
              <a:t>O</a:t>
            </a:r>
            <a:r>
              <a:rPr b="0" lang="es-ES" sz="3200" spc="-1" strike="noStrike">
                <a:solidFill>
                  <a:srgbClr val="000000"/>
                </a:solidFill>
                <a:latin typeface="Times New Roman"/>
              </a:rPr>
              <a:t>misión de rectificar declaraciones erróneas.  </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9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Operación de cambio que no se realice por l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Cant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Moneda o Cotiz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Plazo y demás condiciones establecida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 sz="3200" spc="-1" strike="noStrike">
                <a:solidFill>
                  <a:srgbClr val="000000"/>
                </a:solidFill>
                <a:latin typeface="Times New Roman"/>
              </a:rPr>
              <a:t>normativamen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Todo acto u omisión que infrinja la normativa cambiar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Times New Roman"/>
              </a:rPr>
              <a:t>Art. 5</a:t>
            </a:r>
            <a:r>
              <a:rPr b="1" lang="es-ES_tradnl" sz="4000" spc="-1" strike="noStrike">
                <a:solidFill>
                  <a:srgbClr val="000000"/>
                </a:solidFill>
                <a:latin typeface="Times New Roman"/>
              </a:rPr>
              <a:t>:</a:t>
            </a:r>
            <a:br>
              <a:rPr sz="4000"/>
            </a:br>
            <a:endParaRPr b="0" lang="en-US" sz="4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0" lang="es-ES_tradnl" sz="4000" spc="-1" strike="noStrike">
                <a:solidFill>
                  <a:srgbClr val="000000"/>
                </a:solidFill>
                <a:latin typeface="Times New Roman"/>
              </a:rPr>
              <a:t>El B.C.R.A. tendrá a su cargo la fiscalización de quienes operen en cambios y la investigación de las infracciones previstas en esta Ley.</a:t>
            </a:r>
            <a:r>
              <a:rPr b="0" lang="es-ES_tradnl"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Times New Roman"/>
              </a:rPr>
              <a:t>Facultades del B.C.R.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erir inform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itar y hacer comparec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alizar pericias técn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icitar órdenes de allana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brar ac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gir la presentación de libros y documentos hasta 10 añ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20:23:24Z</dcterms:created>
  <dc:creator>L10434</dc:creator>
  <dc:description/>
  <dc:language>en-US</dc:language>
  <cp:lastModifiedBy>C.P.C.E.C.A.B.A.</cp:lastModifiedBy>
  <dcterms:modified xsi:type="dcterms:W3CDTF">2006-05-10T20:49:29Z</dcterms:modified>
  <cp:revision>182</cp:revision>
  <dc:subject/>
  <dc:title> Decreto 1606/2001. Artículo 5. Obligatoriedad de ingreso de las divisas de exportación.</dc:title>
</cp:coreProperties>
</file>