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1B0-244B-421D-95E5-6155A65E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2BC-E095-477E-B6CC-0A4F5F77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B49-7B54-44BA-AF65-ACF8E5E1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577-6550-4BFE-9F10-F054DA63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9A84-009D-4AD4-8BA1-8F5C6787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3DB-B94A-409B-B5D3-038191B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993-C247-4961-BD91-8CAAF20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100-0446-4FDD-876C-627FE203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198-2113-40B4-A668-7DF34D0A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1F1-0082-4175-8387-07B6F3F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425-6A26-474F-80C2-B0BB009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2D9-C12C-4B47-BE8A-58781C1F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E8A0-DFE0-4508-8415-841601F85A6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sejo Profesional De Ciencias Economicas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la C.A.B.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25326 de protección de datos personales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Prácticos del Relevamiento e Inscripción</a:t>
            </a: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ra. Silvia Catalina Lascala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r. Carlos María Parzianell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22 de marzo de 200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uesta in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sponsable y / o  usuarios de cada 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da de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de l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v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vamiento de contenido de las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cación del cuestionario, por cada 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la información en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formularios de inscri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mplimento de legalida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idad de los datos (art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ertos, adecuados, pertinentes, exactos y actu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er usados con finalidad distinta para la que fueron recab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citud: (art. 3) (art.24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ormación de archivos de datos será lícita cuando se inscri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umplimiento de legal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ormación a los titulares (art.6): finalidad, ubicación, carácter obligatorio o no, derecho de acces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ntimiento (Art. 5): requisito de licitud, libre expreso e inform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tamiento: prohibición de tratar datos sensibles, salvo los autorizados por ley por responder al interés general, o cuando se encuentren disoc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mplimiento de leg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ión. (art.11): Los datos personales objeto del tratamiento solo pueden ser cedidos para el cumplimiento de los fines directamente relacionados con el interés legitimo del cedente y del cesionario y con el previo consentimiento del titular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abilidad en casc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s de seguridad (Art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miento con normas técnicas y organizativas par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antizar la confidenci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tar adulteración y pérd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tar la consulta o tratamiento no autoriz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tar riesgos por acción humana o medio téc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álisis cual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s de declarar las 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bic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gregadas o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e de sit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idad de 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miento legal  y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end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ignar  al Líder del Proyecto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blecer procedimientos administrativos internos  que permitan la adecuación a la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pacitar a todos los usuarios de las distintas áreas de la organización, para generar un cambio cultural sobre la protec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imiento de la Gest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 sido un gusto compartir el tema con uste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edamos a su dis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cala@neogestion3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neogestion3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olu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ma del Derecho que regula el uso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ón personal. Derecho al honor y 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imidad de las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a: Convenio 108/1981. Ley Orgánica 15/199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dad de Puerto Seguro en Am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3 de la Constitución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25.326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bito de aplicación, principios gener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rechos y Oblig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ciones y pen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ción de protección 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creto 1558/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mentación de la Le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 el Registro Nacional de P.D.P.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posiciones de la Dirección Nacional de Protección de Dat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ículo 1 (Obje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sente ley tiene por objeto la protección 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os datos personales, asentados en archiv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os, bancos de datos, u otros medios técnic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tamiento de datos, sean éstos públicos o p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dos a dar informes, par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antizar 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or y a la intimidad de las perso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í como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o de la inform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 de las misma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e, de conformidad a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tiv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533520"/>
          <a:ext cx="9144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6324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cuación a la 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cuación de la organización a la legis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ño de papel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ario de bases por encuesta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miento de contenido de las 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cualitativo de las 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limiento de leg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limiento de normas de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s  de declarar la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e de situación y acciones inter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ones: Inscripción. Correctivas. Preventiv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ño de papel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uesta sobre bases de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rio de contenido de bases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leg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leg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dad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cho de ac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ón de fin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os con encargados de tra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itero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iones y obligaciones del pers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das de control de ac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rmas de uso (leg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pias de resguardo y preven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ditorias de cumpl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1:39:25Z</dcterms:created>
  <dc:creator>Coach</dc:creator>
  <dc:description/>
  <dc:language>en-US</dc:language>
  <cp:lastModifiedBy>C.P.C.E.C.A.B.A.</cp:lastModifiedBy>
  <dcterms:modified xsi:type="dcterms:W3CDTF">2006-03-23T15:00:40Z</dcterms:modified>
  <cp:revision>49</cp:revision>
  <dc:subject/>
  <dc:title>Ley de protección de datos personales Obligatoriedad para las instituciones educativas de gestión privada </dc:title>
</cp:coreProperties>
</file>