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27.wmf" ContentType="image/x-wmf"/>
  <Override PartName="/ppt/media/image3.wmf" ContentType="image/x-wmf"/>
  <Override PartName="/ppt/media/image26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0.wmf" ContentType="image/x-wmf"/>
  <Override PartName="/ppt/media/image21.wmf" ContentType="image/x-wmf"/>
  <Override PartName="/ppt/media/image19.wmf" ContentType="image/x-wmf"/>
  <Override PartName="/ppt/media/image18.png" ContentType="image/png"/>
  <Override PartName="/ppt/media/image17.png" ContentType="image/png"/>
  <Override PartName="/ppt/media/image16.png" ContentType="image/png"/>
  <Override PartName="/ppt/media/image15.wmf" ContentType="image/x-wmf"/>
  <Override PartName="/ppt/media/image14.wmf" ContentType="image/x-wmf"/>
  <Override PartName="/ppt/media/image1.png" ContentType="image/png"/>
  <Override PartName="/ppt/media/image2.wmf" ContentType="image/x-wmf"/>
  <Override PartName="/ppt/media/image25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A15DC-0D8A-4C6B-966A-FA3905065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2CD31-67E9-43E0-B7BA-F46C52154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BD524-AAF2-4B83-A183-DAAD5B661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7AA67-C132-4901-9B14-3DDFEEDEC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4D8C2-FA6A-4468-8FD9-F19E40F26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A36D0-1F65-46AB-806B-4E9434E1B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6941A-763B-420A-A4D7-65C67C3B7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593C6-C851-4CCF-9C5F-E718A9F2A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525F7-D878-45CF-8406-5BE8F1E3D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6673E-1621-486D-8E5E-0681F7D81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E9CC2-8485-4CB4-9FE3-65CBB7CE3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2ECD4-D3EA-44CE-8768-883412CD3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85531-DA1D-4C73-B843-B80BFFBCD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F3B51-E16B-44E5-86FC-2C3CE2BF4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EC06A-8391-45A8-A1FE-D238FD511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1F0FD-FEA5-4092-A422-DF4190709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CBA08-AD41-43A0-AE7F-72B44A8CD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85813-6D69-4E81-B69A-4D6C78BD1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02912-F611-4271-94ED-DFF73A9B3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5F27D-01A8-4691-B24F-CA098AC3F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15742-3034-4489-B377-180B12E87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77A48-0051-4349-81BB-1CE763AF5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B5DEF-6BC9-4C1B-AFE2-465B0309D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E2FF9-5FD2-49C8-9459-03DD261B1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52B0A-3225-4B14-80EC-EECC56D6432E}" type="slidenum">
              <a:rPr b="0" lang="es-E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5A753-8F15-4C38-BADE-47D92BAD00CA}" type="slidenum">
              <a:rPr b="0" lang="es-E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342900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Impuesto a las Ganancias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Impuesto sobre los Bienes Personales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aso práctico</a:t>
            </a:r>
            <a:br>
              <a:rPr sz="3200"/>
            </a:br>
            <a:br>
              <a:rPr sz="3600"/>
            </a:b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Buenos Aires, 6 de abril del 2006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676520" y="304920"/>
            <a:ext cx="6933960" cy="1807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6FAAD-8E9F-404C-9EC5-9E8E002C25A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ahoma"/>
              </a:rPr>
              <a:t>Rentas de 2da. Categoría</a:t>
            </a:r>
            <a:br>
              <a:rPr sz="4400"/>
            </a:b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Art. 45 LIG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Colocaciones de capital en gener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Locaciones de bienes mueb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Dividend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No computables para los accionistas (Art. 46 LIG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Si la distribución supera el resultado impositivo corresponde retención con carácter de pago único y definitivo (Art. 69.1 LIG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Rentas vitalicias, seguros de vida, seguros de retiro no originados en el trabajo perso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2215C-3693-4680-A65D-7C17F891F8C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ahoma"/>
              </a:rPr>
              <a:t>Rentas de 2da. Categoría</a:t>
            </a:r>
            <a:br>
              <a:rPr sz="4400"/>
            </a:b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Art. 45 LIG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4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Compraventa de accio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Dictámen 351 2003 Procurador del Tesoro de la Nació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Transferencia de inmateria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Excepción a la teoría de la fuen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Intereses presuntos (Art. 48 LIG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Todo crédito del contribuyente –salvo prueba en contrario- devenga un interés no menor a la tasa BNA para descuentos comercia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Venta de inmuebles a plazo no admite prueba en contra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C1F47-14D1-4874-95DA-C38CE5C53BE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ahoma"/>
              </a:rPr>
              <a:t>Gastos computables de la 2da. categorí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907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Impuestos, seguros, y amortizaciones que alcancen los bienes gravad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Deducciones admitidas por regalías (Art. 86 LIG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1219320" y="4191120"/>
          <a:ext cx="7545240" cy="1374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4191120"/>
                    <a:ext cx="7545240" cy="137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F9D4C-5697-4292-AEA3-1B76AD16377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50720" y="533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ahoma"/>
              </a:rPr>
              <a:t>Rentas de 2da. Categoría</a:t>
            </a:r>
            <a:br>
              <a:rPr sz="4400"/>
            </a:b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Art. 45 LIG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457200" y="2249640"/>
            <a:ext cx="8610480" cy="3666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75378-D5FD-4BF3-A4AA-D97F15EED28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ahoma"/>
              </a:rPr>
              <a:t>Rentas de 3ra. Categoría</a:t>
            </a:r>
            <a:br>
              <a:rPr sz="4400"/>
            </a:b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Art. 49 LIG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Empresas unipersonales, sociedades de hecho (Art.50 LIG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Circular 1080 05-09-79: existencia de un capital, fin de lucro, prestación habitual, dirigencia del trabajo remunerado de otras personas que prestan el servicio (no tareas auxiliares o de apoyo)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Suma de factor trabajo y mano de obra es distinto al desarrollo de una actividad personal con utilización de herramientas de trabajo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Ramos Jaime F., TFN Sala D 07-02-0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116AA-CB03-4205-A835-AA544100589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716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ahoma"/>
              </a:rPr>
              <a:t>Rentas de 3ra. Categoría</a:t>
            </a:r>
            <a:br>
              <a:rPr sz="4400"/>
            </a:b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Art. 49 LIG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144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Actividades profesionales complementadas con una actividad comercial (Art. 49 y Art. 79 LIG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Dictámen (DAT) 49 2003: hecho y prueba en cada cas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Utilización de servicios prestados por otros profesional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Significatividad del capital invertido en la explotació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Existencia de riesgo empresari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8FD36-86D3-4B41-A3F0-414F51AF2B4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716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ahoma"/>
              </a:rPr>
              <a:t>Rentas de 3ra. Categoría</a:t>
            </a:r>
            <a:br>
              <a:rPr sz="4400"/>
            </a:b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Art. 49 LIG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828800" y="1295280"/>
            <a:ext cx="5389560" cy="5410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0B67C-357F-4380-A27E-9D8F6C94050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ahoma"/>
              </a:rPr>
              <a:t>Rentas de 4ta. categorí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9072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Tratamiento de la Indemnización por Antigüedad en caso de despid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Tratamiento de la duplicación de la indemnización por antigüedad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Situaciones de retiro voluntari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Rescates de seguros de retir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Profesiones: compensaciones en dinero o especi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Director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Impuesto de igualació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3F054-8648-417E-9C3B-15EE696CFDB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ahoma"/>
              </a:rPr>
              <a:t>Imputación de rentas  </a:t>
            </a:r>
            <a:br>
              <a:rPr sz="4400"/>
            </a:br>
            <a:r>
              <a:rPr b="0" lang="es-ES" sz="4400" spc="-1" strike="noStrike">
                <a:solidFill>
                  <a:srgbClr val="000000"/>
                </a:solidFill>
                <a:latin typeface="Tahoma"/>
              </a:rPr>
              <a:t>Honorarios de directores</a:t>
            </a:r>
            <a:br>
              <a:rPr sz="4400"/>
            </a:b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Art. 18  LIG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Honorarios de directores, síndicos o miembros de consejos de vigilancia, socios administradores, serán imputados al ejercicio fiscal en que la asamblea apruebe su asignació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Los anticipos no constituyen ganancias hasta la aprobación de la asamble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A1687-3390-42A4-9BB4-D71659CDE11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716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ahoma"/>
              </a:rPr>
              <a:t>Rentas de 4ta. Categoría</a:t>
            </a:r>
            <a:br>
              <a:rPr sz="4400"/>
            </a:b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Art. 79 LIG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054160" y="1447920"/>
            <a:ext cx="5794560" cy="5297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F6D16-131B-4103-B9A4-153D3378255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ahoma"/>
              </a:rPr>
              <a:t>Impuesto a las Ganancia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B986F-A456-4E49-B2BE-4822E4C7629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ahoma"/>
              </a:rPr>
              <a:t>Cómputo de deducción especial 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Art. 23 LIG, Circular (DGI) 1291 16-07-93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2459160"/>
            <a:ext cx="9335880" cy="2341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58725-0778-4ADA-A809-A61DE184DB5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50720" y="533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ahoma"/>
              </a:rPr>
              <a:t>Exenciones</a:t>
            </a:r>
            <a:br>
              <a:rPr sz="4400"/>
            </a:b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Art. 20 LIG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Intereses de Caja de Ahor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Intereses de Plazo Fij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Ganancias derivadas de títulos, acciones, y demás títulos val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C9461-308F-4BE4-9BDC-C363BE89628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ahoma"/>
              </a:rPr>
              <a:t>Deducciones personales</a:t>
            </a:r>
            <a:br>
              <a:rPr sz="4400"/>
            </a:b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Art. 23 LIG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lvl="1" marL="71316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Ganancia no imponible: $ 4.020 anuales, solo para residentes en el paí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educción especial: $ 6.000 anual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5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s requisito para el cómputo el pago de aportes como trabajador autónomo del año que se liquid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5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e incrementa en un 200% cuando se trata de ganancias provenientes del desempeño de cargos públicos, relación de dependencia o jubilaciones y pensiones, excepto jubilaciones de privilegio (a partir del 1/1/2005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88900-CA61-446B-BB24-ACAE4460A6D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50720" y="533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ahoma"/>
              </a:rPr>
              <a:t>Cargas de Familia Deducibles</a:t>
            </a:r>
            <a:br>
              <a:rPr sz="4400"/>
            </a:b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Art. 23 LIG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907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-2772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ónyu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Hijo, hija, hijastro o hijastra menor de 24 años o incapacitado para el trabajo;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escendientes en línea recta (nieto, nieta, bisnieto o bisnieta) menores de 24 (veinticuatro) años o incapacitado para el trabajo; por cada ascendiente (padre, madre, abuela, abuelo, bisabuelo, bisabuela, padrastro y madrastra); por cada hermano o hermana menor de 24 (veinticuatro) años o incapacitado para el trabajo; por el suegro, por la suegra; por cada yerno o nuera menor de 24 (veinticuatro) años o incapacitado para el trabajo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520F9-DDE6-40F3-89FE-001A8B52B4B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50720" y="533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Requisitos que deben reunir las cargas de familia para ser deducibles</a:t>
            </a:r>
            <a:br>
              <a:rPr sz="2800"/>
            </a:b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Art. 23 LIG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star a cargo del contribuyen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er residentes en el paí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No tener ingresos superiores a $ 4.020 anua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C6F85-5056-471D-8772-A3EA831B6AA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ahoma"/>
              </a:rPr>
              <a:t>Rentas no alcanzada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430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Donacion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Herenci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D66BE-68EC-4B91-BD0B-D92A6435265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50720" y="533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ahoma"/>
              </a:rPr>
              <a:t>Deducciones generales</a:t>
            </a:r>
            <a:br>
              <a:rPr sz="4400"/>
            </a:b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Art. 22, 81 LIG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907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Seguros que cubran riesgo de muerte hasta el límite establecido por la ley de $ 996,23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Gastos de sepelio del contribuyente y sus cargas de familia hasta el límite establecido por la ley de $ 996,23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Donaciones hasta el 5% de la ganancia net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Aportes a planes de seguro de retiro privado hasta $ 1.261,16 anua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Servicio doméstico (Ley 26.063 art. 16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BDAB1-00B0-4309-94EF-3DD7B6723381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50720" y="533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ahoma"/>
              </a:rPr>
              <a:t>Gastos en asistencia Médica</a:t>
            </a:r>
            <a:br>
              <a:rPr sz="4000"/>
            </a:b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Art. 81 LIG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144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uotas o abonos abonados a instituciones que presten servicios de cobertura médico asistencial para el contribuyente y sus cargas de familia, hasta el 5% de la ganancia net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Honorarios de servicios de Asistencia Sanitaria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911DC-254F-4952-B7AD-740083C9F5A9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50720" y="6854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ahoma"/>
              </a:rPr>
              <a:t>Honorarios de servicios de Asistencia Sanitaria</a:t>
            </a:r>
            <a:br>
              <a:rPr sz="4400"/>
            </a:b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Art. 81 LIG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Gastos de hospitalización, honorarios médicos en todas las especialidades - también bioquímicos, odontólogos, kinesiólogos, fonoaudiólogos, psicólogos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Técnicos auxiliares de la medicina, otros servicios relacionados con la asistencia sanitaria, como transporte de heridos y ambulancia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BF4EE-EFC7-4BEA-BBED-D505E2068F55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350720" y="533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ahoma"/>
              </a:rPr>
              <a:t>Honorarios de servicios de Asistencia Sanitaria</a:t>
            </a:r>
            <a:br>
              <a:rPr sz="4400"/>
            </a:b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Art. 81 LIG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erá deducible hasta el 40 % del total facturado por el prestad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l total no puede superar el 5 % de ganancia neta del año, antes de computar ésta deducció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52844-712E-4706-BF19-8F17F1368454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ahoma"/>
              </a:rPr>
              <a:t>Atribución de ganancias</a:t>
            </a:r>
            <a:br>
              <a:rPr sz="4400"/>
            </a:b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Art. 28, 29, 30 LIG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A cada cónyuge, las ganancias provenientes de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Actividades personal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Bienes propi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Bienes adquiridos con su profesión, oficio, o empleo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Al marido, las ganancias provenientes de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Ganancias provenientes de los bienes gananciales except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Bienes adquiridos por la mujer producto de su trabajo personal (Dict. DAT 68/96: </a:t>
            </a:r>
            <a:r>
              <a:rPr b="0" lang="es-ES_tradnl" sz="1800" spc="-1" strike="noStrike" u="sng">
                <a:solidFill>
                  <a:srgbClr val="000000"/>
                </a:solidFill>
                <a:uFillTx/>
                <a:latin typeface="Tahoma"/>
              </a:rPr>
              <a:t>justificación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 del producto de la actividad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Que exista una separación judicial de bien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Que la administración de los bienes ganancias la tenga la mujer por resolución judici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63497-F070-4FFB-BB12-C2CD301882A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50720" y="533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00"/>
                </a:solidFill>
                <a:latin typeface="Tahoma"/>
              </a:rPr>
              <a:t>Intereses por préstamos hipotecarios</a:t>
            </a:r>
            <a:br>
              <a:rPr sz="4400"/>
            </a:br>
            <a:r>
              <a:rPr b="0" lang="es-AR" sz="2000" spc="-1" strike="noStrike">
                <a:solidFill>
                  <a:srgbClr val="000000"/>
                </a:solidFill>
                <a:latin typeface="Tahoma"/>
              </a:rPr>
              <a:t>Art. 81 LIG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144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 u="sng">
                <a:solidFill>
                  <a:srgbClr val="000000"/>
                </a:solidFill>
                <a:uFillTx/>
                <a:latin typeface="Tahoma"/>
              </a:rPr>
              <a:t>Requisitos para su deducibilid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Tahoma"/>
              </a:rPr>
              <a:t>Por créditos hipotecarios destinados a compra o construcción de la casa habitación del contribuyente (se aplica tanto a viviendas nuevas como usad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Tahoma"/>
              </a:rPr>
              <a:t>Hasta la suma de $ 20.000.- anuales de interes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B3E0F-59B6-48DD-A14F-6E8AB1FAB8B8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ómputo del pago a cuenta del Impuesto sobre débitos y créditos en cuentas bancarias en el IG e IGMP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ecreto (PEN) 534/04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ovimientos en cuentas en entidades financieras, gravados al 6‰, podrán computar como crédito de impuestos el 34% del impuesto originado en las sumas </a:t>
            </a:r>
            <a:r>
              <a:rPr b="0" lang="es-ES_tradnl" sz="2000" spc="-1" strike="noStrike" u="sng">
                <a:solidFill>
                  <a:srgbClr val="000000"/>
                </a:solidFill>
                <a:uFillTx/>
                <a:latin typeface="Tahoma"/>
              </a:rPr>
              <a:t>acreditadas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Otros movimientos que reemplacen el uso de cuentas bancarias, alcanzados por la tasa 12‰, podrán computar como crédito de impuestos el 17%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ago a cuenta contra el IG y/o el IGM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odrá efectuarse en la DD.JJ. o en sus anticipo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B302C-0B5B-48EE-87D0-1631C7DE1D57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ómputo del pago a cuenta del Impuesto sobre débitos y créditos en cuentas bancarias en el IG (e IGMP) 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ecreto (PEN) 534/04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14400" y="20570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l remanente no utilizado no podrá ser compensado contra otros impuestos pero si trasladado a períodos fiscales siguient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ociedades de hecho: el crédito se atribuirá a cada socio -en la proporción de su resultado impositivo- hasta el importe del incremento de la obligación fiscal producida por la incorporación de las ganancias de la entidad que origina el crédit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l importe computado como crédito no será deducible en el IG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Vigencia: 1 de mayo de 2004, a partir del año fiscal o, en su caso, ejercicio fiscal, que cierre con posterioridad a dicha fech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DB805-A07F-4282-BDEA-C91319800B0C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ahoma"/>
              </a:rPr>
              <a:t>Deducciones no admitidas</a:t>
            </a:r>
            <a:br>
              <a:rPr sz="4400"/>
            </a:b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Art. 88 LIG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430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Deducción de intangibles (llaves, marcas) sin plazo de duración determinados (Art. 88 h) LIG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Amortización y gastos provenientes de automóviles (Art. 88 l) LIG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No aplicable cuando constituya el objeto principal de la actividad (alquiler, taxis, remises, viajantes, similar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RG (AFIP) 94: $ 7.200 por unid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NE (AFIP) 02-1999 excedentes no se compens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Automóviles Art. 5 Ley 24.449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Transporte de personas hasta 8 plazas + conduc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Cuatro o más ruedas o 3 ruedas que superen 1.000 kg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A6DB9-AD48-4756-AE93-C8D963EE92E3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50720" y="533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ahoma"/>
              </a:rPr>
              <a:t>Liquida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152280" y="2376360"/>
            <a:ext cx="8839440" cy="1586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1B324-6558-498C-9DA4-FAB24CB52B11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350720" y="533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ahoma"/>
              </a:rPr>
              <a:t>Liquida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2201760" y="1955880"/>
            <a:ext cx="6332760" cy="4673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4D452-46FB-4C6D-BD83-5FF155F01982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350720" y="533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ahoma"/>
              </a:rPr>
              <a:t>Justificación y consumido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533520" y="2124000"/>
            <a:ext cx="8345520" cy="4187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3FD25-5E2D-4A2A-AB22-DDA0FC002099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ómputo del pago a cuenta del Impuesto sobre débitos y créditos en cuentas bancarias en el IG (e IGMP) 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ecreto (PEN) 534/04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1219320" y="2689200"/>
          <a:ext cx="7238880" cy="2187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689200"/>
                    <a:ext cx="7238880" cy="218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1F8A2-81B8-47CD-8E79-082731EF615C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álculo del Impuesto sobre los Bienes Personales deducible 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284040" y="2502000"/>
            <a:ext cx="8574120" cy="1852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9DE40-DD40-46D5-934B-5BDB36521D91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ahoma"/>
              </a:rPr>
              <a:t>Aspectos referidos a la liquidación e ingres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907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Programa aplicativ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Ganancias Personas Físicas Versión 7.1 Release 0 (optativo servicio doméstic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Ganancias Personas Físicas Versión 7.0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Plan de Facilidades de Pago RG (AFIP) 984 0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Aplicativo Plan de Facilidades de Pago Versión 2.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3 cuotas mayores a $ 250, 1% mensual sobre saldos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Vencimient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990720" y="5603760"/>
            <a:ext cx="7591320" cy="1254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B2203-8D28-4110-9404-AE1A1D03439A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ahoma"/>
              </a:rPr>
              <a:t>Atribución de ganancias</a:t>
            </a:r>
            <a:br>
              <a:rPr sz="4400"/>
            </a:b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Art. 28, 29, 30 LIG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90440" y="2527200"/>
            <a:ext cx="8763120" cy="180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A1EB6-A700-406A-8576-2E6EA234285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ómputo del pago a cuenta del Impuesto sobre débitos y créditos en cuentas bancarias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1219320" y="2209680"/>
            <a:ext cx="6705360" cy="4222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A8943-15A4-43B0-BAD0-9FE79CEB35A3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Importación de retenciones y percepcion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1409760" y="2057400"/>
            <a:ext cx="6324480" cy="4487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2B7EE-BB1B-4287-A3CE-39C75C9A74CC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Importación de retenciones y percepcion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1295280" y="2133720"/>
            <a:ext cx="6553440" cy="4368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E476F-C6D1-4083-B26B-E6EDC6BF358C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285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ahoma"/>
              </a:rPr>
              <a:t>Impuesto sobre los Bienes Personal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1D8E1-0A06-4DC7-B92E-1066E68A3DF8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ahoma"/>
              </a:rPr>
              <a:t>Hecho imponible</a:t>
            </a:r>
            <a:br>
              <a:rPr sz="4400"/>
            </a:b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Art. 17 LISBP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1160" y="2133720"/>
            <a:ext cx="6781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Hecho imponible: posesión o pertenencia de bienes al 31/12 de cada añ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i bien el patrimonio de una persona se manifiesta de forma permanente el hecho imponible es </a:t>
            </a:r>
            <a:r>
              <a:rPr b="0" lang="es-ES_tradnl" sz="2000" spc="-1" strike="noStrike" u="sng">
                <a:solidFill>
                  <a:srgbClr val="000000"/>
                </a:solidFill>
                <a:uFillTx/>
                <a:latin typeface="Tahoma"/>
              </a:rPr>
              <a:t>instantáne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Las variaciones interanuales carecen de importancia (salvo variaciones encaminadas a la evasión del tributo, art. 30 DR LISB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Independiente de la obtención de rentas (Astrasur Refinería Patagónica de Petróleo S.A., C.N.Apel. 23-11-95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1AA68-F399-4046-ACDC-EDB5FBF28385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71240" y="837720"/>
            <a:ext cx="7296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ahoma"/>
              </a:rPr>
              <a:t>Sujetos</a:t>
            </a:r>
            <a:br>
              <a:rPr sz="4400"/>
            </a:b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Art. 17 LISBP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914400" y="20570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Las personas físicas y sucesiones indivisas domiciliadas en el paí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or sus bienes situados en el país y en el exteri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omicilio: fiscal al 31/12 (lugar de asiento principal de su residencia y de sus negocio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Las personas físicas y sucesiones indivisas domiciliadas en el extranjero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olo por sus bienes situados en el paí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omicilio: el del representante en el país, el lugar de la principal explotación o fuente de recursos, o el lugar de su última residencia (art.3 LP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EB2BB-B53F-4E14-BAA9-3E2433412EF0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ahoma"/>
              </a:rPr>
              <a:t>Atribución por titularidad o pertenenci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3808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762120" y="2590920"/>
          <a:ext cx="7715160" cy="2863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590920"/>
                    <a:ext cx="7715160" cy="286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07D71-502C-4774-AC52-FE48CDDBFF87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ahoma"/>
              </a:rPr>
              <a:t>Atribución por titularidad o pertenenci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83808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1143000" y="2133720"/>
          <a:ext cx="6858000" cy="4165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2133720"/>
                    <a:ext cx="6858000" cy="416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3896E-201A-4B28-B58E-B51F4D84D92E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6002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ahoma"/>
              </a:rPr>
              <a:t>Sujetos</a:t>
            </a:r>
            <a:br>
              <a:rPr sz="4400"/>
            </a:b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Art. 18 LISBP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3808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Bienes propios a cada cónyu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Bienes gananciales al marido, except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Bienes adquiridos por la mujer producto de su trabajo personal (Dict. DAT 68/96: </a:t>
            </a:r>
            <a:r>
              <a:rPr b="0" lang="es-ES_tradnl" sz="2000" spc="-1" strike="noStrike" u="sng">
                <a:solidFill>
                  <a:srgbClr val="000000"/>
                </a:solidFill>
                <a:uFillTx/>
                <a:latin typeface="Tahoma"/>
              </a:rPr>
              <a:t>justificación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del producto de la actividad, más allá de la mera constancia documental del dominio. Ej.: escritura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Que exista una separación judicial de bie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Que la administración de los bienes ganancias la tenga la mujer por resolución judici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B5A68-7DFF-4D1F-A52F-F5BFB1BC498A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ahoma"/>
              </a:rPr>
              <a:t>Sujetos</a:t>
            </a:r>
            <a:br>
              <a:rPr sz="4400"/>
            </a:b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Art. 18 LISBP</a:t>
            </a:r>
            <a:br>
              <a:rPr sz="2000"/>
            </a:b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enores de edad: padres que ejerzan la patria potestad, tutores, y/o curadores (en representación del menor (Dict. DAT 77/96: DD.JJ con C.U.I.T. del meno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ucesiones indivisas: la sucesión indivi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ndominios: cada condómin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Fideicomisos: en financieros declara el fiducian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Fondos comunes de inversión: cada cuotapartis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0086B-4FFA-4768-A85B-A4D364EDB06A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50720" y="533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ahoma"/>
              </a:rPr>
              <a:t>Rentas de 1ra. Categoría</a:t>
            </a:r>
            <a:br>
              <a:rPr sz="4400"/>
            </a:b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Art. 41 LIG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Locación de un inmueble rural percibido en especie (Art. 43 LIG): valor de realización o valor al cierre de los productos recibid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Mejoras no indemnizables (Art.41 c) LIG, Art. 59 DR): se distribuye su valor en los años restante del contrat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Valor locativo de inmuebles destinados a recreo o veraneo y de inmuebles cedidos gratuitamente (Art. 41 f) y g) LIG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Gravámenes y gastos a cargo del inquilino (Art. 41 d) LIG Art. 59 d) D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No resulta neutro si deduzco gastos presunt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1AE7A-EF39-48EB-B259-E516E0F36BB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ahoma"/>
              </a:rPr>
              <a:t>Objet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ncepto de “bienes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Ni la ley ni el DR definen el alcance del términ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octrina: caudal económico o haciend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sas: objeto material susceptible de tener un valor (art.2311 C.C.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Bienes: son los objetos inmateriales y las cosas (art.2312 C.C.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l alcance estaría definido por el art.19 el que enumera los bienes alcanzados de forma </a:t>
            </a:r>
            <a:r>
              <a:rPr b="0" lang="es-ES_tradnl" sz="2000" spc="-1" strike="noStrike" u="sng">
                <a:solidFill>
                  <a:srgbClr val="000000"/>
                </a:solidFill>
                <a:uFillTx/>
                <a:latin typeface="Tahoma"/>
              </a:rPr>
              <a:t>taxativ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48493-6F95-4BD5-9FD9-FA5BDFF78EFB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350720" y="533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ahoma"/>
              </a:rPr>
              <a:t>Objet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Los casos enumerados son limitados, sin expresiones como “etcétera” o “similares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No estarían alcanzados, por ejempl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Obligaciones de no hac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l capital human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l valor llave autogenerad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Los derechos personales (patria postestad, tutela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0F7EA-4CE0-455E-A208-F9D66A3E6CDB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600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ahoma"/>
              </a:rPr>
              <a:t>Bienes exentos</a:t>
            </a:r>
            <a:br>
              <a:rPr sz="4400"/>
            </a:b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Art. 21 LISBP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1440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Bienes pertenecientes a miembros de misiones diplomáticas extranjer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uentas de capitalización de las A.F.J.P. y las cuentas de planes de seguro de retiro privados (Circular 1330/95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ntratos de seguro de vida universal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uotas sociales de las cooperativ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Bienes situados en la Provincia de Tierra del Fueg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33AC7-85FE-416A-BCF3-C2D28812713B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3716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ahoma"/>
              </a:rPr>
              <a:t>Bienes exentos</a:t>
            </a:r>
            <a:br>
              <a:rPr sz="4400"/>
            </a:b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Art. 21 LISBP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91440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Inmuebles rurales pertenecientes a personas físicas o sucesiones indivisas alcanzados por el Impuesto a la Ganancia Mínima Presunt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Títulos públicos, bonos, y demás títulos valores emitidos por los tres niveles de gobierno incluyendo los Cedr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epósitos a plazo fijo y en caja de ahorro. (la cuenta corriente se encuentra alcanzada art. 34 DR ISBP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Los bienes inmateriales: llaves, marcas, patentes, derechos de concesión y similares (en el país o en el exterior, art. 11 DR LISBP), salvo que los mismos integren el patrimonio de una empres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49016-8845-4B0F-85F8-F0B5820EA285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ahoma"/>
              </a:rPr>
              <a:t>Base imponible</a:t>
            </a:r>
            <a:br>
              <a:rPr sz="4400"/>
            </a:b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Art. 22 y 23 LISBP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9907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Valuación de bienes situados en el paí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Costo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actualizado amortizado o valores de referencia, el may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epósitos y créditos en moneda extranjera: a su cotizació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Objetos de arte: costo actualizad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Títulos valores (no exentos): cotización o costo incrementad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Valuación de bienes situados en el exteri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Valor de</a:t>
            </a: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 pla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Títulos valores: cotización o V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Acciones: V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B86BD-636A-4B11-A9B4-E09D004B57D7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ahoma"/>
              </a:rPr>
              <a:t>Valuación de inmuebl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761760" y="243828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Inmuebles adquiridos: costo de </a:t>
            </a:r>
            <a:r>
              <a:rPr b="0" lang="es-ES_tradnl" sz="2000" spc="-1" strike="noStrike" u="sng">
                <a:solidFill>
                  <a:srgbClr val="000000"/>
                </a:solidFill>
                <a:uFillTx/>
                <a:latin typeface="Tahoma"/>
              </a:rPr>
              <a:t>adquisición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o valor a la fecha de ingreso al patrimonio – Amortización, o </a:t>
            </a:r>
            <a:r>
              <a:rPr b="0" lang="es-ES_tradnl" sz="2000" spc="-1" strike="noStrike" u="sng">
                <a:solidFill>
                  <a:srgbClr val="000000"/>
                </a:solidFill>
                <a:uFillTx/>
                <a:latin typeface="Tahoma"/>
              </a:rPr>
              <a:t>base imponible para el impuesto inmobiliario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, el may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Inmuebles construidos:  valor del terreno + costo de construcción (sumas invertidas hasta la finalización ) – Amortización, o base imponible para el impuesto inmobiliario, el may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Obras en construcción: valor del terreno + costo de construcción (sumas invertidas hasta el 31/1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ejoras = inmuebles construidos o obras en construcció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BB887-2BCD-4D72-BA16-081C696C9149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ahoma"/>
              </a:rPr>
              <a:t>Valuación de inmuebl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380880" y="2057400"/>
            <a:ext cx="8382240" cy="3711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554FC-37DC-452B-B6F0-C333CAF5B78E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ahoma"/>
              </a:rPr>
              <a:t>Valuación de inmuebl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762120" y="2166840"/>
            <a:ext cx="7772400" cy="392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F53A9-50D0-443A-A289-1F896705C79D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Inmuebles registrados a nombre de los socios de una sociedad de hecho o explotación unipersona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51424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edidos gratuitamente a la sociedad de la que forman par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La sociedad declara el inmueble en el activo de ganancia mínima presu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l titular del inmueble declara la participación en bienes personale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ictamen (DAT) 7/200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184AF-4862-46CD-B5CB-9AF17B128A85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ahoma"/>
              </a:rPr>
              <a:t>Automotores, aeronaves, yates  y similare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(Valor de adquisición – amortización ) o valor de </a:t>
            </a:r>
            <a:r>
              <a:rPr b="0" lang="es-ES_tradnl" sz="2000" spc="-1" strike="noStrike" u="sng">
                <a:solidFill>
                  <a:srgbClr val="000000"/>
                </a:solidFill>
                <a:uFillTx/>
                <a:latin typeface="Tahoma"/>
              </a:rPr>
              <a:t>tabla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establecido por la AF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Un automóvil  </a:t>
            </a:r>
            <a:r>
              <a:rPr b="0" lang="es-ES_tradnl" sz="2000" spc="-1" strike="noStrike" u="sng">
                <a:solidFill>
                  <a:srgbClr val="000000"/>
                </a:solidFill>
                <a:uFillTx/>
                <a:latin typeface="Tahoma"/>
              </a:rPr>
              <a:t>amortizado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totalmente no será objeto de comparación (la base imponible es cero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BFBD4-0AC2-4B1E-A3E0-C8FEAB8B17C9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50720" y="533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ahoma"/>
              </a:rPr>
              <a:t>Rentas de 1ra. Categoría</a:t>
            </a:r>
            <a:br>
              <a:rPr sz="4400"/>
            </a:b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Art. 41 LIG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430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Alquileres declarados incobrables (Art. 41 LIG Art. 59 DR LIG): alquileres devengados adeudados por el inquilino al finalizar el juicio de desalojo y de cobro de pes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Sumas recibidas en concepto de alquileres cobradas por adelantado (Dict. 6 2002): se imputarán en el tiempo proporcionando entre los periodos fiscales que abarque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Alquiler de inmuebles amoblados (Art. 41 inc. e y Art. 59 DR LIG): también se consideran ganancias de primera categoría, salvo que se alquilen por separado en cuyo caso constituyen rentas de segunda categorí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C2A54-7B56-4C00-9C82-59A0AE0AD2F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ahoma"/>
              </a:rPr>
              <a:t>Automotores, aeronaves, yates  y similare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846000" y="2556000"/>
            <a:ext cx="8145720" cy="2911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BBF25-A465-43DC-99A9-0DABF2962736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Depósitos, créditos y existencia de moneda extranjera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Último valor de cotización tipo comprador del BNA al 31 de diciembre de cada añ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Intereses devengados a dicha fech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8F108-ACF8-40F6-A086-73AA5B48D1AA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Depósitos, créditos, y efectivo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Valor nominal más actualizaciones e </a:t>
            </a:r>
            <a:r>
              <a:rPr b="0" lang="es-ES_tradnl" sz="2000" spc="-1" strike="noStrike" u="sng">
                <a:solidFill>
                  <a:srgbClr val="000000"/>
                </a:solidFill>
                <a:uFillTx/>
                <a:latin typeface="Tahoma"/>
              </a:rPr>
              <a:t>intereses devengados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réditos dudosos e </a:t>
            </a:r>
            <a:r>
              <a:rPr b="0" lang="es-ES_tradnl" sz="2000" spc="-1" strike="noStrike" u="sng">
                <a:solidFill>
                  <a:srgbClr val="000000"/>
                </a:solidFill>
                <a:uFillTx/>
                <a:latin typeface="Tahoma"/>
              </a:rPr>
              <a:t>incobrables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: se aplica supletoriamente el art. 136 DR LIG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Anticipos, retenciones, y otros pagos a cuenta de tributos: constituyen un crédito alcanzado en la medida del </a:t>
            </a:r>
            <a:r>
              <a:rPr b="0" lang="es-ES_tradnl" sz="2000" spc="-1" strike="noStrike" u="sng">
                <a:solidFill>
                  <a:srgbClr val="000000"/>
                </a:solidFill>
                <a:uFillTx/>
                <a:latin typeface="Tahoma"/>
              </a:rPr>
              <a:t>excedente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del impuesto determinado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aldos a favor en el I.V:A: se encuentran alcanzados los de libre disponibilidad no así los </a:t>
            </a:r>
            <a:r>
              <a:rPr b="0" lang="es-ES_tradnl" sz="2000" spc="-1" strike="noStrike" u="sng">
                <a:solidFill>
                  <a:srgbClr val="000000"/>
                </a:solidFill>
                <a:uFillTx/>
                <a:latin typeface="Tahoma"/>
              </a:rPr>
              <a:t>saldos técnicos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(Alcalis de la Patagonia, CSJN 06-05-86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réditos con la sociedad (saldos de las cuentas part.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réstamos Garantizados Decreto 1387/01: se computan al 50% de su valor nomin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C741F-2485-496B-8C70-41BD9BB9443F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350720" y="533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ahoma"/>
              </a:rPr>
              <a:t>Títulos valores excepto accion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e valúan a su valor de cotización al cier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Los que no coticen a su costo incrementad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Los CCF se encuentran exent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175DB-C5BE-47E4-9CF8-FD5660F1F54C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ahoma"/>
              </a:rPr>
              <a:t>Participaciones societaria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Sociedades regidas por la L.1955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stablecimientos permanentes pertenecientes a sociedades extranjer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ociedades de hech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Sus titulares se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ersonas físicas y sucesiones indivisas domiciliadas en el país o en el exteri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mpresas domiciliadas en el exterior (se presume que pertenecen a personas físicas del exterior sin admitir prueba en contrari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F082F-F6D9-4EC6-AECF-8FC635FA148F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ahoma"/>
              </a:rPr>
              <a:t>Participaciones societaria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99072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l impuesto lo liquida la </a:t>
            </a:r>
            <a:r>
              <a:rPr b="0" lang="es-ES_tradnl" sz="2000" spc="-1" strike="noStrike" u="sng">
                <a:solidFill>
                  <a:srgbClr val="000000"/>
                </a:solidFill>
                <a:uFillTx/>
                <a:latin typeface="Tahoma"/>
              </a:rPr>
              <a:t>socied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Adquiere el carácter de pago único y definitiv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La alícuota aplicable es del 0.50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No se aplica el mínimo no imponi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La sociedad posee derecho de reinteg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Valuació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Balance: VPP del último balance + aumentos de capital -  dividendos o utilidades distribuidas (si no coincide con cierre 31/1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No lleven balance: activo (según IGMP sin computar la deducción del 25% o $ 200.000 para inmuebles rurales) -  pasivo al 31/1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395FB-5083-4A54-AA1B-D0B621654C86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ahoma"/>
              </a:rPr>
              <a:t>Participaciones societaria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25142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mpensación con saldos a favor del respons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e incorpora el responsable sustituto como responsable por deuda ajena (art. 6 LPT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No gravabilidad de acciones pertenecientes a accionistas residentes en países con los cuales se hallan celebrado Convenios para evitar la doble imposición que otorguen postestad exclusiva al estado extranjer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C732A-502D-48FA-9085-AB0406D9FF5A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ahoma"/>
              </a:rPr>
              <a:t>Participaciones societaria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2081160" y="1752480"/>
            <a:ext cx="497988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9521C-9505-4C21-98A3-D92F4CD5D307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21932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Titularidad de capital de empresas o explotaciones unipersonal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666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Llevan registraciones que permitan confeccionar balances (artículo 20 del DR): se valúan a VPP más menos saldo de la cuenta particula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No llevan registraciones que permitan confeccionar balances (artículo 22 del DR): activo (IGMP) - pasivo más menos cuenta particula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i el pasivo es mayor al activo = valuación cero (artículo 24 del DR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8C6B9-866D-486A-B789-4B4DCC764204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350720" y="533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Capital afectado a actividades de cuarta categoría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e valúan a su costo de adquisición actualizado amortizad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Vida útil asignad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a muebles y út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a equipos de computació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al softwa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542F8-97CE-442D-B987-67944343B073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ahoma"/>
              </a:rPr>
              <a:t>Gastos deducibles de 1ra. Categoría 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Art. 41 LIG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3716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Impuestos y tas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Amortizacione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Gastos de mantenimiento, presuntos o rea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Alquileres incobrab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A234C-B886-469F-ACBD-33276BB68B2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ahoma"/>
              </a:rPr>
              <a:t>Bienes situados en el exterio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76212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Acciones: cotización o V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nvenios celebrados con Austria, España, e Itali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laúsula de nación más favorecida, Tratado de Montevideo de 1980 (Bolivia, Brasil, Colombia, Chile, Ecuador, México, Paraguay, Perú, Uruguay, y Venezuela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ED959-0A02-40E0-8CFE-101631C92EAE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21932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ahoma"/>
              </a:rPr>
              <a:t>Objetos personales y del hogar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2590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Valor mínimo computable =  5% (bienes gravados situados en el  país + inmuebles situados en el exterio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No debe considerarse: (art.19 DR LISB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5000"/>
              <a:buFont typeface="MT Extra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La suma, real o presunta, de este tipos de bien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5000"/>
              <a:buFont typeface="MT Extra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l importe de los bienes exent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DB3B5-48E9-491C-8736-9157E1CD64B6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350720" y="4568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ahoma"/>
              </a:rPr>
              <a:t>Otros aspectos relevant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9144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Usufructo gratuito: declara usufructuar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esión de nuda propiedad onerosa: por partes igua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Variaciones sobre el cierre tendientes a evadir el tribut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Alícuotas, Mínimo: luego de descontar MNO de $ 102.30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hasta 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$ 200.000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0.50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ás de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$ 200.000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0.75%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3CC10-5EBA-4E67-9851-D7EBD2B34B22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350720" y="533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ahoma"/>
              </a:rPr>
              <a:t>Otros aspectos relevant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Responsabilidad sustituta del art.26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No alcanza a títulos valores (salvo acciones), bonos, obligaciones negociables, cuotas partes FCI y cuotas de cooperativ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l Responsable sustituto: quien tenga uso, goce, administración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resunciones de titularidad y duplicación de alícuo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Inmuebles en el país de personas físicas del exterior: 0.7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Inmuebles en el país de sociedades off-shore: 1.50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Impuesto mínimo para responsables sustitutos: $ 255.7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62EED-5E9C-4A13-8591-8379EF4DFC3C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ahoma"/>
              </a:rPr>
              <a:t>Otros aspectos relevant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lazo para presentar DD.JJ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Bienes Personales Versión 6.0 Release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ersonal en relación de dependenci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uya renta neta supere los $ 40.000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ero sus bienes no superen $ 102.300 (ex formulario 648): 16-06 (debe acreditarlo ante el empleador dentro de los 5 días de haberlo presentad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533520" y="2544840"/>
            <a:ext cx="8076960" cy="807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2858C-3D0A-46D2-8817-CD2A814EB1DB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ahoma"/>
              </a:rPr>
              <a:t>Otros aspectos relevant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lazo para que la sociedades informe al socio su participación (RG D.G.I. 4120):  Particpaciones Societarias Versión 3.0 Release 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Bienes Personales Acciones y Participaciones Societarias Versión 2.0 Release 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Tabla de valores de referencia R.G. (AFIP) 2007  06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066680" y="3178080"/>
            <a:ext cx="7439040" cy="50184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1066680" y="4917960"/>
            <a:ext cx="7286760" cy="492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D22D7-3199-4CCE-85A5-55583910E756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Crédito por impuestos análogos pagados en el exterio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s computable contra el impuesto local el impuesto pagado en el extranjero (hasta el incremento de la obligación fiscal causada por la inclusión de los bienes situados en el extranjer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R.G. (AFIP) 4172/96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Acreditar ingreso efectivo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Que se trate de un impuesto análog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Autenticación consul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1E7A0-DB41-48ED-B691-3727210BD577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Fi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C849D-BF6C-42A6-9E8D-8512BBF5F7F2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50720" y="533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ahoma"/>
              </a:rPr>
              <a:t>Rentas de 1ra. Categoría</a:t>
            </a:r>
            <a:br>
              <a:rPr sz="4400"/>
            </a:b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Valor locativo Art. 41 g) , Art. 17 LIG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914400" y="1752480"/>
            <a:ext cx="7326360" cy="4749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51A34-EFCD-4651-944C-13CA8164C6C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50720" y="533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ahoma"/>
              </a:rPr>
              <a:t>Gastos reales o presuntos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 Art. 41 LIG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28600" y="1905120"/>
            <a:ext cx="8634240" cy="4591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49242-B1D0-4743-90A7-7DC23A36D11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1T14:57:14Z</dcterms:created>
  <dc:creator>.</dc:creator>
  <dc:description/>
  <dc:language>en-US</dc:language>
  <cp:lastModifiedBy>.</cp:lastModifiedBy>
  <cp:lastPrinted>2004-03-13T21:16:28Z</cp:lastPrinted>
  <dcterms:modified xsi:type="dcterms:W3CDTF">2006-04-03T21:24:16Z</dcterms:modified>
  <cp:revision>141</cp:revision>
  <dc:subject/>
  <dc:title>Impuesto sobre los Bienes Personales</dc:title>
</cp:coreProperties>
</file>