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907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87120" y="701280"/>
            <a:ext cx="5008680" cy="346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6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8892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87480" y="701640"/>
            <a:ext cx="5008680" cy="34686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66628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09280" y="4010040"/>
            <a:ext cx="866628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401004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49880" y="401004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39680" y="198072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9720" y="198072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09280" y="401004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39680" y="401004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9720" y="401004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09280" y="1980720"/>
            <a:ext cx="86662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66628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6280" y="228240"/>
            <a:ext cx="857412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09280" y="401004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09280" y="1980720"/>
            <a:ext cx="86662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49880" y="401004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9280" y="4010040"/>
            <a:ext cx="866628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66628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09280" y="4010040"/>
            <a:ext cx="866628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9280" y="401004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49880" y="401004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39680" y="198072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69720" y="198072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09280" y="401004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39680" y="401004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69720" y="4010040"/>
            <a:ext cx="279036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66628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6280" y="228240"/>
            <a:ext cx="857412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09280" y="401004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49880" y="401004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9880" y="1980720"/>
            <a:ext cx="422892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9280" y="4010040"/>
            <a:ext cx="8666280" cy="18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4916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3636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6280" y="22824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9280" y="1980720"/>
            <a:ext cx="866628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5000"/>
              </a:lnSpc>
              <a:spcBef>
                <a:spcPts val="2064"/>
              </a:spcBef>
              <a:buClr>
                <a:srgbClr val="cc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55440" indent="-200880">
              <a:lnSpc>
                <a:spcPct val="85000"/>
              </a:lnSpc>
              <a:spcBef>
                <a:spcPts val="2064"/>
              </a:spcBef>
              <a:buClr>
                <a:srgbClr val="ffff99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lnSpc>
                <a:spcPct val="85000"/>
              </a:lnSpc>
              <a:spcBef>
                <a:spcPts val="2064"/>
              </a:spcBef>
              <a:buClr>
                <a:srgbClr val="ff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lnSpc>
                <a:spcPct val="85000"/>
              </a:lnSpc>
              <a:spcBef>
                <a:spcPts val="2064"/>
              </a:spcBef>
              <a:buClr>
                <a:srgbClr val="ffff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lnSpc>
                <a:spcPct val="85000"/>
              </a:lnSpc>
              <a:spcBef>
                <a:spcPts val="2064"/>
              </a:spcBef>
              <a:buClr>
                <a:srgbClr val="ffff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lnSpc>
                <a:spcPct val="85000"/>
              </a:lnSpc>
              <a:spcBef>
                <a:spcPts val="2064"/>
              </a:spcBef>
              <a:buClr>
                <a:srgbClr val="ffff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49240" y="1676520"/>
            <a:ext cx="6108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lnSpc>
                <a:spcPct val="85000"/>
              </a:lnSpc>
              <a:spcBef>
                <a:spcPts val="337"/>
              </a:spcBef>
              <a:buClr>
                <a:srgbClr val="ffff99"/>
              </a:buClr>
              <a:buSzPct val="75000"/>
              <a:buFont typeface="Monotype Sort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SzPct val="62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SzPct val="62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3879720" cy="41148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10200" y="2590920"/>
            <a:ext cx="4870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ff9900"/>
                </a:solidFill>
                <a:latin typeface="Times New Roman"/>
              </a:rPr>
              <a:t>Hacia un mejor aprovechamiento de la retribució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4600" y="456840"/>
            <a:ext cx="5613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9900"/>
                </a:solidFill>
                <a:latin typeface="Times New Roman"/>
              </a:rPr>
              <a:t>Compensación Variable</a:t>
            </a:r>
            <a:endParaRPr b="0" lang="en-US" sz="60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7680" y="152280"/>
            <a:ext cx="3417480" cy="3794400"/>
            <a:chOff x="247680" y="152280"/>
            <a:chExt cx="3417480" cy="3794400"/>
          </a:xfrm>
        </p:grpSpPr>
        <p:sp>
          <p:nvSpPr>
            <p:cNvPr id="86" name=""/>
            <p:cNvSpPr/>
            <p:nvPr/>
          </p:nvSpPr>
          <p:spPr>
            <a:xfrm>
              <a:off x="361080" y="240120"/>
              <a:ext cx="3304080" cy="370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47680" y="152280"/>
              <a:ext cx="3299040" cy="37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64240" y="153360"/>
              <a:ext cx="3285720" cy="369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9720" y="152280"/>
              <a:ext cx="3272040" cy="370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Tipos de Plan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41680" y="1599840"/>
            <a:ext cx="478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Incentiv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1371600"/>
            <a:ext cx="1703520" cy="1233360"/>
            <a:chOff x="914400" y="1371600"/>
            <a:chExt cx="1703520" cy="1233360"/>
          </a:xfrm>
        </p:grpSpPr>
        <p:sp>
          <p:nvSpPr>
            <p:cNvPr id="159" name=""/>
            <p:cNvSpPr/>
            <p:nvPr/>
          </p:nvSpPr>
          <p:spPr>
            <a:xfrm>
              <a:off x="914400" y="1371600"/>
              <a:ext cx="1703520" cy="1233360"/>
            </a:xfrm>
            <a:custGeom>
              <a:avLst/>
              <a:gdLst/>
              <a:ahLst/>
              <a:rect l="l" t="t" r="r" b="b"/>
              <a:pathLst>
                <a:path w="3416" h="2688">
                  <a:moveTo>
                    <a:pt x="436" y="2107"/>
                  </a:moveTo>
                  <a:lnTo>
                    <a:pt x="431" y="2107"/>
                  </a:lnTo>
                  <a:lnTo>
                    <a:pt x="419" y="2107"/>
                  </a:lnTo>
                  <a:lnTo>
                    <a:pt x="400" y="2107"/>
                  </a:lnTo>
                  <a:lnTo>
                    <a:pt x="377" y="2107"/>
                  </a:lnTo>
                  <a:lnTo>
                    <a:pt x="353" y="2107"/>
                  </a:lnTo>
                  <a:lnTo>
                    <a:pt x="329" y="2107"/>
                  </a:lnTo>
                  <a:lnTo>
                    <a:pt x="306" y="2107"/>
                  </a:lnTo>
                  <a:lnTo>
                    <a:pt x="287" y="2107"/>
                  </a:lnTo>
                  <a:lnTo>
                    <a:pt x="278" y="2107"/>
                  </a:lnTo>
                  <a:lnTo>
                    <a:pt x="269" y="2108"/>
                  </a:lnTo>
                  <a:lnTo>
                    <a:pt x="257" y="2111"/>
                  </a:lnTo>
                  <a:lnTo>
                    <a:pt x="246" y="2113"/>
                  </a:lnTo>
                  <a:lnTo>
                    <a:pt x="233" y="2117"/>
                  </a:lnTo>
                  <a:lnTo>
                    <a:pt x="220" y="2121"/>
                  </a:lnTo>
                  <a:lnTo>
                    <a:pt x="207" y="2127"/>
                  </a:lnTo>
                  <a:lnTo>
                    <a:pt x="193" y="2133"/>
                  </a:lnTo>
                  <a:lnTo>
                    <a:pt x="179" y="2141"/>
                  </a:lnTo>
                  <a:lnTo>
                    <a:pt x="165" y="2150"/>
                  </a:lnTo>
                  <a:lnTo>
                    <a:pt x="151" y="2160"/>
                  </a:lnTo>
                  <a:lnTo>
                    <a:pt x="138" y="2172"/>
                  </a:lnTo>
                  <a:lnTo>
                    <a:pt x="125" y="2185"/>
                  </a:lnTo>
                  <a:lnTo>
                    <a:pt x="112" y="2199"/>
                  </a:lnTo>
                  <a:lnTo>
                    <a:pt x="101" y="2216"/>
                  </a:lnTo>
                  <a:lnTo>
                    <a:pt x="90" y="2233"/>
                  </a:lnTo>
                  <a:lnTo>
                    <a:pt x="65" y="2282"/>
                  </a:lnTo>
                  <a:lnTo>
                    <a:pt x="43" y="2333"/>
                  </a:lnTo>
                  <a:lnTo>
                    <a:pt x="25" y="2383"/>
                  </a:lnTo>
                  <a:lnTo>
                    <a:pt x="12" y="2430"/>
                  </a:lnTo>
                  <a:lnTo>
                    <a:pt x="4" y="2476"/>
                  </a:lnTo>
                  <a:lnTo>
                    <a:pt x="0" y="2519"/>
                  </a:lnTo>
                  <a:lnTo>
                    <a:pt x="2" y="2557"/>
                  </a:lnTo>
                  <a:lnTo>
                    <a:pt x="10" y="2591"/>
                  </a:lnTo>
                  <a:lnTo>
                    <a:pt x="15" y="2605"/>
                  </a:lnTo>
                  <a:lnTo>
                    <a:pt x="23" y="2620"/>
                  </a:lnTo>
                  <a:lnTo>
                    <a:pt x="35" y="2636"/>
                  </a:lnTo>
                  <a:lnTo>
                    <a:pt x="50" y="2651"/>
                  </a:lnTo>
                  <a:lnTo>
                    <a:pt x="67" y="2666"/>
                  </a:lnTo>
                  <a:lnTo>
                    <a:pt x="88" y="2678"/>
                  </a:lnTo>
                  <a:lnTo>
                    <a:pt x="112" y="2686"/>
                  </a:lnTo>
                  <a:lnTo>
                    <a:pt x="140" y="2688"/>
                  </a:lnTo>
                  <a:lnTo>
                    <a:pt x="155" y="2688"/>
                  </a:lnTo>
                  <a:lnTo>
                    <a:pt x="182" y="2688"/>
                  </a:lnTo>
                  <a:lnTo>
                    <a:pt x="222" y="2687"/>
                  </a:lnTo>
                  <a:lnTo>
                    <a:pt x="271" y="2686"/>
                  </a:lnTo>
                  <a:lnTo>
                    <a:pt x="331" y="2685"/>
                  </a:lnTo>
                  <a:lnTo>
                    <a:pt x="399" y="2683"/>
                  </a:lnTo>
                  <a:lnTo>
                    <a:pt x="476" y="2682"/>
                  </a:lnTo>
                  <a:lnTo>
                    <a:pt x="560" y="2680"/>
                  </a:lnTo>
                  <a:lnTo>
                    <a:pt x="651" y="2679"/>
                  </a:lnTo>
                  <a:lnTo>
                    <a:pt x="747" y="2676"/>
                  </a:lnTo>
                  <a:lnTo>
                    <a:pt x="848" y="2675"/>
                  </a:lnTo>
                  <a:lnTo>
                    <a:pt x="953" y="2673"/>
                  </a:lnTo>
                  <a:lnTo>
                    <a:pt x="1061" y="2671"/>
                  </a:lnTo>
                  <a:lnTo>
                    <a:pt x="1172" y="2668"/>
                  </a:lnTo>
                  <a:lnTo>
                    <a:pt x="1284" y="2666"/>
                  </a:lnTo>
                  <a:lnTo>
                    <a:pt x="1397" y="2664"/>
                  </a:lnTo>
                  <a:lnTo>
                    <a:pt x="1509" y="2662"/>
                  </a:lnTo>
                  <a:lnTo>
                    <a:pt x="1620" y="2659"/>
                  </a:lnTo>
                  <a:lnTo>
                    <a:pt x="1729" y="2657"/>
                  </a:lnTo>
                  <a:lnTo>
                    <a:pt x="1835" y="2655"/>
                  </a:lnTo>
                  <a:lnTo>
                    <a:pt x="1938" y="2652"/>
                  </a:lnTo>
                  <a:lnTo>
                    <a:pt x="2037" y="2651"/>
                  </a:lnTo>
                  <a:lnTo>
                    <a:pt x="2129" y="2649"/>
                  </a:lnTo>
                  <a:lnTo>
                    <a:pt x="2216" y="2648"/>
                  </a:lnTo>
                  <a:lnTo>
                    <a:pt x="2296" y="2645"/>
                  </a:lnTo>
                  <a:lnTo>
                    <a:pt x="2368" y="2644"/>
                  </a:lnTo>
                  <a:lnTo>
                    <a:pt x="2431" y="2643"/>
                  </a:lnTo>
                  <a:lnTo>
                    <a:pt x="2484" y="2642"/>
                  </a:lnTo>
                  <a:lnTo>
                    <a:pt x="2527" y="2641"/>
                  </a:lnTo>
                  <a:lnTo>
                    <a:pt x="2559" y="2640"/>
                  </a:lnTo>
                  <a:lnTo>
                    <a:pt x="2578" y="2640"/>
                  </a:lnTo>
                  <a:lnTo>
                    <a:pt x="2585" y="2640"/>
                  </a:lnTo>
                  <a:lnTo>
                    <a:pt x="2667" y="2620"/>
                  </a:lnTo>
                  <a:lnTo>
                    <a:pt x="2737" y="2565"/>
                  </a:lnTo>
                  <a:lnTo>
                    <a:pt x="2797" y="2478"/>
                  </a:lnTo>
                  <a:lnTo>
                    <a:pt x="2847" y="2365"/>
                  </a:lnTo>
                  <a:lnTo>
                    <a:pt x="2888" y="2229"/>
                  </a:lnTo>
                  <a:lnTo>
                    <a:pt x="2923" y="2076"/>
                  </a:lnTo>
                  <a:lnTo>
                    <a:pt x="2949" y="1909"/>
                  </a:lnTo>
                  <a:lnTo>
                    <a:pt x="2970" y="1734"/>
                  </a:lnTo>
                  <a:lnTo>
                    <a:pt x="2984" y="1555"/>
                  </a:lnTo>
                  <a:lnTo>
                    <a:pt x="2994" y="1377"/>
                  </a:lnTo>
                  <a:lnTo>
                    <a:pt x="3001" y="1203"/>
                  </a:lnTo>
                  <a:lnTo>
                    <a:pt x="3005" y="1039"/>
                  </a:lnTo>
                  <a:lnTo>
                    <a:pt x="3006" y="889"/>
                  </a:lnTo>
                  <a:lnTo>
                    <a:pt x="3006" y="758"/>
                  </a:lnTo>
                  <a:lnTo>
                    <a:pt x="3005" y="650"/>
                  </a:lnTo>
                  <a:lnTo>
                    <a:pt x="3005" y="569"/>
                  </a:lnTo>
                  <a:lnTo>
                    <a:pt x="3009" y="569"/>
                  </a:lnTo>
                  <a:lnTo>
                    <a:pt x="3022" y="569"/>
                  </a:lnTo>
                  <a:lnTo>
                    <a:pt x="3040" y="569"/>
                  </a:lnTo>
                  <a:lnTo>
                    <a:pt x="3063" y="569"/>
                  </a:lnTo>
                  <a:lnTo>
                    <a:pt x="3086" y="569"/>
                  </a:lnTo>
                  <a:lnTo>
                    <a:pt x="3111" y="569"/>
                  </a:lnTo>
                  <a:lnTo>
                    <a:pt x="3130" y="569"/>
                  </a:lnTo>
                  <a:lnTo>
                    <a:pt x="3146" y="569"/>
                  </a:lnTo>
                  <a:lnTo>
                    <a:pt x="3160" y="569"/>
                  </a:lnTo>
                  <a:lnTo>
                    <a:pt x="3179" y="568"/>
                  </a:lnTo>
                  <a:lnTo>
                    <a:pt x="3199" y="566"/>
                  </a:lnTo>
                  <a:lnTo>
                    <a:pt x="3222" y="560"/>
                  </a:lnTo>
                  <a:lnTo>
                    <a:pt x="3247" y="551"/>
                  </a:lnTo>
                  <a:lnTo>
                    <a:pt x="3273" y="536"/>
                  </a:lnTo>
                  <a:lnTo>
                    <a:pt x="3300" y="515"/>
                  </a:lnTo>
                  <a:lnTo>
                    <a:pt x="3326" y="486"/>
                  </a:lnTo>
                  <a:lnTo>
                    <a:pt x="3354" y="448"/>
                  </a:lnTo>
                  <a:lnTo>
                    <a:pt x="3376" y="408"/>
                  </a:lnTo>
                  <a:lnTo>
                    <a:pt x="3392" y="369"/>
                  </a:lnTo>
                  <a:lnTo>
                    <a:pt x="3404" y="327"/>
                  </a:lnTo>
                  <a:lnTo>
                    <a:pt x="3411" y="285"/>
                  </a:lnTo>
                  <a:lnTo>
                    <a:pt x="3416" y="242"/>
                  </a:lnTo>
                  <a:lnTo>
                    <a:pt x="3416" y="198"/>
                  </a:lnTo>
                  <a:lnTo>
                    <a:pt x="3414" y="153"/>
                  </a:lnTo>
                  <a:lnTo>
                    <a:pt x="3411" y="134"/>
                  </a:lnTo>
                  <a:lnTo>
                    <a:pt x="3407" y="115"/>
                  </a:lnTo>
                  <a:lnTo>
                    <a:pt x="3402" y="98"/>
                  </a:lnTo>
                  <a:lnTo>
                    <a:pt x="3395" y="83"/>
                  </a:lnTo>
                  <a:lnTo>
                    <a:pt x="3387" y="69"/>
                  </a:lnTo>
                  <a:lnTo>
                    <a:pt x="3377" y="56"/>
                  </a:lnTo>
                  <a:lnTo>
                    <a:pt x="3364" y="45"/>
                  </a:lnTo>
                  <a:lnTo>
                    <a:pt x="3350" y="36"/>
                  </a:lnTo>
                  <a:lnTo>
                    <a:pt x="3334" y="26"/>
                  </a:lnTo>
                  <a:lnTo>
                    <a:pt x="3316" y="20"/>
                  </a:lnTo>
                  <a:lnTo>
                    <a:pt x="3296" y="14"/>
                  </a:lnTo>
                  <a:lnTo>
                    <a:pt x="3273" y="8"/>
                  </a:lnTo>
                  <a:lnTo>
                    <a:pt x="3248" y="5"/>
                  </a:lnTo>
                  <a:lnTo>
                    <a:pt x="3220" y="2"/>
                  </a:lnTo>
                  <a:lnTo>
                    <a:pt x="3190" y="0"/>
                  </a:lnTo>
                  <a:lnTo>
                    <a:pt x="3157" y="0"/>
                  </a:lnTo>
                  <a:lnTo>
                    <a:pt x="3145" y="0"/>
                  </a:lnTo>
                  <a:lnTo>
                    <a:pt x="3122" y="1"/>
                  </a:lnTo>
                  <a:lnTo>
                    <a:pt x="3089" y="2"/>
                  </a:lnTo>
                  <a:lnTo>
                    <a:pt x="3045" y="3"/>
                  </a:lnTo>
                  <a:lnTo>
                    <a:pt x="2993" y="6"/>
                  </a:lnTo>
                  <a:lnTo>
                    <a:pt x="2932" y="8"/>
                  </a:lnTo>
                  <a:lnTo>
                    <a:pt x="2864" y="10"/>
                  </a:lnTo>
                  <a:lnTo>
                    <a:pt x="2789" y="14"/>
                  </a:lnTo>
                  <a:lnTo>
                    <a:pt x="2709" y="17"/>
                  </a:lnTo>
                  <a:lnTo>
                    <a:pt x="2623" y="21"/>
                  </a:lnTo>
                  <a:lnTo>
                    <a:pt x="2532" y="24"/>
                  </a:lnTo>
                  <a:lnTo>
                    <a:pt x="2438" y="28"/>
                  </a:lnTo>
                  <a:lnTo>
                    <a:pt x="2341" y="32"/>
                  </a:lnTo>
                  <a:lnTo>
                    <a:pt x="2242" y="36"/>
                  </a:lnTo>
                  <a:lnTo>
                    <a:pt x="2141" y="40"/>
                  </a:lnTo>
                  <a:lnTo>
                    <a:pt x="2039" y="44"/>
                  </a:lnTo>
                  <a:lnTo>
                    <a:pt x="1937" y="48"/>
                  </a:lnTo>
                  <a:lnTo>
                    <a:pt x="1835" y="53"/>
                  </a:lnTo>
                  <a:lnTo>
                    <a:pt x="1736" y="56"/>
                  </a:lnTo>
                  <a:lnTo>
                    <a:pt x="1638" y="61"/>
                  </a:lnTo>
                  <a:lnTo>
                    <a:pt x="1544" y="65"/>
                  </a:lnTo>
                  <a:lnTo>
                    <a:pt x="1453" y="68"/>
                  </a:lnTo>
                  <a:lnTo>
                    <a:pt x="1365" y="71"/>
                  </a:lnTo>
                  <a:lnTo>
                    <a:pt x="1285" y="75"/>
                  </a:lnTo>
                  <a:lnTo>
                    <a:pt x="1209" y="78"/>
                  </a:lnTo>
                  <a:lnTo>
                    <a:pt x="1140" y="81"/>
                  </a:lnTo>
                  <a:lnTo>
                    <a:pt x="1079" y="83"/>
                  </a:lnTo>
                  <a:lnTo>
                    <a:pt x="1024" y="85"/>
                  </a:lnTo>
                  <a:lnTo>
                    <a:pt x="981" y="86"/>
                  </a:lnTo>
                  <a:lnTo>
                    <a:pt x="945" y="88"/>
                  </a:lnTo>
                  <a:lnTo>
                    <a:pt x="921" y="89"/>
                  </a:lnTo>
                  <a:lnTo>
                    <a:pt x="907" y="89"/>
                  </a:lnTo>
                  <a:lnTo>
                    <a:pt x="825" y="104"/>
                  </a:lnTo>
                  <a:lnTo>
                    <a:pt x="756" y="145"/>
                  </a:lnTo>
                  <a:lnTo>
                    <a:pt x="697" y="211"/>
                  </a:lnTo>
                  <a:lnTo>
                    <a:pt x="649" y="300"/>
                  </a:lnTo>
                  <a:lnTo>
                    <a:pt x="609" y="407"/>
                  </a:lnTo>
                  <a:lnTo>
                    <a:pt x="578" y="531"/>
                  </a:lnTo>
                  <a:lnTo>
                    <a:pt x="552" y="669"/>
                  </a:lnTo>
                  <a:lnTo>
                    <a:pt x="533" y="819"/>
                  </a:lnTo>
                  <a:lnTo>
                    <a:pt x="516" y="978"/>
                  </a:lnTo>
                  <a:lnTo>
                    <a:pt x="505" y="1142"/>
                  </a:lnTo>
                  <a:lnTo>
                    <a:pt x="495" y="1310"/>
                  </a:lnTo>
                  <a:lnTo>
                    <a:pt x="485" y="1478"/>
                  </a:lnTo>
                  <a:lnTo>
                    <a:pt x="476" y="1645"/>
                  </a:lnTo>
                  <a:lnTo>
                    <a:pt x="466" y="1808"/>
                  </a:lnTo>
                  <a:lnTo>
                    <a:pt x="452" y="1962"/>
                  </a:lnTo>
                  <a:lnTo>
                    <a:pt x="436" y="2107"/>
                  </a:lnTo>
                  <a:close/>
                </a:path>
              </a:pathLst>
            </a:cu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7080" y="2365560"/>
              <a:ext cx="189360" cy="209160"/>
            </a:xfrm>
            <a:custGeom>
              <a:avLst/>
              <a:gdLst/>
              <a:ahLst/>
              <a:rect l="l" t="t" r="r" b="b"/>
              <a:pathLst>
                <a:path w="380" h="455">
                  <a:moveTo>
                    <a:pt x="107" y="156"/>
                  </a:moveTo>
                  <a:lnTo>
                    <a:pt x="114" y="149"/>
                  </a:lnTo>
                  <a:lnTo>
                    <a:pt x="123" y="142"/>
                  </a:lnTo>
                  <a:lnTo>
                    <a:pt x="131" y="137"/>
                  </a:lnTo>
                  <a:lnTo>
                    <a:pt x="138" y="135"/>
                  </a:lnTo>
                  <a:lnTo>
                    <a:pt x="146" y="138"/>
                  </a:lnTo>
                  <a:lnTo>
                    <a:pt x="152" y="149"/>
                  </a:lnTo>
                  <a:lnTo>
                    <a:pt x="157" y="164"/>
                  </a:lnTo>
                  <a:lnTo>
                    <a:pt x="158" y="182"/>
                  </a:lnTo>
                  <a:lnTo>
                    <a:pt x="155" y="202"/>
                  </a:lnTo>
                  <a:lnTo>
                    <a:pt x="151" y="221"/>
                  </a:lnTo>
                  <a:lnTo>
                    <a:pt x="143" y="240"/>
                  </a:lnTo>
                  <a:lnTo>
                    <a:pt x="130" y="255"/>
                  </a:lnTo>
                  <a:lnTo>
                    <a:pt x="196" y="255"/>
                  </a:lnTo>
                  <a:lnTo>
                    <a:pt x="201" y="229"/>
                  </a:lnTo>
                  <a:lnTo>
                    <a:pt x="168" y="229"/>
                  </a:lnTo>
                  <a:lnTo>
                    <a:pt x="173" y="222"/>
                  </a:lnTo>
                  <a:lnTo>
                    <a:pt x="176" y="214"/>
                  </a:lnTo>
                  <a:lnTo>
                    <a:pt x="178" y="205"/>
                  </a:lnTo>
                  <a:lnTo>
                    <a:pt x="180" y="196"/>
                  </a:lnTo>
                  <a:lnTo>
                    <a:pt x="205" y="196"/>
                  </a:lnTo>
                  <a:lnTo>
                    <a:pt x="208" y="172"/>
                  </a:lnTo>
                  <a:lnTo>
                    <a:pt x="178" y="172"/>
                  </a:lnTo>
                  <a:lnTo>
                    <a:pt x="178" y="163"/>
                  </a:lnTo>
                  <a:lnTo>
                    <a:pt x="178" y="151"/>
                  </a:lnTo>
                  <a:lnTo>
                    <a:pt x="177" y="139"/>
                  </a:lnTo>
                  <a:lnTo>
                    <a:pt x="175" y="128"/>
                  </a:lnTo>
                  <a:lnTo>
                    <a:pt x="205" y="128"/>
                  </a:lnTo>
                  <a:lnTo>
                    <a:pt x="203" y="103"/>
                  </a:lnTo>
                  <a:lnTo>
                    <a:pt x="201" y="103"/>
                  </a:lnTo>
                  <a:lnTo>
                    <a:pt x="198" y="103"/>
                  </a:lnTo>
                  <a:lnTo>
                    <a:pt x="193" y="103"/>
                  </a:lnTo>
                  <a:lnTo>
                    <a:pt x="187" y="103"/>
                  </a:lnTo>
                  <a:lnTo>
                    <a:pt x="178" y="103"/>
                  </a:lnTo>
                  <a:lnTo>
                    <a:pt x="170" y="103"/>
                  </a:lnTo>
                  <a:lnTo>
                    <a:pt x="161" y="103"/>
                  </a:lnTo>
                  <a:lnTo>
                    <a:pt x="152" y="103"/>
                  </a:lnTo>
                  <a:lnTo>
                    <a:pt x="142" y="105"/>
                  </a:lnTo>
                  <a:lnTo>
                    <a:pt x="129" y="111"/>
                  </a:lnTo>
                  <a:lnTo>
                    <a:pt x="115" y="120"/>
                  </a:lnTo>
                  <a:lnTo>
                    <a:pt x="100" y="136"/>
                  </a:lnTo>
                  <a:lnTo>
                    <a:pt x="86" y="157"/>
                  </a:lnTo>
                  <a:lnTo>
                    <a:pt x="72" y="183"/>
                  </a:lnTo>
                  <a:lnTo>
                    <a:pt x="61" y="216"/>
                  </a:lnTo>
                  <a:lnTo>
                    <a:pt x="52" y="256"/>
                  </a:lnTo>
                  <a:lnTo>
                    <a:pt x="46" y="292"/>
                  </a:lnTo>
                  <a:lnTo>
                    <a:pt x="44" y="326"/>
                  </a:lnTo>
                  <a:lnTo>
                    <a:pt x="44" y="357"/>
                  </a:lnTo>
                  <a:lnTo>
                    <a:pt x="46" y="385"/>
                  </a:lnTo>
                  <a:lnTo>
                    <a:pt x="53" y="408"/>
                  </a:lnTo>
                  <a:lnTo>
                    <a:pt x="63" y="426"/>
                  </a:lnTo>
                  <a:lnTo>
                    <a:pt x="77" y="438"/>
                  </a:lnTo>
                  <a:lnTo>
                    <a:pt x="96" y="443"/>
                  </a:lnTo>
                  <a:lnTo>
                    <a:pt x="115" y="443"/>
                  </a:lnTo>
                  <a:lnTo>
                    <a:pt x="134" y="439"/>
                  </a:lnTo>
                  <a:lnTo>
                    <a:pt x="150" y="434"/>
                  </a:lnTo>
                  <a:lnTo>
                    <a:pt x="166" y="426"/>
                  </a:lnTo>
                  <a:lnTo>
                    <a:pt x="180" y="417"/>
                  </a:lnTo>
                  <a:lnTo>
                    <a:pt x="195" y="404"/>
                  </a:lnTo>
                  <a:lnTo>
                    <a:pt x="208" y="391"/>
                  </a:lnTo>
                  <a:lnTo>
                    <a:pt x="222" y="375"/>
                  </a:lnTo>
                  <a:lnTo>
                    <a:pt x="187" y="376"/>
                  </a:lnTo>
                  <a:lnTo>
                    <a:pt x="192" y="368"/>
                  </a:lnTo>
                  <a:lnTo>
                    <a:pt x="199" y="355"/>
                  </a:lnTo>
                  <a:lnTo>
                    <a:pt x="207" y="343"/>
                  </a:lnTo>
                  <a:lnTo>
                    <a:pt x="212" y="335"/>
                  </a:lnTo>
                  <a:lnTo>
                    <a:pt x="261" y="335"/>
                  </a:lnTo>
                  <a:lnTo>
                    <a:pt x="282" y="301"/>
                  </a:lnTo>
                  <a:lnTo>
                    <a:pt x="227" y="302"/>
                  </a:lnTo>
                  <a:lnTo>
                    <a:pt x="231" y="288"/>
                  </a:lnTo>
                  <a:lnTo>
                    <a:pt x="237" y="273"/>
                  </a:lnTo>
                  <a:lnTo>
                    <a:pt x="242" y="258"/>
                  </a:lnTo>
                  <a:lnTo>
                    <a:pt x="245" y="244"/>
                  </a:lnTo>
                  <a:lnTo>
                    <a:pt x="307" y="244"/>
                  </a:lnTo>
                  <a:lnTo>
                    <a:pt x="320" y="211"/>
                  </a:lnTo>
                  <a:lnTo>
                    <a:pt x="252" y="212"/>
                  </a:lnTo>
                  <a:lnTo>
                    <a:pt x="253" y="204"/>
                  </a:lnTo>
                  <a:lnTo>
                    <a:pt x="254" y="195"/>
                  </a:lnTo>
                  <a:lnTo>
                    <a:pt x="256" y="186"/>
                  </a:lnTo>
                  <a:lnTo>
                    <a:pt x="257" y="178"/>
                  </a:lnTo>
                  <a:lnTo>
                    <a:pt x="332" y="178"/>
                  </a:lnTo>
                  <a:lnTo>
                    <a:pt x="342" y="145"/>
                  </a:lnTo>
                  <a:lnTo>
                    <a:pt x="260" y="145"/>
                  </a:lnTo>
                  <a:lnTo>
                    <a:pt x="261" y="134"/>
                  </a:lnTo>
                  <a:lnTo>
                    <a:pt x="261" y="122"/>
                  </a:lnTo>
                  <a:lnTo>
                    <a:pt x="263" y="112"/>
                  </a:lnTo>
                  <a:lnTo>
                    <a:pt x="263" y="101"/>
                  </a:lnTo>
                  <a:lnTo>
                    <a:pt x="355" y="101"/>
                  </a:lnTo>
                  <a:lnTo>
                    <a:pt x="363" y="73"/>
                  </a:lnTo>
                  <a:lnTo>
                    <a:pt x="260" y="73"/>
                  </a:lnTo>
                  <a:lnTo>
                    <a:pt x="259" y="63"/>
                  </a:lnTo>
                  <a:lnTo>
                    <a:pt x="257" y="53"/>
                  </a:lnTo>
                  <a:lnTo>
                    <a:pt x="254" y="43"/>
                  </a:lnTo>
                  <a:lnTo>
                    <a:pt x="250" y="33"/>
                  </a:lnTo>
                  <a:lnTo>
                    <a:pt x="372" y="33"/>
                  </a:lnTo>
                  <a:lnTo>
                    <a:pt x="380" y="0"/>
                  </a:lnTo>
                  <a:lnTo>
                    <a:pt x="355" y="0"/>
                  </a:lnTo>
                  <a:lnTo>
                    <a:pt x="329" y="0"/>
                  </a:lnTo>
                  <a:lnTo>
                    <a:pt x="303" y="0"/>
                  </a:lnTo>
                  <a:lnTo>
                    <a:pt x="278" y="1"/>
                  </a:lnTo>
                  <a:lnTo>
                    <a:pt x="253" y="2"/>
                  </a:lnTo>
                  <a:lnTo>
                    <a:pt x="231" y="4"/>
                  </a:lnTo>
                  <a:lnTo>
                    <a:pt x="213" y="5"/>
                  </a:lnTo>
                  <a:lnTo>
                    <a:pt x="198" y="6"/>
                  </a:lnTo>
                  <a:lnTo>
                    <a:pt x="163" y="15"/>
                  </a:lnTo>
                  <a:lnTo>
                    <a:pt x="131" y="32"/>
                  </a:lnTo>
                  <a:lnTo>
                    <a:pt x="104" y="55"/>
                  </a:lnTo>
                  <a:lnTo>
                    <a:pt x="78" y="85"/>
                  </a:lnTo>
                  <a:lnTo>
                    <a:pt x="56" y="120"/>
                  </a:lnTo>
                  <a:lnTo>
                    <a:pt x="38" y="158"/>
                  </a:lnTo>
                  <a:lnTo>
                    <a:pt x="23" y="197"/>
                  </a:lnTo>
                  <a:lnTo>
                    <a:pt x="11" y="237"/>
                  </a:lnTo>
                  <a:lnTo>
                    <a:pt x="3" y="278"/>
                  </a:lnTo>
                  <a:lnTo>
                    <a:pt x="0" y="317"/>
                  </a:lnTo>
                  <a:lnTo>
                    <a:pt x="0" y="354"/>
                  </a:lnTo>
                  <a:lnTo>
                    <a:pt x="3" y="386"/>
                  </a:lnTo>
                  <a:lnTo>
                    <a:pt x="11" y="414"/>
                  </a:lnTo>
                  <a:lnTo>
                    <a:pt x="23" y="436"/>
                  </a:lnTo>
                  <a:lnTo>
                    <a:pt x="39" y="449"/>
                  </a:lnTo>
                  <a:lnTo>
                    <a:pt x="60" y="455"/>
                  </a:lnTo>
                  <a:lnTo>
                    <a:pt x="41" y="432"/>
                  </a:lnTo>
                  <a:lnTo>
                    <a:pt x="29" y="406"/>
                  </a:lnTo>
                  <a:lnTo>
                    <a:pt x="21" y="375"/>
                  </a:lnTo>
                  <a:lnTo>
                    <a:pt x="17" y="342"/>
                  </a:lnTo>
                  <a:lnTo>
                    <a:pt x="18" y="308"/>
                  </a:lnTo>
                  <a:lnTo>
                    <a:pt x="23" y="272"/>
                  </a:lnTo>
                  <a:lnTo>
                    <a:pt x="31" y="236"/>
                  </a:lnTo>
                  <a:lnTo>
                    <a:pt x="41" y="202"/>
                  </a:lnTo>
                  <a:lnTo>
                    <a:pt x="55" y="168"/>
                  </a:lnTo>
                  <a:lnTo>
                    <a:pt x="70" y="136"/>
                  </a:lnTo>
                  <a:lnTo>
                    <a:pt x="87" y="107"/>
                  </a:lnTo>
                  <a:lnTo>
                    <a:pt x="106" y="83"/>
                  </a:lnTo>
                  <a:lnTo>
                    <a:pt x="125" y="62"/>
                  </a:lnTo>
                  <a:lnTo>
                    <a:pt x="145" y="47"/>
                  </a:lnTo>
                  <a:lnTo>
                    <a:pt x="166" y="38"/>
                  </a:lnTo>
                  <a:lnTo>
                    <a:pt x="185" y="36"/>
                  </a:lnTo>
                  <a:lnTo>
                    <a:pt x="212" y="54"/>
                  </a:lnTo>
                  <a:lnTo>
                    <a:pt x="227" y="98"/>
                  </a:lnTo>
                  <a:lnTo>
                    <a:pt x="229" y="160"/>
                  </a:lnTo>
                  <a:lnTo>
                    <a:pt x="222" y="231"/>
                  </a:lnTo>
                  <a:lnTo>
                    <a:pt x="204" y="301"/>
                  </a:lnTo>
                  <a:lnTo>
                    <a:pt x="177" y="362"/>
                  </a:lnTo>
                  <a:lnTo>
                    <a:pt x="142" y="406"/>
                  </a:lnTo>
                  <a:lnTo>
                    <a:pt x="99" y="422"/>
                  </a:lnTo>
                  <a:lnTo>
                    <a:pt x="87" y="418"/>
                  </a:lnTo>
                  <a:lnTo>
                    <a:pt x="79" y="410"/>
                  </a:lnTo>
                  <a:lnTo>
                    <a:pt x="72" y="398"/>
                  </a:lnTo>
                  <a:lnTo>
                    <a:pt x="68" y="381"/>
                  </a:lnTo>
                  <a:lnTo>
                    <a:pt x="138" y="381"/>
                  </a:lnTo>
                  <a:lnTo>
                    <a:pt x="151" y="363"/>
                  </a:lnTo>
                  <a:lnTo>
                    <a:pt x="64" y="354"/>
                  </a:lnTo>
                  <a:lnTo>
                    <a:pt x="63" y="345"/>
                  </a:lnTo>
                  <a:lnTo>
                    <a:pt x="63" y="334"/>
                  </a:lnTo>
                  <a:lnTo>
                    <a:pt x="63" y="324"/>
                  </a:lnTo>
                  <a:lnTo>
                    <a:pt x="64" y="312"/>
                  </a:lnTo>
                  <a:lnTo>
                    <a:pt x="177" y="312"/>
                  </a:lnTo>
                  <a:lnTo>
                    <a:pt x="175" y="290"/>
                  </a:lnTo>
                  <a:lnTo>
                    <a:pt x="68" y="285"/>
                  </a:lnTo>
                  <a:lnTo>
                    <a:pt x="70" y="273"/>
                  </a:lnTo>
                  <a:lnTo>
                    <a:pt x="72" y="263"/>
                  </a:lnTo>
                  <a:lnTo>
                    <a:pt x="75" y="254"/>
                  </a:lnTo>
                  <a:lnTo>
                    <a:pt x="77" y="242"/>
                  </a:lnTo>
                  <a:lnTo>
                    <a:pt x="129" y="236"/>
                  </a:lnTo>
                  <a:lnTo>
                    <a:pt x="139" y="216"/>
                  </a:lnTo>
                  <a:lnTo>
                    <a:pt x="86" y="209"/>
                  </a:lnTo>
                  <a:lnTo>
                    <a:pt x="90" y="197"/>
                  </a:lnTo>
                  <a:lnTo>
                    <a:pt x="93" y="188"/>
                  </a:lnTo>
                  <a:lnTo>
                    <a:pt x="97" y="179"/>
                  </a:lnTo>
                  <a:lnTo>
                    <a:pt x="100" y="169"/>
                  </a:lnTo>
                  <a:lnTo>
                    <a:pt x="144" y="168"/>
                  </a:lnTo>
                  <a:lnTo>
                    <a:pt x="130" y="156"/>
                  </a:lnTo>
                  <a:lnTo>
                    <a:pt x="107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4520" y="1391040"/>
              <a:ext cx="1485000" cy="1189440"/>
            </a:xfrm>
            <a:custGeom>
              <a:avLst/>
              <a:gdLst/>
              <a:ahLst/>
              <a:rect l="l" t="t" r="r" b="b"/>
              <a:pathLst>
                <a:path w="2976" h="2590">
                  <a:moveTo>
                    <a:pt x="2507" y="2361"/>
                  </a:moveTo>
                  <a:lnTo>
                    <a:pt x="2564" y="2173"/>
                  </a:lnTo>
                  <a:lnTo>
                    <a:pt x="2606" y="1984"/>
                  </a:lnTo>
                  <a:lnTo>
                    <a:pt x="2638" y="1796"/>
                  </a:lnTo>
                  <a:lnTo>
                    <a:pt x="2658" y="1611"/>
                  </a:lnTo>
                  <a:lnTo>
                    <a:pt x="2672" y="1427"/>
                  </a:lnTo>
                  <a:lnTo>
                    <a:pt x="2681" y="1250"/>
                  </a:lnTo>
                  <a:lnTo>
                    <a:pt x="2687" y="1077"/>
                  </a:lnTo>
                  <a:lnTo>
                    <a:pt x="2692" y="912"/>
                  </a:lnTo>
                  <a:lnTo>
                    <a:pt x="2699" y="756"/>
                  </a:lnTo>
                  <a:lnTo>
                    <a:pt x="2709" y="608"/>
                  </a:lnTo>
                  <a:lnTo>
                    <a:pt x="2725" y="472"/>
                  </a:lnTo>
                  <a:lnTo>
                    <a:pt x="2749" y="348"/>
                  </a:lnTo>
                  <a:lnTo>
                    <a:pt x="2785" y="237"/>
                  </a:lnTo>
                  <a:lnTo>
                    <a:pt x="2833" y="143"/>
                  </a:lnTo>
                  <a:lnTo>
                    <a:pt x="2896" y="63"/>
                  </a:lnTo>
                  <a:lnTo>
                    <a:pt x="2976" y="1"/>
                  </a:lnTo>
                  <a:lnTo>
                    <a:pt x="2958" y="0"/>
                  </a:lnTo>
                  <a:lnTo>
                    <a:pt x="2939" y="0"/>
                  </a:lnTo>
                  <a:lnTo>
                    <a:pt x="2921" y="0"/>
                  </a:lnTo>
                  <a:lnTo>
                    <a:pt x="2904" y="0"/>
                  </a:lnTo>
                  <a:lnTo>
                    <a:pt x="2886" y="1"/>
                  </a:lnTo>
                  <a:lnTo>
                    <a:pt x="2870" y="2"/>
                  </a:lnTo>
                  <a:lnTo>
                    <a:pt x="2854" y="3"/>
                  </a:lnTo>
                  <a:lnTo>
                    <a:pt x="2839" y="5"/>
                  </a:lnTo>
                  <a:lnTo>
                    <a:pt x="2824" y="7"/>
                  </a:lnTo>
                  <a:lnTo>
                    <a:pt x="2810" y="9"/>
                  </a:lnTo>
                  <a:lnTo>
                    <a:pt x="2797" y="11"/>
                  </a:lnTo>
                  <a:lnTo>
                    <a:pt x="2785" y="15"/>
                  </a:lnTo>
                  <a:lnTo>
                    <a:pt x="2774" y="18"/>
                  </a:lnTo>
                  <a:lnTo>
                    <a:pt x="2763" y="22"/>
                  </a:lnTo>
                  <a:lnTo>
                    <a:pt x="2754" y="26"/>
                  </a:lnTo>
                  <a:lnTo>
                    <a:pt x="2746" y="31"/>
                  </a:lnTo>
                  <a:lnTo>
                    <a:pt x="2736" y="26"/>
                  </a:lnTo>
                  <a:lnTo>
                    <a:pt x="2731" y="18"/>
                  </a:lnTo>
                  <a:lnTo>
                    <a:pt x="2730" y="8"/>
                  </a:lnTo>
                  <a:lnTo>
                    <a:pt x="2732" y="1"/>
                  </a:lnTo>
                  <a:lnTo>
                    <a:pt x="2724" y="2"/>
                  </a:lnTo>
                  <a:lnTo>
                    <a:pt x="2715" y="7"/>
                  </a:lnTo>
                  <a:lnTo>
                    <a:pt x="2707" y="11"/>
                  </a:lnTo>
                  <a:lnTo>
                    <a:pt x="2697" y="17"/>
                  </a:lnTo>
                  <a:lnTo>
                    <a:pt x="2689" y="24"/>
                  </a:lnTo>
                  <a:lnTo>
                    <a:pt x="2683" y="29"/>
                  </a:lnTo>
                  <a:lnTo>
                    <a:pt x="2676" y="33"/>
                  </a:lnTo>
                  <a:lnTo>
                    <a:pt x="2671" y="34"/>
                  </a:lnTo>
                  <a:lnTo>
                    <a:pt x="2661" y="31"/>
                  </a:lnTo>
                  <a:lnTo>
                    <a:pt x="2655" y="22"/>
                  </a:lnTo>
                  <a:lnTo>
                    <a:pt x="2653" y="10"/>
                  </a:lnTo>
                  <a:lnTo>
                    <a:pt x="2653" y="1"/>
                  </a:lnTo>
                  <a:lnTo>
                    <a:pt x="2645" y="2"/>
                  </a:lnTo>
                  <a:lnTo>
                    <a:pt x="2635" y="5"/>
                  </a:lnTo>
                  <a:lnTo>
                    <a:pt x="2626" y="9"/>
                  </a:lnTo>
                  <a:lnTo>
                    <a:pt x="2617" y="15"/>
                  </a:lnTo>
                  <a:lnTo>
                    <a:pt x="2609" y="21"/>
                  </a:lnTo>
                  <a:lnTo>
                    <a:pt x="2600" y="26"/>
                  </a:lnTo>
                  <a:lnTo>
                    <a:pt x="2592" y="31"/>
                  </a:lnTo>
                  <a:lnTo>
                    <a:pt x="2585" y="36"/>
                  </a:lnTo>
                  <a:lnTo>
                    <a:pt x="2574" y="31"/>
                  </a:lnTo>
                  <a:lnTo>
                    <a:pt x="2568" y="22"/>
                  </a:lnTo>
                  <a:lnTo>
                    <a:pt x="2564" y="11"/>
                  </a:lnTo>
                  <a:lnTo>
                    <a:pt x="2558" y="3"/>
                  </a:lnTo>
                  <a:lnTo>
                    <a:pt x="2552" y="5"/>
                  </a:lnTo>
                  <a:lnTo>
                    <a:pt x="2544" y="9"/>
                  </a:lnTo>
                  <a:lnTo>
                    <a:pt x="2534" y="14"/>
                  </a:lnTo>
                  <a:lnTo>
                    <a:pt x="2524" y="21"/>
                  </a:lnTo>
                  <a:lnTo>
                    <a:pt x="2513" y="28"/>
                  </a:lnTo>
                  <a:lnTo>
                    <a:pt x="2504" y="32"/>
                  </a:lnTo>
                  <a:lnTo>
                    <a:pt x="2496" y="37"/>
                  </a:lnTo>
                  <a:lnTo>
                    <a:pt x="2489" y="38"/>
                  </a:lnTo>
                  <a:lnTo>
                    <a:pt x="2481" y="34"/>
                  </a:lnTo>
                  <a:lnTo>
                    <a:pt x="2479" y="24"/>
                  </a:lnTo>
                  <a:lnTo>
                    <a:pt x="2479" y="13"/>
                  </a:lnTo>
                  <a:lnTo>
                    <a:pt x="2482" y="3"/>
                  </a:lnTo>
                  <a:lnTo>
                    <a:pt x="2474" y="3"/>
                  </a:lnTo>
                  <a:lnTo>
                    <a:pt x="2464" y="8"/>
                  </a:lnTo>
                  <a:lnTo>
                    <a:pt x="2453" y="15"/>
                  </a:lnTo>
                  <a:lnTo>
                    <a:pt x="2443" y="23"/>
                  </a:lnTo>
                  <a:lnTo>
                    <a:pt x="2433" y="31"/>
                  </a:lnTo>
                  <a:lnTo>
                    <a:pt x="2423" y="39"/>
                  </a:lnTo>
                  <a:lnTo>
                    <a:pt x="2414" y="44"/>
                  </a:lnTo>
                  <a:lnTo>
                    <a:pt x="2408" y="46"/>
                  </a:lnTo>
                  <a:lnTo>
                    <a:pt x="2400" y="41"/>
                  </a:lnTo>
                  <a:lnTo>
                    <a:pt x="2397" y="30"/>
                  </a:lnTo>
                  <a:lnTo>
                    <a:pt x="2396" y="15"/>
                  </a:lnTo>
                  <a:lnTo>
                    <a:pt x="2398" y="1"/>
                  </a:lnTo>
                  <a:lnTo>
                    <a:pt x="2388" y="3"/>
                  </a:lnTo>
                  <a:lnTo>
                    <a:pt x="2376" y="10"/>
                  </a:lnTo>
                  <a:lnTo>
                    <a:pt x="2365" y="20"/>
                  </a:lnTo>
                  <a:lnTo>
                    <a:pt x="2353" y="30"/>
                  </a:lnTo>
                  <a:lnTo>
                    <a:pt x="2343" y="41"/>
                  </a:lnTo>
                  <a:lnTo>
                    <a:pt x="2332" y="51"/>
                  </a:lnTo>
                  <a:lnTo>
                    <a:pt x="2324" y="58"/>
                  </a:lnTo>
                  <a:lnTo>
                    <a:pt x="2319" y="60"/>
                  </a:lnTo>
                  <a:lnTo>
                    <a:pt x="2313" y="53"/>
                  </a:lnTo>
                  <a:lnTo>
                    <a:pt x="2312" y="38"/>
                  </a:lnTo>
                  <a:lnTo>
                    <a:pt x="2315" y="20"/>
                  </a:lnTo>
                  <a:lnTo>
                    <a:pt x="2322" y="6"/>
                  </a:lnTo>
                  <a:lnTo>
                    <a:pt x="2309" y="8"/>
                  </a:lnTo>
                  <a:lnTo>
                    <a:pt x="2297" y="15"/>
                  </a:lnTo>
                  <a:lnTo>
                    <a:pt x="2284" y="25"/>
                  </a:lnTo>
                  <a:lnTo>
                    <a:pt x="2271" y="37"/>
                  </a:lnTo>
                  <a:lnTo>
                    <a:pt x="2260" y="48"/>
                  </a:lnTo>
                  <a:lnTo>
                    <a:pt x="2251" y="59"/>
                  </a:lnTo>
                  <a:lnTo>
                    <a:pt x="2241" y="66"/>
                  </a:lnTo>
                  <a:lnTo>
                    <a:pt x="2233" y="68"/>
                  </a:lnTo>
                  <a:lnTo>
                    <a:pt x="2224" y="61"/>
                  </a:lnTo>
                  <a:lnTo>
                    <a:pt x="2223" y="46"/>
                  </a:lnTo>
                  <a:lnTo>
                    <a:pt x="2229" y="28"/>
                  </a:lnTo>
                  <a:lnTo>
                    <a:pt x="2238" y="11"/>
                  </a:lnTo>
                  <a:lnTo>
                    <a:pt x="2229" y="16"/>
                  </a:lnTo>
                  <a:lnTo>
                    <a:pt x="2216" y="24"/>
                  </a:lnTo>
                  <a:lnTo>
                    <a:pt x="2203" y="34"/>
                  </a:lnTo>
                  <a:lnTo>
                    <a:pt x="2190" y="46"/>
                  </a:lnTo>
                  <a:lnTo>
                    <a:pt x="2177" y="58"/>
                  </a:lnTo>
                  <a:lnTo>
                    <a:pt x="2166" y="68"/>
                  </a:lnTo>
                  <a:lnTo>
                    <a:pt x="2158" y="75"/>
                  </a:lnTo>
                  <a:lnTo>
                    <a:pt x="2156" y="77"/>
                  </a:lnTo>
                  <a:lnTo>
                    <a:pt x="2148" y="71"/>
                  </a:lnTo>
                  <a:lnTo>
                    <a:pt x="2147" y="59"/>
                  </a:lnTo>
                  <a:lnTo>
                    <a:pt x="2153" y="43"/>
                  </a:lnTo>
                  <a:lnTo>
                    <a:pt x="2163" y="29"/>
                  </a:lnTo>
                  <a:lnTo>
                    <a:pt x="2151" y="31"/>
                  </a:lnTo>
                  <a:lnTo>
                    <a:pt x="2139" y="37"/>
                  </a:lnTo>
                  <a:lnTo>
                    <a:pt x="2126" y="45"/>
                  </a:lnTo>
                  <a:lnTo>
                    <a:pt x="2113" y="54"/>
                  </a:lnTo>
                  <a:lnTo>
                    <a:pt x="2101" y="63"/>
                  </a:lnTo>
                  <a:lnTo>
                    <a:pt x="2090" y="71"/>
                  </a:lnTo>
                  <a:lnTo>
                    <a:pt x="2082" y="77"/>
                  </a:lnTo>
                  <a:lnTo>
                    <a:pt x="2077" y="79"/>
                  </a:lnTo>
                  <a:lnTo>
                    <a:pt x="2072" y="74"/>
                  </a:lnTo>
                  <a:lnTo>
                    <a:pt x="2072" y="61"/>
                  </a:lnTo>
                  <a:lnTo>
                    <a:pt x="2074" y="45"/>
                  </a:lnTo>
                  <a:lnTo>
                    <a:pt x="2080" y="29"/>
                  </a:lnTo>
                  <a:lnTo>
                    <a:pt x="2072" y="32"/>
                  </a:lnTo>
                  <a:lnTo>
                    <a:pt x="2062" y="39"/>
                  </a:lnTo>
                  <a:lnTo>
                    <a:pt x="2050" y="48"/>
                  </a:lnTo>
                  <a:lnTo>
                    <a:pt x="2037" y="58"/>
                  </a:lnTo>
                  <a:lnTo>
                    <a:pt x="2027" y="68"/>
                  </a:lnTo>
                  <a:lnTo>
                    <a:pt x="2017" y="76"/>
                  </a:lnTo>
                  <a:lnTo>
                    <a:pt x="2010" y="83"/>
                  </a:lnTo>
                  <a:lnTo>
                    <a:pt x="2005" y="85"/>
                  </a:lnTo>
                  <a:lnTo>
                    <a:pt x="2005" y="77"/>
                  </a:lnTo>
                  <a:lnTo>
                    <a:pt x="2007" y="58"/>
                  </a:lnTo>
                  <a:lnTo>
                    <a:pt x="2011" y="36"/>
                  </a:lnTo>
                  <a:lnTo>
                    <a:pt x="2017" y="18"/>
                  </a:lnTo>
                  <a:lnTo>
                    <a:pt x="2007" y="23"/>
                  </a:lnTo>
                  <a:lnTo>
                    <a:pt x="1996" y="32"/>
                  </a:lnTo>
                  <a:lnTo>
                    <a:pt x="1983" y="43"/>
                  </a:lnTo>
                  <a:lnTo>
                    <a:pt x="1971" y="55"/>
                  </a:lnTo>
                  <a:lnTo>
                    <a:pt x="1958" y="68"/>
                  </a:lnTo>
                  <a:lnTo>
                    <a:pt x="1948" y="78"/>
                  </a:lnTo>
                  <a:lnTo>
                    <a:pt x="1938" y="85"/>
                  </a:lnTo>
                  <a:lnTo>
                    <a:pt x="1933" y="87"/>
                  </a:lnTo>
                  <a:lnTo>
                    <a:pt x="1928" y="78"/>
                  </a:lnTo>
                  <a:lnTo>
                    <a:pt x="1928" y="56"/>
                  </a:lnTo>
                  <a:lnTo>
                    <a:pt x="1930" y="31"/>
                  </a:lnTo>
                  <a:lnTo>
                    <a:pt x="1935" y="9"/>
                  </a:lnTo>
                  <a:lnTo>
                    <a:pt x="1926" y="14"/>
                  </a:lnTo>
                  <a:lnTo>
                    <a:pt x="1913" y="26"/>
                  </a:lnTo>
                  <a:lnTo>
                    <a:pt x="1899" y="43"/>
                  </a:lnTo>
                  <a:lnTo>
                    <a:pt x="1885" y="60"/>
                  </a:lnTo>
                  <a:lnTo>
                    <a:pt x="1872" y="78"/>
                  </a:lnTo>
                  <a:lnTo>
                    <a:pt x="1860" y="94"/>
                  </a:lnTo>
                  <a:lnTo>
                    <a:pt x="1850" y="105"/>
                  </a:lnTo>
                  <a:lnTo>
                    <a:pt x="1844" y="108"/>
                  </a:lnTo>
                  <a:lnTo>
                    <a:pt x="1839" y="105"/>
                  </a:lnTo>
                  <a:lnTo>
                    <a:pt x="1838" y="96"/>
                  </a:lnTo>
                  <a:lnTo>
                    <a:pt x="1840" y="84"/>
                  </a:lnTo>
                  <a:lnTo>
                    <a:pt x="1844" y="70"/>
                  </a:lnTo>
                  <a:lnTo>
                    <a:pt x="1849" y="54"/>
                  </a:lnTo>
                  <a:lnTo>
                    <a:pt x="1853" y="39"/>
                  </a:lnTo>
                  <a:lnTo>
                    <a:pt x="1859" y="24"/>
                  </a:lnTo>
                  <a:lnTo>
                    <a:pt x="1862" y="11"/>
                  </a:lnTo>
                  <a:lnTo>
                    <a:pt x="1849" y="18"/>
                  </a:lnTo>
                  <a:lnTo>
                    <a:pt x="1834" y="32"/>
                  </a:lnTo>
                  <a:lnTo>
                    <a:pt x="1816" y="52"/>
                  </a:lnTo>
                  <a:lnTo>
                    <a:pt x="1800" y="73"/>
                  </a:lnTo>
                  <a:lnTo>
                    <a:pt x="1785" y="94"/>
                  </a:lnTo>
                  <a:lnTo>
                    <a:pt x="1774" y="112"/>
                  </a:lnTo>
                  <a:lnTo>
                    <a:pt x="1763" y="126"/>
                  </a:lnTo>
                  <a:lnTo>
                    <a:pt x="1759" y="130"/>
                  </a:lnTo>
                  <a:lnTo>
                    <a:pt x="1756" y="117"/>
                  </a:lnTo>
                  <a:lnTo>
                    <a:pt x="1759" y="87"/>
                  </a:lnTo>
                  <a:lnTo>
                    <a:pt x="1763" y="52"/>
                  </a:lnTo>
                  <a:lnTo>
                    <a:pt x="1769" y="22"/>
                  </a:lnTo>
                  <a:lnTo>
                    <a:pt x="1758" y="29"/>
                  </a:lnTo>
                  <a:lnTo>
                    <a:pt x="1745" y="43"/>
                  </a:lnTo>
                  <a:lnTo>
                    <a:pt x="1732" y="62"/>
                  </a:lnTo>
                  <a:lnTo>
                    <a:pt x="1720" y="84"/>
                  </a:lnTo>
                  <a:lnTo>
                    <a:pt x="1708" y="106"/>
                  </a:lnTo>
                  <a:lnTo>
                    <a:pt x="1698" y="124"/>
                  </a:lnTo>
                  <a:lnTo>
                    <a:pt x="1690" y="137"/>
                  </a:lnTo>
                  <a:lnTo>
                    <a:pt x="1685" y="142"/>
                  </a:lnTo>
                  <a:lnTo>
                    <a:pt x="1679" y="129"/>
                  </a:lnTo>
                  <a:lnTo>
                    <a:pt x="1677" y="98"/>
                  </a:lnTo>
                  <a:lnTo>
                    <a:pt x="1679" y="59"/>
                  </a:lnTo>
                  <a:lnTo>
                    <a:pt x="1686" y="22"/>
                  </a:lnTo>
                  <a:lnTo>
                    <a:pt x="1678" y="29"/>
                  </a:lnTo>
                  <a:lnTo>
                    <a:pt x="1665" y="44"/>
                  </a:lnTo>
                  <a:lnTo>
                    <a:pt x="1649" y="63"/>
                  </a:lnTo>
                  <a:lnTo>
                    <a:pt x="1633" y="85"/>
                  </a:lnTo>
                  <a:lnTo>
                    <a:pt x="1616" y="107"/>
                  </a:lnTo>
                  <a:lnTo>
                    <a:pt x="1602" y="126"/>
                  </a:lnTo>
                  <a:lnTo>
                    <a:pt x="1591" y="138"/>
                  </a:lnTo>
                  <a:lnTo>
                    <a:pt x="1585" y="144"/>
                  </a:lnTo>
                  <a:lnTo>
                    <a:pt x="1582" y="131"/>
                  </a:lnTo>
                  <a:lnTo>
                    <a:pt x="1586" y="99"/>
                  </a:lnTo>
                  <a:lnTo>
                    <a:pt x="1594" y="60"/>
                  </a:lnTo>
                  <a:lnTo>
                    <a:pt x="1604" y="26"/>
                  </a:lnTo>
                  <a:lnTo>
                    <a:pt x="1595" y="32"/>
                  </a:lnTo>
                  <a:lnTo>
                    <a:pt x="1581" y="47"/>
                  </a:lnTo>
                  <a:lnTo>
                    <a:pt x="1565" y="68"/>
                  </a:lnTo>
                  <a:lnTo>
                    <a:pt x="1548" y="91"/>
                  </a:lnTo>
                  <a:lnTo>
                    <a:pt x="1531" y="115"/>
                  </a:lnTo>
                  <a:lnTo>
                    <a:pt x="1514" y="136"/>
                  </a:lnTo>
                  <a:lnTo>
                    <a:pt x="1503" y="151"/>
                  </a:lnTo>
                  <a:lnTo>
                    <a:pt x="1496" y="157"/>
                  </a:lnTo>
                  <a:lnTo>
                    <a:pt x="1496" y="144"/>
                  </a:lnTo>
                  <a:lnTo>
                    <a:pt x="1501" y="112"/>
                  </a:lnTo>
                  <a:lnTo>
                    <a:pt x="1508" y="71"/>
                  </a:lnTo>
                  <a:lnTo>
                    <a:pt x="1514" y="34"/>
                  </a:lnTo>
                  <a:lnTo>
                    <a:pt x="1505" y="44"/>
                  </a:lnTo>
                  <a:lnTo>
                    <a:pt x="1494" y="60"/>
                  </a:lnTo>
                  <a:lnTo>
                    <a:pt x="1480" y="83"/>
                  </a:lnTo>
                  <a:lnTo>
                    <a:pt x="1465" y="108"/>
                  </a:lnTo>
                  <a:lnTo>
                    <a:pt x="1450" y="134"/>
                  </a:lnTo>
                  <a:lnTo>
                    <a:pt x="1437" y="154"/>
                  </a:lnTo>
                  <a:lnTo>
                    <a:pt x="1427" y="170"/>
                  </a:lnTo>
                  <a:lnTo>
                    <a:pt x="1420" y="176"/>
                  </a:lnTo>
                  <a:lnTo>
                    <a:pt x="1415" y="164"/>
                  </a:lnTo>
                  <a:lnTo>
                    <a:pt x="1417" y="130"/>
                  </a:lnTo>
                  <a:lnTo>
                    <a:pt x="1425" y="85"/>
                  </a:lnTo>
                  <a:lnTo>
                    <a:pt x="1437" y="39"/>
                  </a:lnTo>
                  <a:lnTo>
                    <a:pt x="1430" y="46"/>
                  </a:lnTo>
                  <a:lnTo>
                    <a:pt x="1419" y="62"/>
                  </a:lnTo>
                  <a:lnTo>
                    <a:pt x="1405" y="84"/>
                  </a:lnTo>
                  <a:lnTo>
                    <a:pt x="1389" y="107"/>
                  </a:lnTo>
                  <a:lnTo>
                    <a:pt x="1372" y="131"/>
                  </a:lnTo>
                  <a:lnTo>
                    <a:pt x="1358" y="152"/>
                  </a:lnTo>
                  <a:lnTo>
                    <a:pt x="1346" y="166"/>
                  </a:lnTo>
                  <a:lnTo>
                    <a:pt x="1339" y="172"/>
                  </a:lnTo>
                  <a:lnTo>
                    <a:pt x="1335" y="159"/>
                  </a:lnTo>
                  <a:lnTo>
                    <a:pt x="1339" y="128"/>
                  </a:lnTo>
                  <a:lnTo>
                    <a:pt x="1349" y="87"/>
                  </a:lnTo>
                  <a:lnTo>
                    <a:pt x="1359" y="49"/>
                  </a:lnTo>
                  <a:lnTo>
                    <a:pt x="1347" y="56"/>
                  </a:lnTo>
                  <a:lnTo>
                    <a:pt x="1335" y="71"/>
                  </a:lnTo>
                  <a:lnTo>
                    <a:pt x="1321" y="92"/>
                  </a:lnTo>
                  <a:lnTo>
                    <a:pt x="1307" y="115"/>
                  </a:lnTo>
                  <a:lnTo>
                    <a:pt x="1294" y="139"/>
                  </a:lnTo>
                  <a:lnTo>
                    <a:pt x="1283" y="159"/>
                  </a:lnTo>
                  <a:lnTo>
                    <a:pt x="1274" y="173"/>
                  </a:lnTo>
                  <a:lnTo>
                    <a:pt x="1268" y="179"/>
                  </a:lnTo>
                  <a:lnTo>
                    <a:pt x="1262" y="166"/>
                  </a:lnTo>
                  <a:lnTo>
                    <a:pt x="1262" y="134"/>
                  </a:lnTo>
                  <a:lnTo>
                    <a:pt x="1268" y="93"/>
                  </a:lnTo>
                  <a:lnTo>
                    <a:pt x="1278" y="54"/>
                  </a:lnTo>
                  <a:lnTo>
                    <a:pt x="1271" y="62"/>
                  </a:lnTo>
                  <a:lnTo>
                    <a:pt x="1262" y="78"/>
                  </a:lnTo>
                  <a:lnTo>
                    <a:pt x="1250" y="100"/>
                  </a:lnTo>
                  <a:lnTo>
                    <a:pt x="1237" y="123"/>
                  </a:lnTo>
                  <a:lnTo>
                    <a:pt x="1223" y="147"/>
                  </a:lnTo>
                  <a:lnTo>
                    <a:pt x="1212" y="168"/>
                  </a:lnTo>
                  <a:lnTo>
                    <a:pt x="1201" y="183"/>
                  </a:lnTo>
                  <a:lnTo>
                    <a:pt x="1194" y="189"/>
                  </a:lnTo>
                  <a:lnTo>
                    <a:pt x="1188" y="176"/>
                  </a:lnTo>
                  <a:lnTo>
                    <a:pt x="1187" y="145"/>
                  </a:lnTo>
                  <a:lnTo>
                    <a:pt x="1192" y="106"/>
                  </a:lnTo>
                  <a:lnTo>
                    <a:pt x="1202" y="68"/>
                  </a:lnTo>
                  <a:lnTo>
                    <a:pt x="1193" y="78"/>
                  </a:lnTo>
                  <a:lnTo>
                    <a:pt x="1182" y="96"/>
                  </a:lnTo>
                  <a:lnTo>
                    <a:pt x="1168" y="117"/>
                  </a:lnTo>
                  <a:lnTo>
                    <a:pt x="1154" y="142"/>
                  </a:lnTo>
                  <a:lnTo>
                    <a:pt x="1139" y="164"/>
                  </a:lnTo>
                  <a:lnTo>
                    <a:pt x="1126" y="183"/>
                  </a:lnTo>
                  <a:lnTo>
                    <a:pt x="1116" y="197"/>
                  </a:lnTo>
                  <a:lnTo>
                    <a:pt x="1108" y="202"/>
                  </a:lnTo>
                  <a:lnTo>
                    <a:pt x="1102" y="189"/>
                  </a:lnTo>
                  <a:lnTo>
                    <a:pt x="1103" y="158"/>
                  </a:lnTo>
                  <a:lnTo>
                    <a:pt x="1110" y="117"/>
                  </a:lnTo>
                  <a:lnTo>
                    <a:pt x="1117" y="77"/>
                  </a:lnTo>
                  <a:lnTo>
                    <a:pt x="1109" y="86"/>
                  </a:lnTo>
                  <a:lnTo>
                    <a:pt x="1097" y="105"/>
                  </a:lnTo>
                  <a:lnTo>
                    <a:pt x="1083" y="128"/>
                  </a:lnTo>
                  <a:lnTo>
                    <a:pt x="1068" y="153"/>
                  </a:lnTo>
                  <a:lnTo>
                    <a:pt x="1053" y="179"/>
                  </a:lnTo>
                  <a:lnTo>
                    <a:pt x="1040" y="199"/>
                  </a:lnTo>
                  <a:lnTo>
                    <a:pt x="1032" y="214"/>
                  </a:lnTo>
                  <a:lnTo>
                    <a:pt x="1028" y="220"/>
                  </a:lnTo>
                  <a:lnTo>
                    <a:pt x="1025" y="205"/>
                  </a:lnTo>
                  <a:lnTo>
                    <a:pt x="1027" y="167"/>
                  </a:lnTo>
                  <a:lnTo>
                    <a:pt x="1034" y="121"/>
                  </a:lnTo>
                  <a:lnTo>
                    <a:pt x="1044" y="81"/>
                  </a:lnTo>
                  <a:lnTo>
                    <a:pt x="1034" y="93"/>
                  </a:lnTo>
                  <a:lnTo>
                    <a:pt x="1021" y="113"/>
                  </a:lnTo>
                  <a:lnTo>
                    <a:pt x="1006" y="136"/>
                  </a:lnTo>
                  <a:lnTo>
                    <a:pt x="993" y="160"/>
                  </a:lnTo>
                  <a:lnTo>
                    <a:pt x="980" y="184"/>
                  </a:lnTo>
                  <a:lnTo>
                    <a:pt x="968" y="204"/>
                  </a:lnTo>
                  <a:lnTo>
                    <a:pt x="959" y="218"/>
                  </a:lnTo>
                  <a:lnTo>
                    <a:pt x="955" y="222"/>
                  </a:lnTo>
                  <a:lnTo>
                    <a:pt x="951" y="208"/>
                  </a:lnTo>
                  <a:lnTo>
                    <a:pt x="951" y="175"/>
                  </a:lnTo>
                  <a:lnTo>
                    <a:pt x="956" y="134"/>
                  </a:lnTo>
                  <a:lnTo>
                    <a:pt x="964" y="98"/>
                  </a:lnTo>
                  <a:lnTo>
                    <a:pt x="956" y="109"/>
                  </a:lnTo>
                  <a:lnTo>
                    <a:pt x="943" y="127"/>
                  </a:lnTo>
                  <a:lnTo>
                    <a:pt x="929" y="150"/>
                  </a:lnTo>
                  <a:lnTo>
                    <a:pt x="914" y="174"/>
                  </a:lnTo>
                  <a:lnTo>
                    <a:pt x="899" y="198"/>
                  </a:lnTo>
                  <a:lnTo>
                    <a:pt x="887" y="218"/>
                  </a:lnTo>
                  <a:lnTo>
                    <a:pt x="877" y="232"/>
                  </a:lnTo>
                  <a:lnTo>
                    <a:pt x="872" y="237"/>
                  </a:lnTo>
                  <a:lnTo>
                    <a:pt x="867" y="223"/>
                  </a:lnTo>
                  <a:lnTo>
                    <a:pt x="867" y="191"/>
                  </a:lnTo>
                  <a:lnTo>
                    <a:pt x="872" y="151"/>
                  </a:lnTo>
                  <a:lnTo>
                    <a:pt x="879" y="111"/>
                  </a:lnTo>
                  <a:lnTo>
                    <a:pt x="869" y="122"/>
                  </a:lnTo>
                  <a:lnTo>
                    <a:pt x="858" y="140"/>
                  </a:lnTo>
                  <a:lnTo>
                    <a:pt x="844" y="164"/>
                  </a:lnTo>
                  <a:lnTo>
                    <a:pt x="828" y="189"/>
                  </a:lnTo>
                  <a:lnTo>
                    <a:pt x="813" y="214"/>
                  </a:lnTo>
                  <a:lnTo>
                    <a:pt x="800" y="235"/>
                  </a:lnTo>
                  <a:lnTo>
                    <a:pt x="790" y="249"/>
                  </a:lnTo>
                  <a:lnTo>
                    <a:pt x="783" y="253"/>
                  </a:lnTo>
                  <a:lnTo>
                    <a:pt x="780" y="240"/>
                  </a:lnTo>
                  <a:lnTo>
                    <a:pt x="782" y="207"/>
                  </a:lnTo>
                  <a:lnTo>
                    <a:pt x="789" y="167"/>
                  </a:lnTo>
                  <a:lnTo>
                    <a:pt x="795" y="131"/>
                  </a:lnTo>
                  <a:lnTo>
                    <a:pt x="786" y="143"/>
                  </a:lnTo>
                  <a:lnTo>
                    <a:pt x="774" y="162"/>
                  </a:lnTo>
                  <a:lnTo>
                    <a:pt x="761" y="187"/>
                  </a:lnTo>
                  <a:lnTo>
                    <a:pt x="746" y="213"/>
                  </a:lnTo>
                  <a:lnTo>
                    <a:pt x="732" y="237"/>
                  </a:lnTo>
                  <a:lnTo>
                    <a:pt x="720" y="259"/>
                  </a:lnTo>
                  <a:lnTo>
                    <a:pt x="709" y="273"/>
                  </a:lnTo>
                  <a:lnTo>
                    <a:pt x="704" y="279"/>
                  </a:lnTo>
                  <a:lnTo>
                    <a:pt x="700" y="264"/>
                  </a:lnTo>
                  <a:lnTo>
                    <a:pt x="704" y="229"/>
                  </a:lnTo>
                  <a:lnTo>
                    <a:pt x="712" y="185"/>
                  </a:lnTo>
                  <a:lnTo>
                    <a:pt x="727" y="142"/>
                  </a:lnTo>
                  <a:lnTo>
                    <a:pt x="716" y="154"/>
                  </a:lnTo>
                  <a:lnTo>
                    <a:pt x="704" y="174"/>
                  </a:lnTo>
                  <a:lnTo>
                    <a:pt x="687" y="199"/>
                  </a:lnTo>
                  <a:lnTo>
                    <a:pt x="670" y="226"/>
                  </a:lnTo>
                  <a:lnTo>
                    <a:pt x="654" y="252"/>
                  </a:lnTo>
                  <a:lnTo>
                    <a:pt x="639" y="274"/>
                  </a:lnTo>
                  <a:lnTo>
                    <a:pt x="629" y="290"/>
                  </a:lnTo>
                  <a:lnTo>
                    <a:pt x="623" y="296"/>
                  </a:lnTo>
                  <a:lnTo>
                    <a:pt x="618" y="282"/>
                  </a:lnTo>
                  <a:lnTo>
                    <a:pt x="619" y="248"/>
                  </a:lnTo>
                  <a:lnTo>
                    <a:pt x="625" y="203"/>
                  </a:lnTo>
                  <a:lnTo>
                    <a:pt x="639" y="159"/>
                  </a:lnTo>
                  <a:lnTo>
                    <a:pt x="629" y="170"/>
                  </a:lnTo>
                  <a:lnTo>
                    <a:pt x="615" y="189"/>
                  </a:lnTo>
                  <a:lnTo>
                    <a:pt x="600" y="212"/>
                  </a:lnTo>
                  <a:lnTo>
                    <a:pt x="584" y="236"/>
                  </a:lnTo>
                  <a:lnTo>
                    <a:pt x="569" y="260"/>
                  </a:lnTo>
                  <a:lnTo>
                    <a:pt x="556" y="281"/>
                  </a:lnTo>
                  <a:lnTo>
                    <a:pt x="547" y="296"/>
                  </a:lnTo>
                  <a:lnTo>
                    <a:pt x="541" y="302"/>
                  </a:lnTo>
                  <a:lnTo>
                    <a:pt x="536" y="299"/>
                  </a:lnTo>
                  <a:lnTo>
                    <a:pt x="535" y="291"/>
                  </a:lnTo>
                  <a:lnTo>
                    <a:pt x="535" y="279"/>
                  </a:lnTo>
                  <a:lnTo>
                    <a:pt x="538" y="263"/>
                  </a:lnTo>
                  <a:lnTo>
                    <a:pt x="542" y="245"/>
                  </a:lnTo>
                  <a:lnTo>
                    <a:pt x="547" y="227"/>
                  </a:lnTo>
                  <a:lnTo>
                    <a:pt x="554" y="208"/>
                  </a:lnTo>
                  <a:lnTo>
                    <a:pt x="562" y="192"/>
                  </a:lnTo>
                  <a:lnTo>
                    <a:pt x="551" y="202"/>
                  </a:lnTo>
                  <a:lnTo>
                    <a:pt x="536" y="219"/>
                  </a:lnTo>
                  <a:lnTo>
                    <a:pt x="520" y="240"/>
                  </a:lnTo>
                  <a:lnTo>
                    <a:pt x="502" y="261"/>
                  </a:lnTo>
                  <a:lnTo>
                    <a:pt x="485" y="283"/>
                  </a:lnTo>
                  <a:lnTo>
                    <a:pt x="470" y="301"/>
                  </a:lnTo>
                  <a:lnTo>
                    <a:pt x="457" y="313"/>
                  </a:lnTo>
                  <a:lnTo>
                    <a:pt x="450" y="317"/>
                  </a:lnTo>
                  <a:lnTo>
                    <a:pt x="444" y="309"/>
                  </a:lnTo>
                  <a:lnTo>
                    <a:pt x="445" y="291"/>
                  </a:lnTo>
                  <a:lnTo>
                    <a:pt x="451" y="271"/>
                  </a:lnTo>
                  <a:lnTo>
                    <a:pt x="459" y="252"/>
                  </a:lnTo>
                  <a:lnTo>
                    <a:pt x="421" y="312"/>
                  </a:lnTo>
                  <a:lnTo>
                    <a:pt x="393" y="407"/>
                  </a:lnTo>
                  <a:lnTo>
                    <a:pt x="371" y="530"/>
                  </a:lnTo>
                  <a:lnTo>
                    <a:pt x="353" y="679"/>
                  </a:lnTo>
                  <a:lnTo>
                    <a:pt x="340" y="847"/>
                  </a:lnTo>
                  <a:lnTo>
                    <a:pt x="328" y="1029"/>
                  </a:lnTo>
                  <a:lnTo>
                    <a:pt x="318" y="1220"/>
                  </a:lnTo>
                  <a:lnTo>
                    <a:pt x="306" y="1417"/>
                  </a:lnTo>
                  <a:lnTo>
                    <a:pt x="292" y="1613"/>
                  </a:lnTo>
                  <a:lnTo>
                    <a:pt x="275" y="1803"/>
                  </a:lnTo>
                  <a:lnTo>
                    <a:pt x="252" y="1984"/>
                  </a:lnTo>
                  <a:lnTo>
                    <a:pt x="221" y="2149"/>
                  </a:lnTo>
                  <a:lnTo>
                    <a:pt x="183" y="2293"/>
                  </a:lnTo>
                  <a:lnTo>
                    <a:pt x="133" y="2413"/>
                  </a:lnTo>
                  <a:lnTo>
                    <a:pt x="73" y="2501"/>
                  </a:lnTo>
                  <a:lnTo>
                    <a:pt x="0" y="2555"/>
                  </a:lnTo>
                  <a:lnTo>
                    <a:pt x="8" y="2553"/>
                  </a:lnTo>
                  <a:lnTo>
                    <a:pt x="18" y="2550"/>
                  </a:lnTo>
                  <a:lnTo>
                    <a:pt x="28" y="2546"/>
                  </a:lnTo>
                  <a:lnTo>
                    <a:pt x="40" y="2543"/>
                  </a:lnTo>
                  <a:lnTo>
                    <a:pt x="50" y="2539"/>
                  </a:lnTo>
                  <a:lnTo>
                    <a:pt x="60" y="2536"/>
                  </a:lnTo>
                  <a:lnTo>
                    <a:pt x="68" y="2535"/>
                  </a:lnTo>
                  <a:lnTo>
                    <a:pt x="73" y="2535"/>
                  </a:lnTo>
                  <a:lnTo>
                    <a:pt x="76" y="2538"/>
                  </a:lnTo>
                  <a:lnTo>
                    <a:pt x="73" y="2543"/>
                  </a:lnTo>
                  <a:lnTo>
                    <a:pt x="69" y="2550"/>
                  </a:lnTo>
                  <a:lnTo>
                    <a:pt x="62" y="2557"/>
                  </a:lnTo>
                  <a:lnTo>
                    <a:pt x="56" y="2565"/>
                  </a:lnTo>
                  <a:lnTo>
                    <a:pt x="53" y="2570"/>
                  </a:lnTo>
                  <a:lnTo>
                    <a:pt x="53" y="2575"/>
                  </a:lnTo>
                  <a:lnTo>
                    <a:pt x="57" y="2576"/>
                  </a:lnTo>
                  <a:lnTo>
                    <a:pt x="70" y="2574"/>
                  </a:lnTo>
                  <a:lnTo>
                    <a:pt x="85" y="2568"/>
                  </a:lnTo>
                  <a:lnTo>
                    <a:pt x="100" y="2561"/>
                  </a:lnTo>
                  <a:lnTo>
                    <a:pt x="116" y="2554"/>
                  </a:lnTo>
                  <a:lnTo>
                    <a:pt x="130" y="2547"/>
                  </a:lnTo>
                  <a:lnTo>
                    <a:pt x="144" y="2540"/>
                  </a:lnTo>
                  <a:lnTo>
                    <a:pt x="154" y="2536"/>
                  </a:lnTo>
                  <a:lnTo>
                    <a:pt x="161" y="2535"/>
                  </a:lnTo>
                  <a:lnTo>
                    <a:pt x="163" y="2537"/>
                  </a:lnTo>
                  <a:lnTo>
                    <a:pt x="161" y="2543"/>
                  </a:lnTo>
                  <a:lnTo>
                    <a:pt x="156" y="2550"/>
                  </a:lnTo>
                  <a:lnTo>
                    <a:pt x="151" y="2558"/>
                  </a:lnTo>
                  <a:lnTo>
                    <a:pt x="146" y="2566"/>
                  </a:lnTo>
                  <a:lnTo>
                    <a:pt x="144" y="2573"/>
                  </a:lnTo>
                  <a:lnTo>
                    <a:pt x="145" y="2577"/>
                  </a:lnTo>
                  <a:lnTo>
                    <a:pt x="152" y="2578"/>
                  </a:lnTo>
                  <a:lnTo>
                    <a:pt x="163" y="2577"/>
                  </a:lnTo>
                  <a:lnTo>
                    <a:pt x="175" y="2572"/>
                  </a:lnTo>
                  <a:lnTo>
                    <a:pt x="189" y="2565"/>
                  </a:lnTo>
                  <a:lnTo>
                    <a:pt x="202" y="2555"/>
                  </a:lnTo>
                  <a:lnTo>
                    <a:pt x="215" y="2546"/>
                  </a:lnTo>
                  <a:lnTo>
                    <a:pt x="225" y="2539"/>
                  </a:lnTo>
                  <a:lnTo>
                    <a:pt x="235" y="2534"/>
                  </a:lnTo>
                  <a:lnTo>
                    <a:pt x="242" y="2532"/>
                  </a:lnTo>
                  <a:lnTo>
                    <a:pt x="245" y="2539"/>
                  </a:lnTo>
                  <a:lnTo>
                    <a:pt x="245" y="2552"/>
                  </a:lnTo>
                  <a:lnTo>
                    <a:pt x="242" y="2567"/>
                  </a:lnTo>
                  <a:lnTo>
                    <a:pt x="234" y="2578"/>
                  </a:lnTo>
                  <a:lnTo>
                    <a:pt x="244" y="2573"/>
                  </a:lnTo>
                  <a:lnTo>
                    <a:pt x="257" y="2566"/>
                  </a:lnTo>
                  <a:lnTo>
                    <a:pt x="269" y="2557"/>
                  </a:lnTo>
                  <a:lnTo>
                    <a:pt x="283" y="2547"/>
                  </a:lnTo>
                  <a:lnTo>
                    <a:pt x="295" y="2538"/>
                  </a:lnTo>
                  <a:lnTo>
                    <a:pt x="305" y="2531"/>
                  </a:lnTo>
                  <a:lnTo>
                    <a:pt x="313" y="2525"/>
                  </a:lnTo>
                  <a:lnTo>
                    <a:pt x="319" y="2524"/>
                  </a:lnTo>
                  <a:lnTo>
                    <a:pt x="326" y="2530"/>
                  </a:lnTo>
                  <a:lnTo>
                    <a:pt x="328" y="2545"/>
                  </a:lnTo>
                  <a:lnTo>
                    <a:pt x="323" y="2566"/>
                  </a:lnTo>
                  <a:lnTo>
                    <a:pt x="310" y="2589"/>
                  </a:lnTo>
                  <a:lnTo>
                    <a:pt x="323" y="2581"/>
                  </a:lnTo>
                  <a:lnTo>
                    <a:pt x="338" y="2570"/>
                  </a:lnTo>
                  <a:lnTo>
                    <a:pt x="354" y="2559"/>
                  </a:lnTo>
                  <a:lnTo>
                    <a:pt x="371" y="2547"/>
                  </a:lnTo>
                  <a:lnTo>
                    <a:pt x="384" y="2536"/>
                  </a:lnTo>
                  <a:lnTo>
                    <a:pt x="397" y="2527"/>
                  </a:lnTo>
                  <a:lnTo>
                    <a:pt x="407" y="2521"/>
                  </a:lnTo>
                  <a:lnTo>
                    <a:pt x="413" y="2519"/>
                  </a:lnTo>
                  <a:lnTo>
                    <a:pt x="417" y="2521"/>
                  </a:lnTo>
                  <a:lnTo>
                    <a:pt x="417" y="2527"/>
                  </a:lnTo>
                  <a:lnTo>
                    <a:pt x="414" y="2536"/>
                  </a:lnTo>
                  <a:lnTo>
                    <a:pt x="411" y="2547"/>
                  </a:lnTo>
                  <a:lnTo>
                    <a:pt x="405" y="2559"/>
                  </a:lnTo>
                  <a:lnTo>
                    <a:pt x="399" y="2570"/>
                  </a:lnTo>
                  <a:lnTo>
                    <a:pt x="393" y="2581"/>
                  </a:lnTo>
                  <a:lnTo>
                    <a:pt x="386" y="2590"/>
                  </a:lnTo>
                  <a:lnTo>
                    <a:pt x="401" y="2581"/>
                  </a:lnTo>
                  <a:lnTo>
                    <a:pt x="417" y="2569"/>
                  </a:lnTo>
                  <a:lnTo>
                    <a:pt x="435" y="2555"/>
                  </a:lnTo>
                  <a:lnTo>
                    <a:pt x="454" y="2542"/>
                  </a:lnTo>
                  <a:lnTo>
                    <a:pt x="471" y="2529"/>
                  </a:lnTo>
                  <a:lnTo>
                    <a:pt x="485" y="2519"/>
                  </a:lnTo>
                  <a:lnTo>
                    <a:pt x="496" y="2512"/>
                  </a:lnTo>
                  <a:lnTo>
                    <a:pt x="503" y="2509"/>
                  </a:lnTo>
                  <a:lnTo>
                    <a:pt x="507" y="2512"/>
                  </a:lnTo>
                  <a:lnTo>
                    <a:pt x="508" y="2517"/>
                  </a:lnTo>
                  <a:lnTo>
                    <a:pt x="508" y="2525"/>
                  </a:lnTo>
                  <a:lnTo>
                    <a:pt x="507" y="2535"/>
                  </a:lnTo>
                  <a:lnTo>
                    <a:pt x="502" y="2546"/>
                  </a:lnTo>
                  <a:lnTo>
                    <a:pt x="497" y="2558"/>
                  </a:lnTo>
                  <a:lnTo>
                    <a:pt x="489" y="2569"/>
                  </a:lnTo>
                  <a:lnTo>
                    <a:pt x="479" y="2581"/>
                  </a:lnTo>
                  <a:lnTo>
                    <a:pt x="494" y="2572"/>
                  </a:lnTo>
                  <a:lnTo>
                    <a:pt x="510" y="2559"/>
                  </a:lnTo>
                  <a:lnTo>
                    <a:pt x="528" y="2546"/>
                  </a:lnTo>
                  <a:lnTo>
                    <a:pt x="546" y="2534"/>
                  </a:lnTo>
                  <a:lnTo>
                    <a:pt x="563" y="2522"/>
                  </a:lnTo>
                  <a:lnTo>
                    <a:pt x="577" y="2512"/>
                  </a:lnTo>
                  <a:lnTo>
                    <a:pt x="587" y="2505"/>
                  </a:lnTo>
                  <a:lnTo>
                    <a:pt x="594" y="2502"/>
                  </a:lnTo>
                  <a:lnTo>
                    <a:pt x="596" y="2505"/>
                  </a:lnTo>
                  <a:lnTo>
                    <a:pt x="596" y="2509"/>
                  </a:lnTo>
                  <a:lnTo>
                    <a:pt x="595" y="2519"/>
                  </a:lnTo>
                  <a:lnTo>
                    <a:pt x="593" y="2529"/>
                  </a:lnTo>
                  <a:lnTo>
                    <a:pt x="588" y="2542"/>
                  </a:lnTo>
                  <a:lnTo>
                    <a:pt x="583" y="2555"/>
                  </a:lnTo>
                  <a:lnTo>
                    <a:pt x="575" y="2568"/>
                  </a:lnTo>
                  <a:lnTo>
                    <a:pt x="565" y="2581"/>
                  </a:lnTo>
                  <a:lnTo>
                    <a:pt x="579" y="2570"/>
                  </a:lnTo>
                  <a:lnTo>
                    <a:pt x="594" y="2558"/>
                  </a:lnTo>
                  <a:lnTo>
                    <a:pt x="611" y="2544"/>
                  </a:lnTo>
                  <a:lnTo>
                    <a:pt x="627" y="2529"/>
                  </a:lnTo>
                  <a:lnTo>
                    <a:pt x="642" y="2515"/>
                  </a:lnTo>
                  <a:lnTo>
                    <a:pt x="655" y="2504"/>
                  </a:lnTo>
                  <a:lnTo>
                    <a:pt x="666" y="2496"/>
                  </a:lnTo>
                  <a:lnTo>
                    <a:pt x="672" y="2492"/>
                  </a:lnTo>
                  <a:lnTo>
                    <a:pt x="675" y="2493"/>
                  </a:lnTo>
                  <a:lnTo>
                    <a:pt x="677" y="2500"/>
                  </a:lnTo>
                  <a:lnTo>
                    <a:pt x="677" y="2509"/>
                  </a:lnTo>
                  <a:lnTo>
                    <a:pt x="675" y="2521"/>
                  </a:lnTo>
                  <a:lnTo>
                    <a:pt x="670" y="2534"/>
                  </a:lnTo>
                  <a:lnTo>
                    <a:pt x="664" y="2547"/>
                  </a:lnTo>
                  <a:lnTo>
                    <a:pt x="656" y="2560"/>
                  </a:lnTo>
                  <a:lnTo>
                    <a:pt x="645" y="2572"/>
                  </a:lnTo>
                  <a:lnTo>
                    <a:pt x="661" y="2562"/>
                  </a:lnTo>
                  <a:lnTo>
                    <a:pt x="678" y="2550"/>
                  </a:lnTo>
                  <a:lnTo>
                    <a:pt x="695" y="2535"/>
                  </a:lnTo>
                  <a:lnTo>
                    <a:pt x="713" y="2520"/>
                  </a:lnTo>
                  <a:lnTo>
                    <a:pt x="727" y="2506"/>
                  </a:lnTo>
                  <a:lnTo>
                    <a:pt x="739" y="2494"/>
                  </a:lnTo>
                  <a:lnTo>
                    <a:pt x="750" y="2486"/>
                  </a:lnTo>
                  <a:lnTo>
                    <a:pt x="755" y="2484"/>
                  </a:lnTo>
                  <a:lnTo>
                    <a:pt x="759" y="2487"/>
                  </a:lnTo>
                  <a:lnTo>
                    <a:pt x="761" y="2493"/>
                  </a:lnTo>
                  <a:lnTo>
                    <a:pt x="763" y="2502"/>
                  </a:lnTo>
                  <a:lnTo>
                    <a:pt x="763" y="2515"/>
                  </a:lnTo>
                  <a:lnTo>
                    <a:pt x="761" y="2528"/>
                  </a:lnTo>
                  <a:lnTo>
                    <a:pt x="757" y="2543"/>
                  </a:lnTo>
                  <a:lnTo>
                    <a:pt x="748" y="2558"/>
                  </a:lnTo>
                  <a:lnTo>
                    <a:pt x="737" y="2572"/>
                  </a:lnTo>
                  <a:lnTo>
                    <a:pt x="753" y="2562"/>
                  </a:lnTo>
                  <a:lnTo>
                    <a:pt x="769" y="2549"/>
                  </a:lnTo>
                  <a:lnTo>
                    <a:pt x="784" y="2534"/>
                  </a:lnTo>
                  <a:lnTo>
                    <a:pt x="798" y="2516"/>
                  </a:lnTo>
                  <a:lnTo>
                    <a:pt x="811" y="2501"/>
                  </a:lnTo>
                  <a:lnTo>
                    <a:pt x="822" y="2489"/>
                  </a:lnTo>
                  <a:lnTo>
                    <a:pt x="831" y="2479"/>
                  </a:lnTo>
                  <a:lnTo>
                    <a:pt x="838" y="2476"/>
                  </a:lnTo>
                  <a:lnTo>
                    <a:pt x="842" y="2478"/>
                  </a:lnTo>
                  <a:lnTo>
                    <a:pt x="844" y="2483"/>
                  </a:lnTo>
                  <a:lnTo>
                    <a:pt x="844" y="2492"/>
                  </a:lnTo>
                  <a:lnTo>
                    <a:pt x="843" y="2505"/>
                  </a:lnTo>
                  <a:lnTo>
                    <a:pt x="838" y="2519"/>
                  </a:lnTo>
                  <a:lnTo>
                    <a:pt x="833" y="2534"/>
                  </a:lnTo>
                  <a:lnTo>
                    <a:pt x="822" y="2551"/>
                  </a:lnTo>
                  <a:lnTo>
                    <a:pt x="810" y="2568"/>
                  </a:lnTo>
                  <a:lnTo>
                    <a:pt x="824" y="2560"/>
                  </a:lnTo>
                  <a:lnTo>
                    <a:pt x="839" y="2547"/>
                  </a:lnTo>
                  <a:lnTo>
                    <a:pt x="854" y="2532"/>
                  </a:lnTo>
                  <a:lnTo>
                    <a:pt x="869" y="2516"/>
                  </a:lnTo>
                  <a:lnTo>
                    <a:pt x="882" y="2501"/>
                  </a:lnTo>
                  <a:lnTo>
                    <a:pt x="894" y="2489"/>
                  </a:lnTo>
                  <a:lnTo>
                    <a:pt x="904" y="2479"/>
                  </a:lnTo>
                  <a:lnTo>
                    <a:pt x="911" y="2476"/>
                  </a:lnTo>
                  <a:lnTo>
                    <a:pt x="914" y="2487"/>
                  </a:lnTo>
                  <a:lnTo>
                    <a:pt x="911" y="2514"/>
                  </a:lnTo>
                  <a:lnTo>
                    <a:pt x="902" y="2544"/>
                  </a:lnTo>
                  <a:lnTo>
                    <a:pt x="890" y="2565"/>
                  </a:lnTo>
                  <a:lnTo>
                    <a:pt x="905" y="2553"/>
                  </a:lnTo>
                  <a:lnTo>
                    <a:pt x="920" y="2539"/>
                  </a:lnTo>
                  <a:lnTo>
                    <a:pt x="933" y="2523"/>
                  </a:lnTo>
                  <a:lnTo>
                    <a:pt x="944" y="2508"/>
                  </a:lnTo>
                  <a:lnTo>
                    <a:pt x="956" y="2493"/>
                  </a:lnTo>
                  <a:lnTo>
                    <a:pt x="965" y="2482"/>
                  </a:lnTo>
                  <a:lnTo>
                    <a:pt x="972" y="2472"/>
                  </a:lnTo>
                  <a:lnTo>
                    <a:pt x="978" y="2469"/>
                  </a:lnTo>
                  <a:lnTo>
                    <a:pt x="985" y="2477"/>
                  </a:lnTo>
                  <a:lnTo>
                    <a:pt x="985" y="2502"/>
                  </a:lnTo>
                  <a:lnTo>
                    <a:pt x="978" y="2534"/>
                  </a:lnTo>
                  <a:lnTo>
                    <a:pt x="960" y="2562"/>
                  </a:lnTo>
                  <a:lnTo>
                    <a:pt x="975" y="2554"/>
                  </a:lnTo>
                  <a:lnTo>
                    <a:pt x="990" y="2540"/>
                  </a:lnTo>
                  <a:lnTo>
                    <a:pt x="1005" y="2525"/>
                  </a:lnTo>
                  <a:lnTo>
                    <a:pt x="1018" y="2508"/>
                  </a:lnTo>
                  <a:lnTo>
                    <a:pt x="1030" y="2492"/>
                  </a:lnTo>
                  <a:lnTo>
                    <a:pt x="1040" y="2478"/>
                  </a:lnTo>
                  <a:lnTo>
                    <a:pt x="1047" y="2470"/>
                  </a:lnTo>
                  <a:lnTo>
                    <a:pt x="1051" y="2469"/>
                  </a:lnTo>
                  <a:lnTo>
                    <a:pt x="1061" y="2484"/>
                  </a:lnTo>
                  <a:lnTo>
                    <a:pt x="1061" y="2507"/>
                  </a:lnTo>
                  <a:lnTo>
                    <a:pt x="1056" y="2536"/>
                  </a:lnTo>
                  <a:lnTo>
                    <a:pt x="1048" y="2562"/>
                  </a:lnTo>
                  <a:lnTo>
                    <a:pt x="1058" y="2547"/>
                  </a:lnTo>
                  <a:lnTo>
                    <a:pt x="1070" y="2532"/>
                  </a:lnTo>
                  <a:lnTo>
                    <a:pt x="1081" y="2516"/>
                  </a:lnTo>
                  <a:lnTo>
                    <a:pt x="1092" y="2502"/>
                  </a:lnTo>
                  <a:lnTo>
                    <a:pt x="1102" y="2490"/>
                  </a:lnTo>
                  <a:lnTo>
                    <a:pt x="1112" y="2478"/>
                  </a:lnTo>
                  <a:lnTo>
                    <a:pt x="1121" y="2471"/>
                  </a:lnTo>
                  <a:lnTo>
                    <a:pt x="1127" y="2468"/>
                  </a:lnTo>
                  <a:lnTo>
                    <a:pt x="1135" y="2476"/>
                  </a:lnTo>
                  <a:lnTo>
                    <a:pt x="1134" y="2501"/>
                  </a:lnTo>
                  <a:lnTo>
                    <a:pt x="1127" y="2532"/>
                  </a:lnTo>
                  <a:lnTo>
                    <a:pt x="1116" y="2558"/>
                  </a:lnTo>
                  <a:lnTo>
                    <a:pt x="1130" y="2545"/>
                  </a:lnTo>
                  <a:lnTo>
                    <a:pt x="1144" y="2530"/>
                  </a:lnTo>
                  <a:lnTo>
                    <a:pt x="1159" y="2515"/>
                  </a:lnTo>
                  <a:lnTo>
                    <a:pt x="1174" y="2499"/>
                  </a:lnTo>
                  <a:lnTo>
                    <a:pt x="1187" y="2484"/>
                  </a:lnTo>
                  <a:lnTo>
                    <a:pt x="1200" y="2471"/>
                  </a:lnTo>
                  <a:lnTo>
                    <a:pt x="1210" y="2463"/>
                  </a:lnTo>
                  <a:lnTo>
                    <a:pt x="1218" y="2459"/>
                  </a:lnTo>
                  <a:lnTo>
                    <a:pt x="1222" y="2461"/>
                  </a:lnTo>
                  <a:lnTo>
                    <a:pt x="1223" y="2469"/>
                  </a:lnTo>
                  <a:lnTo>
                    <a:pt x="1223" y="2481"/>
                  </a:lnTo>
                  <a:lnTo>
                    <a:pt x="1221" y="2496"/>
                  </a:lnTo>
                  <a:lnTo>
                    <a:pt x="1217" y="2512"/>
                  </a:lnTo>
                  <a:lnTo>
                    <a:pt x="1212" y="2528"/>
                  </a:lnTo>
                  <a:lnTo>
                    <a:pt x="1205" y="2543"/>
                  </a:lnTo>
                  <a:lnTo>
                    <a:pt x="1195" y="2557"/>
                  </a:lnTo>
                  <a:lnTo>
                    <a:pt x="1212" y="2542"/>
                  </a:lnTo>
                  <a:lnTo>
                    <a:pt x="1228" y="2525"/>
                  </a:lnTo>
                  <a:lnTo>
                    <a:pt x="1244" y="2509"/>
                  </a:lnTo>
                  <a:lnTo>
                    <a:pt x="1258" y="2494"/>
                  </a:lnTo>
                  <a:lnTo>
                    <a:pt x="1271" y="2482"/>
                  </a:lnTo>
                  <a:lnTo>
                    <a:pt x="1283" y="2470"/>
                  </a:lnTo>
                  <a:lnTo>
                    <a:pt x="1292" y="2463"/>
                  </a:lnTo>
                  <a:lnTo>
                    <a:pt x="1298" y="2461"/>
                  </a:lnTo>
                  <a:lnTo>
                    <a:pt x="1304" y="2471"/>
                  </a:lnTo>
                  <a:lnTo>
                    <a:pt x="1301" y="2496"/>
                  </a:lnTo>
                  <a:lnTo>
                    <a:pt x="1293" y="2525"/>
                  </a:lnTo>
                  <a:lnTo>
                    <a:pt x="1282" y="2553"/>
                  </a:lnTo>
                  <a:lnTo>
                    <a:pt x="1297" y="2540"/>
                  </a:lnTo>
                  <a:lnTo>
                    <a:pt x="1311" y="2527"/>
                  </a:lnTo>
                  <a:lnTo>
                    <a:pt x="1324" y="2511"/>
                  </a:lnTo>
                  <a:lnTo>
                    <a:pt x="1337" y="2496"/>
                  </a:lnTo>
                  <a:lnTo>
                    <a:pt x="1347" y="2481"/>
                  </a:lnTo>
                  <a:lnTo>
                    <a:pt x="1356" y="2469"/>
                  </a:lnTo>
                  <a:lnTo>
                    <a:pt x="1362" y="2461"/>
                  </a:lnTo>
                  <a:lnTo>
                    <a:pt x="1367" y="2459"/>
                  </a:lnTo>
                  <a:lnTo>
                    <a:pt x="1373" y="2468"/>
                  </a:lnTo>
                  <a:lnTo>
                    <a:pt x="1374" y="2491"/>
                  </a:lnTo>
                  <a:lnTo>
                    <a:pt x="1367" y="2522"/>
                  </a:lnTo>
                  <a:lnTo>
                    <a:pt x="1350" y="2555"/>
                  </a:lnTo>
                  <a:lnTo>
                    <a:pt x="1365" y="2540"/>
                  </a:lnTo>
                  <a:lnTo>
                    <a:pt x="1380" y="2524"/>
                  </a:lnTo>
                  <a:lnTo>
                    <a:pt x="1394" y="2506"/>
                  </a:lnTo>
                  <a:lnTo>
                    <a:pt x="1406" y="2489"/>
                  </a:lnTo>
                  <a:lnTo>
                    <a:pt x="1418" y="2472"/>
                  </a:lnTo>
                  <a:lnTo>
                    <a:pt x="1428" y="2460"/>
                  </a:lnTo>
                  <a:lnTo>
                    <a:pt x="1435" y="2452"/>
                  </a:lnTo>
                  <a:lnTo>
                    <a:pt x="1441" y="2449"/>
                  </a:lnTo>
                  <a:lnTo>
                    <a:pt x="1447" y="2458"/>
                  </a:lnTo>
                  <a:lnTo>
                    <a:pt x="1451" y="2479"/>
                  </a:lnTo>
                  <a:lnTo>
                    <a:pt x="1455" y="2511"/>
                  </a:lnTo>
                  <a:lnTo>
                    <a:pt x="1453" y="2549"/>
                  </a:lnTo>
                  <a:lnTo>
                    <a:pt x="1464" y="2532"/>
                  </a:lnTo>
                  <a:lnTo>
                    <a:pt x="1476" y="2514"/>
                  </a:lnTo>
                  <a:lnTo>
                    <a:pt x="1489" y="2496"/>
                  </a:lnTo>
                  <a:lnTo>
                    <a:pt x="1502" y="2477"/>
                  </a:lnTo>
                  <a:lnTo>
                    <a:pt x="1514" y="2460"/>
                  </a:lnTo>
                  <a:lnTo>
                    <a:pt x="1524" y="2446"/>
                  </a:lnTo>
                  <a:lnTo>
                    <a:pt x="1532" y="2437"/>
                  </a:lnTo>
                  <a:lnTo>
                    <a:pt x="1535" y="2433"/>
                  </a:lnTo>
                  <a:lnTo>
                    <a:pt x="1542" y="2445"/>
                  </a:lnTo>
                  <a:lnTo>
                    <a:pt x="1542" y="2474"/>
                  </a:lnTo>
                  <a:lnTo>
                    <a:pt x="1535" y="2511"/>
                  </a:lnTo>
                  <a:lnTo>
                    <a:pt x="1520" y="2544"/>
                  </a:lnTo>
                  <a:lnTo>
                    <a:pt x="1534" y="2530"/>
                  </a:lnTo>
                  <a:lnTo>
                    <a:pt x="1548" y="2514"/>
                  </a:lnTo>
                  <a:lnTo>
                    <a:pt x="1559" y="2496"/>
                  </a:lnTo>
                  <a:lnTo>
                    <a:pt x="1570" y="2477"/>
                  </a:lnTo>
                  <a:lnTo>
                    <a:pt x="1580" y="2460"/>
                  </a:lnTo>
                  <a:lnTo>
                    <a:pt x="1588" y="2446"/>
                  </a:lnTo>
                  <a:lnTo>
                    <a:pt x="1596" y="2437"/>
                  </a:lnTo>
                  <a:lnTo>
                    <a:pt x="1604" y="2433"/>
                  </a:lnTo>
                  <a:lnTo>
                    <a:pt x="1610" y="2448"/>
                  </a:lnTo>
                  <a:lnTo>
                    <a:pt x="1614" y="2483"/>
                  </a:lnTo>
                  <a:lnTo>
                    <a:pt x="1610" y="2521"/>
                  </a:lnTo>
                  <a:lnTo>
                    <a:pt x="1601" y="2546"/>
                  </a:lnTo>
                  <a:lnTo>
                    <a:pt x="1614" y="2534"/>
                  </a:lnTo>
                  <a:lnTo>
                    <a:pt x="1625" y="2516"/>
                  </a:lnTo>
                  <a:lnTo>
                    <a:pt x="1635" y="2497"/>
                  </a:lnTo>
                  <a:lnTo>
                    <a:pt x="1646" y="2477"/>
                  </a:lnTo>
                  <a:lnTo>
                    <a:pt x="1656" y="2459"/>
                  </a:lnTo>
                  <a:lnTo>
                    <a:pt x="1664" y="2444"/>
                  </a:lnTo>
                  <a:lnTo>
                    <a:pt x="1672" y="2432"/>
                  </a:lnTo>
                  <a:lnTo>
                    <a:pt x="1679" y="2429"/>
                  </a:lnTo>
                  <a:lnTo>
                    <a:pt x="1688" y="2440"/>
                  </a:lnTo>
                  <a:lnTo>
                    <a:pt x="1691" y="2470"/>
                  </a:lnTo>
                  <a:lnTo>
                    <a:pt x="1688" y="2505"/>
                  </a:lnTo>
                  <a:lnTo>
                    <a:pt x="1682" y="2536"/>
                  </a:lnTo>
                  <a:lnTo>
                    <a:pt x="1693" y="2523"/>
                  </a:lnTo>
                  <a:lnTo>
                    <a:pt x="1702" y="2507"/>
                  </a:lnTo>
                  <a:lnTo>
                    <a:pt x="1711" y="2489"/>
                  </a:lnTo>
                  <a:lnTo>
                    <a:pt x="1718" y="2469"/>
                  </a:lnTo>
                  <a:lnTo>
                    <a:pt x="1726" y="2451"/>
                  </a:lnTo>
                  <a:lnTo>
                    <a:pt x="1732" y="2436"/>
                  </a:lnTo>
                  <a:lnTo>
                    <a:pt x="1739" y="2425"/>
                  </a:lnTo>
                  <a:lnTo>
                    <a:pt x="1745" y="2421"/>
                  </a:lnTo>
                  <a:lnTo>
                    <a:pt x="1755" y="2429"/>
                  </a:lnTo>
                  <a:lnTo>
                    <a:pt x="1761" y="2454"/>
                  </a:lnTo>
                  <a:lnTo>
                    <a:pt x="1761" y="2493"/>
                  </a:lnTo>
                  <a:lnTo>
                    <a:pt x="1753" y="2540"/>
                  </a:lnTo>
                  <a:lnTo>
                    <a:pt x="1763" y="2523"/>
                  </a:lnTo>
                  <a:lnTo>
                    <a:pt x="1775" y="2504"/>
                  </a:lnTo>
                  <a:lnTo>
                    <a:pt x="1786" y="2481"/>
                  </a:lnTo>
                  <a:lnTo>
                    <a:pt x="1798" y="2458"/>
                  </a:lnTo>
                  <a:lnTo>
                    <a:pt x="1807" y="2437"/>
                  </a:lnTo>
                  <a:lnTo>
                    <a:pt x="1816" y="2419"/>
                  </a:lnTo>
                  <a:lnTo>
                    <a:pt x="1824" y="2408"/>
                  </a:lnTo>
                  <a:lnTo>
                    <a:pt x="1829" y="2403"/>
                  </a:lnTo>
                  <a:lnTo>
                    <a:pt x="1837" y="2416"/>
                  </a:lnTo>
                  <a:lnTo>
                    <a:pt x="1843" y="2448"/>
                  </a:lnTo>
                  <a:lnTo>
                    <a:pt x="1845" y="2487"/>
                  </a:lnTo>
                  <a:lnTo>
                    <a:pt x="1842" y="2523"/>
                  </a:lnTo>
                  <a:lnTo>
                    <a:pt x="1853" y="2505"/>
                  </a:lnTo>
                  <a:lnTo>
                    <a:pt x="1864" y="2483"/>
                  </a:lnTo>
                  <a:lnTo>
                    <a:pt x="1874" y="2461"/>
                  </a:lnTo>
                  <a:lnTo>
                    <a:pt x="1883" y="2439"/>
                  </a:lnTo>
                  <a:lnTo>
                    <a:pt x="1891" y="2419"/>
                  </a:lnTo>
                  <a:lnTo>
                    <a:pt x="1899" y="2405"/>
                  </a:lnTo>
                  <a:lnTo>
                    <a:pt x="1905" y="2394"/>
                  </a:lnTo>
                  <a:lnTo>
                    <a:pt x="1911" y="2391"/>
                  </a:lnTo>
                  <a:lnTo>
                    <a:pt x="1916" y="2394"/>
                  </a:lnTo>
                  <a:lnTo>
                    <a:pt x="1923" y="2403"/>
                  </a:lnTo>
                  <a:lnTo>
                    <a:pt x="1929" y="2418"/>
                  </a:lnTo>
                  <a:lnTo>
                    <a:pt x="1934" y="2438"/>
                  </a:lnTo>
                  <a:lnTo>
                    <a:pt x="1936" y="2459"/>
                  </a:lnTo>
                  <a:lnTo>
                    <a:pt x="1936" y="2483"/>
                  </a:lnTo>
                  <a:lnTo>
                    <a:pt x="1934" y="2507"/>
                  </a:lnTo>
                  <a:lnTo>
                    <a:pt x="1927" y="2530"/>
                  </a:lnTo>
                  <a:lnTo>
                    <a:pt x="1938" y="2509"/>
                  </a:lnTo>
                  <a:lnTo>
                    <a:pt x="1948" y="2487"/>
                  </a:lnTo>
                  <a:lnTo>
                    <a:pt x="1955" y="2464"/>
                  </a:lnTo>
                  <a:lnTo>
                    <a:pt x="1960" y="2441"/>
                  </a:lnTo>
                  <a:lnTo>
                    <a:pt x="1964" y="2421"/>
                  </a:lnTo>
                  <a:lnTo>
                    <a:pt x="1967" y="2403"/>
                  </a:lnTo>
                  <a:lnTo>
                    <a:pt x="1971" y="2392"/>
                  </a:lnTo>
                  <a:lnTo>
                    <a:pt x="1974" y="2386"/>
                  </a:lnTo>
                  <a:lnTo>
                    <a:pt x="1979" y="2388"/>
                  </a:lnTo>
                  <a:lnTo>
                    <a:pt x="1986" y="2396"/>
                  </a:lnTo>
                  <a:lnTo>
                    <a:pt x="1991" y="2410"/>
                  </a:lnTo>
                  <a:lnTo>
                    <a:pt x="1998" y="2429"/>
                  </a:lnTo>
                  <a:lnTo>
                    <a:pt x="2002" y="2449"/>
                  </a:lnTo>
                  <a:lnTo>
                    <a:pt x="2004" y="2472"/>
                  </a:lnTo>
                  <a:lnTo>
                    <a:pt x="2003" y="2497"/>
                  </a:lnTo>
                  <a:lnTo>
                    <a:pt x="1997" y="2521"/>
                  </a:lnTo>
                  <a:lnTo>
                    <a:pt x="2009" y="2504"/>
                  </a:lnTo>
                  <a:lnTo>
                    <a:pt x="2017" y="2485"/>
                  </a:lnTo>
                  <a:lnTo>
                    <a:pt x="2024" y="2464"/>
                  </a:lnTo>
                  <a:lnTo>
                    <a:pt x="2028" y="2445"/>
                  </a:lnTo>
                  <a:lnTo>
                    <a:pt x="2032" y="2426"/>
                  </a:lnTo>
                  <a:lnTo>
                    <a:pt x="2036" y="2411"/>
                  </a:lnTo>
                  <a:lnTo>
                    <a:pt x="2040" y="2401"/>
                  </a:lnTo>
                  <a:lnTo>
                    <a:pt x="2044" y="2396"/>
                  </a:lnTo>
                  <a:lnTo>
                    <a:pt x="2050" y="2399"/>
                  </a:lnTo>
                  <a:lnTo>
                    <a:pt x="2057" y="2406"/>
                  </a:lnTo>
                  <a:lnTo>
                    <a:pt x="2063" y="2418"/>
                  </a:lnTo>
                  <a:lnTo>
                    <a:pt x="2069" y="2433"/>
                  </a:lnTo>
                  <a:lnTo>
                    <a:pt x="2073" y="2453"/>
                  </a:lnTo>
                  <a:lnTo>
                    <a:pt x="2075" y="2474"/>
                  </a:lnTo>
                  <a:lnTo>
                    <a:pt x="2075" y="2498"/>
                  </a:lnTo>
                  <a:lnTo>
                    <a:pt x="2072" y="2523"/>
                  </a:lnTo>
                  <a:lnTo>
                    <a:pt x="2084" y="2506"/>
                  </a:lnTo>
                  <a:lnTo>
                    <a:pt x="2093" y="2484"/>
                  </a:lnTo>
                  <a:lnTo>
                    <a:pt x="2100" y="2462"/>
                  </a:lnTo>
                  <a:lnTo>
                    <a:pt x="2104" y="2439"/>
                  </a:lnTo>
                  <a:lnTo>
                    <a:pt x="2109" y="2419"/>
                  </a:lnTo>
                  <a:lnTo>
                    <a:pt x="2112" y="2402"/>
                  </a:lnTo>
                  <a:lnTo>
                    <a:pt x="2116" y="2390"/>
                  </a:lnTo>
                  <a:lnTo>
                    <a:pt x="2120" y="2384"/>
                  </a:lnTo>
                  <a:lnTo>
                    <a:pt x="2126" y="2386"/>
                  </a:lnTo>
                  <a:lnTo>
                    <a:pt x="2134" y="2395"/>
                  </a:lnTo>
                  <a:lnTo>
                    <a:pt x="2141" y="2410"/>
                  </a:lnTo>
                  <a:lnTo>
                    <a:pt x="2148" y="2430"/>
                  </a:lnTo>
                  <a:lnTo>
                    <a:pt x="2153" y="2452"/>
                  </a:lnTo>
                  <a:lnTo>
                    <a:pt x="2155" y="2476"/>
                  </a:lnTo>
                  <a:lnTo>
                    <a:pt x="2153" y="2501"/>
                  </a:lnTo>
                  <a:lnTo>
                    <a:pt x="2146" y="2525"/>
                  </a:lnTo>
                  <a:lnTo>
                    <a:pt x="2158" y="2508"/>
                  </a:lnTo>
                  <a:lnTo>
                    <a:pt x="2168" y="2486"/>
                  </a:lnTo>
                  <a:lnTo>
                    <a:pt x="2175" y="2463"/>
                  </a:lnTo>
                  <a:lnTo>
                    <a:pt x="2180" y="2440"/>
                  </a:lnTo>
                  <a:lnTo>
                    <a:pt x="2184" y="2418"/>
                  </a:lnTo>
                  <a:lnTo>
                    <a:pt x="2187" y="2400"/>
                  </a:lnTo>
                  <a:lnTo>
                    <a:pt x="2191" y="2388"/>
                  </a:lnTo>
                  <a:lnTo>
                    <a:pt x="2194" y="2384"/>
                  </a:lnTo>
                  <a:lnTo>
                    <a:pt x="2199" y="2385"/>
                  </a:lnTo>
                  <a:lnTo>
                    <a:pt x="2204" y="2391"/>
                  </a:lnTo>
                  <a:lnTo>
                    <a:pt x="2210" y="2400"/>
                  </a:lnTo>
                  <a:lnTo>
                    <a:pt x="2216" y="2414"/>
                  </a:lnTo>
                  <a:lnTo>
                    <a:pt x="2221" y="2432"/>
                  </a:lnTo>
                  <a:lnTo>
                    <a:pt x="2223" y="2455"/>
                  </a:lnTo>
                  <a:lnTo>
                    <a:pt x="2224" y="2483"/>
                  </a:lnTo>
                  <a:lnTo>
                    <a:pt x="2223" y="2517"/>
                  </a:lnTo>
                  <a:lnTo>
                    <a:pt x="2231" y="2501"/>
                  </a:lnTo>
                  <a:lnTo>
                    <a:pt x="2238" y="2482"/>
                  </a:lnTo>
                  <a:lnTo>
                    <a:pt x="2245" y="2460"/>
                  </a:lnTo>
                  <a:lnTo>
                    <a:pt x="2252" y="2438"/>
                  </a:lnTo>
                  <a:lnTo>
                    <a:pt x="2257" y="2418"/>
                  </a:lnTo>
                  <a:lnTo>
                    <a:pt x="2263" y="2401"/>
                  </a:lnTo>
                  <a:lnTo>
                    <a:pt x="2268" y="2390"/>
                  </a:lnTo>
                  <a:lnTo>
                    <a:pt x="2272" y="2384"/>
                  </a:lnTo>
                  <a:lnTo>
                    <a:pt x="2277" y="2386"/>
                  </a:lnTo>
                  <a:lnTo>
                    <a:pt x="2284" y="2394"/>
                  </a:lnTo>
                  <a:lnTo>
                    <a:pt x="2290" y="2407"/>
                  </a:lnTo>
                  <a:lnTo>
                    <a:pt x="2297" y="2423"/>
                  </a:lnTo>
                  <a:lnTo>
                    <a:pt x="2301" y="2443"/>
                  </a:lnTo>
                  <a:lnTo>
                    <a:pt x="2305" y="2463"/>
                  </a:lnTo>
                  <a:lnTo>
                    <a:pt x="2307" y="2484"/>
                  </a:lnTo>
                  <a:lnTo>
                    <a:pt x="2305" y="2505"/>
                  </a:lnTo>
                  <a:lnTo>
                    <a:pt x="2317" y="2466"/>
                  </a:lnTo>
                  <a:lnTo>
                    <a:pt x="2322" y="2422"/>
                  </a:lnTo>
                  <a:lnTo>
                    <a:pt x="2325" y="2387"/>
                  </a:lnTo>
                  <a:lnTo>
                    <a:pt x="2332" y="2370"/>
                  </a:lnTo>
                  <a:lnTo>
                    <a:pt x="2338" y="2370"/>
                  </a:lnTo>
                  <a:lnTo>
                    <a:pt x="2345" y="2375"/>
                  </a:lnTo>
                  <a:lnTo>
                    <a:pt x="2351" y="2384"/>
                  </a:lnTo>
                  <a:lnTo>
                    <a:pt x="2355" y="2396"/>
                  </a:lnTo>
                  <a:lnTo>
                    <a:pt x="2360" y="2413"/>
                  </a:lnTo>
                  <a:lnTo>
                    <a:pt x="2362" y="2432"/>
                  </a:lnTo>
                  <a:lnTo>
                    <a:pt x="2362" y="2455"/>
                  </a:lnTo>
                  <a:lnTo>
                    <a:pt x="2360" y="2479"/>
                  </a:lnTo>
                  <a:lnTo>
                    <a:pt x="2373" y="2461"/>
                  </a:lnTo>
                  <a:lnTo>
                    <a:pt x="2381" y="2440"/>
                  </a:lnTo>
                  <a:lnTo>
                    <a:pt x="2384" y="2419"/>
                  </a:lnTo>
                  <a:lnTo>
                    <a:pt x="2384" y="2400"/>
                  </a:lnTo>
                  <a:lnTo>
                    <a:pt x="2383" y="2383"/>
                  </a:lnTo>
                  <a:lnTo>
                    <a:pt x="2383" y="2368"/>
                  </a:lnTo>
                  <a:lnTo>
                    <a:pt x="2383" y="2356"/>
                  </a:lnTo>
                  <a:lnTo>
                    <a:pt x="2385" y="2350"/>
                  </a:lnTo>
                  <a:lnTo>
                    <a:pt x="2391" y="2349"/>
                  </a:lnTo>
                  <a:lnTo>
                    <a:pt x="2398" y="2350"/>
                  </a:lnTo>
                  <a:lnTo>
                    <a:pt x="2407" y="2356"/>
                  </a:lnTo>
                  <a:lnTo>
                    <a:pt x="2415" y="2364"/>
                  </a:lnTo>
                  <a:lnTo>
                    <a:pt x="2424" y="2377"/>
                  </a:lnTo>
                  <a:lnTo>
                    <a:pt x="2431" y="2392"/>
                  </a:lnTo>
                  <a:lnTo>
                    <a:pt x="2437" y="2410"/>
                  </a:lnTo>
                  <a:lnTo>
                    <a:pt x="2441" y="2432"/>
                  </a:lnTo>
                  <a:lnTo>
                    <a:pt x="2449" y="2414"/>
                  </a:lnTo>
                  <a:lnTo>
                    <a:pt x="2454" y="2395"/>
                  </a:lnTo>
                  <a:lnTo>
                    <a:pt x="2460" y="2377"/>
                  </a:lnTo>
                  <a:lnTo>
                    <a:pt x="2465" y="2360"/>
                  </a:lnTo>
                  <a:lnTo>
                    <a:pt x="2468" y="2345"/>
                  </a:lnTo>
                  <a:lnTo>
                    <a:pt x="2472" y="2333"/>
                  </a:lnTo>
                  <a:lnTo>
                    <a:pt x="2475" y="2325"/>
                  </a:lnTo>
                  <a:lnTo>
                    <a:pt x="2479" y="2322"/>
                  </a:lnTo>
                  <a:lnTo>
                    <a:pt x="2487" y="2322"/>
                  </a:lnTo>
                  <a:lnTo>
                    <a:pt x="2497" y="2328"/>
                  </a:lnTo>
                  <a:lnTo>
                    <a:pt x="2505" y="2341"/>
                  </a:lnTo>
                  <a:lnTo>
                    <a:pt x="2507" y="2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0520" y="1410840"/>
              <a:ext cx="179640" cy="199440"/>
            </a:xfrm>
            <a:custGeom>
              <a:avLst/>
              <a:gdLst/>
              <a:ahLst/>
              <a:rect l="l" t="t" r="r" b="b"/>
              <a:pathLst>
                <a:path w="358" h="436">
                  <a:moveTo>
                    <a:pt x="234" y="81"/>
                  </a:moveTo>
                  <a:lnTo>
                    <a:pt x="229" y="75"/>
                  </a:lnTo>
                  <a:lnTo>
                    <a:pt x="225" y="71"/>
                  </a:lnTo>
                  <a:lnTo>
                    <a:pt x="219" y="67"/>
                  </a:lnTo>
                  <a:lnTo>
                    <a:pt x="213" y="65"/>
                  </a:lnTo>
                  <a:lnTo>
                    <a:pt x="207" y="63"/>
                  </a:lnTo>
                  <a:lnTo>
                    <a:pt x="202" y="60"/>
                  </a:lnTo>
                  <a:lnTo>
                    <a:pt x="197" y="60"/>
                  </a:lnTo>
                  <a:lnTo>
                    <a:pt x="191" y="59"/>
                  </a:lnTo>
                  <a:lnTo>
                    <a:pt x="177" y="60"/>
                  </a:lnTo>
                  <a:lnTo>
                    <a:pt x="163" y="65"/>
                  </a:lnTo>
                  <a:lnTo>
                    <a:pt x="150" y="72"/>
                  </a:lnTo>
                  <a:lnTo>
                    <a:pt x="136" y="82"/>
                  </a:lnTo>
                  <a:lnTo>
                    <a:pt x="123" y="96"/>
                  </a:lnTo>
                  <a:lnTo>
                    <a:pt x="111" y="112"/>
                  </a:lnTo>
                  <a:lnTo>
                    <a:pt x="99" y="129"/>
                  </a:lnTo>
                  <a:lnTo>
                    <a:pt x="90" y="150"/>
                  </a:lnTo>
                  <a:lnTo>
                    <a:pt x="83" y="166"/>
                  </a:lnTo>
                  <a:lnTo>
                    <a:pt x="76" y="184"/>
                  </a:lnTo>
                  <a:lnTo>
                    <a:pt x="69" y="201"/>
                  </a:lnTo>
                  <a:lnTo>
                    <a:pt x="63" y="218"/>
                  </a:lnTo>
                  <a:lnTo>
                    <a:pt x="56" y="237"/>
                  </a:lnTo>
                  <a:lnTo>
                    <a:pt x="51" y="254"/>
                  </a:lnTo>
                  <a:lnTo>
                    <a:pt x="46" y="272"/>
                  </a:lnTo>
                  <a:lnTo>
                    <a:pt x="40" y="290"/>
                  </a:lnTo>
                  <a:lnTo>
                    <a:pt x="64" y="290"/>
                  </a:lnTo>
                  <a:lnTo>
                    <a:pt x="62" y="303"/>
                  </a:lnTo>
                  <a:lnTo>
                    <a:pt x="60" y="323"/>
                  </a:lnTo>
                  <a:lnTo>
                    <a:pt x="59" y="340"/>
                  </a:lnTo>
                  <a:lnTo>
                    <a:pt x="58" y="347"/>
                  </a:lnTo>
                  <a:lnTo>
                    <a:pt x="24" y="347"/>
                  </a:lnTo>
                  <a:lnTo>
                    <a:pt x="22" y="355"/>
                  </a:lnTo>
                  <a:lnTo>
                    <a:pt x="19" y="362"/>
                  </a:lnTo>
                  <a:lnTo>
                    <a:pt x="18" y="370"/>
                  </a:lnTo>
                  <a:lnTo>
                    <a:pt x="16" y="377"/>
                  </a:lnTo>
                  <a:lnTo>
                    <a:pt x="59" y="377"/>
                  </a:lnTo>
                  <a:lnTo>
                    <a:pt x="64" y="406"/>
                  </a:lnTo>
                  <a:lnTo>
                    <a:pt x="9" y="407"/>
                  </a:lnTo>
                  <a:lnTo>
                    <a:pt x="0" y="434"/>
                  </a:lnTo>
                  <a:lnTo>
                    <a:pt x="104" y="434"/>
                  </a:lnTo>
                  <a:lnTo>
                    <a:pt x="91" y="413"/>
                  </a:lnTo>
                  <a:lnTo>
                    <a:pt x="82" y="390"/>
                  </a:lnTo>
                  <a:lnTo>
                    <a:pt x="77" y="364"/>
                  </a:lnTo>
                  <a:lnTo>
                    <a:pt x="76" y="337"/>
                  </a:lnTo>
                  <a:lnTo>
                    <a:pt x="78" y="308"/>
                  </a:lnTo>
                  <a:lnTo>
                    <a:pt x="84" y="279"/>
                  </a:lnTo>
                  <a:lnTo>
                    <a:pt x="92" y="250"/>
                  </a:lnTo>
                  <a:lnTo>
                    <a:pt x="102" y="223"/>
                  </a:lnTo>
                  <a:lnTo>
                    <a:pt x="114" y="196"/>
                  </a:lnTo>
                  <a:lnTo>
                    <a:pt x="127" y="171"/>
                  </a:lnTo>
                  <a:lnTo>
                    <a:pt x="140" y="149"/>
                  </a:lnTo>
                  <a:lnTo>
                    <a:pt x="154" y="129"/>
                  </a:lnTo>
                  <a:lnTo>
                    <a:pt x="168" y="114"/>
                  </a:lnTo>
                  <a:lnTo>
                    <a:pt x="182" y="104"/>
                  </a:lnTo>
                  <a:lnTo>
                    <a:pt x="196" y="99"/>
                  </a:lnTo>
                  <a:lnTo>
                    <a:pt x="207" y="99"/>
                  </a:lnTo>
                  <a:lnTo>
                    <a:pt x="219" y="112"/>
                  </a:lnTo>
                  <a:lnTo>
                    <a:pt x="227" y="139"/>
                  </a:lnTo>
                  <a:lnTo>
                    <a:pt x="230" y="176"/>
                  </a:lnTo>
                  <a:lnTo>
                    <a:pt x="226" y="216"/>
                  </a:lnTo>
                  <a:lnTo>
                    <a:pt x="214" y="256"/>
                  </a:lnTo>
                  <a:lnTo>
                    <a:pt x="192" y="292"/>
                  </a:lnTo>
                  <a:lnTo>
                    <a:pt x="160" y="316"/>
                  </a:lnTo>
                  <a:lnTo>
                    <a:pt x="115" y="326"/>
                  </a:lnTo>
                  <a:lnTo>
                    <a:pt x="108" y="355"/>
                  </a:lnTo>
                  <a:lnTo>
                    <a:pt x="109" y="378"/>
                  </a:lnTo>
                  <a:lnTo>
                    <a:pt x="114" y="398"/>
                  </a:lnTo>
                  <a:lnTo>
                    <a:pt x="123" y="412"/>
                  </a:lnTo>
                  <a:lnTo>
                    <a:pt x="135" y="423"/>
                  </a:lnTo>
                  <a:lnTo>
                    <a:pt x="146" y="430"/>
                  </a:lnTo>
                  <a:lnTo>
                    <a:pt x="158" y="435"/>
                  </a:lnTo>
                  <a:lnTo>
                    <a:pt x="167" y="436"/>
                  </a:lnTo>
                  <a:lnTo>
                    <a:pt x="195" y="432"/>
                  </a:lnTo>
                  <a:lnTo>
                    <a:pt x="220" y="421"/>
                  </a:lnTo>
                  <a:lnTo>
                    <a:pt x="244" y="405"/>
                  </a:lnTo>
                  <a:lnTo>
                    <a:pt x="267" y="383"/>
                  </a:lnTo>
                  <a:lnTo>
                    <a:pt x="287" y="356"/>
                  </a:lnTo>
                  <a:lnTo>
                    <a:pt x="305" y="325"/>
                  </a:lnTo>
                  <a:lnTo>
                    <a:pt x="321" y="293"/>
                  </a:lnTo>
                  <a:lnTo>
                    <a:pt x="334" y="257"/>
                  </a:lnTo>
                  <a:lnTo>
                    <a:pt x="344" y="222"/>
                  </a:lnTo>
                  <a:lnTo>
                    <a:pt x="352" y="185"/>
                  </a:lnTo>
                  <a:lnTo>
                    <a:pt x="357" y="148"/>
                  </a:lnTo>
                  <a:lnTo>
                    <a:pt x="358" y="112"/>
                  </a:lnTo>
                  <a:lnTo>
                    <a:pt x="356" y="80"/>
                  </a:lnTo>
                  <a:lnTo>
                    <a:pt x="349" y="49"/>
                  </a:lnTo>
                  <a:lnTo>
                    <a:pt x="340" y="22"/>
                  </a:lnTo>
                  <a:lnTo>
                    <a:pt x="326" y="0"/>
                  </a:lnTo>
                  <a:lnTo>
                    <a:pt x="231" y="8"/>
                  </a:lnTo>
                  <a:lnTo>
                    <a:pt x="234" y="32"/>
                  </a:lnTo>
                  <a:lnTo>
                    <a:pt x="314" y="32"/>
                  </a:lnTo>
                  <a:lnTo>
                    <a:pt x="319" y="43"/>
                  </a:lnTo>
                  <a:lnTo>
                    <a:pt x="324" y="55"/>
                  </a:lnTo>
                  <a:lnTo>
                    <a:pt x="327" y="67"/>
                  </a:lnTo>
                  <a:lnTo>
                    <a:pt x="329" y="80"/>
                  </a:lnTo>
                  <a:lnTo>
                    <a:pt x="234" y="81"/>
                  </a:lnTo>
                  <a:lnTo>
                    <a:pt x="245" y="108"/>
                  </a:lnTo>
                  <a:lnTo>
                    <a:pt x="329" y="108"/>
                  </a:lnTo>
                  <a:lnTo>
                    <a:pt x="329" y="120"/>
                  </a:lnTo>
                  <a:lnTo>
                    <a:pt x="329" y="133"/>
                  </a:lnTo>
                  <a:lnTo>
                    <a:pt x="329" y="146"/>
                  </a:lnTo>
                  <a:lnTo>
                    <a:pt x="328" y="158"/>
                  </a:lnTo>
                  <a:lnTo>
                    <a:pt x="254" y="161"/>
                  </a:lnTo>
                  <a:lnTo>
                    <a:pt x="254" y="186"/>
                  </a:lnTo>
                  <a:lnTo>
                    <a:pt x="325" y="182"/>
                  </a:lnTo>
                  <a:lnTo>
                    <a:pt x="322" y="192"/>
                  </a:lnTo>
                  <a:lnTo>
                    <a:pt x="320" y="201"/>
                  </a:lnTo>
                  <a:lnTo>
                    <a:pt x="318" y="211"/>
                  </a:lnTo>
                  <a:lnTo>
                    <a:pt x="316" y="220"/>
                  </a:lnTo>
                  <a:lnTo>
                    <a:pt x="250" y="220"/>
                  </a:lnTo>
                  <a:lnTo>
                    <a:pt x="244" y="246"/>
                  </a:lnTo>
                  <a:lnTo>
                    <a:pt x="306" y="246"/>
                  </a:lnTo>
                  <a:lnTo>
                    <a:pt x="301" y="261"/>
                  </a:lnTo>
                  <a:lnTo>
                    <a:pt x="294" y="276"/>
                  </a:lnTo>
                  <a:lnTo>
                    <a:pt x="287" y="290"/>
                  </a:lnTo>
                  <a:lnTo>
                    <a:pt x="279" y="302"/>
                  </a:lnTo>
                  <a:lnTo>
                    <a:pt x="220" y="300"/>
                  </a:lnTo>
                  <a:lnTo>
                    <a:pt x="203" y="322"/>
                  </a:lnTo>
                  <a:lnTo>
                    <a:pt x="264" y="322"/>
                  </a:lnTo>
                  <a:lnTo>
                    <a:pt x="258" y="326"/>
                  </a:lnTo>
                  <a:lnTo>
                    <a:pt x="253" y="332"/>
                  </a:lnTo>
                  <a:lnTo>
                    <a:pt x="248" y="337"/>
                  </a:lnTo>
                  <a:lnTo>
                    <a:pt x="242" y="341"/>
                  </a:lnTo>
                  <a:lnTo>
                    <a:pt x="177" y="341"/>
                  </a:lnTo>
                  <a:lnTo>
                    <a:pt x="183" y="337"/>
                  </a:lnTo>
                  <a:lnTo>
                    <a:pt x="190" y="332"/>
                  </a:lnTo>
                  <a:lnTo>
                    <a:pt x="197" y="328"/>
                  </a:lnTo>
                  <a:lnTo>
                    <a:pt x="203" y="322"/>
                  </a:lnTo>
                  <a:lnTo>
                    <a:pt x="220" y="300"/>
                  </a:lnTo>
                  <a:lnTo>
                    <a:pt x="228" y="288"/>
                  </a:lnTo>
                  <a:lnTo>
                    <a:pt x="234" y="275"/>
                  </a:lnTo>
                  <a:lnTo>
                    <a:pt x="240" y="260"/>
                  </a:lnTo>
                  <a:lnTo>
                    <a:pt x="244" y="246"/>
                  </a:lnTo>
                  <a:lnTo>
                    <a:pt x="250" y="220"/>
                  </a:lnTo>
                  <a:lnTo>
                    <a:pt x="251" y="212"/>
                  </a:lnTo>
                  <a:lnTo>
                    <a:pt x="252" y="203"/>
                  </a:lnTo>
                  <a:lnTo>
                    <a:pt x="253" y="195"/>
                  </a:lnTo>
                  <a:lnTo>
                    <a:pt x="254" y="186"/>
                  </a:lnTo>
                  <a:lnTo>
                    <a:pt x="254" y="161"/>
                  </a:lnTo>
                  <a:lnTo>
                    <a:pt x="253" y="147"/>
                  </a:lnTo>
                  <a:lnTo>
                    <a:pt x="252" y="133"/>
                  </a:lnTo>
                  <a:lnTo>
                    <a:pt x="250" y="119"/>
                  </a:lnTo>
                  <a:lnTo>
                    <a:pt x="245" y="108"/>
                  </a:lnTo>
                  <a:lnTo>
                    <a:pt x="234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15720" y="172368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15720" y="194436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5720" y="216468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641680" y="2362320"/>
            <a:ext cx="7016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Arial"/>
              </a:rPr>
              <a:t>A mediano y largo plaz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lgunos de los sistemas más usuales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Profit Shar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Gain Shar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Compra de Ac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Opciones para la Compra de Ac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Premios en Ac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Opciones para Acciones Apar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Tipos de Plan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394000" y="1599840"/>
            <a:ext cx="478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Bonus o Bonifica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07920" y="1295280"/>
            <a:ext cx="1477800" cy="1360440"/>
            <a:chOff x="907920" y="1295280"/>
            <a:chExt cx="1477800" cy="1360440"/>
          </a:xfrm>
        </p:grpSpPr>
        <p:grpSp>
          <p:nvGrpSpPr>
            <p:cNvPr id="170" name=""/>
            <p:cNvGrpSpPr/>
            <p:nvPr/>
          </p:nvGrpSpPr>
          <p:grpSpPr>
            <a:xfrm>
              <a:off x="907920" y="1295280"/>
              <a:ext cx="1477800" cy="1360440"/>
              <a:chOff x="907920" y="1295280"/>
              <a:chExt cx="1477800" cy="1360440"/>
            </a:xfrm>
          </p:grpSpPr>
          <p:sp>
            <p:nvSpPr>
              <p:cNvPr id="171" name=""/>
              <p:cNvSpPr/>
              <p:nvPr/>
            </p:nvSpPr>
            <p:spPr>
              <a:xfrm>
                <a:off x="907920" y="1295280"/>
                <a:ext cx="1477800" cy="13604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30400" y="1497240"/>
                <a:ext cx="1027800" cy="94752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908600">
                <a:off x="1429200" y="1770120"/>
                <a:ext cx="472320" cy="44964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50000">
                    <a:srgbClr val="570000"/>
                  </a:gs>
                  <a:gs pos="100000">
                    <a:srgbClr val="99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99320" y="1739520"/>
                <a:ext cx="489240" cy="4510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454400" y="1698480"/>
              <a:ext cx="199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394000" y="2362320"/>
            <a:ext cx="7512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Suelen tener una cierta continuidad en la percepción de los mismos y se basan en objetivos preacordado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Generalmente tienen una diferente ponderación de acuerdo a la responsabilidad individual y su línea de influencia en la consecución de los resultado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El monto a percibir se encuentra directamente relacionado con el grado de cumplimiento de objetivos claramente especificados (a nivel de empresa, área y/o individuo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Tipos de Plan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94000" y="1599840"/>
            <a:ext cx="478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Bonus o Bonifica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07920" y="1295280"/>
            <a:ext cx="1477800" cy="1360440"/>
            <a:chOff x="907920" y="1295280"/>
            <a:chExt cx="1477800" cy="1360440"/>
          </a:xfrm>
        </p:grpSpPr>
        <p:grpSp>
          <p:nvGrpSpPr>
            <p:cNvPr id="180" name=""/>
            <p:cNvGrpSpPr/>
            <p:nvPr/>
          </p:nvGrpSpPr>
          <p:grpSpPr>
            <a:xfrm>
              <a:off x="907920" y="1295280"/>
              <a:ext cx="1477800" cy="1360440"/>
              <a:chOff x="907920" y="1295280"/>
              <a:chExt cx="1477800" cy="1360440"/>
            </a:xfrm>
          </p:grpSpPr>
          <p:sp>
            <p:nvSpPr>
              <p:cNvPr id="181" name=""/>
              <p:cNvSpPr/>
              <p:nvPr/>
            </p:nvSpPr>
            <p:spPr>
              <a:xfrm>
                <a:off x="907920" y="1295280"/>
                <a:ext cx="1477800" cy="13604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30400" y="1497240"/>
                <a:ext cx="1027800" cy="94752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9908600">
                <a:off x="1429200" y="1770120"/>
                <a:ext cx="472320" cy="44964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50000">
                    <a:srgbClr val="570000"/>
                  </a:gs>
                  <a:gs pos="100000">
                    <a:srgbClr val="99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99320" y="1739520"/>
                <a:ext cx="489240" cy="4510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454400" y="1698480"/>
              <a:ext cx="199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94000" y="2362320"/>
            <a:ext cx="7512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Suelen reflejar directa o indirectamente, el concepto que la empresa tiene acerca del desempeño o contribución del empleado al negocio, en el período estableci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Las maneras más habituales de expresarlos son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como una cantidad de salario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como porcentaje del sueldo básico (garantizado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un monto fijo por nivel de jerárquic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Tipos de Plan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94000" y="1599840"/>
            <a:ext cx="478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Gratifica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07920" y="1371600"/>
            <a:ext cx="1406520" cy="1179360"/>
            <a:chOff x="907920" y="1371600"/>
            <a:chExt cx="1406520" cy="1179360"/>
          </a:xfrm>
        </p:grpSpPr>
        <p:sp>
          <p:nvSpPr>
            <p:cNvPr id="190" name=""/>
            <p:cNvSpPr/>
            <p:nvPr/>
          </p:nvSpPr>
          <p:spPr>
            <a:xfrm>
              <a:off x="907920" y="1371600"/>
              <a:ext cx="1406520" cy="1179360"/>
            </a:xfrm>
            <a:custGeom>
              <a:avLst/>
              <a:gdLst/>
              <a:ahLst/>
              <a:rect l="l" t="t" r="r" b="b"/>
              <a:pathLst>
                <a:path w="3044" h="2756">
                  <a:moveTo>
                    <a:pt x="367" y="28"/>
                  </a:moveTo>
                  <a:lnTo>
                    <a:pt x="865" y="124"/>
                  </a:lnTo>
                  <a:lnTo>
                    <a:pt x="856" y="0"/>
                  </a:lnTo>
                  <a:lnTo>
                    <a:pt x="1448" y="144"/>
                  </a:lnTo>
                  <a:lnTo>
                    <a:pt x="1448" y="0"/>
                  </a:lnTo>
                  <a:lnTo>
                    <a:pt x="2078" y="0"/>
                  </a:lnTo>
                  <a:lnTo>
                    <a:pt x="2067" y="135"/>
                  </a:lnTo>
                  <a:lnTo>
                    <a:pt x="2834" y="0"/>
                  </a:lnTo>
                  <a:lnTo>
                    <a:pt x="1907" y="774"/>
                  </a:lnTo>
                  <a:lnTo>
                    <a:pt x="1997" y="781"/>
                  </a:lnTo>
                  <a:lnTo>
                    <a:pt x="2101" y="802"/>
                  </a:lnTo>
                  <a:lnTo>
                    <a:pt x="2216" y="832"/>
                  </a:lnTo>
                  <a:lnTo>
                    <a:pt x="2326" y="871"/>
                  </a:lnTo>
                  <a:lnTo>
                    <a:pt x="2443" y="923"/>
                  </a:lnTo>
                  <a:lnTo>
                    <a:pt x="2542" y="971"/>
                  </a:lnTo>
                  <a:lnTo>
                    <a:pt x="2644" y="1041"/>
                  </a:lnTo>
                  <a:lnTo>
                    <a:pt x="2735" y="1113"/>
                  </a:lnTo>
                  <a:lnTo>
                    <a:pt x="2806" y="1181"/>
                  </a:lnTo>
                  <a:lnTo>
                    <a:pt x="2874" y="1259"/>
                  </a:lnTo>
                  <a:lnTo>
                    <a:pt x="2934" y="1349"/>
                  </a:lnTo>
                  <a:lnTo>
                    <a:pt x="2984" y="1450"/>
                  </a:lnTo>
                  <a:lnTo>
                    <a:pt x="3017" y="1545"/>
                  </a:lnTo>
                  <a:lnTo>
                    <a:pt x="3038" y="1634"/>
                  </a:lnTo>
                  <a:lnTo>
                    <a:pt x="3044" y="1751"/>
                  </a:lnTo>
                  <a:lnTo>
                    <a:pt x="3038" y="1874"/>
                  </a:lnTo>
                  <a:lnTo>
                    <a:pt x="3013" y="1972"/>
                  </a:lnTo>
                  <a:lnTo>
                    <a:pt x="2985" y="2057"/>
                  </a:lnTo>
                  <a:lnTo>
                    <a:pt x="2948" y="2137"/>
                  </a:lnTo>
                  <a:lnTo>
                    <a:pt x="2891" y="2224"/>
                  </a:lnTo>
                  <a:lnTo>
                    <a:pt x="2815" y="2321"/>
                  </a:lnTo>
                  <a:lnTo>
                    <a:pt x="2716" y="2420"/>
                  </a:lnTo>
                  <a:lnTo>
                    <a:pt x="2602" y="2504"/>
                  </a:lnTo>
                  <a:lnTo>
                    <a:pt x="2486" y="2572"/>
                  </a:lnTo>
                  <a:lnTo>
                    <a:pt x="2383" y="2618"/>
                  </a:lnTo>
                  <a:lnTo>
                    <a:pt x="2286" y="2659"/>
                  </a:lnTo>
                  <a:lnTo>
                    <a:pt x="2188" y="2690"/>
                  </a:lnTo>
                  <a:lnTo>
                    <a:pt x="2083" y="2717"/>
                  </a:lnTo>
                  <a:lnTo>
                    <a:pt x="1992" y="2734"/>
                  </a:lnTo>
                  <a:lnTo>
                    <a:pt x="1862" y="2749"/>
                  </a:lnTo>
                  <a:lnTo>
                    <a:pt x="1759" y="2756"/>
                  </a:lnTo>
                  <a:lnTo>
                    <a:pt x="1235" y="2756"/>
                  </a:lnTo>
                  <a:lnTo>
                    <a:pt x="1128" y="2749"/>
                  </a:lnTo>
                  <a:lnTo>
                    <a:pt x="998" y="2726"/>
                  </a:lnTo>
                  <a:lnTo>
                    <a:pt x="837" y="2687"/>
                  </a:lnTo>
                  <a:lnTo>
                    <a:pt x="672" y="2630"/>
                  </a:lnTo>
                  <a:lnTo>
                    <a:pt x="514" y="2554"/>
                  </a:lnTo>
                  <a:lnTo>
                    <a:pt x="374" y="2459"/>
                  </a:lnTo>
                  <a:lnTo>
                    <a:pt x="274" y="2370"/>
                  </a:lnTo>
                  <a:lnTo>
                    <a:pt x="192" y="2284"/>
                  </a:lnTo>
                  <a:lnTo>
                    <a:pt x="116" y="2176"/>
                  </a:lnTo>
                  <a:lnTo>
                    <a:pt x="58" y="2056"/>
                  </a:lnTo>
                  <a:lnTo>
                    <a:pt x="32" y="1969"/>
                  </a:lnTo>
                  <a:lnTo>
                    <a:pt x="10" y="1882"/>
                  </a:lnTo>
                  <a:lnTo>
                    <a:pt x="0" y="1793"/>
                  </a:lnTo>
                  <a:lnTo>
                    <a:pt x="4" y="1712"/>
                  </a:lnTo>
                  <a:lnTo>
                    <a:pt x="23" y="1585"/>
                  </a:lnTo>
                  <a:lnTo>
                    <a:pt x="63" y="1456"/>
                  </a:lnTo>
                  <a:lnTo>
                    <a:pt x="128" y="1324"/>
                  </a:lnTo>
                  <a:lnTo>
                    <a:pt x="221" y="1204"/>
                  </a:lnTo>
                  <a:lnTo>
                    <a:pt x="321" y="1103"/>
                  </a:lnTo>
                  <a:lnTo>
                    <a:pt x="449" y="999"/>
                  </a:lnTo>
                  <a:lnTo>
                    <a:pt x="583" y="924"/>
                  </a:lnTo>
                  <a:lnTo>
                    <a:pt x="756" y="850"/>
                  </a:lnTo>
                  <a:lnTo>
                    <a:pt x="945" y="799"/>
                  </a:lnTo>
                  <a:lnTo>
                    <a:pt x="1063" y="775"/>
                  </a:lnTo>
                  <a:lnTo>
                    <a:pt x="367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9200" y="1798920"/>
              <a:ext cx="352440" cy="701280"/>
            </a:xfrm>
            <a:custGeom>
              <a:avLst/>
              <a:gdLst/>
              <a:ahLst/>
              <a:rect l="l" t="t" r="r" b="b"/>
              <a:pathLst>
                <a:path w="765" h="1637">
                  <a:moveTo>
                    <a:pt x="293" y="159"/>
                  </a:moveTo>
                  <a:lnTo>
                    <a:pt x="474" y="159"/>
                  </a:lnTo>
                  <a:lnTo>
                    <a:pt x="474" y="0"/>
                  </a:lnTo>
                  <a:lnTo>
                    <a:pt x="563" y="0"/>
                  </a:lnTo>
                  <a:lnTo>
                    <a:pt x="563" y="159"/>
                  </a:lnTo>
                  <a:lnTo>
                    <a:pt x="765" y="364"/>
                  </a:lnTo>
                  <a:lnTo>
                    <a:pt x="765" y="592"/>
                  </a:lnTo>
                  <a:lnTo>
                    <a:pt x="516" y="592"/>
                  </a:lnTo>
                  <a:lnTo>
                    <a:pt x="516" y="409"/>
                  </a:lnTo>
                  <a:lnTo>
                    <a:pt x="271" y="409"/>
                  </a:lnTo>
                  <a:lnTo>
                    <a:pt x="271" y="705"/>
                  </a:lnTo>
                  <a:lnTo>
                    <a:pt x="585" y="705"/>
                  </a:lnTo>
                  <a:lnTo>
                    <a:pt x="765" y="887"/>
                  </a:lnTo>
                  <a:lnTo>
                    <a:pt x="765" y="1273"/>
                  </a:lnTo>
                  <a:lnTo>
                    <a:pt x="563" y="1478"/>
                  </a:lnTo>
                  <a:lnTo>
                    <a:pt x="563" y="1637"/>
                  </a:lnTo>
                  <a:lnTo>
                    <a:pt x="474" y="1637"/>
                  </a:lnTo>
                  <a:lnTo>
                    <a:pt x="474" y="1478"/>
                  </a:lnTo>
                  <a:lnTo>
                    <a:pt x="293" y="1478"/>
                  </a:lnTo>
                  <a:lnTo>
                    <a:pt x="293" y="1637"/>
                  </a:lnTo>
                  <a:lnTo>
                    <a:pt x="202" y="1637"/>
                  </a:lnTo>
                  <a:lnTo>
                    <a:pt x="202" y="1478"/>
                  </a:lnTo>
                  <a:lnTo>
                    <a:pt x="0" y="1273"/>
                  </a:lnTo>
                  <a:lnTo>
                    <a:pt x="0" y="1090"/>
                  </a:lnTo>
                  <a:lnTo>
                    <a:pt x="271" y="1090"/>
                  </a:lnTo>
                  <a:lnTo>
                    <a:pt x="271" y="1251"/>
                  </a:lnTo>
                  <a:lnTo>
                    <a:pt x="516" y="1251"/>
                  </a:lnTo>
                  <a:lnTo>
                    <a:pt x="516" y="955"/>
                  </a:lnTo>
                  <a:lnTo>
                    <a:pt x="202" y="955"/>
                  </a:lnTo>
                  <a:lnTo>
                    <a:pt x="0" y="752"/>
                  </a:lnTo>
                  <a:lnTo>
                    <a:pt x="0" y="364"/>
                  </a:lnTo>
                  <a:lnTo>
                    <a:pt x="202" y="159"/>
                  </a:lnTo>
                  <a:lnTo>
                    <a:pt x="202" y="0"/>
                  </a:lnTo>
                  <a:lnTo>
                    <a:pt x="293" y="0"/>
                  </a:lnTo>
                  <a:lnTo>
                    <a:pt x="293" y="159"/>
                  </a:lnTo>
                  <a:close/>
                </a:path>
              </a:pathLst>
            </a:cu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394000" y="2362320"/>
            <a:ext cx="7512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7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Directamente dirigidas a premiar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712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hechos puntua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712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desempeños excepciona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712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situaciones especia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907920" y="2209680"/>
            <a:ext cx="8832600" cy="4038480"/>
            <a:chOff x="907920" y="2209680"/>
            <a:chExt cx="8832600" cy="4038480"/>
          </a:xfrm>
        </p:grpSpPr>
        <p:sp>
          <p:nvSpPr>
            <p:cNvPr id="196" name=""/>
            <p:cNvSpPr/>
            <p:nvPr/>
          </p:nvSpPr>
          <p:spPr>
            <a:xfrm>
              <a:off x="907920" y="2209680"/>
              <a:ext cx="2167920" cy="463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39760" y="2276280"/>
              <a:ext cx="18572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Misión / Estrategi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74520" y="3203280"/>
              <a:ext cx="2114280" cy="463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2360" y="3268440"/>
              <a:ext cx="12870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Recompen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74520" y="4194000"/>
              <a:ext cx="2114280" cy="465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79960" y="4262400"/>
              <a:ext cx="12492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Segui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4520" y="5189400"/>
              <a:ext cx="2191320" cy="92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25600" y="5321160"/>
              <a:ext cx="123840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Negoci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y Acuerd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Fo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804320" y="2739240"/>
              <a:ext cx="361440" cy="330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822680" y="3732120"/>
              <a:ext cx="359640" cy="331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822680" y="4791960"/>
              <a:ext cx="359640" cy="330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23520" y="5122800"/>
              <a:ext cx="2300040" cy="498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72120" y="5173560"/>
              <a:ext cx="21708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Diseño del Model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23520" y="5519520"/>
              <a:ext cx="2300040" cy="728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72120" y="5486400"/>
              <a:ext cx="2336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9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Aceler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9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Umbrales y Top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9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Peso de los Objetiv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50680" y="2209680"/>
              <a:ext cx="2117880" cy="463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33280" y="2276280"/>
              <a:ext cx="15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Plan de Nego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4440" y="2209680"/>
              <a:ext cx="204084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75280" y="2241360"/>
              <a:ext cx="1737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Objetivo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Generales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la Empre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98360" y="3733560"/>
              <a:ext cx="2342160" cy="79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49200" y="3798720"/>
              <a:ext cx="211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Objetivos  Particulares de las Gerenci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55680" y="3249360"/>
              <a:ext cx="361440" cy="331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98360" y="5122800"/>
              <a:ext cx="2342160" cy="105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49200" y="5365800"/>
              <a:ext cx="2116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ff"/>
                  </a:solidFill>
                  <a:latin typeface="Arial"/>
                </a:rPr>
                <a:t>Objetivos del Plan de Compensación Vari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55680" y="4697280"/>
              <a:ext cx="361440" cy="331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618720" y="2276280"/>
              <a:ext cx="464760" cy="330120"/>
            </a:xfrm>
            <a:prstGeom prst="leftArrow">
              <a:avLst>
                <a:gd name="adj1" fmla="val 50000"/>
                <a:gd name="adj2" fmla="val 35196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792120" y="2276280"/>
              <a:ext cx="528840" cy="33012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43840" y="5398920"/>
              <a:ext cx="401400" cy="385920"/>
            </a:xfrm>
            <a:prstGeom prst="leftArrow">
              <a:avLst>
                <a:gd name="adj1" fmla="val 50000"/>
                <a:gd name="adj2" fmla="val 2600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68000" y="5387760"/>
              <a:ext cx="403200" cy="385920"/>
            </a:xfrm>
            <a:prstGeom prst="leftArrow">
              <a:avLst>
                <a:gd name="adj1" fmla="val 50000"/>
                <a:gd name="adj2" fmla="val 2611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5480" y="1066320"/>
            <a:ext cx="478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Arial"/>
              </a:rPr>
              <a:t>Esquema Gener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5120" y="990360"/>
            <a:ext cx="4870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12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riterios para la Selección de 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25480" y="2438280"/>
            <a:ext cx="8919720" cy="3733560"/>
            <a:chOff x="825480" y="2438280"/>
            <a:chExt cx="8919720" cy="3733560"/>
          </a:xfrm>
        </p:grpSpPr>
        <p:sp>
          <p:nvSpPr>
            <p:cNvPr id="230" name=""/>
            <p:cNvSpPr/>
            <p:nvPr/>
          </p:nvSpPr>
          <p:spPr>
            <a:xfrm>
              <a:off x="1384200" y="2438280"/>
              <a:ext cx="8002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66ff"/>
                  </a:solidFill>
                  <a:latin typeface="Arial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5480" y="2500560"/>
              <a:ext cx="8919720" cy="360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84080" y="328644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   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117960" y="2500560"/>
              <a:ext cx="1440" cy="360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5480" y="3681360"/>
              <a:ext cx="89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5480" y="2873880"/>
              <a:ext cx="89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5480" y="3247200"/>
              <a:ext cx="89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5480" y="4115520"/>
              <a:ext cx="89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480" y="4796640"/>
              <a:ext cx="89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74960" y="3732480"/>
              <a:ext cx="25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4640" y="3301920"/>
              <a:ext cx="115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9966ff"/>
                  </a:solidFill>
                  <a:latin typeface="Arial"/>
                </a:rPr>
                <a:t>Utilidad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3600" y="3713760"/>
              <a:ext cx="1902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9966ff"/>
                  </a:solidFill>
                  <a:latin typeface="Arial"/>
                </a:rPr>
                <a:t>Inteligibilidad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01160" y="4098600"/>
              <a:ext cx="20948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9966ff"/>
                  </a:solidFill>
                  <a:latin typeface="Arial"/>
                </a:rPr>
                <a:t>Disponibilidad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9966ff"/>
                  </a:solidFill>
                  <a:latin typeface="Arial"/>
                </a:rPr>
                <a:t>de datos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2520" y="4756320"/>
              <a:ext cx="2412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9966ff"/>
                  </a:solidFill>
                  <a:latin typeface="Arial"/>
                </a:rPr>
                <a:t>Vínculo con el</a:t>
              </a:r>
              <a:r>
                <a:rPr b="1" lang="es-ES_tradnl" sz="2100" spc="-1" strike="noStrike" u="sng">
                  <a:solidFill>
                    <a:srgbClr val="9966ff"/>
                  </a:solidFill>
                  <a:uFillTx/>
                  <a:latin typeface="Arial"/>
                </a:rPr>
                <a:t> </a:t>
              </a:r>
              <a:r>
                <a:rPr b="1" lang="es-ES_tradnl" sz="2100" spc="-1" strike="noStrike">
                  <a:solidFill>
                    <a:srgbClr val="9966ff"/>
                  </a:solidFill>
                  <a:latin typeface="Arial"/>
                </a:rPr>
                <a:t>desempeño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840" y="3231720"/>
              <a:ext cx="5717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Resalta fortalezas y debilidades del negocio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96440" y="4907520"/>
              <a:ext cx="645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Indicará y motivará el desempeño esperad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2160" y="4088880"/>
              <a:ext cx="532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Se pueden obtener datos de diferentes   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soportes y con calida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16600" y="2500560"/>
              <a:ext cx="595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CRITERIO</a:t>
              </a:r>
              <a:r>
                <a:rPr b="1" lang="es-ES_tradnl" sz="22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2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2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DESCRIPC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61280" y="2869200"/>
              <a:ext cx="1572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9966ff"/>
                  </a:solidFill>
                  <a:latin typeface="Arial"/>
                </a:rPr>
                <a:t>Relevanci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81120" y="2825640"/>
              <a:ext cx="6195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Conectada a estrategias y objetivos de Empres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240" y="3686040"/>
              <a:ext cx="3256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Comprensible fácilment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5480" y="5481360"/>
              <a:ext cx="89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33840" y="5437800"/>
              <a:ext cx="24138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9966ff"/>
                  </a:solidFill>
                  <a:latin typeface="Arial"/>
                </a:rPr>
                <a:t>Línea de</a:t>
              </a:r>
              <a:r>
                <a:rPr b="1" lang="es-ES_tradnl" sz="2100" spc="-1" strike="noStrike" u="sng">
                  <a:solidFill>
                    <a:srgbClr val="9966ff"/>
                  </a:solidFill>
                  <a:uFillTx/>
                  <a:latin typeface="Arial"/>
                </a:rPr>
                <a:t> </a:t>
              </a:r>
              <a:r>
                <a:rPr b="1" lang="es-ES_tradnl" sz="2100" spc="-1" strike="noStrike">
                  <a:solidFill>
                    <a:srgbClr val="9966ff"/>
                  </a:solidFill>
                  <a:latin typeface="Arial"/>
                </a:rPr>
                <a:t>Influenci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95000" y="5553000"/>
              <a:ext cx="6461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Capacidad del empleado de influir la medid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25120" y="990360"/>
            <a:ext cx="4870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12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incipios para redactar 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650960" y="2362320"/>
            <a:ext cx="7016400" cy="3962160"/>
            <a:chOff x="1650960" y="2362320"/>
            <a:chExt cx="7016400" cy="3962160"/>
          </a:xfrm>
        </p:grpSpPr>
        <p:sp>
          <p:nvSpPr>
            <p:cNvPr id="258" name=""/>
            <p:cNvSpPr/>
            <p:nvPr/>
          </p:nvSpPr>
          <p:spPr>
            <a:xfrm>
              <a:off x="1650960" y="2362320"/>
              <a:ext cx="7016400" cy="3962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2960" y="2665440"/>
              <a:ext cx="40885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S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S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pecific (Específico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M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M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edi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A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A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lcanzable/Ambicios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R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R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esultad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T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T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iemp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5120" y="990360"/>
            <a:ext cx="4870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12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incipios para redactar 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384200" y="2502000"/>
            <a:ext cx="7696080" cy="3521520"/>
            <a:chOff x="1384200" y="2502000"/>
            <a:chExt cx="7696080" cy="3521520"/>
          </a:xfrm>
        </p:grpSpPr>
        <p:sp>
          <p:nvSpPr>
            <p:cNvPr id="264" name=""/>
            <p:cNvSpPr/>
            <p:nvPr/>
          </p:nvSpPr>
          <p:spPr>
            <a:xfrm>
              <a:off x="1384200" y="2502000"/>
              <a:ext cx="7696080" cy="3504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49080" y="2577960"/>
              <a:ext cx="752616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9966ff"/>
                  </a:solidFill>
                  <a:latin typeface="Arial"/>
                </a:rPr>
                <a:t>S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200" spc="-1" strike="noStrike">
                  <a:solidFill>
                    <a:srgbClr val="9966ff"/>
                  </a:solidFill>
                  <a:latin typeface="Arial"/>
                </a:rPr>
                <a:t>S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pecific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Actualizar algunas bases de datos” (No es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Actualizar la base de datos de proveedores” (Es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9966ff"/>
                  </a:solidFill>
                  <a:latin typeface="Arial"/>
                </a:rPr>
                <a:t>M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200" spc="-1" strike="noStrike">
                  <a:solidFill>
                    <a:srgbClr val="9966ff"/>
                  </a:solidFill>
                  <a:latin typeface="Arial"/>
                </a:rPr>
                <a:t>M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edible (y Acelerable/Desacelerable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Esforzarse más” (No es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Eliminar del listado de clientes las grandes empresas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que no compraron energía en los últimos 5 años” (Es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5120" y="990360"/>
            <a:ext cx="4870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12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incipios para redactar 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07920" y="2362320"/>
            <a:ext cx="8997840" cy="3809880"/>
            <a:chOff x="907920" y="2362320"/>
            <a:chExt cx="8997840" cy="3809880"/>
          </a:xfrm>
        </p:grpSpPr>
        <p:sp>
          <p:nvSpPr>
            <p:cNvPr id="270" name=""/>
            <p:cNvSpPr/>
            <p:nvPr/>
          </p:nvSpPr>
          <p:spPr>
            <a:xfrm>
              <a:off x="907920" y="2362320"/>
              <a:ext cx="8834040" cy="3809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71720" y="2514600"/>
              <a:ext cx="8834040" cy="32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9966ff"/>
                  </a:solidFill>
                  <a:latin typeface="Arial"/>
                </a:rPr>
                <a:t>A</a:t>
              </a: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1900" spc="-1" strike="noStrike">
                  <a:solidFill>
                    <a:srgbClr val="9966ff"/>
                  </a:solidFill>
                  <a:latin typeface="Arial"/>
                </a:rPr>
                <a:t>A</a:t>
              </a: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lcanzable/Ambicioso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Correr 100 mts. llanos en 8 segundos” (Es ambicioso, pero imposible de alcanzar, no es realista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Correr 100 mts.llanos en 15 segundos” (Es fácilmente alcanzable, pero no es ambicioso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Correr 100 mts.llanos en 9 segundos 9 décimas”(Es ambicioso pero alcanzable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9966ff"/>
                  </a:solidFill>
                  <a:latin typeface="Arial"/>
                </a:rPr>
                <a:t>R</a:t>
              </a: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1900" spc="-1" strike="noStrike">
                  <a:solidFill>
                    <a:srgbClr val="9966ff"/>
                  </a:solidFill>
                  <a:latin typeface="Arial"/>
                </a:rPr>
                <a:t>R</a:t>
              </a: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esult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Tratar de vender más y ser más eficiente en costos”  (No es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1900" spc="-1" strike="noStrike">
                  <a:solidFill>
                    <a:srgbClr val="9966ff"/>
                  </a:solidFill>
                  <a:latin typeface="Arial"/>
                </a:rPr>
                <a:t>Entrenar a los 15 ejecutivos de cuenta de la Comercialización en el uso de la  técnica de ventas XX”  ( Es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5120" y="990360"/>
            <a:ext cx="4870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12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incipios para redactar 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07920" y="2438280"/>
            <a:ext cx="8750160" cy="3352680"/>
            <a:chOff x="907920" y="2438280"/>
            <a:chExt cx="8750160" cy="3352680"/>
          </a:xfrm>
        </p:grpSpPr>
        <p:sp>
          <p:nvSpPr>
            <p:cNvPr id="276" name=""/>
            <p:cNvSpPr/>
            <p:nvPr/>
          </p:nvSpPr>
          <p:spPr>
            <a:xfrm>
              <a:off x="907920" y="2438280"/>
              <a:ext cx="8750160" cy="3352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0360" y="2549160"/>
              <a:ext cx="858492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9966ff"/>
                  </a:solidFill>
                  <a:latin typeface="Arial"/>
                </a:rPr>
                <a:t>T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	</a:t>
              </a:r>
              <a:r>
                <a:rPr b="1" lang="es-ES_tradnl" sz="2200" spc="-1" strike="noStrike">
                  <a:solidFill>
                    <a:srgbClr val="9966ff"/>
                  </a:solidFill>
                  <a:latin typeface="Arial"/>
                </a:rPr>
                <a:t>T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iemp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Instalar el sistema XX en 90 días” (Cuándo vencen los 90 días? - No es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Reducir los errores del proceso YY en un 50% lo antes posible” (Cuándo es lo antes posible? - No es )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“</a:t>
              </a:r>
              <a:r>
                <a:rPr b="0" lang="es-ES_tradnl" sz="2200" spc="-1" strike="noStrike">
                  <a:solidFill>
                    <a:srgbClr val="9966ff"/>
                  </a:solidFill>
                  <a:latin typeface="Arial"/>
                </a:rPr>
                <a:t>Diseñar e implantar un sistema de liquidación de comisiones para el mes de Febrero de 2005” (Tiene mes y año - Es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5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9640" y="1523520"/>
            <a:ext cx="909648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Objetivos Generales de los Siste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Tipos de Pla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Diseño – Implant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Algunos datos releva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Planes Especiales:</a:t>
            </a:r>
            <a:r>
              <a:rPr b="0" i="1" lang="es-AR" sz="3000" spc="-1" strike="noStrike">
                <a:solidFill>
                  <a:srgbClr val="ffffff"/>
                </a:solidFill>
                <a:latin typeface="Arial"/>
              </a:rPr>
              <a:t> Incentivos por Ventas</a:t>
            </a: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5120" y="990360"/>
            <a:ext cx="4870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12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laciones Fijo /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86080" y="2743200"/>
            <a:ext cx="7841880" cy="2514600"/>
            <a:chOff x="1486080" y="2743200"/>
            <a:chExt cx="7841880" cy="2514600"/>
          </a:xfrm>
        </p:grpSpPr>
        <p:sp>
          <p:nvSpPr>
            <p:cNvPr id="282" name=""/>
            <p:cNvSpPr/>
            <p:nvPr/>
          </p:nvSpPr>
          <p:spPr>
            <a:xfrm>
              <a:off x="1486080" y="2743200"/>
              <a:ext cx="759420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66ff"/>
                  </a:solidFill>
                  <a:latin typeface="Arial"/>
                </a:rPr>
                <a:t>DIRECT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6080" y="3581280"/>
              <a:ext cx="759420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66ff"/>
                  </a:solidFill>
                  <a:latin typeface="Arial"/>
                </a:rPr>
                <a:t>GERE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86080" y="4419720"/>
              <a:ext cx="759420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66ff"/>
                  </a:solidFill>
                  <a:latin typeface="Arial"/>
                </a:rPr>
                <a:t>JEFES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67160" y="2743200"/>
              <a:ext cx="0" cy="2514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94560" y="4419720"/>
              <a:ext cx="0" cy="83808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03840" y="3581280"/>
              <a:ext cx="0" cy="83844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31040" y="2743200"/>
              <a:ext cx="0" cy="83808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38080" y="2970360"/>
              <a:ext cx="17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966ff"/>
                  </a:solidFill>
                  <a:latin typeface="Arial"/>
                </a:rPr>
                <a:t>FIJO</a:t>
              </a:r>
              <a:r>
                <a:rPr b="0" lang="es-ES_tradnl" sz="2400" spc="-1" strike="noStrike">
                  <a:solidFill>
                    <a:srgbClr val="9966ff"/>
                  </a:solidFill>
                  <a:latin typeface="Arial"/>
                </a:rPr>
                <a:t> ( 60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90240" y="3017880"/>
              <a:ext cx="224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966ff"/>
                  </a:solidFill>
                  <a:latin typeface="Arial"/>
                </a:rPr>
                <a:t>VARIABLE ( 40%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12880" y="465948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966ff"/>
                  </a:solidFill>
                  <a:latin typeface="Arial"/>
                </a:rPr>
                <a:t>FIJO ( 80%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30160" y="380988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966ff"/>
                  </a:solidFill>
                  <a:latin typeface="Arial"/>
                </a:rPr>
                <a:t>FIJO ( 70%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86640" y="3809880"/>
              <a:ext cx="26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966ff"/>
                  </a:solidFill>
                  <a:latin typeface="Arial"/>
                </a:rPr>
                <a:t>VARIABLE ( 30%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59800" y="4495680"/>
              <a:ext cx="132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66ff"/>
                  </a:solidFill>
                  <a:latin typeface="Arial"/>
                </a:rPr>
                <a:t>VARIABLE (20%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5120" y="990360"/>
            <a:ext cx="4870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12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actores de Med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558880" y="2514600"/>
            <a:ext cx="5778360" cy="3048120"/>
            <a:chOff x="2558880" y="2514600"/>
            <a:chExt cx="5778360" cy="3048120"/>
          </a:xfrm>
        </p:grpSpPr>
        <p:sp>
          <p:nvSpPr>
            <p:cNvPr id="299" name=""/>
            <p:cNvSpPr/>
            <p:nvPr/>
          </p:nvSpPr>
          <p:spPr>
            <a:xfrm>
              <a:off x="2558880" y="2514600"/>
              <a:ext cx="5778360" cy="304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4480" y="2819520"/>
              <a:ext cx="445788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5000"/>
                </a:lnSpc>
                <a:spcBef>
                  <a:spcPts val="1437"/>
                </a:spcBef>
                <a:buClr>
                  <a:srgbClr val="9900cc"/>
                </a:buClr>
                <a:buSzPct val="75000"/>
                <a:buFont typeface="Monotype Sort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100" spc="-1" strike="noStrike">
                  <a:solidFill>
                    <a:srgbClr val="9966ff"/>
                  </a:solidFill>
                  <a:latin typeface="Arial"/>
                </a:rPr>
                <a:t>Nivel </a:t>
              </a:r>
              <a:r>
                <a:rPr b="1" lang="es-AR" sz="2100" spc="-1" strike="noStrike">
                  <a:solidFill>
                    <a:srgbClr val="9966ff"/>
                  </a:solidFill>
                  <a:latin typeface="Arial"/>
                </a:rPr>
                <a:t>EMPRES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1437"/>
                </a:spcBef>
                <a:buClr>
                  <a:srgbClr val="9900cc"/>
                </a:buClr>
                <a:buSzPct val="75000"/>
                <a:buFont typeface="Monotype Sort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1437"/>
                </a:spcBef>
                <a:buClr>
                  <a:srgbClr val="9900cc"/>
                </a:buClr>
                <a:buSzPct val="75000"/>
                <a:buFont typeface="Monotype Sort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100" spc="-1" strike="noStrike">
                  <a:solidFill>
                    <a:srgbClr val="9966ff"/>
                  </a:solidFill>
                  <a:latin typeface="Arial"/>
                </a:rPr>
                <a:t>Nivel </a:t>
              </a:r>
              <a:r>
                <a:rPr b="1" lang="es-AR" sz="2100" spc="-1" strike="noStrike">
                  <a:solidFill>
                    <a:srgbClr val="9966ff"/>
                  </a:solidFill>
                  <a:latin typeface="Arial"/>
                </a:rPr>
                <a:t>ARE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1437"/>
                </a:spcBef>
                <a:buClr>
                  <a:srgbClr val="9900cc"/>
                </a:buClr>
                <a:buSzPct val="75000"/>
                <a:buFont typeface="Monotype Sort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1437"/>
                </a:spcBef>
                <a:buClr>
                  <a:srgbClr val="9900cc"/>
                </a:buClr>
                <a:buSzPct val="75000"/>
                <a:buFont typeface="Monotype Sort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100" spc="-1" strike="noStrike">
                  <a:solidFill>
                    <a:srgbClr val="9966ff"/>
                  </a:solidFill>
                  <a:latin typeface="Arial"/>
                </a:rPr>
                <a:t>Nivel</a:t>
              </a:r>
              <a:r>
                <a:rPr b="1" lang="es-AR" sz="2100" spc="-1" strike="noStrike">
                  <a:solidFill>
                    <a:srgbClr val="9966ff"/>
                  </a:solidFill>
                  <a:latin typeface="Arial"/>
                </a:rPr>
                <a:t> INDIVIDUO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5120" y="990360"/>
            <a:ext cx="58611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10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eso relativo de cada 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90720" y="2286000"/>
            <a:ext cx="8749800" cy="4421880"/>
            <a:chOff x="990720" y="2286000"/>
            <a:chExt cx="8749800" cy="4421880"/>
          </a:xfrm>
        </p:grpSpPr>
        <p:sp>
          <p:nvSpPr>
            <p:cNvPr id="305" name=""/>
            <p:cNvSpPr/>
            <p:nvPr/>
          </p:nvSpPr>
          <p:spPr>
            <a:xfrm>
              <a:off x="6851160" y="2286000"/>
              <a:ext cx="2806560" cy="1143000"/>
            </a:xfrm>
            <a:prstGeom prst="downArrowCallout">
              <a:avLst>
                <a:gd name="adj1" fmla="val 61391"/>
                <a:gd name="adj2" fmla="val 61386"/>
                <a:gd name="adj3" fmla="val 16667"/>
                <a:gd name="adj4" fmla="val 6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66760" y="2286000"/>
              <a:ext cx="4536360" cy="4343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66760" y="3527640"/>
              <a:ext cx="4536360" cy="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29400" y="4560840"/>
              <a:ext cx="2674080" cy="0"/>
            </a:xfrm>
            <a:prstGeom prst="line">
              <a:avLst/>
            </a:prstGeom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29400" y="3527640"/>
              <a:ext cx="0" cy="3101760"/>
            </a:xfrm>
            <a:prstGeom prst="line">
              <a:avLst/>
            </a:prstGeom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90720" y="2286000"/>
              <a:ext cx="1076040" cy="4343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29400" y="5596200"/>
              <a:ext cx="2674080" cy="0"/>
            </a:xfrm>
            <a:prstGeom prst="line">
              <a:avLst/>
            </a:prstGeom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23600" y="2700360"/>
              <a:ext cx="717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900" spc="-1" strike="noStrike">
                  <a:solidFill>
                    <a:srgbClr val="9966ff"/>
                  </a:solidFill>
                  <a:latin typeface="Arial"/>
                </a:rPr>
                <a:t>FIJO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01480" y="4651560"/>
              <a:ext cx="1410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900" spc="-1" strike="noStrike">
                  <a:solidFill>
                    <a:srgbClr val="9966ff"/>
                  </a:solidFill>
                  <a:latin typeface="Arial"/>
                </a:rPr>
                <a:t>VARIABL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62560" y="27291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9966ff"/>
                  </a:solidFill>
                  <a:latin typeface="Arial"/>
                </a:rPr>
                <a:t>60 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93880" y="52563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9966ff"/>
                  </a:solidFill>
                  <a:latin typeface="Arial"/>
                </a:rPr>
                <a:t>40 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20840" y="3424320"/>
              <a:ext cx="39024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9966ff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8080" y="368640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Emp</a:t>
              </a:r>
              <a:r>
                <a:rPr b="0" lang="es-AR" sz="2000" spc="-1" strike="noStrike">
                  <a:solidFill>
                    <a:srgbClr val="9966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7200" y="4660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Are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01200" y="572472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Ind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20520" y="368640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20 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44640" y="466092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40 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44640" y="572472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40 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16760" y="2286000"/>
              <a:ext cx="2641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Objeti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Pondera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03480" y="3505320"/>
              <a:ext cx="3137040" cy="3124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03480" y="4572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03480" y="4572000"/>
              <a:ext cx="3137040" cy="0"/>
            </a:xfrm>
            <a:prstGeom prst="line">
              <a:avLst/>
            </a:prstGeom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03480" y="5562720"/>
              <a:ext cx="3137040" cy="0"/>
            </a:xfrm>
            <a:prstGeom prst="line">
              <a:avLst/>
            </a:prstGeom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48080" y="3838680"/>
              <a:ext cx="217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   </a:t>
              </a: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Obj. 1 = 100 %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58680" y="4572000"/>
              <a:ext cx="1895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Obj. 1 = 50 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Obj. 2 = 30 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 </a:t>
              </a: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Obj. 3 = 20 %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28880" y="5699160"/>
              <a:ext cx="175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Obj. 1 = 60 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Obj. 2 = 40 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6280" y="-76680"/>
            <a:ext cx="8574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Diseño - Implantación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35880" y="111240"/>
            <a:ext cx="2287440" cy="19461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5120" y="990360"/>
            <a:ext cx="58611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10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gu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568520" y="2590920"/>
            <a:ext cx="7759440" cy="3276360"/>
            <a:chOff x="1568520" y="2590920"/>
            <a:chExt cx="7759440" cy="3276360"/>
          </a:xfrm>
        </p:grpSpPr>
        <p:sp>
          <p:nvSpPr>
            <p:cNvPr id="335" name=""/>
            <p:cNvSpPr/>
            <p:nvPr/>
          </p:nvSpPr>
          <p:spPr>
            <a:xfrm>
              <a:off x="1568520" y="2590920"/>
              <a:ext cx="7759440" cy="327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74320" y="2716200"/>
              <a:ext cx="140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9966ff"/>
                  </a:solidFill>
                  <a:latin typeface="Arial"/>
                </a:rPr>
                <a:t>% Log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33880" y="2743200"/>
              <a:ext cx="128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9966ff"/>
                  </a:solidFill>
                  <a:latin typeface="Arial"/>
                </a:rPr>
                <a:t>% Pag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46160" y="3992400"/>
              <a:ext cx="140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9966ff"/>
                  </a:solidFill>
                  <a:latin typeface="Arial"/>
                </a:rPr>
                <a:t>Objetiv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27440" y="4906800"/>
              <a:ext cx="911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9966ff"/>
                  </a:solidFill>
                  <a:latin typeface="Arial"/>
                </a:rPr>
                <a:t>To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75240" y="3308400"/>
              <a:ext cx="942480" cy="279360"/>
            </a:xfrm>
            <a:prstGeom prst="rightArrow">
              <a:avLst>
                <a:gd name="adj1" fmla="val 50000"/>
                <a:gd name="adj2" fmla="val 168732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75240" y="4108320"/>
              <a:ext cx="942480" cy="279360"/>
            </a:xfrm>
            <a:prstGeom prst="rightArrow">
              <a:avLst>
                <a:gd name="adj1" fmla="val 50000"/>
                <a:gd name="adj2" fmla="val 168732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5240" y="5041800"/>
              <a:ext cx="942480" cy="279360"/>
            </a:xfrm>
            <a:prstGeom prst="rightArrow">
              <a:avLst>
                <a:gd name="adj1" fmla="val 50000"/>
                <a:gd name="adj2" fmla="val 168732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53840" y="3200400"/>
              <a:ext cx="82224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5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9966ff"/>
                  </a:solidFill>
                  <a:latin typeface="Arial"/>
                </a:rPr>
                <a:t>6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9966ff"/>
                  </a:solidFill>
                  <a:latin typeface="Arial"/>
                </a:rPr>
                <a:t>8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10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9966ff"/>
                  </a:solidFill>
                  <a:latin typeface="Arial"/>
                </a:rPr>
                <a:t>12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9966ff"/>
                  </a:solidFill>
                  <a:latin typeface="Arial"/>
                </a:rPr>
                <a:t>14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15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52480" y="3200400"/>
              <a:ext cx="82224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9966ff"/>
                  </a:solidFill>
                  <a:latin typeface="Arial"/>
                </a:rPr>
                <a:t>2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9966ff"/>
                  </a:solidFill>
                  <a:latin typeface="Arial"/>
                </a:rPr>
                <a:t>6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10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9966ff"/>
                  </a:solidFill>
                  <a:latin typeface="Arial"/>
                </a:rPr>
                <a:t>14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9966ff"/>
                  </a:solidFill>
                  <a:latin typeface="Arial"/>
                </a:rPr>
                <a:t>18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9966ff"/>
                  </a:solidFill>
                  <a:latin typeface="Arial"/>
                </a:rPr>
                <a:t>200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86400" y="320040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ff"/>
                  </a:solidFill>
                  <a:latin typeface="Arial"/>
                </a:rPr>
                <a:t>Umb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6280" y="76320"/>
            <a:ext cx="8574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Algunos datos relevant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5860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 algn="ctr">
              <a:lnSpc>
                <a:spcPct val="85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Muestra de Mercado</a:t>
            </a:r>
            <a:r>
              <a:rPr b="0" lang="es-AR" sz="3000" spc="-1" strike="noStrike" baseline="30000">
                <a:solidFill>
                  <a:srgbClr val="ffffff"/>
                </a:solidFill>
                <a:latin typeface="Arial"/>
              </a:rPr>
              <a:t> (*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ograma de Bo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059600" y="122400"/>
            <a:ext cx="2763360" cy="2239920"/>
            <a:chOff x="7059600" y="122400"/>
            <a:chExt cx="2763360" cy="2239920"/>
          </a:xfrm>
        </p:grpSpPr>
        <p:sp>
          <p:nvSpPr>
            <p:cNvPr id="349" name=""/>
            <p:cNvSpPr/>
            <p:nvPr/>
          </p:nvSpPr>
          <p:spPr>
            <a:xfrm>
              <a:off x="7110360" y="168120"/>
              <a:ext cx="2712600" cy="219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7059600" y="122400"/>
              <a:ext cx="2715120" cy="21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8065440" y="277200"/>
              <a:ext cx="745560" cy="687600"/>
            </a:xfrm>
            <a:custGeom>
              <a:avLst/>
              <a:gdLst/>
              <a:ahLst/>
              <a:rect l="l" t="t" r="r" b="b"/>
              <a:pathLst>
                <a:path w="541" h="542">
                  <a:moveTo>
                    <a:pt x="206" y="0"/>
                  </a:moveTo>
                  <a:lnTo>
                    <a:pt x="309" y="174"/>
                  </a:lnTo>
                  <a:lnTo>
                    <a:pt x="540" y="167"/>
                  </a:lnTo>
                  <a:lnTo>
                    <a:pt x="389" y="310"/>
                  </a:lnTo>
                  <a:lnTo>
                    <a:pt x="421" y="541"/>
                  </a:lnTo>
                  <a:lnTo>
                    <a:pt x="286" y="373"/>
                  </a:lnTo>
                  <a:lnTo>
                    <a:pt x="110" y="525"/>
                  </a:lnTo>
                  <a:lnTo>
                    <a:pt x="174" y="342"/>
                  </a:lnTo>
                  <a:lnTo>
                    <a:pt x="0" y="223"/>
                  </a:lnTo>
                  <a:lnTo>
                    <a:pt x="214" y="223"/>
                  </a:lnTo>
                  <a:lnTo>
                    <a:pt x="206" y="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66440" y="127440"/>
              <a:ext cx="2694600" cy="217656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825480" y="6400800"/>
            <a:ext cx="84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 baseline="30000">
                <a:solidFill>
                  <a:srgbClr val="ffffff"/>
                </a:solidFill>
                <a:latin typeface="Arial"/>
              </a:rPr>
              <a:t>(*) </a:t>
            </a: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Encuesta de Compensación Total de Watson Wya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228760" y="2863800"/>
            <a:ext cx="6465960" cy="26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5480" y="76320"/>
            <a:ext cx="4292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Planes Especial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5120" y="914040"/>
            <a:ext cx="4249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Incentivos por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640640" y="76320"/>
            <a:ext cx="2182680" cy="2209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907920" y="2362320"/>
            <a:ext cx="652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99"/>
                </a:solidFill>
                <a:latin typeface="Arial"/>
              </a:rPr>
              <a:t>Propósito de los Incentivos por Vent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3049560"/>
            <a:ext cx="891540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Comunicar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 las expectativas de performa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Dirigir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 al staff de ventas hacia los objetivos clave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Motivar 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al staff de ventas a lograr y sobrepasar las meta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Recompensar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 a los “high performers” por su éxi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Retener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 a los mejores talentos de venta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480" y="76320"/>
            <a:ext cx="4292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Planes Especial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5120" y="914040"/>
            <a:ext cx="4249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Incentivos por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640640" y="76320"/>
            <a:ext cx="2182680" cy="2209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07920" y="2362320"/>
            <a:ext cx="742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99"/>
                </a:solidFill>
                <a:latin typeface="Arial"/>
              </a:rPr>
              <a:t>Características de los Incentivos por Vent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5480" y="3049560"/>
            <a:ext cx="908064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Consistencia 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con otros mensajes enviados por la Direc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Pagar según</a:t>
            </a: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 performance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 y diferenciar a las persona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Medición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 consistente y transmitida en forma clar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Línea de influencia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 concreta, entendiendo causa y efec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Línea de impacto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, percibiendo que se influye en resultado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Competitivo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, posicionando a la empresa sobre el merc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Simple</a:t>
            </a: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 de entender y administra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5480" y="76320"/>
            <a:ext cx="4292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Planes Especial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25120" y="914040"/>
            <a:ext cx="4249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Incentivos por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640640" y="76320"/>
            <a:ext cx="2182680" cy="2209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907920" y="2362320"/>
            <a:ext cx="742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99"/>
                </a:solidFill>
                <a:latin typeface="Arial"/>
              </a:rPr>
              <a:t>Componentes de los Incentivos por Vent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5480" y="3049560"/>
            <a:ext cx="908064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Elegibil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Total Efectivo Target (Base + Incentivo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Relación Fijo-Variable y Oportun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Curva de Pag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Factores de Medi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Período de Medi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Frecuencia de Pag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576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300" spc="-1" strike="noStrike">
                <a:solidFill>
                  <a:srgbClr val="ffffff"/>
                </a:solidFill>
                <a:latin typeface="Arial"/>
              </a:rPr>
              <a:t>Fórmulas y Mecanismos de Cálcul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5480" y="76320"/>
            <a:ext cx="4292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Planes Especial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25120" y="914040"/>
            <a:ext cx="4249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Incentivos por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7640640" y="76320"/>
            <a:ext cx="2182680" cy="2209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907920" y="2057400"/>
            <a:ext cx="742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99"/>
                </a:solidFill>
                <a:latin typeface="Arial"/>
              </a:rPr>
              <a:t>Relación Fijo / Variable - Oportun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4553640" y="1293480"/>
            <a:ext cx="13386240" cy="5670720"/>
            <a:chOff x="-4553640" y="1293480"/>
            <a:chExt cx="13386240" cy="5670720"/>
          </a:xfrm>
        </p:grpSpPr>
        <p:sp>
          <p:nvSpPr>
            <p:cNvPr id="375" name=""/>
            <p:cNvSpPr/>
            <p:nvPr/>
          </p:nvSpPr>
          <p:spPr>
            <a:xfrm>
              <a:off x="2098800" y="3076560"/>
              <a:ext cx="6670440" cy="2833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98800" y="4857840"/>
              <a:ext cx="667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769240" y="3060720"/>
              <a:ext cx="1440" cy="172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-4553640" y="1292760"/>
              <a:ext cx="13332240" cy="356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-4543560" y="4859280"/>
              <a:ext cx="13312080" cy="21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37320" y="450216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82600" y="538308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8680" y="4191120"/>
              <a:ext cx="175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urva de Pag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53880" y="489888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cen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098440" y="3063960"/>
              <a:ext cx="667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98800" y="3056040"/>
              <a:ext cx="0" cy="28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8800" y="5918040"/>
              <a:ext cx="667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22760" y="6183360"/>
              <a:ext cx="502776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28680" y="59929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aj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96680" y="600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71400" y="6262560"/>
              <a:ext cx="41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fluencia de la Fuerza de Vent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5480" y="76320"/>
            <a:ext cx="4292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Planes Especial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25120" y="914040"/>
            <a:ext cx="4249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Incentivos por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640640" y="76320"/>
            <a:ext cx="2182680" cy="2209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907920" y="2057400"/>
            <a:ext cx="742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99"/>
                </a:solidFill>
                <a:latin typeface="Arial"/>
              </a:rPr>
              <a:t>Relación Fijo / Variable - Oportun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362240" y="2671920"/>
            <a:ext cx="7635240" cy="3729960"/>
            <a:chOff x="1362240" y="2671920"/>
            <a:chExt cx="7635240" cy="3729960"/>
          </a:xfrm>
        </p:grpSpPr>
        <p:sp>
          <p:nvSpPr>
            <p:cNvPr id="396" name=""/>
            <p:cNvSpPr/>
            <p:nvPr/>
          </p:nvSpPr>
          <p:spPr>
            <a:xfrm>
              <a:off x="1611360" y="2671920"/>
              <a:ext cx="7136640" cy="3638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62240" y="3083040"/>
              <a:ext cx="7533720" cy="741240"/>
            </a:xfrm>
            <a:prstGeom prst="leftRightArrow">
              <a:avLst>
                <a:gd name="adj1" fmla="val 35139"/>
                <a:gd name="adj2" fmla="val 5303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a5a5c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56680" y="2754360"/>
              <a:ext cx="1396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19191"/>
                  </a:solidFill>
                  <a:latin typeface="Arial"/>
                </a:rPr>
                <a:t>Relación baja (90/1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88960" y="2739960"/>
              <a:ext cx="1336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19191"/>
                  </a:solidFill>
                  <a:latin typeface="Arial"/>
                </a:rPr>
                <a:t>Relación alta (40/6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83160" y="5484960"/>
              <a:ext cx="196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19191"/>
                  </a:solidFill>
                  <a:latin typeface="Arial"/>
                </a:rPr>
                <a:t>Baja Oportunidad (1: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93680" y="5470560"/>
              <a:ext cx="19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19191"/>
                  </a:solidFill>
                  <a:latin typeface="Arial"/>
                </a:rPr>
                <a:t>Oportunidad Significativa (2: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85520" y="3813120"/>
              <a:ext cx="2156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8360" indent="-198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19191"/>
                  </a:solidFill>
                  <a:latin typeface="Arial"/>
                </a:rPr>
                <a:t>Baja influencia en el proceso de vent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17800" y="3718080"/>
              <a:ext cx="20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8360" indent="-198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19191"/>
                  </a:solidFill>
                  <a:latin typeface="Arial"/>
                </a:rPr>
                <a:t>Posiciones con alta influencia el proceso de vent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89880" y="3701880"/>
              <a:ext cx="136872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19191"/>
                  </a:solidFill>
                  <a:latin typeface="Arial"/>
                </a:rPr>
                <a:t>80/20</a:t>
              </a:r>
              <a:r>
                <a:rPr b="0" i="1" lang="es-ES_tradnl" sz="1400" spc="-1" strike="noStrike">
                  <a:solidFill>
                    <a:srgbClr val="919191"/>
                  </a:solidFill>
                  <a:latin typeface="Arial"/>
                </a:rPr>
                <a:t> Influencia moderada en el proceso de vent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03240" y="3701880"/>
              <a:ext cx="12830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19191"/>
                  </a:solidFill>
                  <a:latin typeface="Arial"/>
                </a:rPr>
                <a:t>70/30</a:t>
              </a:r>
              <a:r>
                <a:rPr b="0" i="1" lang="es-ES_tradnl" sz="1400" spc="-1" strike="noStrike">
                  <a:solidFill>
                    <a:srgbClr val="919191"/>
                  </a:solidFill>
                  <a:latin typeface="Arial"/>
                </a:rPr>
                <a:t> Significativa influencia en el proce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89880" y="2946240"/>
              <a:ext cx="0" cy="32274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3840" y="2946240"/>
              <a:ext cx="0" cy="32274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17800" y="2946240"/>
              <a:ext cx="0" cy="32274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67760" y="3289320"/>
              <a:ext cx="29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19191"/>
                  </a:solidFill>
                  <a:latin typeface="Arial"/>
                </a:rPr>
                <a:t>Relación Fijo-Vari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63400" y="4951440"/>
              <a:ext cx="7534080" cy="741240"/>
            </a:xfrm>
            <a:prstGeom prst="leftRightArrow">
              <a:avLst>
                <a:gd name="adj1" fmla="val 35139"/>
                <a:gd name="adj2" fmla="val 53032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a5a5c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92160" y="5157720"/>
              <a:ext cx="29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19191"/>
                  </a:solidFill>
                  <a:latin typeface="Arial"/>
                </a:rPr>
                <a:t>Curva de Pag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Característica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54240" y="1371240"/>
            <a:ext cx="429264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 algn="ctr">
              <a:lnSpc>
                <a:spcPct val="12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No conforma la remuneración básica, habitual y perman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3160" y="4952880"/>
            <a:ext cx="264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2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Arial"/>
              </a:rPr>
              <a:t>Existe variablidad en su mont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86640" y="4952880"/>
            <a:ext cx="2724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2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Arial"/>
              </a:rPr>
              <a:t>Su percepción se encuentra a riesg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106800"/>
            <a:ext cx="3059280" cy="2074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66ff"/>
              </a:gs>
              <a:gs pos="100000">
                <a:srgbClr val="5128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238040" y="609480"/>
            <a:ext cx="8172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000" spc="-1" strike="noStrike">
                <a:solidFill>
                  <a:srgbClr val="ffff99"/>
                </a:solidFill>
                <a:latin typeface="Arial"/>
              </a:rPr>
              <a:t>Los Programas de Compensación Variable contribuyen a convertir a las organizaciones en “Empleadores de Elección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48240" y="6324480"/>
            <a:ext cx="4249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r">
              <a:lnSpc>
                <a:spcPct val="85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700" spc="-1" strike="noStrike">
                <a:solidFill>
                  <a:srgbClr val="ffffff"/>
                </a:solidFill>
                <a:latin typeface="Arial"/>
              </a:rPr>
              <a:t>Gracias por su atenció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04760" y="1095480"/>
            <a:ext cx="4443480" cy="4619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365800" y="2971800"/>
            <a:ext cx="4292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Preguntas …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Característica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37040" y="1447920"/>
            <a:ext cx="4292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2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Oportunidad / Rie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30520" y="2479680"/>
            <a:ext cx="7184520" cy="3465000"/>
            <a:chOff x="1730520" y="2479680"/>
            <a:chExt cx="7184520" cy="3465000"/>
          </a:xfrm>
        </p:grpSpPr>
        <p:sp>
          <p:nvSpPr>
            <p:cNvPr id="100" name=""/>
            <p:cNvSpPr/>
            <p:nvPr/>
          </p:nvSpPr>
          <p:spPr>
            <a:xfrm>
              <a:off x="1898640" y="2479680"/>
              <a:ext cx="701604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98640" y="4067280"/>
              <a:ext cx="701604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13400" y="3273480"/>
              <a:ext cx="5201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99360" y="3281400"/>
              <a:ext cx="712080" cy="20113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32360" y="3281400"/>
              <a:ext cx="712080" cy="20113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65360" y="4094280"/>
              <a:ext cx="784080" cy="1198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24560" y="3632040"/>
              <a:ext cx="714960" cy="166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32360" y="2487600"/>
              <a:ext cx="712080" cy="777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65360" y="3281400"/>
              <a:ext cx="784080" cy="81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24560" y="2487600"/>
              <a:ext cx="714960" cy="1131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48240" y="312264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Nivel Competitiv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30520" y="4338720"/>
              <a:ext cx="204480" cy="249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30520" y="4954680"/>
              <a:ext cx="204480" cy="25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57680" y="426888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Salario 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45800" y="4881600"/>
              <a:ext cx="90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Incentiv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62720" y="5425920"/>
              <a:ext cx="591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74960" y="5425920"/>
              <a:ext cx="12351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Sol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Recompen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30520" y="5425920"/>
              <a:ext cx="739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Sol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Riesg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99640" y="55627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Balance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Objetivos Generales de los Sistema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1523520"/>
            <a:ext cx="909648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linear la remuneración con los objetivos estratégicos de la organiz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lacionar la compensación con los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Introducir el concepto de oportunidad y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conocer los logros pers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Mejorar el desempe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Tipos de Plan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1523880"/>
            <a:ext cx="9096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Incentiv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Bonus o Bonifica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64"/>
              </a:spcBef>
              <a:buClr>
                <a:srgbClr val="9900cc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Gratifica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Tipos de Plan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1680" y="1599840"/>
            <a:ext cx="478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Incentiv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371600"/>
            <a:ext cx="1703520" cy="1233360"/>
            <a:chOff x="914400" y="1371600"/>
            <a:chExt cx="1703520" cy="1233360"/>
          </a:xfrm>
        </p:grpSpPr>
        <p:sp>
          <p:nvSpPr>
            <p:cNvPr id="126" name=""/>
            <p:cNvSpPr/>
            <p:nvPr/>
          </p:nvSpPr>
          <p:spPr>
            <a:xfrm>
              <a:off x="914400" y="1371600"/>
              <a:ext cx="1703520" cy="1233360"/>
            </a:xfrm>
            <a:custGeom>
              <a:avLst/>
              <a:gdLst/>
              <a:ahLst/>
              <a:rect l="l" t="t" r="r" b="b"/>
              <a:pathLst>
                <a:path w="3416" h="2688">
                  <a:moveTo>
                    <a:pt x="436" y="2107"/>
                  </a:moveTo>
                  <a:lnTo>
                    <a:pt x="431" y="2107"/>
                  </a:lnTo>
                  <a:lnTo>
                    <a:pt x="419" y="2107"/>
                  </a:lnTo>
                  <a:lnTo>
                    <a:pt x="400" y="2107"/>
                  </a:lnTo>
                  <a:lnTo>
                    <a:pt x="377" y="2107"/>
                  </a:lnTo>
                  <a:lnTo>
                    <a:pt x="353" y="2107"/>
                  </a:lnTo>
                  <a:lnTo>
                    <a:pt x="329" y="2107"/>
                  </a:lnTo>
                  <a:lnTo>
                    <a:pt x="306" y="2107"/>
                  </a:lnTo>
                  <a:lnTo>
                    <a:pt x="287" y="2107"/>
                  </a:lnTo>
                  <a:lnTo>
                    <a:pt x="278" y="2107"/>
                  </a:lnTo>
                  <a:lnTo>
                    <a:pt x="269" y="2108"/>
                  </a:lnTo>
                  <a:lnTo>
                    <a:pt x="257" y="2111"/>
                  </a:lnTo>
                  <a:lnTo>
                    <a:pt x="246" y="2113"/>
                  </a:lnTo>
                  <a:lnTo>
                    <a:pt x="233" y="2117"/>
                  </a:lnTo>
                  <a:lnTo>
                    <a:pt x="220" y="2121"/>
                  </a:lnTo>
                  <a:lnTo>
                    <a:pt x="207" y="2127"/>
                  </a:lnTo>
                  <a:lnTo>
                    <a:pt x="193" y="2133"/>
                  </a:lnTo>
                  <a:lnTo>
                    <a:pt x="179" y="2141"/>
                  </a:lnTo>
                  <a:lnTo>
                    <a:pt x="165" y="2150"/>
                  </a:lnTo>
                  <a:lnTo>
                    <a:pt x="151" y="2160"/>
                  </a:lnTo>
                  <a:lnTo>
                    <a:pt x="138" y="2172"/>
                  </a:lnTo>
                  <a:lnTo>
                    <a:pt x="125" y="2185"/>
                  </a:lnTo>
                  <a:lnTo>
                    <a:pt x="112" y="2199"/>
                  </a:lnTo>
                  <a:lnTo>
                    <a:pt x="101" y="2216"/>
                  </a:lnTo>
                  <a:lnTo>
                    <a:pt x="90" y="2233"/>
                  </a:lnTo>
                  <a:lnTo>
                    <a:pt x="65" y="2282"/>
                  </a:lnTo>
                  <a:lnTo>
                    <a:pt x="43" y="2333"/>
                  </a:lnTo>
                  <a:lnTo>
                    <a:pt x="25" y="2383"/>
                  </a:lnTo>
                  <a:lnTo>
                    <a:pt x="12" y="2430"/>
                  </a:lnTo>
                  <a:lnTo>
                    <a:pt x="4" y="2476"/>
                  </a:lnTo>
                  <a:lnTo>
                    <a:pt x="0" y="2519"/>
                  </a:lnTo>
                  <a:lnTo>
                    <a:pt x="2" y="2557"/>
                  </a:lnTo>
                  <a:lnTo>
                    <a:pt x="10" y="2591"/>
                  </a:lnTo>
                  <a:lnTo>
                    <a:pt x="15" y="2605"/>
                  </a:lnTo>
                  <a:lnTo>
                    <a:pt x="23" y="2620"/>
                  </a:lnTo>
                  <a:lnTo>
                    <a:pt x="35" y="2636"/>
                  </a:lnTo>
                  <a:lnTo>
                    <a:pt x="50" y="2651"/>
                  </a:lnTo>
                  <a:lnTo>
                    <a:pt x="67" y="2666"/>
                  </a:lnTo>
                  <a:lnTo>
                    <a:pt x="88" y="2678"/>
                  </a:lnTo>
                  <a:lnTo>
                    <a:pt x="112" y="2686"/>
                  </a:lnTo>
                  <a:lnTo>
                    <a:pt x="140" y="2688"/>
                  </a:lnTo>
                  <a:lnTo>
                    <a:pt x="155" y="2688"/>
                  </a:lnTo>
                  <a:lnTo>
                    <a:pt x="182" y="2688"/>
                  </a:lnTo>
                  <a:lnTo>
                    <a:pt x="222" y="2687"/>
                  </a:lnTo>
                  <a:lnTo>
                    <a:pt x="271" y="2686"/>
                  </a:lnTo>
                  <a:lnTo>
                    <a:pt x="331" y="2685"/>
                  </a:lnTo>
                  <a:lnTo>
                    <a:pt x="399" y="2683"/>
                  </a:lnTo>
                  <a:lnTo>
                    <a:pt x="476" y="2682"/>
                  </a:lnTo>
                  <a:lnTo>
                    <a:pt x="560" y="2680"/>
                  </a:lnTo>
                  <a:lnTo>
                    <a:pt x="651" y="2679"/>
                  </a:lnTo>
                  <a:lnTo>
                    <a:pt x="747" y="2676"/>
                  </a:lnTo>
                  <a:lnTo>
                    <a:pt x="848" y="2675"/>
                  </a:lnTo>
                  <a:lnTo>
                    <a:pt x="953" y="2673"/>
                  </a:lnTo>
                  <a:lnTo>
                    <a:pt x="1061" y="2671"/>
                  </a:lnTo>
                  <a:lnTo>
                    <a:pt x="1172" y="2668"/>
                  </a:lnTo>
                  <a:lnTo>
                    <a:pt x="1284" y="2666"/>
                  </a:lnTo>
                  <a:lnTo>
                    <a:pt x="1397" y="2664"/>
                  </a:lnTo>
                  <a:lnTo>
                    <a:pt x="1509" y="2662"/>
                  </a:lnTo>
                  <a:lnTo>
                    <a:pt x="1620" y="2659"/>
                  </a:lnTo>
                  <a:lnTo>
                    <a:pt x="1729" y="2657"/>
                  </a:lnTo>
                  <a:lnTo>
                    <a:pt x="1835" y="2655"/>
                  </a:lnTo>
                  <a:lnTo>
                    <a:pt x="1938" y="2652"/>
                  </a:lnTo>
                  <a:lnTo>
                    <a:pt x="2037" y="2651"/>
                  </a:lnTo>
                  <a:lnTo>
                    <a:pt x="2129" y="2649"/>
                  </a:lnTo>
                  <a:lnTo>
                    <a:pt x="2216" y="2648"/>
                  </a:lnTo>
                  <a:lnTo>
                    <a:pt x="2296" y="2645"/>
                  </a:lnTo>
                  <a:lnTo>
                    <a:pt x="2368" y="2644"/>
                  </a:lnTo>
                  <a:lnTo>
                    <a:pt x="2431" y="2643"/>
                  </a:lnTo>
                  <a:lnTo>
                    <a:pt x="2484" y="2642"/>
                  </a:lnTo>
                  <a:lnTo>
                    <a:pt x="2527" y="2641"/>
                  </a:lnTo>
                  <a:lnTo>
                    <a:pt x="2559" y="2640"/>
                  </a:lnTo>
                  <a:lnTo>
                    <a:pt x="2578" y="2640"/>
                  </a:lnTo>
                  <a:lnTo>
                    <a:pt x="2585" y="2640"/>
                  </a:lnTo>
                  <a:lnTo>
                    <a:pt x="2667" y="2620"/>
                  </a:lnTo>
                  <a:lnTo>
                    <a:pt x="2737" y="2565"/>
                  </a:lnTo>
                  <a:lnTo>
                    <a:pt x="2797" y="2478"/>
                  </a:lnTo>
                  <a:lnTo>
                    <a:pt x="2847" y="2365"/>
                  </a:lnTo>
                  <a:lnTo>
                    <a:pt x="2888" y="2229"/>
                  </a:lnTo>
                  <a:lnTo>
                    <a:pt x="2923" y="2076"/>
                  </a:lnTo>
                  <a:lnTo>
                    <a:pt x="2949" y="1909"/>
                  </a:lnTo>
                  <a:lnTo>
                    <a:pt x="2970" y="1734"/>
                  </a:lnTo>
                  <a:lnTo>
                    <a:pt x="2984" y="1555"/>
                  </a:lnTo>
                  <a:lnTo>
                    <a:pt x="2994" y="1377"/>
                  </a:lnTo>
                  <a:lnTo>
                    <a:pt x="3001" y="1203"/>
                  </a:lnTo>
                  <a:lnTo>
                    <a:pt x="3005" y="1039"/>
                  </a:lnTo>
                  <a:lnTo>
                    <a:pt x="3006" y="889"/>
                  </a:lnTo>
                  <a:lnTo>
                    <a:pt x="3006" y="758"/>
                  </a:lnTo>
                  <a:lnTo>
                    <a:pt x="3005" y="650"/>
                  </a:lnTo>
                  <a:lnTo>
                    <a:pt x="3005" y="569"/>
                  </a:lnTo>
                  <a:lnTo>
                    <a:pt x="3009" y="569"/>
                  </a:lnTo>
                  <a:lnTo>
                    <a:pt x="3022" y="569"/>
                  </a:lnTo>
                  <a:lnTo>
                    <a:pt x="3040" y="569"/>
                  </a:lnTo>
                  <a:lnTo>
                    <a:pt x="3063" y="569"/>
                  </a:lnTo>
                  <a:lnTo>
                    <a:pt x="3086" y="569"/>
                  </a:lnTo>
                  <a:lnTo>
                    <a:pt x="3111" y="569"/>
                  </a:lnTo>
                  <a:lnTo>
                    <a:pt x="3130" y="569"/>
                  </a:lnTo>
                  <a:lnTo>
                    <a:pt x="3146" y="569"/>
                  </a:lnTo>
                  <a:lnTo>
                    <a:pt x="3160" y="569"/>
                  </a:lnTo>
                  <a:lnTo>
                    <a:pt x="3179" y="568"/>
                  </a:lnTo>
                  <a:lnTo>
                    <a:pt x="3199" y="566"/>
                  </a:lnTo>
                  <a:lnTo>
                    <a:pt x="3222" y="560"/>
                  </a:lnTo>
                  <a:lnTo>
                    <a:pt x="3247" y="551"/>
                  </a:lnTo>
                  <a:lnTo>
                    <a:pt x="3273" y="536"/>
                  </a:lnTo>
                  <a:lnTo>
                    <a:pt x="3300" y="515"/>
                  </a:lnTo>
                  <a:lnTo>
                    <a:pt x="3326" y="486"/>
                  </a:lnTo>
                  <a:lnTo>
                    <a:pt x="3354" y="448"/>
                  </a:lnTo>
                  <a:lnTo>
                    <a:pt x="3376" y="408"/>
                  </a:lnTo>
                  <a:lnTo>
                    <a:pt x="3392" y="369"/>
                  </a:lnTo>
                  <a:lnTo>
                    <a:pt x="3404" y="327"/>
                  </a:lnTo>
                  <a:lnTo>
                    <a:pt x="3411" y="285"/>
                  </a:lnTo>
                  <a:lnTo>
                    <a:pt x="3416" y="242"/>
                  </a:lnTo>
                  <a:lnTo>
                    <a:pt x="3416" y="198"/>
                  </a:lnTo>
                  <a:lnTo>
                    <a:pt x="3414" y="153"/>
                  </a:lnTo>
                  <a:lnTo>
                    <a:pt x="3411" y="134"/>
                  </a:lnTo>
                  <a:lnTo>
                    <a:pt x="3407" y="115"/>
                  </a:lnTo>
                  <a:lnTo>
                    <a:pt x="3402" y="98"/>
                  </a:lnTo>
                  <a:lnTo>
                    <a:pt x="3395" y="83"/>
                  </a:lnTo>
                  <a:lnTo>
                    <a:pt x="3387" y="69"/>
                  </a:lnTo>
                  <a:lnTo>
                    <a:pt x="3377" y="56"/>
                  </a:lnTo>
                  <a:lnTo>
                    <a:pt x="3364" y="45"/>
                  </a:lnTo>
                  <a:lnTo>
                    <a:pt x="3350" y="36"/>
                  </a:lnTo>
                  <a:lnTo>
                    <a:pt x="3334" y="26"/>
                  </a:lnTo>
                  <a:lnTo>
                    <a:pt x="3316" y="20"/>
                  </a:lnTo>
                  <a:lnTo>
                    <a:pt x="3296" y="14"/>
                  </a:lnTo>
                  <a:lnTo>
                    <a:pt x="3273" y="8"/>
                  </a:lnTo>
                  <a:lnTo>
                    <a:pt x="3248" y="5"/>
                  </a:lnTo>
                  <a:lnTo>
                    <a:pt x="3220" y="2"/>
                  </a:lnTo>
                  <a:lnTo>
                    <a:pt x="3190" y="0"/>
                  </a:lnTo>
                  <a:lnTo>
                    <a:pt x="3157" y="0"/>
                  </a:lnTo>
                  <a:lnTo>
                    <a:pt x="3145" y="0"/>
                  </a:lnTo>
                  <a:lnTo>
                    <a:pt x="3122" y="1"/>
                  </a:lnTo>
                  <a:lnTo>
                    <a:pt x="3089" y="2"/>
                  </a:lnTo>
                  <a:lnTo>
                    <a:pt x="3045" y="3"/>
                  </a:lnTo>
                  <a:lnTo>
                    <a:pt x="2993" y="6"/>
                  </a:lnTo>
                  <a:lnTo>
                    <a:pt x="2932" y="8"/>
                  </a:lnTo>
                  <a:lnTo>
                    <a:pt x="2864" y="10"/>
                  </a:lnTo>
                  <a:lnTo>
                    <a:pt x="2789" y="14"/>
                  </a:lnTo>
                  <a:lnTo>
                    <a:pt x="2709" y="17"/>
                  </a:lnTo>
                  <a:lnTo>
                    <a:pt x="2623" y="21"/>
                  </a:lnTo>
                  <a:lnTo>
                    <a:pt x="2532" y="24"/>
                  </a:lnTo>
                  <a:lnTo>
                    <a:pt x="2438" y="28"/>
                  </a:lnTo>
                  <a:lnTo>
                    <a:pt x="2341" y="32"/>
                  </a:lnTo>
                  <a:lnTo>
                    <a:pt x="2242" y="36"/>
                  </a:lnTo>
                  <a:lnTo>
                    <a:pt x="2141" y="40"/>
                  </a:lnTo>
                  <a:lnTo>
                    <a:pt x="2039" y="44"/>
                  </a:lnTo>
                  <a:lnTo>
                    <a:pt x="1937" y="48"/>
                  </a:lnTo>
                  <a:lnTo>
                    <a:pt x="1835" y="53"/>
                  </a:lnTo>
                  <a:lnTo>
                    <a:pt x="1736" y="56"/>
                  </a:lnTo>
                  <a:lnTo>
                    <a:pt x="1638" y="61"/>
                  </a:lnTo>
                  <a:lnTo>
                    <a:pt x="1544" y="65"/>
                  </a:lnTo>
                  <a:lnTo>
                    <a:pt x="1453" y="68"/>
                  </a:lnTo>
                  <a:lnTo>
                    <a:pt x="1365" y="71"/>
                  </a:lnTo>
                  <a:lnTo>
                    <a:pt x="1285" y="75"/>
                  </a:lnTo>
                  <a:lnTo>
                    <a:pt x="1209" y="78"/>
                  </a:lnTo>
                  <a:lnTo>
                    <a:pt x="1140" y="81"/>
                  </a:lnTo>
                  <a:lnTo>
                    <a:pt x="1079" y="83"/>
                  </a:lnTo>
                  <a:lnTo>
                    <a:pt x="1024" y="85"/>
                  </a:lnTo>
                  <a:lnTo>
                    <a:pt x="981" y="86"/>
                  </a:lnTo>
                  <a:lnTo>
                    <a:pt x="945" y="88"/>
                  </a:lnTo>
                  <a:lnTo>
                    <a:pt x="921" y="89"/>
                  </a:lnTo>
                  <a:lnTo>
                    <a:pt x="907" y="89"/>
                  </a:lnTo>
                  <a:lnTo>
                    <a:pt x="825" y="104"/>
                  </a:lnTo>
                  <a:lnTo>
                    <a:pt x="756" y="145"/>
                  </a:lnTo>
                  <a:lnTo>
                    <a:pt x="697" y="211"/>
                  </a:lnTo>
                  <a:lnTo>
                    <a:pt x="649" y="300"/>
                  </a:lnTo>
                  <a:lnTo>
                    <a:pt x="609" y="407"/>
                  </a:lnTo>
                  <a:lnTo>
                    <a:pt x="578" y="531"/>
                  </a:lnTo>
                  <a:lnTo>
                    <a:pt x="552" y="669"/>
                  </a:lnTo>
                  <a:lnTo>
                    <a:pt x="533" y="819"/>
                  </a:lnTo>
                  <a:lnTo>
                    <a:pt x="516" y="978"/>
                  </a:lnTo>
                  <a:lnTo>
                    <a:pt x="505" y="1142"/>
                  </a:lnTo>
                  <a:lnTo>
                    <a:pt x="495" y="1310"/>
                  </a:lnTo>
                  <a:lnTo>
                    <a:pt x="485" y="1478"/>
                  </a:lnTo>
                  <a:lnTo>
                    <a:pt x="476" y="1645"/>
                  </a:lnTo>
                  <a:lnTo>
                    <a:pt x="466" y="1808"/>
                  </a:lnTo>
                  <a:lnTo>
                    <a:pt x="452" y="1962"/>
                  </a:lnTo>
                  <a:lnTo>
                    <a:pt x="436" y="2107"/>
                  </a:lnTo>
                  <a:close/>
                </a:path>
              </a:pathLst>
            </a:cu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7080" y="2365560"/>
              <a:ext cx="189360" cy="209160"/>
            </a:xfrm>
            <a:custGeom>
              <a:avLst/>
              <a:gdLst/>
              <a:ahLst/>
              <a:rect l="l" t="t" r="r" b="b"/>
              <a:pathLst>
                <a:path w="380" h="455">
                  <a:moveTo>
                    <a:pt x="107" y="156"/>
                  </a:moveTo>
                  <a:lnTo>
                    <a:pt x="114" y="149"/>
                  </a:lnTo>
                  <a:lnTo>
                    <a:pt x="123" y="142"/>
                  </a:lnTo>
                  <a:lnTo>
                    <a:pt x="131" y="137"/>
                  </a:lnTo>
                  <a:lnTo>
                    <a:pt x="138" y="135"/>
                  </a:lnTo>
                  <a:lnTo>
                    <a:pt x="146" y="138"/>
                  </a:lnTo>
                  <a:lnTo>
                    <a:pt x="152" y="149"/>
                  </a:lnTo>
                  <a:lnTo>
                    <a:pt x="157" y="164"/>
                  </a:lnTo>
                  <a:lnTo>
                    <a:pt x="158" y="182"/>
                  </a:lnTo>
                  <a:lnTo>
                    <a:pt x="155" y="202"/>
                  </a:lnTo>
                  <a:lnTo>
                    <a:pt x="151" y="221"/>
                  </a:lnTo>
                  <a:lnTo>
                    <a:pt x="143" y="240"/>
                  </a:lnTo>
                  <a:lnTo>
                    <a:pt x="130" y="255"/>
                  </a:lnTo>
                  <a:lnTo>
                    <a:pt x="196" y="255"/>
                  </a:lnTo>
                  <a:lnTo>
                    <a:pt x="201" y="229"/>
                  </a:lnTo>
                  <a:lnTo>
                    <a:pt x="168" y="229"/>
                  </a:lnTo>
                  <a:lnTo>
                    <a:pt x="173" y="222"/>
                  </a:lnTo>
                  <a:lnTo>
                    <a:pt x="176" y="214"/>
                  </a:lnTo>
                  <a:lnTo>
                    <a:pt x="178" y="205"/>
                  </a:lnTo>
                  <a:lnTo>
                    <a:pt x="180" y="196"/>
                  </a:lnTo>
                  <a:lnTo>
                    <a:pt x="205" y="196"/>
                  </a:lnTo>
                  <a:lnTo>
                    <a:pt x="208" y="172"/>
                  </a:lnTo>
                  <a:lnTo>
                    <a:pt x="178" y="172"/>
                  </a:lnTo>
                  <a:lnTo>
                    <a:pt x="178" y="163"/>
                  </a:lnTo>
                  <a:lnTo>
                    <a:pt x="178" y="151"/>
                  </a:lnTo>
                  <a:lnTo>
                    <a:pt x="177" y="139"/>
                  </a:lnTo>
                  <a:lnTo>
                    <a:pt x="175" y="128"/>
                  </a:lnTo>
                  <a:lnTo>
                    <a:pt x="205" y="128"/>
                  </a:lnTo>
                  <a:lnTo>
                    <a:pt x="203" y="103"/>
                  </a:lnTo>
                  <a:lnTo>
                    <a:pt x="201" y="103"/>
                  </a:lnTo>
                  <a:lnTo>
                    <a:pt x="198" y="103"/>
                  </a:lnTo>
                  <a:lnTo>
                    <a:pt x="193" y="103"/>
                  </a:lnTo>
                  <a:lnTo>
                    <a:pt x="187" y="103"/>
                  </a:lnTo>
                  <a:lnTo>
                    <a:pt x="178" y="103"/>
                  </a:lnTo>
                  <a:lnTo>
                    <a:pt x="170" y="103"/>
                  </a:lnTo>
                  <a:lnTo>
                    <a:pt x="161" y="103"/>
                  </a:lnTo>
                  <a:lnTo>
                    <a:pt x="152" y="103"/>
                  </a:lnTo>
                  <a:lnTo>
                    <a:pt x="142" y="105"/>
                  </a:lnTo>
                  <a:lnTo>
                    <a:pt x="129" y="111"/>
                  </a:lnTo>
                  <a:lnTo>
                    <a:pt x="115" y="120"/>
                  </a:lnTo>
                  <a:lnTo>
                    <a:pt x="100" y="136"/>
                  </a:lnTo>
                  <a:lnTo>
                    <a:pt x="86" y="157"/>
                  </a:lnTo>
                  <a:lnTo>
                    <a:pt x="72" y="183"/>
                  </a:lnTo>
                  <a:lnTo>
                    <a:pt x="61" y="216"/>
                  </a:lnTo>
                  <a:lnTo>
                    <a:pt x="52" y="256"/>
                  </a:lnTo>
                  <a:lnTo>
                    <a:pt x="46" y="292"/>
                  </a:lnTo>
                  <a:lnTo>
                    <a:pt x="44" y="326"/>
                  </a:lnTo>
                  <a:lnTo>
                    <a:pt x="44" y="357"/>
                  </a:lnTo>
                  <a:lnTo>
                    <a:pt x="46" y="385"/>
                  </a:lnTo>
                  <a:lnTo>
                    <a:pt x="53" y="408"/>
                  </a:lnTo>
                  <a:lnTo>
                    <a:pt x="63" y="426"/>
                  </a:lnTo>
                  <a:lnTo>
                    <a:pt x="77" y="438"/>
                  </a:lnTo>
                  <a:lnTo>
                    <a:pt x="96" y="443"/>
                  </a:lnTo>
                  <a:lnTo>
                    <a:pt x="115" y="443"/>
                  </a:lnTo>
                  <a:lnTo>
                    <a:pt x="134" y="439"/>
                  </a:lnTo>
                  <a:lnTo>
                    <a:pt x="150" y="434"/>
                  </a:lnTo>
                  <a:lnTo>
                    <a:pt x="166" y="426"/>
                  </a:lnTo>
                  <a:lnTo>
                    <a:pt x="180" y="417"/>
                  </a:lnTo>
                  <a:lnTo>
                    <a:pt x="195" y="404"/>
                  </a:lnTo>
                  <a:lnTo>
                    <a:pt x="208" y="391"/>
                  </a:lnTo>
                  <a:lnTo>
                    <a:pt x="222" y="375"/>
                  </a:lnTo>
                  <a:lnTo>
                    <a:pt x="187" y="376"/>
                  </a:lnTo>
                  <a:lnTo>
                    <a:pt x="192" y="368"/>
                  </a:lnTo>
                  <a:lnTo>
                    <a:pt x="199" y="355"/>
                  </a:lnTo>
                  <a:lnTo>
                    <a:pt x="207" y="343"/>
                  </a:lnTo>
                  <a:lnTo>
                    <a:pt x="212" y="335"/>
                  </a:lnTo>
                  <a:lnTo>
                    <a:pt x="261" y="335"/>
                  </a:lnTo>
                  <a:lnTo>
                    <a:pt x="282" y="301"/>
                  </a:lnTo>
                  <a:lnTo>
                    <a:pt x="227" y="302"/>
                  </a:lnTo>
                  <a:lnTo>
                    <a:pt x="231" y="288"/>
                  </a:lnTo>
                  <a:lnTo>
                    <a:pt x="237" y="273"/>
                  </a:lnTo>
                  <a:lnTo>
                    <a:pt x="242" y="258"/>
                  </a:lnTo>
                  <a:lnTo>
                    <a:pt x="245" y="244"/>
                  </a:lnTo>
                  <a:lnTo>
                    <a:pt x="307" y="244"/>
                  </a:lnTo>
                  <a:lnTo>
                    <a:pt x="320" y="211"/>
                  </a:lnTo>
                  <a:lnTo>
                    <a:pt x="252" y="212"/>
                  </a:lnTo>
                  <a:lnTo>
                    <a:pt x="253" y="204"/>
                  </a:lnTo>
                  <a:lnTo>
                    <a:pt x="254" y="195"/>
                  </a:lnTo>
                  <a:lnTo>
                    <a:pt x="256" y="186"/>
                  </a:lnTo>
                  <a:lnTo>
                    <a:pt x="257" y="178"/>
                  </a:lnTo>
                  <a:lnTo>
                    <a:pt x="332" y="178"/>
                  </a:lnTo>
                  <a:lnTo>
                    <a:pt x="342" y="145"/>
                  </a:lnTo>
                  <a:lnTo>
                    <a:pt x="260" y="145"/>
                  </a:lnTo>
                  <a:lnTo>
                    <a:pt x="261" y="134"/>
                  </a:lnTo>
                  <a:lnTo>
                    <a:pt x="261" y="122"/>
                  </a:lnTo>
                  <a:lnTo>
                    <a:pt x="263" y="112"/>
                  </a:lnTo>
                  <a:lnTo>
                    <a:pt x="263" y="101"/>
                  </a:lnTo>
                  <a:lnTo>
                    <a:pt x="355" y="101"/>
                  </a:lnTo>
                  <a:lnTo>
                    <a:pt x="363" y="73"/>
                  </a:lnTo>
                  <a:lnTo>
                    <a:pt x="260" y="73"/>
                  </a:lnTo>
                  <a:lnTo>
                    <a:pt x="259" y="63"/>
                  </a:lnTo>
                  <a:lnTo>
                    <a:pt x="257" y="53"/>
                  </a:lnTo>
                  <a:lnTo>
                    <a:pt x="254" y="43"/>
                  </a:lnTo>
                  <a:lnTo>
                    <a:pt x="250" y="33"/>
                  </a:lnTo>
                  <a:lnTo>
                    <a:pt x="372" y="33"/>
                  </a:lnTo>
                  <a:lnTo>
                    <a:pt x="380" y="0"/>
                  </a:lnTo>
                  <a:lnTo>
                    <a:pt x="355" y="0"/>
                  </a:lnTo>
                  <a:lnTo>
                    <a:pt x="329" y="0"/>
                  </a:lnTo>
                  <a:lnTo>
                    <a:pt x="303" y="0"/>
                  </a:lnTo>
                  <a:lnTo>
                    <a:pt x="278" y="1"/>
                  </a:lnTo>
                  <a:lnTo>
                    <a:pt x="253" y="2"/>
                  </a:lnTo>
                  <a:lnTo>
                    <a:pt x="231" y="4"/>
                  </a:lnTo>
                  <a:lnTo>
                    <a:pt x="213" y="5"/>
                  </a:lnTo>
                  <a:lnTo>
                    <a:pt x="198" y="6"/>
                  </a:lnTo>
                  <a:lnTo>
                    <a:pt x="163" y="15"/>
                  </a:lnTo>
                  <a:lnTo>
                    <a:pt x="131" y="32"/>
                  </a:lnTo>
                  <a:lnTo>
                    <a:pt x="104" y="55"/>
                  </a:lnTo>
                  <a:lnTo>
                    <a:pt x="78" y="85"/>
                  </a:lnTo>
                  <a:lnTo>
                    <a:pt x="56" y="120"/>
                  </a:lnTo>
                  <a:lnTo>
                    <a:pt x="38" y="158"/>
                  </a:lnTo>
                  <a:lnTo>
                    <a:pt x="23" y="197"/>
                  </a:lnTo>
                  <a:lnTo>
                    <a:pt x="11" y="237"/>
                  </a:lnTo>
                  <a:lnTo>
                    <a:pt x="3" y="278"/>
                  </a:lnTo>
                  <a:lnTo>
                    <a:pt x="0" y="317"/>
                  </a:lnTo>
                  <a:lnTo>
                    <a:pt x="0" y="354"/>
                  </a:lnTo>
                  <a:lnTo>
                    <a:pt x="3" y="386"/>
                  </a:lnTo>
                  <a:lnTo>
                    <a:pt x="11" y="414"/>
                  </a:lnTo>
                  <a:lnTo>
                    <a:pt x="23" y="436"/>
                  </a:lnTo>
                  <a:lnTo>
                    <a:pt x="39" y="449"/>
                  </a:lnTo>
                  <a:lnTo>
                    <a:pt x="60" y="455"/>
                  </a:lnTo>
                  <a:lnTo>
                    <a:pt x="41" y="432"/>
                  </a:lnTo>
                  <a:lnTo>
                    <a:pt x="29" y="406"/>
                  </a:lnTo>
                  <a:lnTo>
                    <a:pt x="21" y="375"/>
                  </a:lnTo>
                  <a:lnTo>
                    <a:pt x="17" y="342"/>
                  </a:lnTo>
                  <a:lnTo>
                    <a:pt x="18" y="308"/>
                  </a:lnTo>
                  <a:lnTo>
                    <a:pt x="23" y="272"/>
                  </a:lnTo>
                  <a:lnTo>
                    <a:pt x="31" y="236"/>
                  </a:lnTo>
                  <a:lnTo>
                    <a:pt x="41" y="202"/>
                  </a:lnTo>
                  <a:lnTo>
                    <a:pt x="55" y="168"/>
                  </a:lnTo>
                  <a:lnTo>
                    <a:pt x="70" y="136"/>
                  </a:lnTo>
                  <a:lnTo>
                    <a:pt x="87" y="107"/>
                  </a:lnTo>
                  <a:lnTo>
                    <a:pt x="106" y="83"/>
                  </a:lnTo>
                  <a:lnTo>
                    <a:pt x="125" y="62"/>
                  </a:lnTo>
                  <a:lnTo>
                    <a:pt x="145" y="47"/>
                  </a:lnTo>
                  <a:lnTo>
                    <a:pt x="166" y="38"/>
                  </a:lnTo>
                  <a:lnTo>
                    <a:pt x="185" y="36"/>
                  </a:lnTo>
                  <a:lnTo>
                    <a:pt x="212" y="54"/>
                  </a:lnTo>
                  <a:lnTo>
                    <a:pt x="227" y="98"/>
                  </a:lnTo>
                  <a:lnTo>
                    <a:pt x="229" y="160"/>
                  </a:lnTo>
                  <a:lnTo>
                    <a:pt x="222" y="231"/>
                  </a:lnTo>
                  <a:lnTo>
                    <a:pt x="204" y="301"/>
                  </a:lnTo>
                  <a:lnTo>
                    <a:pt x="177" y="362"/>
                  </a:lnTo>
                  <a:lnTo>
                    <a:pt x="142" y="406"/>
                  </a:lnTo>
                  <a:lnTo>
                    <a:pt x="99" y="422"/>
                  </a:lnTo>
                  <a:lnTo>
                    <a:pt x="87" y="418"/>
                  </a:lnTo>
                  <a:lnTo>
                    <a:pt x="79" y="410"/>
                  </a:lnTo>
                  <a:lnTo>
                    <a:pt x="72" y="398"/>
                  </a:lnTo>
                  <a:lnTo>
                    <a:pt x="68" y="381"/>
                  </a:lnTo>
                  <a:lnTo>
                    <a:pt x="138" y="381"/>
                  </a:lnTo>
                  <a:lnTo>
                    <a:pt x="151" y="363"/>
                  </a:lnTo>
                  <a:lnTo>
                    <a:pt x="64" y="354"/>
                  </a:lnTo>
                  <a:lnTo>
                    <a:pt x="63" y="345"/>
                  </a:lnTo>
                  <a:lnTo>
                    <a:pt x="63" y="334"/>
                  </a:lnTo>
                  <a:lnTo>
                    <a:pt x="63" y="324"/>
                  </a:lnTo>
                  <a:lnTo>
                    <a:pt x="64" y="312"/>
                  </a:lnTo>
                  <a:lnTo>
                    <a:pt x="177" y="312"/>
                  </a:lnTo>
                  <a:lnTo>
                    <a:pt x="175" y="290"/>
                  </a:lnTo>
                  <a:lnTo>
                    <a:pt x="68" y="285"/>
                  </a:lnTo>
                  <a:lnTo>
                    <a:pt x="70" y="273"/>
                  </a:lnTo>
                  <a:lnTo>
                    <a:pt x="72" y="263"/>
                  </a:lnTo>
                  <a:lnTo>
                    <a:pt x="75" y="254"/>
                  </a:lnTo>
                  <a:lnTo>
                    <a:pt x="77" y="242"/>
                  </a:lnTo>
                  <a:lnTo>
                    <a:pt x="129" y="236"/>
                  </a:lnTo>
                  <a:lnTo>
                    <a:pt x="139" y="216"/>
                  </a:lnTo>
                  <a:lnTo>
                    <a:pt x="86" y="209"/>
                  </a:lnTo>
                  <a:lnTo>
                    <a:pt x="90" y="197"/>
                  </a:lnTo>
                  <a:lnTo>
                    <a:pt x="93" y="188"/>
                  </a:lnTo>
                  <a:lnTo>
                    <a:pt x="97" y="179"/>
                  </a:lnTo>
                  <a:lnTo>
                    <a:pt x="100" y="169"/>
                  </a:lnTo>
                  <a:lnTo>
                    <a:pt x="144" y="168"/>
                  </a:lnTo>
                  <a:lnTo>
                    <a:pt x="130" y="156"/>
                  </a:lnTo>
                  <a:lnTo>
                    <a:pt x="107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74520" y="1391040"/>
              <a:ext cx="1485000" cy="1189440"/>
            </a:xfrm>
            <a:custGeom>
              <a:avLst/>
              <a:gdLst/>
              <a:ahLst/>
              <a:rect l="l" t="t" r="r" b="b"/>
              <a:pathLst>
                <a:path w="2976" h="2590">
                  <a:moveTo>
                    <a:pt x="2507" y="2361"/>
                  </a:moveTo>
                  <a:lnTo>
                    <a:pt x="2564" y="2173"/>
                  </a:lnTo>
                  <a:lnTo>
                    <a:pt x="2606" y="1984"/>
                  </a:lnTo>
                  <a:lnTo>
                    <a:pt x="2638" y="1796"/>
                  </a:lnTo>
                  <a:lnTo>
                    <a:pt x="2658" y="1611"/>
                  </a:lnTo>
                  <a:lnTo>
                    <a:pt x="2672" y="1427"/>
                  </a:lnTo>
                  <a:lnTo>
                    <a:pt x="2681" y="1250"/>
                  </a:lnTo>
                  <a:lnTo>
                    <a:pt x="2687" y="1077"/>
                  </a:lnTo>
                  <a:lnTo>
                    <a:pt x="2692" y="912"/>
                  </a:lnTo>
                  <a:lnTo>
                    <a:pt x="2699" y="756"/>
                  </a:lnTo>
                  <a:lnTo>
                    <a:pt x="2709" y="608"/>
                  </a:lnTo>
                  <a:lnTo>
                    <a:pt x="2725" y="472"/>
                  </a:lnTo>
                  <a:lnTo>
                    <a:pt x="2749" y="348"/>
                  </a:lnTo>
                  <a:lnTo>
                    <a:pt x="2785" y="237"/>
                  </a:lnTo>
                  <a:lnTo>
                    <a:pt x="2833" y="143"/>
                  </a:lnTo>
                  <a:lnTo>
                    <a:pt x="2896" y="63"/>
                  </a:lnTo>
                  <a:lnTo>
                    <a:pt x="2976" y="1"/>
                  </a:lnTo>
                  <a:lnTo>
                    <a:pt x="2958" y="0"/>
                  </a:lnTo>
                  <a:lnTo>
                    <a:pt x="2939" y="0"/>
                  </a:lnTo>
                  <a:lnTo>
                    <a:pt x="2921" y="0"/>
                  </a:lnTo>
                  <a:lnTo>
                    <a:pt x="2904" y="0"/>
                  </a:lnTo>
                  <a:lnTo>
                    <a:pt x="2886" y="1"/>
                  </a:lnTo>
                  <a:lnTo>
                    <a:pt x="2870" y="2"/>
                  </a:lnTo>
                  <a:lnTo>
                    <a:pt x="2854" y="3"/>
                  </a:lnTo>
                  <a:lnTo>
                    <a:pt x="2839" y="5"/>
                  </a:lnTo>
                  <a:lnTo>
                    <a:pt x="2824" y="7"/>
                  </a:lnTo>
                  <a:lnTo>
                    <a:pt x="2810" y="9"/>
                  </a:lnTo>
                  <a:lnTo>
                    <a:pt x="2797" y="11"/>
                  </a:lnTo>
                  <a:lnTo>
                    <a:pt x="2785" y="15"/>
                  </a:lnTo>
                  <a:lnTo>
                    <a:pt x="2774" y="18"/>
                  </a:lnTo>
                  <a:lnTo>
                    <a:pt x="2763" y="22"/>
                  </a:lnTo>
                  <a:lnTo>
                    <a:pt x="2754" y="26"/>
                  </a:lnTo>
                  <a:lnTo>
                    <a:pt x="2746" y="31"/>
                  </a:lnTo>
                  <a:lnTo>
                    <a:pt x="2736" y="26"/>
                  </a:lnTo>
                  <a:lnTo>
                    <a:pt x="2731" y="18"/>
                  </a:lnTo>
                  <a:lnTo>
                    <a:pt x="2730" y="8"/>
                  </a:lnTo>
                  <a:lnTo>
                    <a:pt x="2732" y="1"/>
                  </a:lnTo>
                  <a:lnTo>
                    <a:pt x="2724" y="2"/>
                  </a:lnTo>
                  <a:lnTo>
                    <a:pt x="2715" y="7"/>
                  </a:lnTo>
                  <a:lnTo>
                    <a:pt x="2707" y="11"/>
                  </a:lnTo>
                  <a:lnTo>
                    <a:pt x="2697" y="17"/>
                  </a:lnTo>
                  <a:lnTo>
                    <a:pt x="2689" y="24"/>
                  </a:lnTo>
                  <a:lnTo>
                    <a:pt x="2683" y="29"/>
                  </a:lnTo>
                  <a:lnTo>
                    <a:pt x="2676" y="33"/>
                  </a:lnTo>
                  <a:lnTo>
                    <a:pt x="2671" y="34"/>
                  </a:lnTo>
                  <a:lnTo>
                    <a:pt x="2661" y="31"/>
                  </a:lnTo>
                  <a:lnTo>
                    <a:pt x="2655" y="22"/>
                  </a:lnTo>
                  <a:lnTo>
                    <a:pt x="2653" y="10"/>
                  </a:lnTo>
                  <a:lnTo>
                    <a:pt x="2653" y="1"/>
                  </a:lnTo>
                  <a:lnTo>
                    <a:pt x="2645" y="2"/>
                  </a:lnTo>
                  <a:lnTo>
                    <a:pt x="2635" y="5"/>
                  </a:lnTo>
                  <a:lnTo>
                    <a:pt x="2626" y="9"/>
                  </a:lnTo>
                  <a:lnTo>
                    <a:pt x="2617" y="15"/>
                  </a:lnTo>
                  <a:lnTo>
                    <a:pt x="2609" y="21"/>
                  </a:lnTo>
                  <a:lnTo>
                    <a:pt x="2600" y="26"/>
                  </a:lnTo>
                  <a:lnTo>
                    <a:pt x="2592" y="31"/>
                  </a:lnTo>
                  <a:lnTo>
                    <a:pt x="2585" y="36"/>
                  </a:lnTo>
                  <a:lnTo>
                    <a:pt x="2574" y="31"/>
                  </a:lnTo>
                  <a:lnTo>
                    <a:pt x="2568" y="22"/>
                  </a:lnTo>
                  <a:lnTo>
                    <a:pt x="2564" y="11"/>
                  </a:lnTo>
                  <a:lnTo>
                    <a:pt x="2558" y="3"/>
                  </a:lnTo>
                  <a:lnTo>
                    <a:pt x="2552" y="5"/>
                  </a:lnTo>
                  <a:lnTo>
                    <a:pt x="2544" y="9"/>
                  </a:lnTo>
                  <a:lnTo>
                    <a:pt x="2534" y="14"/>
                  </a:lnTo>
                  <a:lnTo>
                    <a:pt x="2524" y="21"/>
                  </a:lnTo>
                  <a:lnTo>
                    <a:pt x="2513" y="28"/>
                  </a:lnTo>
                  <a:lnTo>
                    <a:pt x="2504" y="32"/>
                  </a:lnTo>
                  <a:lnTo>
                    <a:pt x="2496" y="37"/>
                  </a:lnTo>
                  <a:lnTo>
                    <a:pt x="2489" y="38"/>
                  </a:lnTo>
                  <a:lnTo>
                    <a:pt x="2481" y="34"/>
                  </a:lnTo>
                  <a:lnTo>
                    <a:pt x="2479" y="24"/>
                  </a:lnTo>
                  <a:lnTo>
                    <a:pt x="2479" y="13"/>
                  </a:lnTo>
                  <a:lnTo>
                    <a:pt x="2482" y="3"/>
                  </a:lnTo>
                  <a:lnTo>
                    <a:pt x="2474" y="3"/>
                  </a:lnTo>
                  <a:lnTo>
                    <a:pt x="2464" y="8"/>
                  </a:lnTo>
                  <a:lnTo>
                    <a:pt x="2453" y="15"/>
                  </a:lnTo>
                  <a:lnTo>
                    <a:pt x="2443" y="23"/>
                  </a:lnTo>
                  <a:lnTo>
                    <a:pt x="2433" y="31"/>
                  </a:lnTo>
                  <a:lnTo>
                    <a:pt x="2423" y="39"/>
                  </a:lnTo>
                  <a:lnTo>
                    <a:pt x="2414" y="44"/>
                  </a:lnTo>
                  <a:lnTo>
                    <a:pt x="2408" y="46"/>
                  </a:lnTo>
                  <a:lnTo>
                    <a:pt x="2400" y="41"/>
                  </a:lnTo>
                  <a:lnTo>
                    <a:pt x="2397" y="30"/>
                  </a:lnTo>
                  <a:lnTo>
                    <a:pt x="2396" y="15"/>
                  </a:lnTo>
                  <a:lnTo>
                    <a:pt x="2398" y="1"/>
                  </a:lnTo>
                  <a:lnTo>
                    <a:pt x="2388" y="3"/>
                  </a:lnTo>
                  <a:lnTo>
                    <a:pt x="2376" y="10"/>
                  </a:lnTo>
                  <a:lnTo>
                    <a:pt x="2365" y="20"/>
                  </a:lnTo>
                  <a:lnTo>
                    <a:pt x="2353" y="30"/>
                  </a:lnTo>
                  <a:lnTo>
                    <a:pt x="2343" y="41"/>
                  </a:lnTo>
                  <a:lnTo>
                    <a:pt x="2332" y="51"/>
                  </a:lnTo>
                  <a:lnTo>
                    <a:pt x="2324" y="58"/>
                  </a:lnTo>
                  <a:lnTo>
                    <a:pt x="2319" y="60"/>
                  </a:lnTo>
                  <a:lnTo>
                    <a:pt x="2313" y="53"/>
                  </a:lnTo>
                  <a:lnTo>
                    <a:pt x="2312" y="38"/>
                  </a:lnTo>
                  <a:lnTo>
                    <a:pt x="2315" y="20"/>
                  </a:lnTo>
                  <a:lnTo>
                    <a:pt x="2322" y="6"/>
                  </a:lnTo>
                  <a:lnTo>
                    <a:pt x="2309" y="8"/>
                  </a:lnTo>
                  <a:lnTo>
                    <a:pt x="2297" y="15"/>
                  </a:lnTo>
                  <a:lnTo>
                    <a:pt x="2284" y="25"/>
                  </a:lnTo>
                  <a:lnTo>
                    <a:pt x="2271" y="37"/>
                  </a:lnTo>
                  <a:lnTo>
                    <a:pt x="2260" y="48"/>
                  </a:lnTo>
                  <a:lnTo>
                    <a:pt x="2251" y="59"/>
                  </a:lnTo>
                  <a:lnTo>
                    <a:pt x="2241" y="66"/>
                  </a:lnTo>
                  <a:lnTo>
                    <a:pt x="2233" y="68"/>
                  </a:lnTo>
                  <a:lnTo>
                    <a:pt x="2224" y="61"/>
                  </a:lnTo>
                  <a:lnTo>
                    <a:pt x="2223" y="46"/>
                  </a:lnTo>
                  <a:lnTo>
                    <a:pt x="2229" y="28"/>
                  </a:lnTo>
                  <a:lnTo>
                    <a:pt x="2238" y="11"/>
                  </a:lnTo>
                  <a:lnTo>
                    <a:pt x="2229" y="16"/>
                  </a:lnTo>
                  <a:lnTo>
                    <a:pt x="2216" y="24"/>
                  </a:lnTo>
                  <a:lnTo>
                    <a:pt x="2203" y="34"/>
                  </a:lnTo>
                  <a:lnTo>
                    <a:pt x="2190" y="46"/>
                  </a:lnTo>
                  <a:lnTo>
                    <a:pt x="2177" y="58"/>
                  </a:lnTo>
                  <a:lnTo>
                    <a:pt x="2166" y="68"/>
                  </a:lnTo>
                  <a:lnTo>
                    <a:pt x="2158" y="75"/>
                  </a:lnTo>
                  <a:lnTo>
                    <a:pt x="2156" y="77"/>
                  </a:lnTo>
                  <a:lnTo>
                    <a:pt x="2148" y="71"/>
                  </a:lnTo>
                  <a:lnTo>
                    <a:pt x="2147" y="59"/>
                  </a:lnTo>
                  <a:lnTo>
                    <a:pt x="2153" y="43"/>
                  </a:lnTo>
                  <a:lnTo>
                    <a:pt x="2163" y="29"/>
                  </a:lnTo>
                  <a:lnTo>
                    <a:pt x="2151" y="31"/>
                  </a:lnTo>
                  <a:lnTo>
                    <a:pt x="2139" y="37"/>
                  </a:lnTo>
                  <a:lnTo>
                    <a:pt x="2126" y="45"/>
                  </a:lnTo>
                  <a:lnTo>
                    <a:pt x="2113" y="54"/>
                  </a:lnTo>
                  <a:lnTo>
                    <a:pt x="2101" y="63"/>
                  </a:lnTo>
                  <a:lnTo>
                    <a:pt x="2090" y="71"/>
                  </a:lnTo>
                  <a:lnTo>
                    <a:pt x="2082" y="77"/>
                  </a:lnTo>
                  <a:lnTo>
                    <a:pt x="2077" y="79"/>
                  </a:lnTo>
                  <a:lnTo>
                    <a:pt x="2072" y="74"/>
                  </a:lnTo>
                  <a:lnTo>
                    <a:pt x="2072" y="61"/>
                  </a:lnTo>
                  <a:lnTo>
                    <a:pt x="2074" y="45"/>
                  </a:lnTo>
                  <a:lnTo>
                    <a:pt x="2080" y="29"/>
                  </a:lnTo>
                  <a:lnTo>
                    <a:pt x="2072" y="32"/>
                  </a:lnTo>
                  <a:lnTo>
                    <a:pt x="2062" y="39"/>
                  </a:lnTo>
                  <a:lnTo>
                    <a:pt x="2050" y="48"/>
                  </a:lnTo>
                  <a:lnTo>
                    <a:pt x="2037" y="58"/>
                  </a:lnTo>
                  <a:lnTo>
                    <a:pt x="2027" y="68"/>
                  </a:lnTo>
                  <a:lnTo>
                    <a:pt x="2017" y="76"/>
                  </a:lnTo>
                  <a:lnTo>
                    <a:pt x="2010" y="83"/>
                  </a:lnTo>
                  <a:lnTo>
                    <a:pt x="2005" y="85"/>
                  </a:lnTo>
                  <a:lnTo>
                    <a:pt x="2005" y="77"/>
                  </a:lnTo>
                  <a:lnTo>
                    <a:pt x="2007" y="58"/>
                  </a:lnTo>
                  <a:lnTo>
                    <a:pt x="2011" y="36"/>
                  </a:lnTo>
                  <a:lnTo>
                    <a:pt x="2017" y="18"/>
                  </a:lnTo>
                  <a:lnTo>
                    <a:pt x="2007" y="23"/>
                  </a:lnTo>
                  <a:lnTo>
                    <a:pt x="1996" y="32"/>
                  </a:lnTo>
                  <a:lnTo>
                    <a:pt x="1983" y="43"/>
                  </a:lnTo>
                  <a:lnTo>
                    <a:pt x="1971" y="55"/>
                  </a:lnTo>
                  <a:lnTo>
                    <a:pt x="1958" y="68"/>
                  </a:lnTo>
                  <a:lnTo>
                    <a:pt x="1948" y="78"/>
                  </a:lnTo>
                  <a:lnTo>
                    <a:pt x="1938" y="85"/>
                  </a:lnTo>
                  <a:lnTo>
                    <a:pt x="1933" y="87"/>
                  </a:lnTo>
                  <a:lnTo>
                    <a:pt x="1928" y="78"/>
                  </a:lnTo>
                  <a:lnTo>
                    <a:pt x="1928" y="56"/>
                  </a:lnTo>
                  <a:lnTo>
                    <a:pt x="1930" y="31"/>
                  </a:lnTo>
                  <a:lnTo>
                    <a:pt x="1935" y="9"/>
                  </a:lnTo>
                  <a:lnTo>
                    <a:pt x="1926" y="14"/>
                  </a:lnTo>
                  <a:lnTo>
                    <a:pt x="1913" y="26"/>
                  </a:lnTo>
                  <a:lnTo>
                    <a:pt x="1899" y="43"/>
                  </a:lnTo>
                  <a:lnTo>
                    <a:pt x="1885" y="60"/>
                  </a:lnTo>
                  <a:lnTo>
                    <a:pt x="1872" y="78"/>
                  </a:lnTo>
                  <a:lnTo>
                    <a:pt x="1860" y="94"/>
                  </a:lnTo>
                  <a:lnTo>
                    <a:pt x="1850" y="105"/>
                  </a:lnTo>
                  <a:lnTo>
                    <a:pt x="1844" y="108"/>
                  </a:lnTo>
                  <a:lnTo>
                    <a:pt x="1839" y="105"/>
                  </a:lnTo>
                  <a:lnTo>
                    <a:pt x="1838" y="96"/>
                  </a:lnTo>
                  <a:lnTo>
                    <a:pt x="1840" y="84"/>
                  </a:lnTo>
                  <a:lnTo>
                    <a:pt x="1844" y="70"/>
                  </a:lnTo>
                  <a:lnTo>
                    <a:pt x="1849" y="54"/>
                  </a:lnTo>
                  <a:lnTo>
                    <a:pt x="1853" y="39"/>
                  </a:lnTo>
                  <a:lnTo>
                    <a:pt x="1859" y="24"/>
                  </a:lnTo>
                  <a:lnTo>
                    <a:pt x="1862" y="11"/>
                  </a:lnTo>
                  <a:lnTo>
                    <a:pt x="1849" y="18"/>
                  </a:lnTo>
                  <a:lnTo>
                    <a:pt x="1834" y="32"/>
                  </a:lnTo>
                  <a:lnTo>
                    <a:pt x="1816" y="52"/>
                  </a:lnTo>
                  <a:lnTo>
                    <a:pt x="1800" y="73"/>
                  </a:lnTo>
                  <a:lnTo>
                    <a:pt x="1785" y="94"/>
                  </a:lnTo>
                  <a:lnTo>
                    <a:pt x="1774" y="112"/>
                  </a:lnTo>
                  <a:lnTo>
                    <a:pt x="1763" y="126"/>
                  </a:lnTo>
                  <a:lnTo>
                    <a:pt x="1759" y="130"/>
                  </a:lnTo>
                  <a:lnTo>
                    <a:pt x="1756" y="117"/>
                  </a:lnTo>
                  <a:lnTo>
                    <a:pt x="1759" y="87"/>
                  </a:lnTo>
                  <a:lnTo>
                    <a:pt x="1763" y="52"/>
                  </a:lnTo>
                  <a:lnTo>
                    <a:pt x="1769" y="22"/>
                  </a:lnTo>
                  <a:lnTo>
                    <a:pt x="1758" y="29"/>
                  </a:lnTo>
                  <a:lnTo>
                    <a:pt x="1745" y="43"/>
                  </a:lnTo>
                  <a:lnTo>
                    <a:pt x="1732" y="62"/>
                  </a:lnTo>
                  <a:lnTo>
                    <a:pt x="1720" y="84"/>
                  </a:lnTo>
                  <a:lnTo>
                    <a:pt x="1708" y="106"/>
                  </a:lnTo>
                  <a:lnTo>
                    <a:pt x="1698" y="124"/>
                  </a:lnTo>
                  <a:lnTo>
                    <a:pt x="1690" y="137"/>
                  </a:lnTo>
                  <a:lnTo>
                    <a:pt x="1685" y="142"/>
                  </a:lnTo>
                  <a:lnTo>
                    <a:pt x="1679" y="129"/>
                  </a:lnTo>
                  <a:lnTo>
                    <a:pt x="1677" y="98"/>
                  </a:lnTo>
                  <a:lnTo>
                    <a:pt x="1679" y="59"/>
                  </a:lnTo>
                  <a:lnTo>
                    <a:pt x="1686" y="22"/>
                  </a:lnTo>
                  <a:lnTo>
                    <a:pt x="1678" y="29"/>
                  </a:lnTo>
                  <a:lnTo>
                    <a:pt x="1665" y="44"/>
                  </a:lnTo>
                  <a:lnTo>
                    <a:pt x="1649" y="63"/>
                  </a:lnTo>
                  <a:lnTo>
                    <a:pt x="1633" y="85"/>
                  </a:lnTo>
                  <a:lnTo>
                    <a:pt x="1616" y="107"/>
                  </a:lnTo>
                  <a:lnTo>
                    <a:pt x="1602" y="126"/>
                  </a:lnTo>
                  <a:lnTo>
                    <a:pt x="1591" y="138"/>
                  </a:lnTo>
                  <a:lnTo>
                    <a:pt x="1585" y="144"/>
                  </a:lnTo>
                  <a:lnTo>
                    <a:pt x="1582" y="131"/>
                  </a:lnTo>
                  <a:lnTo>
                    <a:pt x="1586" y="99"/>
                  </a:lnTo>
                  <a:lnTo>
                    <a:pt x="1594" y="60"/>
                  </a:lnTo>
                  <a:lnTo>
                    <a:pt x="1604" y="26"/>
                  </a:lnTo>
                  <a:lnTo>
                    <a:pt x="1595" y="32"/>
                  </a:lnTo>
                  <a:lnTo>
                    <a:pt x="1581" y="47"/>
                  </a:lnTo>
                  <a:lnTo>
                    <a:pt x="1565" y="68"/>
                  </a:lnTo>
                  <a:lnTo>
                    <a:pt x="1548" y="91"/>
                  </a:lnTo>
                  <a:lnTo>
                    <a:pt x="1531" y="115"/>
                  </a:lnTo>
                  <a:lnTo>
                    <a:pt x="1514" y="136"/>
                  </a:lnTo>
                  <a:lnTo>
                    <a:pt x="1503" y="151"/>
                  </a:lnTo>
                  <a:lnTo>
                    <a:pt x="1496" y="157"/>
                  </a:lnTo>
                  <a:lnTo>
                    <a:pt x="1496" y="144"/>
                  </a:lnTo>
                  <a:lnTo>
                    <a:pt x="1501" y="112"/>
                  </a:lnTo>
                  <a:lnTo>
                    <a:pt x="1508" y="71"/>
                  </a:lnTo>
                  <a:lnTo>
                    <a:pt x="1514" y="34"/>
                  </a:lnTo>
                  <a:lnTo>
                    <a:pt x="1505" y="44"/>
                  </a:lnTo>
                  <a:lnTo>
                    <a:pt x="1494" y="60"/>
                  </a:lnTo>
                  <a:lnTo>
                    <a:pt x="1480" y="83"/>
                  </a:lnTo>
                  <a:lnTo>
                    <a:pt x="1465" y="108"/>
                  </a:lnTo>
                  <a:lnTo>
                    <a:pt x="1450" y="134"/>
                  </a:lnTo>
                  <a:lnTo>
                    <a:pt x="1437" y="154"/>
                  </a:lnTo>
                  <a:lnTo>
                    <a:pt x="1427" y="170"/>
                  </a:lnTo>
                  <a:lnTo>
                    <a:pt x="1420" y="176"/>
                  </a:lnTo>
                  <a:lnTo>
                    <a:pt x="1415" y="164"/>
                  </a:lnTo>
                  <a:lnTo>
                    <a:pt x="1417" y="130"/>
                  </a:lnTo>
                  <a:lnTo>
                    <a:pt x="1425" y="85"/>
                  </a:lnTo>
                  <a:lnTo>
                    <a:pt x="1437" y="39"/>
                  </a:lnTo>
                  <a:lnTo>
                    <a:pt x="1430" y="46"/>
                  </a:lnTo>
                  <a:lnTo>
                    <a:pt x="1419" y="62"/>
                  </a:lnTo>
                  <a:lnTo>
                    <a:pt x="1405" y="84"/>
                  </a:lnTo>
                  <a:lnTo>
                    <a:pt x="1389" y="107"/>
                  </a:lnTo>
                  <a:lnTo>
                    <a:pt x="1372" y="131"/>
                  </a:lnTo>
                  <a:lnTo>
                    <a:pt x="1358" y="152"/>
                  </a:lnTo>
                  <a:lnTo>
                    <a:pt x="1346" y="166"/>
                  </a:lnTo>
                  <a:lnTo>
                    <a:pt x="1339" y="172"/>
                  </a:lnTo>
                  <a:lnTo>
                    <a:pt x="1335" y="159"/>
                  </a:lnTo>
                  <a:lnTo>
                    <a:pt x="1339" y="128"/>
                  </a:lnTo>
                  <a:lnTo>
                    <a:pt x="1349" y="87"/>
                  </a:lnTo>
                  <a:lnTo>
                    <a:pt x="1359" y="49"/>
                  </a:lnTo>
                  <a:lnTo>
                    <a:pt x="1347" y="56"/>
                  </a:lnTo>
                  <a:lnTo>
                    <a:pt x="1335" y="71"/>
                  </a:lnTo>
                  <a:lnTo>
                    <a:pt x="1321" y="92"/>
                  </a:lnTo>
                  <a:lnTo>
                    <a:pt x="1307" y="115"/>
                  </a:lnTo>
                  <a:lnTo>
                    <a:pt x="1294" y="139"/>
                  </a:lnTo>
                  <a:lnTo>
                    <a:pt x="1283" y="159"/>
                  </a:lnTo>
                  <a:lnTo>
                    <a:pt x="1274" y="173"/>
                  </a:lnTo>
                  <a:lnTo>
                    <a:pt x="1268" y="179"/>
                  </a:lnTo>
                  <a:lnTo>
                    <a:pt x="1262" y="166"/>
                  </a:lnTo>
                  <a:lnTo>
                    <a:pt x="1262" y="134"/>
                  </a:lnTo>
                  <a:lnTo>
                    <a:pt x="1268" y="93"/>
                  </a:lnTo>
                  <a:lnTo>
                    <a:pt x="1278" y="54"/>
                  </a:lnTo>
                  <a:lnTo>
                    <a:pt x="1271" y="62"/>
                  </a:lnTo>
                  <a:lnTo>
                    <a:pt x="1262" y="78"/>
                  </a:lnTo>
                  <a:lnTo>
                    <a:pt x="1250" y="100"/>
                  </a:lnTo>
                  <a:lnTo>
                    <a:pt x="1237" y="123"/>
                  </a:lnTo>
                  <a:lnTo>
                    <a:pt x="1223" y="147"/>
                  </a:lnTo>
                  <a:lnTo>
                    <a:pt x="1212" y="168"/>
                  </a:lnTo>
                  <a:lnTo>
                    <a:pt x="1201" y="183"/>
                  </a:lnTo>
                  <a:lnTo>
                    <a:pt x="1194" y="189"/>
                  </a:lnTo>
                  <a:lnTo>
                    <a:pt x="1188" y="176"/>
                  </a:lnTo>
                  <a:lnTo>
                    <a:pt x="1187" y="145"/>
                  </a:lnTo>
                  <a:lnTo>
                    <a:pt x="1192" y="106"/>
                  </a:lnTo>
                  <a:lnTo>
                    <a:pt x="1202" y="68"/>
                  </a:lnTo>
                  <a:lnTo>
                    <a:pt x="1193" y="78"/>
                  </a:lnTo>
                  <a:lnTo>
                    <a:pt x="1182" y="96"/>
                  </a:lnTo>
                  <a:lnTo>
                    <a:pt x="1168" y="117"/>
                  </a:lnTo>
                  <a:lnTo>
                    <a:pt x="1154" y="142"/>
                  </a:lnTo>
                  <a:lnTo>
                    <a:pt x="1139" y="164"/>
                  </a:lnTo>
                  <a:lnTo>
                    <a:pt x="1126" y="183"/>
                  </a:lnTo>
                  <a:lnTo>
                    <a:pt x="1116" y="197"/>
                  </a:lnTo>
                  <a:lnTo>
                    <a:pt x="1108" y="202"/>
                  </a:lnTo>
                  <a:lnTo>
                    <a:pt x="1102" y="189"/>
                  </a:lnTo>
                  <a:lnTo>
                    <a:pt x="1103" y="158"/>
                  </a:lnTo>
                  <a:lnTo>
                    <a:pt x="1110" y="117"/>
                  </a:lnTo>
                  <a:lnTo>
                    <a:pt x="1117" y="77"/>
                  </a:lnTo>
                  <a:lnTo>
                    <a:pt x="1109" y="86"/>
                  </a:lnTo>
                  <a:lnTo>
                    <a:pt x="1097" y="105"/>
                  </a:lnTo>
                  <a:lnTo>
                    <a:pt x="1083" y="128"/>
                  </a:lnTo>
                  <a:lnTo>
                    <a:pt x="1068" y="153"/>
                  </a:lnTo>
                  <a:lnTo>
                    <a:pt x="1053" y="179"/>
                  </a:lnTo>
                  <a:lnTo>
                    <a:pt x="1040" y="199"/>
                  </a:lnTo>
                  <a:lnTo>
                    <a:pt x="1032" y="214"/>
                  </a:lnTo>
                  <a:lnTo>
                    <a:pt x="1028" y="220"/>
                  </a:lnTo>
                  <a:lnTo>
                    <a:pt x="1025" y="205"/>
                  </a:lnTo>
                  <a:lnTo>
                    <a:pt x="1027" y="167"/>
                  </a:lnTo>
                  <a:lnTo>
                    <a:pt x="1034" y="121"/>
                  </a:lnTo>
                  <a:lnTo>
                    <a:pt x="1044" y="81"/>
                  </a:lnTo>
                  <a:lnTo>
                    <a:pt x="1034" y="93"/>
                  </a:lnTo>
                  <a:lnTo>
                    <a:pt x="1021" y="113"/>
                  </a:lnTo>
                  <a:lnTo>
                    <a:pt x="1006" y="136"/>
                  </a:lnTo>
                  <a:lnTo>
                    <a:pt x="993" y="160"/>
                  </a:lnTo>
                  <a:lnTo>
                    <a:pt x="980" y="184"/>
                  </a:lnTo>
                  <a:lnTo>
                    <a:pt x="968" y="204"/>
                  </a:lnTo>
                  <a:lnTo>
                    <a:pt x="959" y="218"/>
                  </a:lnTo>
                  <a:lnTo>
                    <a:pt x="955" y="222"/>
                  </a:lnTo>
                  <a:lnTo>
                    <a:pt x="951" y="208"/>
                  </a:lnTo>
                  <a:lnTo>
                    <a:pt x="951" y="175"/>
                  </a:lnTo>
                  <a:lnTo>
                    <a:pt x="956" y="134"/>
                  </a:lnTo>
                  <a:lnTo>
                    <a:pt x="964" y="98"/>
                  </a:lnTo>
                  <a:lnTo>
                    <a:pt x="956" y="109"/>
                  </a:lnTo>
                  <a:lnTo>
                    <a:pt x="943" y="127"/>
                  </a:lnTo>
                  <a:lnTo>
                    <a:pt x="929" y="150"/>
                  </a:lnTo>
                  <a:lnTo>
                    <a:pt x="914" y="174"/>
                  </a:lnTo>
                  <a:lnTo>
                    <a:pt x="899" y="198"/>
                  </a:lnTo>
                  <a:lnTo>
                    <a:pt x="887" y="218"/>
                  </a:lnTo>
                  <a:lnTo>
                    <a:pt x="877" y="232"/>
                  </a:lnTo>
                  <a:lnTo>
                    <a:pt x="872" y="237"/>
                  </a:lnTo>
                  <a:lnTo>
                    <a:pt x="867" y="223"/>
                  </a:lnTo>
                  <a:lnTo>
                    <a:pt x="867" y="191"/>
                  </a:lnTo>
                  <a:lnTo>
                    <a:pt x="872" y="151"/>
                  </a:lnTo>
                  <a:lnTo>
                    <a:pt x="879" y="111"/>
                  </a:lnTo>
                  <a:lnTo>
                    <a:pt x="869" y="122"/>
                  </a:lnTo>
                  <a:lnTo>
                    <a:pt x="858" y="140"/>
                  </a:lnTo>
                  <a:lnTo>
                    <a:pt x="844" y="164"/>
                  </a:lnTo>
                  <a:lnTo>
                    <a:pt x="828" y="189"/>
                  </a:lnTo>
                  <a:lnTo>
                    <a:pt x="813" y="214"/>
                  </a:lnTo>
                  <a:lnTo>
                    <a:pt x="800" y="235"/>
                  </a:lnTo>
                  <a:lnTo>
                    <a:pt x="790" y="249"/>
                  </a:lnTo>
                  <a:lnTo>
                    <a:pt x="783" y="253"/>
                  </a:lnTo>
                  <a:lnTo>
                    <a:pt x="780" y="240"/>
                  </a:lnTo>
                  <a:lnTo>
                    <a:pt x="782" y="207"/>
                  </a:lnTo>
                  <a:lnTo>
                    <a:pt x="789" y="167"/>
                  </a:lnTo>
                  <a:lnTo>
                    <a:pt x="795" y="131"/>
                  </a:lnTo>
                  <a:lnTo>
                    <a:pt x="786" y="143"/>
                  </a:lnTo>
                  <a:lnTo>
                    <a:pt x="774" y="162"/>
                  </a:lnTo>
                  <a:lnTo>
                    <a:pt x="761" y="187"/>
                  </a:lnTo>
                  <a:lnTo>
                    <a:pt x="746" y="213"/>
                  </a:lnTo>
                  <a:lnTo>
                    <a:pt x="732" y="237"/>
                  </a:lnTo>
                  <a:lnTo>
                    <a:pt x="720" y="259"/>
                  </a:lnTo>
                  <a:lnTo>
                    <a:pt x="709" y="273"/>
                  </a:lnTo>
                  <a:lnTo>
                    <a:pt x="704" y="279"/>
                  </a:lnTo>
                  <a:lnTo>
                    <a:pt x="700" y="264"/>
                  </a:lnTo>
                  <a:lnTo>
                    <a:pt x="704" y="229"/>
                  </a:lnTo>
                  <a:lnTo>
                    <a:pt x="712" y="185"/>
                  </a:lnTo>
                  <a:lnTo>
                    <a:pt x="727" y="142"/>
                  </a:lnTo>
                  <a:lnTo>
                    <a:pt x="716" y="154"/>
                  </a:lnTo>
                  <a:lnTo>
                    <a:pt x="704" y="174"/>
                  </a:lnTo>
                  <a:lnTo>
                    <a:pt x="687" y="199"/>
                  </a:lnTo>
                  <a:lnTo>
                    <a:pt x="670" y="226"/>
                  </a:lnTo>
                  <a:lnTo>
                    <a:pt x="654" y="252"/>
                  </a:lnTo>
                  <a:lnTo>
                    <a:pt x="639" y="274"/>
                  </a:lnTo>
                  <a:lnTo>
                    <a:pt x="629" y="290"/>
                  </a:lnTo>
                  <a:lnTo>
                    <a:pt x="623" y="296"/>
                  </a:lnTo>
                  <a:lnTo>
                    <a:pt x="618" y="282"/>
                  </a:lnTo>
                  <a:lnTo>
                    <a:pt x="619" y="248"/>
                  </a:lnTo>
                  <a:lnTo>
                    <a:pt x="625" y="203"/>
                  </a:lnTo>
                  <a:lnTo>
                    <a:pt x="639" y="159"/>
                  </a:lnTo>
                  <a:lnTo>
                    <a:pt x="629" y="170"/>
                  </a:lnTo>
                  <a:lnTo>
                    <a:pt x="615" y="189"/>
                  </a:lnTo>
                  <a:lnTo>
                    <a:pt x="600" y="212"/>
                  </a:lnTo>
                  <a:lnTo>
                    <a:pt x="584" y="236"/>
                  </a:lnTo>
                  <a:lnTo>
                    <a:pt x="569" y="260"/>
                  </a:lnTo>
                  <a:lnTo>
                    <a:pt x="556" y="281"/>
                  </a:lnTo>
                  <a:lnTo>
                    <a:pt x="547" y="296"/>
                  </a:lnTo>
                  <a:lnTo>
                    <a:pt x="541" y="302"/>
                  </a:lnTo>
                  <a:lnTo>
                    <a:pt x="536" y="299"/>
                  </a:lnTo>
                  <a:lnTo>
                    <a:pt x="535" y="291"/>
                  </a:lnTo>
                  <a:lnTo>
                    <a:pt x="535" y="279"/>
                  </a:lnTo>
                  <a:lnTo>
                    <a:pt x="538" y="263"/>
                  </a:lnTo>
                  <a:lnTo>
                    <a:pt x="542" y="245"/>
                  </a:lnTo>
                  <a:lnTo>
                    <a:pt x="547" y="227"/>
                  </a:lnTo>
                  <a:lnTo>
                    <a:pt x="554" y="208"/>
                  </a:lnTo>
                  <a:lnTo>
                    <a:pt x="562" y="192"/>
                  </a:lnTo>
                  <a:lnTo>
                    <a:pt x="551" y="202"/>
                  </a:lnTo>
                  <a:lnTo>
                    <a:pt x="536" y="219"/>
                  </a:lnTo>
                  <a:lnTo>
                    <a:pt x="520" y="240"/>
                  </a:lnTo>
                  <a:lnTo>
                    <a:pt x="502" y="261"/>
                  </a:lnTo>
                  <a:lnTo>
                    <a:pt x="485" y="283"/>
                  </a:lnTo>
                  <a:lnTo>
                    <a:pt x="470" y="301"/>
                  </a:lnTo>
                  <a:lnTo>
                    <a:pt x="457" y="313"/>
                  </a:lnTo>
                  <a:lnTo>
                    <a:pt x="450" y="317"/>
                  </a:lnTo>
                  <a:lnTo>
                    <a:pt x="444" y="309"/>
                  </a:lnTo>
                  <a:lnTo>
                    <a:pt x="445" y="291"/>
                  </a:lnTo>
                  <a:lnTo>
                    <a:pt x="451" y="271"/>
                  </a:lnTo>
                  <a:lnTo>
                    <a:pt x="459" y="252"/>
                  </a:lnTo>
                  <a:lnTo>
                    <a:pt x="421" y="312"/>
                  </a:lnTo>
                  <a:lnTo>
                    <a:pt x="393" y="407"/>
                  </a:lnTo>
                  <a:lnTo>
                    <a:pt x="371" y="530"/>
                  </a:lnTo>
                  <a:lnTo>
                    <a:pt x="353" y="679"/>
                  </a:lnTo>
                  <a:lnTo>
                    <a:pt x="340" y="847"/>
                  </a:lnTo>
                  <a:lnTo>
                    <a:pt x="328" y="1029"/>
                  </a:lnTo>
                  <a:lnTo>
                    <a:pt x="318" y="1220"/>
                  </a:lnTo>
                  <a:lnTo>
                    <a:pt x="306" y="1417"/>
                  </a:lnTo>
                  <a:lnTo>
                    <a:pt x="292" y="1613"/>
                  </a:lnTo>
                  <a:lnTo>
                    <a:pt x="275" y="1803"/>
                  </a:lnTo>
                  <a:lnTo>
                    <a:pt x="252" y="1984"/>
                  </a:lnTo>
                  <a:lnTo>
                    <a:pt x="221" y="2149"/>
                  </a:lnTo>
                  <a:lnTo>
                    <a:pt x="183" y="2293"/>
                  </a:lnTo>
                  <a:lnTo>
                    <a:pt x="133" y="2413"/>
                  </a:lnTo>
                  <a:lnTo>
                    <a:pt x="73" y="2501"/>
                  </a:lnTo>
                  <a:lnTo>
                    <a:pt x="0" y="2555"/>
                  </a:lnTo>
                  <a:lnTo>
                    <a:pt x="8" y="2553"/>
                  </a:lnTo>
                  <a:lnTo>
                    <a:pt x="18" y="2550"/>
                  </a:lnTo>
                  <a:lnTo>
                    <a:pt x="28" y="2546"/>
                  </a:lnTo>
                  <a:lnTo>
                    <a:pt x="40" y="2543"/>
                  </a:lnTo>
                  <a:lnTo>
                    <a:pt x="50" y="2539"/>
                  </a:lnTo>
                  <a:lnTo>
                    <a:pt x="60" y="2536"/>
                  </a:lnTo>
                  <a:lnTo>
                    <a:pt x="68" y="2535"/>
                  </a:lnTo>
                  <a:lnTo>
                    <a:pt x="73" y="2535"/>
                  </a:lnTo>
                  <a:lnTo>
                    <a:pt x="76" y="2538"/>
                  </a:lnTo>
                  <a:lnTo>
                    <a:pt x="73" y="2543"/>
                  </a:lnTo>
                  <a:lnTo>
                    <a:pt x="69" y="2550"/>
                  </a:lnTo>
                  <a:lnTo>
                    <a:pt x="62" y="2557"/>
                  </a:lnTo>
                  <a:lnTo>
                    <a:pt x="56" y="2565"/>
                  </a:lnTo>
                  <a:lnTo>
                    <a:pt x="53" y="2570"/>
                  </a:lnTo>
                  <a:lnTo>
                    <a:pt x="53" y="2575"/>
                  </a:lnTo>
                  <a:lnTo>
                    <a:pt x="57" y="2576"/>
                  </a:lnTo>
                  <a:lnTo>
                    <a:pt x="70" y="2574"/>
                  </a:lnTo>
                  <a:lnTo>
                    <a:pt x="85" y="2568"/>
                  </a:lnTo>
                  <a:lnTo>
                    <a:pt x="100" y="2561"/>
                  </a:lnTo>
                  <a:lnTo>
                    <a:pt x="116" y="2554"/>
                  </a:lnTo>
                  <a:lnTo>
                    <a:pt x="130" y="2547"/>
                  </a:lnTo>
                  <a:lnTo>
                    <a:pt x="144" y="2540"/>
                  </a:lnTo>
                  <a:lnTo>
                    <a:pt x="154" y="2536"/>
                  </a:lnTo>
                  <a:lnTo>
                    <a:pt x="161" y="2535"/>
                  </a:lnTo>
                  <a:lnTo>
                    <a:pt x="163" y="2537"/>
                  </a:lnTo>
                  <a:lnTo>
                    <a:pt x="161" y="2543"/>
                  </a:lnTo>
                  <a:lnTo>
                    <a:pt x="156" y="2550"/>
                  </a:lnTo>
                  <a:lnTo>
                    <a:pt x="151" y="2558"/>
                  </a:lnTo>
                  <a:lnTo>
                    <a:pt x="146" y="2566"/>
                  </a:lnTo>
                  <a:lnTo>
                    <a:pt x="144" y="2573"/>
                  </a:lnTo>
                  <a:lnTo>
                    <a:pt x="145" y="2577"/>
                  </a:lnTo>
                  <a:lnTo>
                    <a:pt x="152" y="2578"/>
                  </a:lnTo>
                  <a:lnTo>
                    <a:pt x="163" y="2577"/>
                  </a:lnTo>
                  <a:lnTo>
                    <a:pt x="175" y="2572"/>
                  </a:lnTo>
                  <a:lnTo>
                    <a:pt x="189" y="2565"/>
                  </a:lnTo>
                  <a:lnTo>
                    <a:pt x="202" y="2555"/>
                  </a:lnTo>
                  <a:lnTo>
                    <a:pt x="215" y="2546"/>
                  </a:lnTo>
                  <a:lnTo>
                    <a:pt x="225" y="2539"/>
                  </a:lnTo>
                  <a:lnTo>
                    <a:pt x="235" y="2534"/>
                  </a:lnTo>
                  <a:lnTo>
                    <a:pt x="242" y="2532"/>
                  </a:lnTo>
                  <a:lnTo>
                    <a:pt x="245" y="2539"/>
                  </a:lnTo>
                  <a:lnTo>
                    <a:pt x="245" y="2552"/>
                  </a:lnTo>
                  <a:lnTo>
                    <a:pt x="242" y="2567"/>
                  </a:lnTo>
                  <a:lnTo>
                    <a:pt x="234" y="2578"/>
                  </a:lnTo>
                  <a:lnTo>
                    <a:pt x="244" y="2573"/>
                  </a:lnTo>
                  <a:lnTo>
                    <a:pt x="257" y="2566"/>
                  </a:lnTo>
                  <a:lnTo>
                    <a:pt x="269" y="2557"/>
                  </a:lnTo>
                  <a:lnTo>
                    <a:pt x="283" y="2547"/>
                  </a:lnTo>
                  <a:lnTo>
                    <a:pt x="295" y="2538"/>
                  </a:lnTo>
                  <a:lnTo>
                    <a:pt x="305" y="2531"/>
                  </a:lnTo>
                  <a:lnTo>
                    <a:pt x="313" y="2525"/>
                  </a:lnTo>
                  <a:lnTo>
                    <a:pt x="319" y="2524"/>
                  </a:lnTo>
                  <a:lnTo>
                    <a:pt x="326" y="2530"/>
                  </a:lnTo>
                  <a:lnTo>
                    <a:pt x="328" y="2545"/>
                  </a:lnTo>
                  <a:lnTo>
                    <a:pt x="323" y="2566"/>
                  </a:lnTo>
                  <a:lnTo>
                    <a:pt x="310" y="2589"/>
                  </a:lnTo>
                  <a:lnTo>
                    <a:pt x="323" y="2581"/>
                  </a:lnTo>
                  <a:lnTo>
                    <a:pt x="338" y="2570"/>
                  </a:lnTo>
                  <a:lnTo>
                    <a:pt x="354" y="2559"/>
                  </a:lnTo>
                  <a:lnTo>
                    <a:pt x="371" y="2547"/>
                  </a:lnTo>
                  <a:lnTo>
                    <a:pt x="384" y="2536"/>
                  </a:lnTo>
                  <a:lnTo>
                    <a:pt x="397" y="2527"/>
                  </a:lnTo>
                  <a:lnTo>
                    <a:pt x="407" y="2521"/>
                  </a:lnTo>
                  <a:lnTo>
                    <a:pt x="413" y="2519"/>
                  </a:lnTo>
                  <a:lnTo>
                    <a:pt x="417" y="2521"/>
                  </a:lnTo>
                  <a:lnTo>
                    <a:pt x="417" y="2527"/>
                  </a:lnTo>
                  <a:lnTo>
                    <a:pt x="414" y="2536"/>
                  </a:lnTo>
                  <a:lnTo>
                    <a:pt x="411" y="2547"/>
                  </a:lnTo>
                  <a:lnTo>
                    <a:pt x="405" y="2559"/>
                  </a:lnTo>
                  <a:lnTo>
                    <a:pt x="399" y="2570"/>
                  </a:lnTo>
                  <a:lnTo>
                    <a:pt x="393" y="2581"/>
                  </a:lnTo>
                  <a:lnTo>
                    <a:pt x="386" y="2590"/>
                  </a:lnTo>
                  <a:lnTo>
                    <a:pt x="401" y="2581"/>
                  </a:lnTo>
                  <a:lnTo>
                    <a:pt x="417" y="2569"/>
                  </a:lnTo>
                  <a:lnTo>
                    <a:pt x="435" y="2555"/>
                  </a:lnTo>
                  <a:lnTo>
                    <a:pt x="454" y="2542"/>
                  </a:lnTo>
                  <a:lnTo>
                    <a:pt x="471" y="2529"/>
                  </a:lnTo>
                  <a:lnTo>
                    <a:pt x="485" y="2519"/>
                  </a:lnTo>
                  <a:lnTo>
                    <a:pt x="496" y="2512"/>
                  </a:lnTo>
                  <a:lnTo>
                    <a:pt x="503" y="2509"/>
                  </a:lnTo>
                  <a:lnTo>
                    <a:pt x="507" y="2512"/>
                  </a:lnTo>
                  <a:lnTo>
                    <a:pt x="508" y="2517"/>
                  </a:lnTo>
                  <a:lnTo>
                    <a:pt x="508" y="2525"/>
                  </a:lnTo>
                  <a:lnTo>
                    <a:pt x="507" y="2535"/>
                  </a:lnTo>
                  <a:lnTo>
                    <a:pt x="502" y="2546"/>
                  </a:lnTo>
                  <a:lnTo>
                    <a:pt x="497" y="2558"/>
                  </a:lnTo>
                  <a:lnTo>
                    <a:pt x="489" y="2569"/>
                  </a:lnTo>
                  <a:lnTo>
                    <a:pt x="479" y="2581"/>
                  </a:lnTo>
                  <a:lnTo>
                    <a:pt x="494" y="2572"/>
                  </a:lnTo>
                  <a:lnTo>
                    <a:pt x="510" y="2559"/>
                  </a:lnTo>
                  <a:lnTo>
                    <a:pt x="528" y="2546"/>
                  </a:lnTo>
                  <a:lnTo>
                    <a:pt x="546" y="2534"/>
                  </a:lnTo>
                  <a:lnTo>
                    <a:pt x="563" y="2522"/>
                  </a:lnTo>
                  <a:lnTo>
                    <a:pt x="577" y="2512"/>
                  </a:lnTo>
                  <a:lnTo>
                    <a:pt x="587" y="2505"/>
                  </a:lnTo>
                  <a:lnTo>
                    <a:pt x="594" y="2502"/>
                  </a:lnTo>
                  <a:lnTo>
                    <a:pt x="596" y="2505"/>
                  </a:lnTo>
                  <a:lnTo>
                    <a:pt x="596" y="2509"/>
                  </a:lnTo>
                  <a:lnTo>
                    <a:pt x="595" y="2519"/>
                  </a:lnTo>
                  <a:lnTo>
                    <a:pt x="593" y="2529"/>
                  </a:lnTo>
                  <a:lnTo>
                    <a:pt x="588" y="2542"/>
                  </a:lnTo>
                  <a:lnTo>
                    <a:pt x="583" y="2555"/>
                  </a:lnTo>
                  <a:lnTo>
                    <a:pt x="575" y="2568"/>
                  </a:lnTo>
                  <a:lnTo>
                    <a:pt x="565" y="2581"/>
                  </a:lnTo>
                  <a:lnTo>
                    <a:pt x="579" y="2570"/>
                  </a:lnTo>
                  <a:lnTo>
                    <a:pt x="594" y="2558"/>
                  </a:lnTo>
                  <a:lnTo>
                    <a:pt x="611" y="2544"/>
                  </a:lnTo>
                  <a:lnTo>
                    <a:pt x="627" y="2529"/>
                  </a:lnTo>
                  <a:lnTo>
                    <a:pt x="642" y="2515"/>
                  </a:lnTo>
                  <a:lnTo>
                    <a:pt x="655" y="2504"/>
                  </a:lnTo>
                  <a:lnTo>
                    <a:pt x="666" y="2496"/>
                  </a:lnTo>
                  <a:lnTo>
                    <a:pt x="672" y="2492"/>
                  </a:lnTo>
                  <a:lnTo>
                    <a:pt x="675" y="2493"/>
                  </a:lnTo>
                  <a:lnTo>
                    <a:pt x="677" y="2500"/>
                  </a:lnTo>
                  <a:lnTo>
                    <a:pt x="677" y="2509"/>
                  </a:lnTo>
                  <a:lnTo>
                    <a:pt x="675" y="2521"/>
                  </a:lnTo>
                  <a:lnTo>
                    <a:pt x="670" y="2534"/>
                  </a:lnTo>
                  <a:lnTo>
                    <a:pt x="664" y="2547"/>
                  </a:lnTo>
                  <a:lnTo>
                    <a:pt x="656" y="2560"/>
                  </a:lnTo>
                  <a:lnTo>
                    <a:pt x="645" y="2572"/>
                  </a:lnTo>
                  <a:lnTo>
                    <a:pt x="661" y="2562"/>
                  </a:lnTo>
                  <a:lnTo>
                    <a:pt x="678" y="2550"/>
                  </a:lnTo>
                  <a:lnTo>
                    <a:pt x="695" y="2535"/>
                  </a:lnTo>
                  <a:lnTo>
                    <a:pt x="713" y="2520"/>
                  </a:lnTo>
                  <a:lnTo>
                    <a:pt x="727" y="2506"/>
                  </a:lnTo>
                  <a:lnTo>
                    <a:pt x="739" y="2494"/>
                  </a:lnTo>
                  <a:lnTo>
                    <a:pt x="750" y="2486"/>
                  </a:lnTo>
                  <a:lnTo>
                    <a:pt x="755" y="2484"/>
                  </a:lnTo>
                  <a:lnTo>
                    <a:pt x="759" y="2487"/>
                  </a:lnTo>
                  <a:lnTo>
                    <a:pt x="761" y="2493"/>
                  </a:lnTo>
                  <a:lnTo>
                    <a:pt x="763" y="2502"/>
                  </a:lnTo>
                  <a:lnTo>
                    <a:pt x="763" y="2515"/>
                  </a:lnTo>
                  <a:lnTo>
                    <a:pt x="761" y="2528"/>
                  </a:lnTo>
                  <a:lnTo>
                    <a:pt x="757" y="2543"/>
                  </a:lnTo>
                  <a:lnTo>
                    <a:pt x="748" y="2558"/>
                  </a:lnTo>
                  <a:lnTo>
                    <a:pt x="737" y="2572"/>
                  </a:lnTo>
                  <a:lnTo>
                    <a:pt x="753" y="2562"/>
                  </a:lnTo>
                  <a:lnTo>
                    <a:pt x="769" y="2549"/>
                  </a:lnTo>
                  <a:lnTo>
                    <a:pt x="784" y="2534"/>
                  </a:lnTo>
                  <a:lnTo>
                    <a:pt x="798" y="2516"/>
                  </a:lnTo>
                  <a:lnTo>
                    <a:pt x="811" y="2501"/>
                  </a:lnTo>
                  <a:lnTo>
                    <a:pt x="822" y="2489"/>
                  </a:lnTo>
                  <a:lnTo>
                    <a:pt x="831" y="2479"/>
                  </a:lnTo>
                  <a:lnTo>
                    <a:pt x="838" y="2476"/>
                  </a:lnTo>
                  <a:lnTo>
                    <a:pt x="842" y="2478"/>
                  </a:lnTo>
                  <a:lnTo>
                    <a:pt x="844" y="2483"/>
                  </a:lnTo>
                  <a:lnTo>
                    <a:pt x="844" y="2492"/>
                  </a:lnTo>
                  <a:lnTo>
                    <a:pt x="843" y="2505"/>
                  </a:lnTo>
                  <a:lnTo>
                    <a:pt x="838" y="2519"/>
                  </a:lnTo>
                  <a:lnTo>
                    <a:pt x="833" y="2534"/>
                  </a:lnTo>
                  <a:lnTo>
                    <a:pt x="822" y="2551"/>
                  </a:lnTo>
                  <a:lnTo>
                    <a:pt x="810" y="2568"/>
                  </a:lnTo>
                  <a:lnTo>
                    <a:pt x="824" y="2560"/>
                  </a:lnTo>
                  <a:lnTo>
                    <a:pt x="839" y="2547"/>
                  </a:lnTo>
                  <a:lnTo>
                    <a:pt x="854" y="2532"/>
                  </a:lnTo>
                  <a:lnTo>
                    <a:pt x="869" y="2516"/>
                  </a:lnTo>
                  <a:lnTo>
                    <a:pt x="882" y="2501"/>
                  </a:lnTo>
                  <a:lnTo>
                    <a:pt x="894" y="2489"/>
                  </a:lnTo>
                  <a:lnTo>
                    <a:pt x="904" y="2479"/>
                  </a:lnTo>
                  <a:lnTo>
                    <a:pt x="911" y="2476"/>
                  </a:lnTo>
                  <a:lnTo>
                    <a:pt x="914" y="2487"/>
                  </a:lnTo>
                  <a:lnTo>
                    <a:pt x="911" y="2514"/>
                  </a:lnTo>
                  <a:lnTo>
                    <a:pt x="902" y="2544"/>
                  </a:lnTo>
                  <a:lnTo>
                    <a:pt x="890" y="2565"/>
                  </a:lnTo>
                  <a:lnTo>
                    <a:pt x="905" y="2553"/>
                  </a:lnTo>
                  <a:lnTo>
                    <a:pt x="920" y="2539"/>
                  </a:lnTo>
                  <a:lnTo>
                    <a:pt x="933" y="2523"/>
                  </a:lnTo>
                  <a:lnTo>
                    <a:pt x="944" y="2508"/>
                  </a:lnTo>
                  <a:lnTo>
                    <a:pt x="956" y="2493"/>
                  </a:lnTo>
                  <a:lnTo>
                    <a:pt x="965" y="2482"/>
                  </a:lnTo>
                  <a:lnTo>
                    <a:pt x="972" y="2472"/>
                  </a:lnTo>
                  <a:lnTo>
                    <a:pt x="978" y="2469"/>
                  </a:lnTo>
                  <a:lnTo>
                    <a:pt x="985" y="2477"/>
                  </a:lnTo>
                  <a:lnTo>
                    <a:pt x="985" y="2502"/>
                  </a:lnTo>
                  <a:lnTo>
                    <a:pt x="978" y="2534"/>
                  </a:lnTo>
                  <a:lnTo>
                    <a:pt x="960" y="2562"/>
                  </a:lnTo>
                  <a:lnTo>
                    <a:pt x="975" y="2554"/>
                  </a:lnTo>
                  <a:lnTo>
                    <a:pt x="990" y="2540"/>
                  </a:lnTo>
                  <a:lnTo>
                    <a:pt x="1005" y="2525"/>
                  </a:lnTo>
                  <a:lnTo>
                    <a:pt x="1018" y="2508"/>
                  </a:lnTo>
                  <a:lnTo>
                    <a:pt x="1030" y="2492"/>
                  </a:lnTo>
                  <a:lnTo>
                    <a:pt x="1040" y="2478"/>
                  </a:lnTo>
                  <a:lnTo>
                    <a:pt x="1047" y="2470"/>
                  </a:lnTo>
                  <a:lnTo>
                    <a:pt x="1051" y="2469"/>
                  </a:lnTo>
                  <a:lnTo>
                    <a:pt x="1061" y="2484"/>
                  </a:lnTo>
                  <a:lnTo>
                    <a:pt x="1061" y="2507"/>
                  </a:lnTo>
                  <a:lnTo>
                    <a:pt x="1056" y="2536"/>
                  </a:lnTo>
                  <a:lnTo>
                    <a:pt x="1048" y="2562"/>
                  </a:lnTo>
                  <a:lnTo>
                    <a:pt x="1058" y="2547"/>
                  </a:lnTo>
                  <a:lnTo>
                    <a:pt x="1070" y="2532"/>
                  </a:lnTo>
                  <a:lnTo>
                    <a:pt x="1081" y="2516"/>
                  </a:lnTo>
                  <a:lnTo>
                    <a:pt x="1092" y="2502"/>
                  </a:lnTo>
                  <a:lnTo>
                    <a:pt x="1102" y="2490"/>
                  </a:lnTo>
                  <a:lnTo>
                    <a:pt x="1112" y="2478"/>
                  </a:lnTo>
                  <a:lnTo>
                    <a:pt x="1121" y="2471"/>
                  </a:lnTo>
                  <a:lnTo>
                    <a:pt x="1127" y="2468"/>
                  </a:lnTo>
                  <a:lnTo>
                    <a:pt x="1135" y="2476"/>
                  </a:lnTo>
                  <a:lnTo>
                    <a:pt x="1134" y="2501"/>
                  </a:lnTo>
                  <a:lnTo>
                    <a:pt x="1127" y="2532"/>
                  </a:lnTo>
                  <a:lnTo>
                    <a:pt x="1116" y="2558"/>
                  </a:lnTo>
                  <a:lnTo>
                    <a:pt x="1130" y="2545"/>
                  </a:lnTo>
                  <a:lnTo>
                    <a:pt x="1144" y="2530"/>
                  </a:lnTo>
                  <a:lnTo>
                    <a:pt x="1159" y="2515"/>
                  </a:lnTo>
                  <a:lnTo>
                    <a:pt x="1174" y="2499"/>
                  </a:lnTo>
                  <a:lnTo>
                    <a:pt x="1187" y="2484"/>
                  </a:lnTo>
                  <a:lnTo>
                    <a:pt x="1200" y="2471"/>
                  </a:lnTo>
                  <a:lnTo>
                    <a:pt x="1210" y="2463"/>
                  </a:lnTo>
                  <a:lnTo>
                    <a:pt x="1218" y="2459"/>
                  </a:lnTo>
                  <a:lnTo>
                    <a:pt x="1222" y="2461"/>
                  </a:lnTo>
                  <a:lnTo>
                    <a:pt x="1223" y="2469"/>
                  </a:lnTo>
                  <a:lnTo>
                    <a:pt x="1223" y="2481"/>
                  </a:lnTo>
                  <a:lnTo>
                    <a:pt x="1221" y="2496"/>
                  </a:lnTo>
                  <a:lnTo>
                    <a:pt x="1217" y="2512"/>
                  </a:lnTo>
                  <a:lnTo>
                    <a:pt x="1212" y="2528"/>
                  </a:lnTo>
                  <a:lnTo>
                    <a:pt x="1205" y="2543"/>
                  </a:lnTo>
                  <a:lnTo>
                    <a:pt x="1195" y="2557"/>
                  </a:lnTo>
                  <a:lnTo>
                    <a:pt x="1212" y="2542"/>
                  </a:lnTo>
                  <a:lnTo>
                    <a:pt x="1228" y="2525"/>
                  </a:lnTo>
                  <a:lnTo>
                    <a:pt x="1244" y="2509"/>
                  </a:lnTo>
                  <a:lnTo>
                    <a:pt x="1258" y="2494"/>
                  </a:lnTo>
                  <a:lnTo>
                    <a:pt x="1271" y="2482"/>
                  </a:lnTo>
                  <a:lnTo>
                    <a:pt x="1283" y="2470"/>
                  </a:lnTo>
                  <a:lnTo>
                    <a:pt x="1292" y="2463"/>
                  </a:lnTo>
                  <a:lnTo>
                    <a:pt x="1298" y="2461"/>
                  </a:lnTo>
                  <a:lnTo>
                    <a:pt x="1304" y="2471"/>
                  </a:lnTo>
                  <a:lnTo>
                    <a:pt x="1301" y="2496"/>
                  </a:lnTo>
                  <a:lnTo>
                    <a:pt x="1293" y="2525"/>
                  </a:lnTo>
                  <a:lnTo>
                    <a:pt x="1282" y="2553"/>
                  </a:lnTo>
                  <a:lnTo>
                    <a:pt x="1297" y="2540"/>
                  </a:lnTo>
                  <a:lnTo>
                    <a:pt x="1311" y="2527"/>
                  </a:lnTo>
                  <a:lnTo>
                    <a:pt x="1324" y="2511"/>
                  </a:lnTo>
                  <a:lnTo>
                    <a:pt x="1337" y="2496"/>
                  </a:lnTo>
                  <a:lnTo>
                    <a:pt x="1347" y="2481"/>
                  </a:lnTo>
                  <a:lnTo>
                    <a:pt x="1356" y="2469"/>
                  </a:lnTo>
                  <a:lnTo>
                    <a:pt x="1362" y="2461"/>
                  </a:lnTo>
                  <a:lnTo>
                    <a:pt x="1367" y="2459"/>
                  </a:lnTo>
                  <a:lnTo>
                    <a:pt x="1373" y="2468"/>
                  </a:lnTo>
                  <a:lnTo>
                    <a:pt x="1374" y="2491"/>
                  </a:lnTo>
                  <a:lnTo>
                    <a:pt x="1367" y="2522"/>
                  </a:lnTo>
                  <a:lnTo>
                    <a:pt x="1350" y="2555"/>
                  </a:lnTo>
                  <a:lnTo>
                    <a:pt x="1365" y="2540"/>
                  </a:lnTo>
                  <a:lnTo>
                    <a:pt x="1380" y="2524"/>
                  </a:lnTo>
                  <a:lnTo>
                    <a:pt x="1394" y="2506"/>
                  </a:lnTo>
                  <a:lnTo>
                    <a:pt x="1406" y="2489"/>
                  </a:lnTo>
                  <a:lnTo>
                    <a:pt x="1418" y="2472"/>
                  </a:lnTo>
                  <a:lnTo>
                    <a:pt x="1428" y="2460"/>
                  </a:lnTo>
                  <a:lnTo>
                    <a:pt x="1435" y="2452"/>
                  </a:lnTo>
                  <a:lnTo>
                    <a:pt x="1441" y="2449"/>
                  </a:lnTo>
                  <a:lnTo>
                    <a:pt x="1447" y="2458"/>
                  </a:lnTo>
                  <a:lnTo>
                    <a:pt x="1451" y="2479"/>
                  </a:lnTo>
                  <a:lnTo>
                    <a:pt x="1455" y="2511"/>
                  </a:lnTo>
                  <a:lnTo>
                    <a:pt x="1453" y="2549"/>
                  </a:lnTo>
                  <a:lnTo>
                    <a:pt x="1464" y="2532"/>
                  </a:lnTo>
                  <a:lnTo>
                    <a:pt x="1476" y="2514"/>
                  </a:lnTo>
                  <a:lnTo>
                    <a:pt x="1489" y="2496"/>
                  </a:lnTo>
                  <a:lnTo>
                    <a:pt x="1502" y="2477"/>
                  </a:lnTo>
                  <a:lnTo>
                    <a:pt x="1514" y="2460"/>
                  </a:lnTo>
                  <a:lnTo>
                    <a:pt x="1524" y="2446"/>
                  </a:lnTo>
                  <a:lnTo>
                    <a:pt x="1532" y="2437"/>
                  </a:lnTo>
                  <a:lnTo>
                    <a:pt x="1535" y="2433"/>
                  </a:lnTo>
                  <a:lnTo>
                    <a:pt x="1542" y="2445"/>
                  </a:lnTo>
                  <a:lnTo>
                    <a:pt x="1542" y="2474"/>
                  </a:lnTo>
                  <a:lnTo>
                    <a:pt x="1535" y="2511"/>
                  </a:lnTo>
                  <a:lnTo>
                    <a:pt x="1520" y="2544"/>
                  </a:lnTo>
                  <a:lnTo>
                    <a:pt x="1534" y="2530"/>
                  </a:lnTo>
                  <a:lnTo>
                    <a:pt x="1548" y="2514"/>
                  </a:lnTo>
                  <a:lnTo>
                    <a:pt x="1559" y="2496"/>
                  </a:lnTo>
                  <a:lnTo>
                    <a:pt x="1570" y="2477"/>
                  </a:lnTo>
                  <a:lnTo>
                    <a:pt x="1580" y="2460"/>
                  </a:lnTo>
                  <a:lnTo>
                    <a:pt x="1588" y="2446"/>
                  </a:lnTo>
                  <a:lnTo>
                    <a:pt x="1596" y="2437"/>
                  </a:lnTo>
                  <a:lnTo>
                    <a:pt x="1604" y="2433"/>
                  </a:lnTo>
                  <a:lnTo>
                    <a:pt x="1610" y="2448"/>
                  </a:lnTo>
                  <a:lnTo>
                    <a:pt x="1614" y="2483"/>
                  </a:lnTo>
                  <a:lnTo>
                    <a:pt x="1610" y="2521"/>
                  </a:lnTo>
                  <a:lnTo>
                    <a:pt x="1601" y="2546"/>
                  </a:lnTo>
                  <a:lnTo>
                    <a:pt x="1614" y="2534"/>
                  </a:lnTo>
                  <a:lnTo>
                    <a:pt x="1625" y="2516"/>
                  </a:lnTo>
                  <a:lnTo>
                    <a:pt x="1635" y="2497"/>
                  </a:lnTo>
                  <a:lnTo>
                    <a:pt x="1646" y="2477"/>
                  </a:lnTo>
                  <a:lnTo>
                    <a:pt x="1656" y="2459"/>
                  </a:lnTo>
                  <a:lnTo>
                    <a:pt x="1664" y="2444"/>
                  </a:lnTo>
                  <a:lnTo>
                    <a:pt x="1672" y="2432"/>
                  </a:lnTo>
                  <a:lnTo>
                    <a:pt x="1679" y="2429"/>
                  </a:lnTo>
                  <a:lnTo>
                    <a:pt x="1688" y="2440"/>
                  </a:lnTo>
                  <a:lnTo>
                    <a:pt x="1691" y="2470"/>
                  </a:lnTo>
                  <a:lnTo>
                    <a:pt x="1688" y="2505"/>
                  </a:lnTo>
                  <a:lnTo>
                    <a:pt x="1682" y="2536"/>
                  </a:lnTo>
                  <a:lnTo>
                    <a:pt x="1693" y="2523"/>
                  </a:lnTo>
                  <a:lnTo>
                    <a:pt x="1702" y="2507"/>
                  </a:lnTo>
                  <a:lnTo>
                    <a:pt x="1711" y="2489"/>
                  </a:lnTo>
                  <a:lnTo>
                    <a:pt x="1718" y="2469"/>
                  </a:lnTo>
                  <a:lnTo>
                    <a:pt x="1726" y="2451"/>
                  </a:lnTo>
                  <a:lnTo>
                    <a:pt x="1732" y="2436"/>
                  </a:lnTo>
                  <a:lnTo>
                    <a:pt x="1739" y="2425"/>
                  </a:lnTo>
                  <a:lnTo>
                    <a:pt x="1745" y="2421"/>
                  </a:lnTo>
                  <a:lnTo>
                    <a:pt x="1755" y="2429"/>
                  </a:lnTo>
                  <a:lnTo>
                    <a:pt x="1761" y="2454"/>
                  </a:lnTo>
                  <a:lnTo>
                    <a:pt x="1761" y="2493"/>
                  </a:lnTo>
                  <a:lnTo>
                    <a:pt x="1753" y="2540"/>
                  </a:lnTo>
                  <a:lnTo>
                    <a:pt x="1763" y="2523"/>
                  </a:lnTo>
                  <a:lnTo>
                    <a:pt x="1775" y="2504"/>
                  </a:lnTo>
                  <a:lnTo>
                    <a:pt x="1786" y="2481"/>
                  </a:lnTo>
                  <a:lnTo>
                    <a:pt x="1798" y="2458"/>
                  </a:lnTo>
                  <a:lnTo>
                    <a:pt x="1807" y="2437"/>
                  </a:lnTo>
                  <a:lnTo>
                    <a:pt x="1816" y="2419"/>
                  </a:lnTo>
                  <a:lnTo>
                    <a:pt x="1824" y="2408"/>
                  </a:lnTo>
                  <a:lnTo>
                    <a:pt x="1829" y="2403"/>
                  </a:lnTo>
                  <a:lnTo>
                    <a:pt x="1837" y="2416"/>
                  </a:lnTo>
                  <a:lnTo>
                    <a:pt x="1843" y="2448"/>
                  </a:lnTo>
                  <a:lnTo>
                    <a:pt x="1845" y="2487"/>
                  </a:lnTo>
                  <a:lnTo>
                    <a:pt x="1842" y="2523"/>
                  </a:lnTo>
                  <a:lnTo>
                    <a:pt x="1853" y="2505"/>
                  </a:lnTo>
                  <a:lnTo>
                    <a:pt x="1864" y="2483"/>
                  </a:lnTo>
                  <a:lnTo>
                    <a:pt x="1874" y="2461"/>
                  </a:lnTo>
                  <a:lnTo>
                    <a:pt x="1883" y="2439"/>
                  </a:lnTo>
                  <a:lnTo>
                    <a:pt x="1891" y="2419"/>
                  </a:lnTo>
                  <a:lnTo>
                    <a:pt x="1899" y="2405"/>
                  </a:lnTo>
                  <a:lnTo>
                    <a:pt x="1905" y="2394"/>
                  </a:lnTo>
                  <a:lnTo>
                    <a:pt x="1911" y="2391"/>
                  </a:lnTo>
                  <a:lnTo>
                    <a:pt x="1916" y="2394"/>
                  </a:lnTo>
                  <a:lnTo>
                    <a:pt x="1923" y="2403"/>
                  </a:lnTo>
                  <a:lnTo>
                    <a:pt x="1929" y="2418"/>
                  </a:lnTo>
                  <a:lnTo>
                    <a:pt x="1934" y="2438"/>
                  </a:lnTo>
                  <a:lnTo>
                    <a:pt x="1936" y="2459"/>
                  </a:lnTo>
                  <a:lnTo>
                    <a:pt x="1936" y="2483"/>
                  </a:lnTo>
                  <a:lnTo>
                    <a:pt x="1934" y="2507"/>
                  </a:lnTo>
                  <a:lnTo>
                    <a:pt x="1927" y="2530"/>
                  </a:lnTo>
                  <a:lnTo>
                    <a:pt x="1938" y="2509"/>
                  </a:lnTo>
                  <a:lnTo>
                    <a:pt x="1948" y="2487"/>
                  </a:lnTo>
                  <a:lnTo>
                    <a:pt x="1955" y="2464"/>
                  </a:lnTo>
                  <a:lnTo>
                    <a:pt x="1960" y="2441"/>
                  </a:lnTo>
                  <a:lnTo>
                    <a:pt x="1964" y="2421"/>
                  </a:lnTo>
                  <a:lnTo>
                    <a:pt x="1967" y="2403"/>
                  </a:lnTo>
                  <a:lnTo>
                    <a:pt x="1971" y="2392"/>
                  </a:lnTo>
                  <a:lnTo>
                    <a:pt x="1974" y="2386"/>
                  </a:lnTo>
                  <a:lnTo>
                    <a:pt x="1979" y="2388"/>
                  </a:lnTo>
                  <a:lnTo>
                    <a:pt x="1986" y="2396"/>
                  </a:lnTo>
                  <a:lnTo>
                    <a:pt x="1991" y="2410"/>
                  </a:lnTo>
                  <a:lnTo>
                    <a:pt x="1998" y="2429"/>
                  </a:lnTo>
                  <a:lnTo>
                    <a:pt x="2002" y="2449"/>
                  </a:lnTo>
                  <a:lnTo>
                    <a:pt x="2004" y="2472"/>
                  </a:lnTo>
                  <a:lnTo>
                    <a:pt x="2003" y="2497"/>
                  </a:lnTo>
                  <a:lnTo>
                    <a:pt x="1997" y="2521"/>
                  </a:lnTo>
                  <a:lnTo>
                    <a:pt x="2009" y="2504"/>
                  </a:lnTo>
                  <a:lnTo>
                    <a:pt x="2017" y="2485"/>
                  </a:lnTo>
                  <a:lnTo>
                    <a:pt x="2024" y="2464"/>
                  </a:lnTo>
                  <a:lnTo>
                    <a:pt x="2028" y="2445"/>
                  </a:lnTo>
                  <a:lnTo>
                    <a:pt x="2032" y="2426"/>
                  </a:lnTo>
                  <a:lnTo>
                    <a:pt x="2036" y="2411"/>
                  </a:lnTo>
                  <a:lnTo>
                    <a:pt x="2040" y="2401"/>
                  </a:lnTo>
                  <a:lnTo>
                    <a:pt x="2044" y="2396"/>
                  </a:lnTo>
                  <a:lnTo>
                    <a:pt x="2050" y="2399"/>
                  </a:lnTo>
                  <a:lnTo>
                    <a:pt x="2057" y="2406"/>
                  </a:lnTo>
                  <a:lnTo>
                    <a:pt x="2063" y="2418"/>
                  </a:lnTo>
                  <a:lnTo>
                    <a:pt x="2069" y="2433"/>
                  </a:lnTo>
                  <a:lnTo>
                    <a:pt x="2073" y="2453"/>
                  </a:lnTo>
                  <a:lnTo>
                    <a:pt x="2075" y="2474"/>
                  </a:lnTo>
                  <a:lnTo>
                    <a:pt x="2075" y="2498"/>
                  </a:lnTo>
                  <a:lnTo>
                    <a:pt x="2072" y="2523"/>
                  </a:lnTo>
                  <a:lnTo>
                    <a:pt x="2084" y="2506"/>
                  </a:lnTo>
                  <a:lnTo>
                    <a:pt x="2093" y="2484"/>
                  </a:lnTo>
                  <a:lnTo>
                    <a:pt x="2100" y="2462"/>
                  </a:lnTo>
                  <a:lnTo>
                    <a:pt x="2104" y="2439"/>
                  </a:lnTo>
                  <a:lnTo>
                    <a:pt x="2109" y="2419"/>
                  </a:lnTo>
                  <a:lnTo>
                    <a:pt x="2112" y="2402"/>
                  </a:lnTo>
                  <a:lnTo>
                    <a:pt x="2116" y="2390"/>
                  </a:lnTo>
                  <a:lnTo>
                    <a:pt x="2120" y="2384"/>
                  </a:lnTo>
                  <a:lnTo>
                    <a:pt x="2126" y="2386"/>
                  </a:lnTo>
                  <a:lnTo>
                    <a:pt x="2134" y="2395"/>
                  </a:lnTo>
                  <a:lnTo>
                    <a:pt x="2141" y="2410"/>
                  </a:lnTo>
                  <a:lnTo>
                    <a:pt x="2148" y="2430"/>
                  </a:lnTo>
                  <a:lnTo>
                    <a:pt x="2153" y="2452"/>
                  </a:lnTo>
                  <a:lnTo>
                    <a:pt x="2155" y="2476"/>
                  </a:lnTo>
                  <a:lnTo>
                    <a:pt x="2153" y="2501"/>
                  </a:lnTo>
                  <a:lnTo>
                    <a:pt x="2146" y="2525"/>
                  </a:lnTo>
                  <a:lnTo>
                    <a:pt x="2158" y="2508"/>
                  </a:lnTo>
                  <a:lnTo>
                    <a:pt x="2168" y="2486"/>
                  </a:lnTo>
                  <a:lnTo>
                    <a:pt x="2175" y="2463"/>
                  </a:lnTo>
                  <a:lnTo>
                    <a:pt x="2180" y="2440"/>
                  </a:lnTo>
                  <a:lnTo>
                    <a:pt x="2184" y="2418"/>
                  </a:lnTo>
                  <a:lnTo>
                    <a:pt x="2187" y="2400"/>
                  </a:lnTo>
                  <a:lnTo>
                    <a:pt x="2191" y="2388"/>
                  </a:lnTo>
                  <a:lnTo>
                    <a:pt x="2194" y="2384"/>
                  </a:lnTo>
                  <a:lnTo>
                    <a:pt x="2199" y="2385"/>
                  </a:lnTo>
                  <a:lnTo>
                    <a:pt x="2204" y="2391"/>
                  </a:lnTo>
                  <a:lnTo>
                    <a:pt x="2210" y="2400"/>
                  </a:lnTo>
                  <a:lnTo>
                    <a:pt x="2216" y="2414"/>
                  </a:lnTo>
                  <a:lnTo>
                    <a:pt x="2221" y="2432"/>
                  </a:lnTo>
                  <a:lnTo>
                    <a:pt x="2223" y="2455"/>
                  </a:lnTo>
                  <a:lnTo>
                    <a:pt x="2224" y="2483"/>
                  </a:lnTo>
                  <a:lnTo>
                    <a:pt x="2223" y="2517"/>
                  </a:lnTo>
                  <a:lnTo>
                    <a:pt x="2231" y="2501"/>
                  </a:lnTo>
                  <a:lnTo>
                    <a:pt x="2238" y="2482"/>
                  </a:lnTo>
                  <a:lnTo>
                    <a:pt x="2245" y="2460"/>
                  </a:lnTo>
                  <a:lnTo>
                    <a:pt x="2252" y="2438"/>
                  </a:lnTo>
                  <a:lnTo>
                    <a:pt x="2257" y="2418"/>
                  </a:lnTo>
                  <a:lnTo>
                    <a:pt x="2263" y="2401"/>
                  </a:lnTo>
                  <a:lnTo>
                    <a:pt x="2268" y="2390"/>
                  </a:lnTo>
                  <a:lnTo>
                    <a:pt x="2272" y="2384"/>
                  </a:lnTo>
                  <a:lnTo>
                    <a:pt x="2277" y="2386"/>
                  </a:lnTo>
                  <a:lnTo>
                    <a:pt x="2284" y="2394"/>
                  </a:lnTo>
                  <a:lnTo>
                    <a:pt x="2290" y="2407"/>
                  </a:lnTo>
                  <a:lnTo>
                    <a:pt x="2297" y="2423"/>
                  </a:lnTo>
                  <a:lnTo>
                    <a:pt x="2301" y="2443"/>
                  </a:lnTo>
                  <a:lnTo>
                    <a:pt x="2305" y="2463"/>
                  </a:lnTo>
                  <a:lnTo>
                    <a:pt x="2307" y="2484"/>
                  </a:lnTo>
                  <a:lnTo>
                    <a:pt x="2305" y="2505"/>
                  </a:lnTo>
                  <a:lnTo>
                    <a:pt x="2317" y="2466"/>
                  </a:lnTo>
                  <a:lnTo>
                    <a:pt x="2322" y="2422"/>
                  </a:lnTo>
                  <a:lnTo>
                    <a:pt x="2325" y="2387"/>
                  </a:lnTo>
                  <a:lnTo>
                    <a:pt x="2332" y="2370"/>
                  </a:lnTo>
                  <a:lnTo>
                    <a:pt x="2338" y="2370"/>
                  </a:lnTo>
                  <a:lnTo>
                    <a:pt x="2345" y="2375"/>
                  </a:lnTo>
                  <a:lnTo>
                    <a:pt x="2351" y="2384"/>
                  </a:lnTo>
                  <a:lnTo>
                    <a:pt x="2355" y="2396"/>
                  </a:lnTo>
                  <a:lnTo>
                    <a:pt x="2360" y="2413"/>
                  </a:lnTo>
                  <a:lnTo>
                    <a:pt x="2362" y="2432"/>
                  </a:lnTo>
                  <a:lnTo>
                    <a:pt x="2362" y="2455"/>
                  </a:lnTo>
                  <a:lnTo>
                    <a:pt x="2360" y="2479"/>
                  </a:lnTo>
                  <a:lnTo>
                    <a:pt x="2373" y="2461"/>
                  </a:lnTo>
                  <a:lnTo>
                    <a:pt x="2381" y="2440"/>
                  </a:lnTo>
                  <a:lnTo>
                    <a:pt x="2384" y="2419"/>
                  </a:lnTo>
                  <a:lnTo>
                    <a:pt x="2384" y="2400"/>
                  </a:lnTo>
                  <a:lnTo>
                    <a:pt x="2383" y="2383"/>
                  </a:lnTo>
                  <a:lnTo>
                    <a:pt x="2383" y="2368"/>
                  </a:lnTo>
                  <a:lnTo>
                    <a:pt x="2383" y="2356"/>
                  </a:lnTo>
                  <a:lnTo>
                    <a:pt x="2385" y="2350"/>
                  </a:lnTo>
                  <a:lnTo>
                    <a:pt x="2391" y="2349"/>
                  </a:lnTo>
                  <a:lnTo>
                    <a:pt x="2398" y="2350"/>
                  </a:lnTo>
                  <a:lnTo>
                    <a:pt x="2407" y="2356"/>
                  </a:lnTo>
                  <a:lnTo>
                    <a:pt x="2415" y="2364"/>
                  </a:lnTo>
                  <a:lnTo>
                    <a:pt x="2424" y="2377"/>
                  </a:lnTo>
                  <a:lnTo>
                    <a:pt x="2431" y="2392"/>
                  </a:lnTo>
                  <a:lnTo>
                    <a:pt x="2437" y="2410"/>
                  </a:lnTo>
                  <a:lnTo>
                    <a:pt x="2441" y="2432"/>
                  </a:lnTo>
                  <a:lnTo>
                    <a:pt x="2449" y="2414"/>
                  </a:lnTo>
                  <a:lnTo>
                    <a:pt x="2454" y="2395"/>
                  </a:lnTo>
                  <a:lnTo>
                    <a:pt x="2460" y="2377"/>
                  </a:lnTo>
                  <a:lnTo>
                    <a:pt x="2465" y="2360"/>
                  </a:lnTo>
                  <a:lnTo>
                    <a:pt x="2468" y="2345"/>
                  </a:lnTo>
                  <a:lnTo>
                    <a:pt x="2472" y="2333"/>
                  </a:lnTo>
                  <a:lnTo>
                    <a:pt x="2475" y="2325"/>
                  </a:lnTo>
                  <a:lnTo>
                    <a:pt x="2479" y="2322"/>
                  </a:lnTo>
                  <a:lnTo>
                    <a:pt x="2487" y="2322"/>
                  </a:lnTo>
                  <a:lnTo>
                    <a:pt x="2497" y="2328"/>
                  </a:lnTo>
                  <a:lnTo>
                    <a:pt x="2505" y="2341"/>
                  </a:lnTo>
                  <a:lnTo>
                    <a:pt x="2507" y="2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0520" y="1410840"/>
              <a:ext cx="179640" cy="199440"/>
            </a:xfrm>
            <a:custGeom>
              <a:avLst/>
              <a:gdLst/>
              <a:ahLst/>
              <a:rect l="l" t="t" r="r" b="b"/>
              <a:pathLst>
                <a:path w="358" h="436">
                  <a:moveTo>
                    <a:pt x="234" y="81"/>
                  </a:moveTo>
                  <a:lnTo>
                    <a:pt x="229" y="75"/>
                  </a:lnTo>
                  <a:lnTo>
                    <a:pt x="225" y="71"/>
                  </a:lnTo>
                  <a:lnTo>
                    <a:pt x="219" y="67"/>
                  </a:lnTo>
                  <a:lnTo>
                    <a:pt x="213" y="65"/>
                  </a:lnTo>
                  <a:lnTo>
                    <a:pt x="207" y="63"/>
                  </a:lnTo>
                  <a:lnTo>
                    <a:pt x="202" y="60"/>
                  </a:lnTo>
                  <a:lnTo>
                    <a:pt x="197" y="60"/>
                  </a:lnTo>
                  <a:lnTo>
                    <a:pt x="191" y="59"/>
                  </a:lnTo>
                  <a:lnTo>
                    <a:pt x="177" y="60"/>
                  </a:lnTo>
                  <a:lnTo>
                    <a:pt x="163" y="65"/>
                  </a:lnTo>
                  <a:lnTo>
                    <a:pt x="150" y="72"/>
                  </a:lnTo>
                  <a:lnTo>
                    <a:pt x="136" y="82"/>
                  </a:lnTo>
                  <a:lnTo>
                    <a:pt x="123" y="96"/>
                  </a:lnTo>
                  <a:lnTo>
                    <a:pt x="111" y="112"/>
                  </a:lnTo>
                  <a:lnTo>
                    <a:pt x="99" y="129"/>
                  </a:lnTo>
                  <a:lnTo>
                    <a:pt x="90" y="150"/>
                  </a:lnTo>
                  <a:lnTo>
                    <a:pt x="83" y="166"/>
                  </a:lnTo>
                  <a:lnTo>
                    <a:pt x="76" y="184"/>
                  </a:lnTo>
                  <a:lnTo>
                    <a:pt x="69" y="201"/>
                  </a:lnTo>
                  <a:lnTo>
                    <a:pt x="63" y="218"/>
                  </a:lnTo>
                  <a:lnTo>
                    <a:pt x="56" y="237"/>
                  </a:lnTo>
                  <a:lnTo>
                    <a:pt x="51" y="254"/>
                  </a:lnTo>
                  <a:lnTo>
                    <a:pt x="46" y="272"/>
                  </a:lnTo>
                  <a:lnTo>
                    <a:pt x="40" y="290"/>
                  </a:lnTo>
                  <a:lnTo>
                    <a:pt x="64" y="290"/>
                  </a:lnTo>
                  <a:lnTo>
                    <a:pt x="62" y="303"/>
                  </a:lnTo>
                  <a:lnTo>
                    <a:pt x="60" y="323"/>
                  </a:lnTo>
                  <a:lnTo>
                    <a:pt x="59" y="340"/>
                  </a:lnTo>
                  <a:lnTo>
                    <a:pt x="58" y="347"/>
                  </a:lnTo>
                  <a:lnTo>
                    <a:pt x="24" y="347"/>
                  </a:lnTo>
                  <a:lnTo>
                    <a:pt x="22" y="355"/>
                  </a:lnTo>
                  <a:lnTo>
                    <a:pt x="19" y="362"/>
                  </a:lnTo>
                  <a:lnTo>
                    <a:pt x="18" y="370"/>
                  </a:lnTo>
                  <a:lnTo>
                    <a:pt x="16" y="377"/>
                  </a:lnTo>
                  <a:lnTo>
                    <a:pt x="59" y="377"/>
                  </a:lnTo>
                  <a:lnTo>
                    <a:pt x="64" y="406"/>
                  </a:lnTo>
                  <a:lnTo>
                    <a:pt x="9" y="407"/>
                  </a:lnTo>
                  <a:lnTo>
                    <a:pt x="0" y="434"/>
                  </a:lnTo>
                  <a:lnTo>
                    <a:pt x="104" y="434"/>
                  </a:lnTo>
                  <a:lnTo>
                    <a:pt x="91" y="413"/>
                  </a:lnTo>
                  <a:lnTo>
                    <a:pt x="82" y="390"/>
                  </a:lnTo>
                  <a:lnTo>
                    <a:pt x="77" y="364"/>
                  </a:lnTo>
                  <a:lnTo>
                    <a:pt x="76" y="337"/>
                  </a:lnTo>
                  <a:lnTo>
                    <a:pt x="78" y="308"/>
                  </a:lnTo>
                  <a:lnTo>
                    <a:pt x="84" y="279"/>
                  </a:lnTo>
                  <a:lnTo>
                    <a:pt x="92" y="250"/>
                  </a:lnTo>
                  <a:lnTo>
                    <a:pt x="102" y="223"/>
                  </a:lnTo>
                  <a:lnTo>
                    <a:pt x="114" y="196"/>
                  </a:lnTo>
                  <a:lnTo>
                    <a:pt x="127" y="171"/>
                  </a:lnTo>
                  <a:lnTo>
                    <a:pt x="140" y="149"/>
                  </a:lnTo>
                  <a:lnTo>
                    <a:pt x="154" y="129"/>
                  </a:lnTo>
                  <a:lnTo>
                    <a:pt x="168" y="114"/>
                  </a:lnTo>
                  <a:lnTo>
                    <a:pt x="182" y="104"/>
                  </a:lnTo>
                  <a:lnTo>
                    <a:pt x="196" y="99"/>
                  </a:lnTo>
                  <a:lnTo>
                    <a:pt x="207" y="99"/>
                  </a:lnTo>
                  <a:lnTo>
                    <a:pt x="219" y="112"/>
                  </a:lnTo>
                  <a:lnTo>
                    <a:pt x="227" y="139"/>
                  </a:lnTo>
                  <a:lnTo>
                    <a:pt x="230" y="176"/>
                  </a:lnTo>
                  <a:lnTo>
                    <a:pt x="226" y="216"/>
                  </a:lnTo>
                  <a:lnTo>
                    <a:pt x="214" y="256"/>
                  </a:lnTo>
                  <a:lnTo>
                    <a:pt x="192" y="292"/>
                  </a:lnTo>
                  <a:lnTo>
                    <a:pt x="160" y="316"/>
                  </a:lnTo>
                  <a:lnTo>
                    <a:pt x="115" y="326"/>
                  </a:lnTo>
                  <a:lnTo>
                    <a:pt x="108" y="355"/>
                  </a:lnTo>
                  <a:lnTo>
                    <a:pt x="109" y="378"/>
                  </a:lnTo>
                  <a:lnTo>
                    <a:pt x="114" y="398"/>
                  </a:lnTo>
                  <a:lnTo>
                    <a:pt x="123" y="412"/>
                  </a:lnTo>
                  <a:lnTo>
                    <a:pt x="135" y="423"/>
                  </a:lnTo>
                  <a:lnTo>
                    <a:pt x="146" y="430"/>
                  </a:lnTo>
                  <a:lnTo>
                    <a:pt x="158" y="435"/>
                  </a:lnTo>
                  <a:lnTo>
                    <a:pt x="167" y="436"/>
                  </a:lnTo>
                  <a:lnTo>
                    <a:pt x="195" y="432"/>
                  </a:lnTo>
                  <a:lnTo>
                    <a:pt x="220" y="421"/>
                  </a:lnTo>
                  <a:lnTo>
                    <a:pt x="244" y="405"/>
                  </a:lnTo>
                  <a:lnTo>
                    <a:pt x="267" y="383"/>
                  </a:lnTo>
                  <a:lnTo>
                    <a:pt x="287" y="356"/>
                  </a:lnTo>
                  <a:lnTo>
                    <a:pt x="305" y="325"/>
                  </a:lnTo>
                  <a:lnTo>
                    <a:pt x="321" y="293"/>
                  </a:lnTo>
                  <a:lnTo>
                    <a:pt x="334" y="257"/>
                  </a:lnTo>
                  <a:lnTo>
                    <a:pt x="344" y="222"/>
                  </a:lnTo>
                  <a:lnTo>
                    <a:pt x="352" y="185"/>
                  </a:lnTo>
                  <a:lnTo>
                    <a:pt x="357" y="148"/>
                  </a:lnTo>
                  <a:lnTo>
                    <a:pt x="358" y="112"/>
                  </a:lnTo>
                  <a:lnTo>
                    <a:pt x="356" y="80"/>
                  </a:lnTo>
                  <a:lnTo>
                    <a:pt x="349" y="49"/>
                  </a:lnTo>
                  <a:lnTo>
                    <a:pt x="340" y="22"/>
                  </a:lnTo>
                  <a:lnTo>
                    <a:pt x="326" y="0"/>
                  </a:lnTo>
                  <a:lnTo>
                    <a:pt x="231" y="8"/>
                  </a:lnTo>
                  <a:lnTo>
                    <a:pt x="234" y="32"/>
                  </a:lnTo>
                  <a:lnTo>
                    <a:pt x="314" y="32"/>
                  </a:lnTo>
                  <a:lnTo>
                    <a:pt x="319" y="43"/>
                  </a:lnTo>
                  <a:lnTo>
                    <a:pt x="324" y="55"/>
                  </a:lnTo>
                  <a:lnTo>
                    <a:pt x="327" y="67"/>
                  </a:lnTo>
                  <a:lnTo>
                    <a:pt x="329" y="80"/>
                  </a:lnTo>
                  <a:lnTo>
                    <a:pt x="234" y="81"/>
                  </a:lnTo>
                  <a:lnTo>
                    <a:pt x="245" y="108"/>
                  </a:lnTo>
                  <a:lnTo>
                    <a:pt x="329" y="108"/>
                  </a:lnTo>
                  <a:lnTo>
                    <a:pt x="329" y="120"/>
                  </a:lnTo>
                  <a:lnTo>
                    <a:pt x="329" y="133"/>
                  </a:lnTo>
                  <a:lnTo>
                    <a:pt x="329" y="146"/>
                  </a:lnTo>
                  <a:lnTo>
                    <a:pt x="328" y="158"/>
                  </a:lnTo>
                  <a:lnTo>
                    <a:pt x="254" y="161"/>
                  </a:lnTo>
                  <a:lnTo>
                    <a:pt x="254" y="186"/>
                  </a:lnTo>
                  <a:lnTo>
                    <a:pt x="325" y="182"/>
                  </a:lnTo>
                  <a:lnTo>
                    <a:pt x="322" y="192"/>
                  </a:lnTo>
                  <a:lnTo>
                    <a:pt x="320" y="201"/>
                  </a:lnTo>
                  <a:lnTo>
                    <a:pt x="318" y="211"/>
                  </a:lnTo>
                  <a:lnTo>
                    <a:pt x="316" y="220"/>
                  </a:lnTo>
                  <a:lnTo>
                    <a:pt x="250" y="220"/>
                  </a:lnTo>
                  <a:lnTo>
                    <a:pt x="244" y="246"/>
                  </a:lnTo>
                  <a:lnTo>
                    <a:pt x="306" y="246"/>
                  </a:lnTo>
                  <a:lnTo>
                    <a:pt x="301" y="261"/>
                  </a:lnTo>
                  <a:lnTo>
                    <a:pt x="294" y="276"/>
                  </a:lnTo>
                  <a:lnTo>
                    <a:pt x="287" y="290"/>
                  </a:lnTo>
                  <a:lnTo>
                    <a:pt x="279" y="302"/>
                  </a:lnTo>
                  <a:lnTo>
                    <a:pt x="220" y="300"/>
                  </a:lnTo>
                  <a:lnTo>
                    <a:pt x="203" y="322"/>
                  </a:lnTo>
                  <a:lnTo>
                    <a:pt x="264" y="322"/>
                  </a:lnTo>
                  <a:lnTo>
                    <a:pt x="258" y="326"/>
                  </a:lnTo>
                  <a:lnTo>
                    <a:pt x="253" y="332"/>
                  </a:lnTo>
                  <a:lnTo>
                    <a:pt x="248" y="337"/>
                  </a:lnTo>
                  <a:lnTo>
                    <a:pt x="242" y="341"/>
                  </a:lnTo>
                  <a:lnTo>
                    <a:pt x="177" y="341"/>
                  </a:lnTo>
                  <a:lnTo>
                    <a:pt x="183" y="337"/>
                  </a:lnTo>
                  <a:lnTo>
                    <a:pt x="190" y="332"/>
                  </a:lnTo>
                  <a:lnTo>
                    <a:pt x="197" y="328"/>
                  </a:lnTo>
                  <a:lnTo>
                    <a:pt x="203" y="322"/>
                  </a:lnTo>
                  <a:lnTo>
                    <a:pt x="220" y="300"/>
                  </a:lnTo>
                  <a:lnTo>
                    <a:pt x="228" y="288"/>
                  </a:lnTo>
                  <a:lnTo>
                    <a:pt x="234" y="275"/>
                  </a:lnTo>
                  <a:lnTo>
                    <a:pt x="240" y="260"/>
                  </a:lnTo>
                  <a:lnTo>
                    <a:pt x="244" y="246"/>
                  </a:lnTo>
                  <a:lnTo>
                    <a:pt x="250" y="220"/>
                  </a:lnTo>
                  <a:lnTo>
                    <a:pt x="251" y="212"/>
                  </a:lnTo>
                  <a:lnTo>
                    <a:pt x="252" y="203"/>
                  </a:lnTo>
                  <a:lnTo>
                    <a:pt x="253" y="195"/>
                  </a:lnTo>
                  <a:lnTo>
                    <a:pt x="254" y="186"/>
                  </a:lnTo>
                  <a:lnTo>
                    <a:pt x="254" y="161"/>
                  </a:lnTo>
                  <a:lnTo>
                    <a:pt x="253" y="147"/>
                  </a:lnTo>
                  <a:lnTo>
                    <a:pt x="252" y="133"/>
                  </a:lnTo>
                  <a:lnTo>
                    <a:pt x="250" y="119"/>
                  </a:lnTo>
                  <a:lnTo>
                    <a:pt x="245" y="108"/>
                  </a:lnTo>
                  <a:lnTo>
                    <a:pt x="234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5720" y="172368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5720" y="194436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5720" y="216468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641680" y="2362320"/>
            <a:ext cx="6933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17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Buscan </a:t>
            </a:r>
            <a:r>
              <a:rPr b="0" lang="es-AR" sz="2500" spc="-1" strike="noStrike" u="sng">
                <a:solidFill>
                  <a:srgbClr val="ffffff"/>
                </a:solidFill>
                <a:uFillTx/>
                <a:latin typeface="Arial"/>
              </a:rPr>
              <a:t>motivar</a:t>
            </a: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 a los empleados para el logro de determinados objetivos y conducta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Recompensan el cumplimiento de metas cuyos determinantes se conocen previament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Ventas, resultados por equipos, participación en utilidades, apreciaciones de valor, etc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Tipos de Plan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1680" y="1599840"/>
            <a:ext cx="478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Incentiv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1371600"/>
            <a:ext cx="1703520" cy="1233360"/>
            <a:chOff x="914400" y="1371600"/>
            <a:chExt cx="1703520" cy="1233360"/>
          </a:xfrm>
        </p:grpSpPr>
        <p:sp>
          <p:nvSpPr>
            <p:cNvPr id="137" name=""/>
            <p:cNvSpPr/>
            <p:nvPr/>
          </p:nvSpPr>
          <p:spPr>
            <a:xfrm>
              <a:off x="914400" y="1371600"/>
              <a:ext cx="1703520" cy="1233360"/>
            </a:xfrm>
            <a:custGeom>
              <a:avLst/>
              <a:gdLst/>
              <a:ahLst/>
              <a:rect l="l" t="t" r="r" b="b"/>
              <a:pathLst>
                <a:path w="3416" h="2688">
                  <a:moveTo>
                    <a:pt x="436" y="2107"/>
                  </a:moveTo>
                  <a:lnTo>
                    <a:pt x="431" y="2107"/>
                  </a:lnTo>
                  <a:lnTo>
                    <a:pt x="419" y="2107"/>
                  </a:lnTo>
                  <a:lnTo>
                    <a:pt x="400" y="2107"/>
                  </a:lnTo>
                  <a:lnTo>
                    <a:pt x="377" y="2107"/>
                  </a:lnTo>
                  <a:lnTo>
                    <a:pt x="353" y="2107"/>
                  </a:lnTo>
                  <a:lnTo>
                    <a:pt x="329" y="2107"/>
                  </a:lnTo>
                  <a:lnTo>
                    <a:pt x="306" y="2107"/>
                  </a:lnTo>
                  <a:lnTo>
                    <a:pt x="287" y="2107"/>
                  </a:lnTo>
                  <a:lnTo>
                    <a:pt x="278" y="2107"/>
                  </a:lnTo>
                  <a:lnTo>
                    <a:pt x="269" y="2108"/>
                  </a:lnTo>
                  <a:lnTo>
                    <a:pt x="257" y="2111"/>
                  </a:lnTo>
                  <a:lnTo>
                    <a:pt x="246" y="2113"/>
                  </a:lnTo>
                  <a:lnTo>
                    <a:pt x="233" y="2117"/>
                  </a:lnTo>
                  <a:lnTo>
                    <a:pt x="220" y="2121"/>
                  </a:lnTo>
                  <a:lnTo>
                    <a:pt x="207" y="2127"/>
                  </a:lnTo>
                  <a:lnTo>
                    <a:pt x="193" y="2133"/>
                  </a:lnTo>
                  <a:lnTo>
                    <a:pt x="179" y="2141"/>
                  </a:lnTo>
                  <a:lnTo>
                    <a:pt x="165" y="2150"/>
                  </a:lnTo>
                  <a:lnTo>
                    <a:pt x="151" y="2160"/>
                  </a:lnTo>
                  <a:lnTo>
                    <a:pt x="138" y="2172"/>
                  </a:lnTo>
                  <a:lnTo>
                    <a:pt x="125" y="2185"/>
                  </a:lnTo>
                  <a:lnTo>
                    <a:pt x="112" y="2199"/>
                  </a:lnTo>
                  <a:lnTo>
                    <a:pt x="101" y="2216"/>
                  </a:lnTo>
                  <a:lnTo>
                    <a:pt x="90" y="2233"/>
                  </a:lnTo>
                  <a:lnTo>
                    <a:pt x="65" y="2282"/>
                  </a:lnTo>
                  <a:lnTo>
                    <a:pt x="43" y="2333"/>
                  </a:lnTo>
                  <a:lnTo>
                    <a:pt x="25" y="2383"/>
                  </a:lnTo>
                  <a:lnTo>
                    <a:pt x="12" y="2430"/>
                  </a:lnTo>
                  <a:lnTo>
                    <a:pt x="4" y="2476"/>
                  </a:lnTo>
                  <a:lnTo>
                    <a:pt x="0" y="2519"/>
                  </a:lnTo>
                  <a:lnTo>
                    <a:pt x="2" y="2557"/>
                  </a:lnTo>
                  <a:lnTo>
                    <a:pt x="10" y="2591"/>
                  </a:lnTo>
                  <a:lnTo>
                    <a:pt x="15" y="2605"/>
                  </a:lnTo>
                  <a:lnTo>
                    <a:pt x="23" y="2620"/>
                  </a:lnTo>
                  <a:lnTo>
                    <a:pt x="35" y="2636"/>
                  </a:lnTo>
                  <a:lnTo>
                    <a:pt x="50" y="2651"/>
                  </a:lnTo>
                  <a:lnTo>
                    <a:pt x="67" y="2666"/>
                  </a:lnTo>
                  <a:lnTo>
                    <a:pt x="88" y="2678"/>
                  </a:lnTo>
                  <a:lnTo>
                    <a:pt x="112" y="2686"/>
                  </a:lnTo>
                  <a:lnTo>
                    <a:pt x="140" y="2688"/>
                  </a:lnTo>
                  <a:lnTo>
                    <a:pt x="155" y="2688"/>
                  </a:lnTo>
                  <a:lnTo>
                    <a:pt x="182" y="2688"/>
                  </a:lnTo>
                  <a:lnTo>
                    <a:pt x="222" y="2687"/>
                  </a:lnTo>
                  <a:lnTo>
                    <a:pt x="271" y="2686"/>
                  </a:lnTo>
                  <a:lnTo>
                    <a:pt x="331" y="2685"/>
                  </a:lnTo>
                  <a:lnTo>
                    <a:pt x="399" y="2683"/>
                  </a:lnTo>
                  <a:lnTo>
                    <a:pt x="476" y="2682"/>
                  </a:lnTo>
                  <a:lnTo>
                    <a:pt x="560" y="2680"/>
                  </a:lnTo>
                  <a:lnTo>
                    <a:pt x="651" y="2679"/>
                  </a:lnTo>
                  <a:lnTo>
                    <a:pt x="747" y="2676"/>
                  </a:lnTo>
                  <a:lnTo>
                    <a:pt x="848" y="2675"/>
                  </a:lnTo>
                  <a:lnTo>
                    <a:pt x="953" y="2673"/>
                  </a:lnTo>
                  <a:lnTo>
                    <a:pt x="1061" y="2671"/>
                  </a:lnTo>
                  <a:lnTo>
                    <a:pt x="1172" y="2668"/>
                  </a:lnTo>
                  <a:lnTo>
                    <a:pt x="1284" y="2666"/>
                  </a:lnTo>
                  <a:lnTo>
                    <a:pt x="1397" y="2664"/>
                  </a:lnTo>
                  <a:lnTo>
                    <a:pt x="1509" y="2662"/>
                  </a:lnTo>
                  <a:lnTo>
                    <a:pt x="1620" y="2659"/>
                  </a:lnTo>
                  <a:lnTo>
                    <a:pt x="1729" y="2657"/>
                  </a:lnTo>
                  <a:lnTo>
                    <a:pt x="1835" y="2655"/>
                  </a:lnTo>
                  <a:lnTo>
                    <a:pt x="1938" y="2652"/>
                  </a:lnTo>
                  <a:lnTo>
                    <a:pt x="2037" y="2651"/>
                  </a:lnTo>
                  <a:lnTo>
                    <a:pt x="2129" y="2649"/>
                  </a:lnTo>
                  <a:lnTo>
                    <a:pt x="2216" y="2648"/>
                  </a:lnTo>
                  <a:lnTo>
                    <a:pt x="2296" y="2645"/>
                  </a:lnTo>
                  <a:lnTo>
                    <a:pt x="2368" y="2644"/>
                  </a:lnTo>
                  <a:lnTo>
                    <a:pt x="2431" y="2643"/>
                  </a:lnTo>
                  <a:lnTo>
                    <a:pt x="2484" y="2642"/>
                  </a:lnTo>
                  <a:lnTo>
                    <a:pt x="2527" y="2641"/>
                  </a:lnTo>
                  <a:lnTo>
                    <a:pt x="2559" y="2640"/>
                  </a:lnTo>
                  <a:lnTo>
                    <a:pt x="2578" y="2640"/>
                  </a:lnTo>
                  <a:lnTo>
                    <a:pt x="2585" y="2640"/>
                  </a:lnTo>
                  <a:lnTo>
                    <a:pt x="2667" y="2620"/>
                  </a:lnTo>
                  <a:lnTo>
                    <a:pt x="2737" y="2565"/>
                  </a:lnTo>
                  <a:lnTo>
                    <a:pt x="2797" y="2478"/>
                  </a:lnTo>
                  <a:lnTo>
                    <a:pt x="2847" y="2365"/>
                  </a:lnTo>
                  <a:lnTo>
                    <a:pt x="2888" y="2229"/>
                  </a:lnTo>
                  <a:lnTo>
                    <a:pt x="2923" y="2076"/>
                  </a:lnTo>
                  <a:lnTo>
                    <a:pt x="2949" y="1909"/>
                  </a:lnTo>
                  <a:lnTo>
                    <a:pt x="2970" y="1734"/>
                  </a:lnTo>
                  <a:lnTo>
                    <a:pt x="2984" y="1555"/>
                  </a:lnTo>
                  <a:lnTo>
                    <a:pt x="2994" y="1377"/>
                  </a:lnTo>
                  <a:lnTo>
                    <a:pt x="3001" y="1203"/>
                  </a:lnTo>
                  <a:lnTo>
                    <a:pt x="3005" y="1039"/>
                  </a:lnTo>
                  <a:lnTo>
                    <a:pt x="3006" y="889"/>
                  </a:lnTo>
                  <a:lnTo>
                    <a:pt x="3006" y="758"/>
                  </a:lnTo>
                  <a:lnTo>
                    <a:pt x="3005" y="650"/>
                  </a:lnTo>
                  <a:lnTo>
                    <a:pt x="3005" y="569"/>
                  </a:lnTo>
                  <a:lnTo>
                    <a:pt x="3009" y="569"/>
                  </a:lnTo>
                  <a:lnTo>
                    <a:pt x="3022" y="569"/>
                  </a:lnTo>
                  <a:lnTo>
                    <a:pt x="3040" y="569"/>
                  </a:lnTo>
                  <a:lnTo>
                    <a:pt x="3063" y="569"/>
                  </a:lnTo>
                  <a:lnTo>
                    <a:pt x="3086" y="569"/>
                  </a:lnTo>
                  <a:lnTo>
                    <a:pt x="3111" y="569"/>
                  </a:lnTo>
                  <a:lnTo>
                    <a:pt x="3130" y="569"/>
                  </a:lnTo>
                  <a:lnTo>
                    <a:pt x="3146" y="569"/>
                  </a:lnTo>
                  <a:lnTo>
                    <a:pt x="3160" y="569"/>
                  </a:lnTo>
                  <a:lnTo>
                    <a:pt x="3179" y="568"/>
                  </a:lnTo>
                  <a:lnTo>
                    <a:pt x="3199" y="566"/>
                  </a:lnTo>
                  <a:lnTo>
                    <a:pt x="3222" y="560"/>
                  </a:lnTo>
                  <a:lnTo>
                    <a:pt x="3247" y="551"/>
                  </a:lnTo>
                  <a:lnTo>
                    <a:pt x="3273" y="536"/>
                  </a:lnTo>
                  <a:lnTo>
                    <a:pt x="3300" y="515"/>
                  </a:lnTo>
                  <a:lnTo>
                    <a:pt x="3326" y="486"/>
                  </a:lnTo>
                  <a:lnTo>
                    <a:pt x="3354" y="448"/>
                  </a:lnTo>
                  <a:lnTo>
                    <a:pt x="3376" y="408"/>
                  </a:lnTo>
                  <a:lnTo>
                    <a:pt x="3392" y="369"/>
                  </a:lnTo>
                  <a:lnTo>
                    <a:pt x="3404" y="327"/>
                  </a:lnTo>
                  <a:lnTo>
                    <a:pt x="3411" y="285"/>
                  </a:lnTo>
                  <a:lnTo>
                    <a:pt x="3416" y="242"/>
                  </a:lnTo>
                  <a:lnTo>
                    <a:pt x="3416" y="198"/>
                  </a:lnTo>
                  <a:lnTo>
                    <a:pt x="3414" y="153"/>
                  </a:lnTo>
                  <a:lnTo>
                    <a:pt x="3411" y="134"/>
                  </a:lnTo>
                  <a:lnTo>
                    <a:pt x="3407" y="115"/>
                  </a:lnTo>
                  <a:lnTo>
                    <a:pt x="3402" y="98"/>
                  </a:lnTo>
                  <a:lnTo>
                    <a:pt x="3395" y="83"/>
                  </a:lnTo>
                  <a:lnTo>
                    <a:pt x="3387" y="69"/>
                  </a:lnTo>
                  <a:lnTo>
                    <a:pt x="3377" y="56"/>
                  </a:lnTo>
                  <a:lnTo>
                    <a:pt x="3364" y="45"/>
                  </a:lnTo>
                  <a:lnTo>
                    <a:pt x="3350" y="36"/>
                  </a:lnTo>
                  <a:lnTo>
                    <a:pt x="3334" y="26"/>
                  </a:lnTo>
                  <a:lnTo>
                    <a:pt x="3316" y="20"/>
                  </a:lnTo>
                  <a:lnTo>
                    <a:pt x="3296" y="14"/>
                  </a:lnTo>
                  <a:lnTo>
                    <a:pt x="3273" y="8"/>
                  </a:lnTo>
                  <a:lnTo>
                    <a:pt x="3248" y="5"/>
                  </a:lnTo>
                  <a:lnTo>
                    <a:pt x="3220" y="2"/>
                  </a:lnTo>
                  <a:lnTo>
                    <a:pt x="3190" y="0"/>
                  </a:lnTo>
                  <a:lnTo>
                    <a:pt x="3157" y="0"/>
                  </a:lnTo>
                  <a:lnTo>
                    <a:pt x="3145" y="0"/>
                  </a:lnTo>
                  <a:lnTo>
                    <a:pt x="3122" y="1"/>
                  </a:lnTo>
                  <a:lnTo>
                    <a:pt x="3089" y="2"/>
                  </a:lnTo>
                  <a:lnTo>
                    <a:pt x="3045" y="3"/>
                  </a:lnTo>
                  <a:lnTo>
                    <a:pt x="2993" y="6"/>
                  </a:lnTo>
                  <a:lnTo>
                    <a:pt x="2932" y="8"/>
                  </a:lnTo>
                  <a:lnTo>
                    <a:pt x="2864" y="10"/>
                  </a:lnTo>
                  <a:lnTo>
                    <a:pt x="2789" y="14"/>
                  </a:lnTo>
                  <a:lnTo>
                    <a:pt x="2709" y="17"/>
                  </a:lnTo>
                  <a:lnTo>
                    <a:pt x="2623" y="21"/>
                  </a:lnTo>
                  <a:lnTo>
                    <a:pt x="2532" y="24"/>
                  </a:lnTo>
                  <a:lnTo>
                    <a:pt x="2438" y="28"/>
                  </a:lnTo>
                  <a:lnTo>
                    <a:pt x="2341" y="32"/>
                  </a:lnTo>
                  <a:lnTo>
                    <a:pt x="2242" y="36"/>
                  </a:lnTo>
                  <a:lnTo>
                    <a:pt x="2141" y="40"/>
                  </a:lnTo>
                  <a:lnTo>
                    <a:pt x="2039" y="44"/>
                  </a:lnTo>
                  <a:lnTo>
                    <a:pt x="1937" y="48"/>
                  </a:lnTo>
                  <a:lnTo>
                    <a:pt x="1835" y="53"/>
                  </a:lnTo>
                  <a:lnTo>
                    <a:pt x="1736" y="56"/>
                  </a:lnTo>
                  <a:lnTo>
                    <a:pt x="1638" y="61"/>
                  </a:lnTo>
                  <a:lnTo>
                    <a:pt x="1544" y="65"/>
                  </a:lnTo>
                  <a:lnTo>
                    <a:pt x="1453" y="68"/>
                  </a:lnTo>
                  <a:lnTo>
                    <a:pt x="1365" y="71"/>
                  </a:lnTo>
                  <a:lnTo>
                    <a:pt x="1285" y="75"/>
                  </a:lnTo>
                  <a:lnTo>
                    <a:pt x="1209" y="78"/>
                  </a:lnTo>
                  <a:lnTo>
                    <a:pt x="1140" y="81"/>
                  </a:lnTo>
                  <a:lnTo>
                    <a:pt x="1079" y="83"/>
                  </a:lnTo>
                  <a:lnTo>
                    <a:pt x="1024" y="85"/>
                  </a:lnTo>
                  <a:lnTo>
                    <a:pt x="981" y="86"/>
                  </a:lnTo>
                  <a:lnTo>
                    <a:pt x="945" y="88"/>
                  </a:lnTo>
                  <a:lnTo>
                    <a:pt x="921" y="89"/>
                  </a:lnTo>
                  <a:lnTo>
                    <a:pt x="907" y="89"/>
                  </a:lnTo>
                  <a:lnTo>
                    <a:pt x="825" y="104"/>
                  </a:lnTo>
                  <a:lnTo>
                    <a:pt x="756" y="145"/>
                  </a:lnTo>
                  <a:lnTo>
                    <a:pt x="697" y="211"/>
                  </a:lnTo>
                  <a:lnTo>
                    <a:pt x="649" y="300"/>
                  </a:lnTo>
                  <a:lnTo>
                    <a:pt x="609" y="407"/>
                  </a:lnTo>
                  <a:lnTo>
                    <a:pt x="578" y="531"/>
                  </a:lnTo>
                  <a:lnTo>
                    <a:pt x="552" y="669"/>
                  </a:lnTo>
                  <a:lnTo>
                    <a:pt x="533" y="819"/>
                  </a:lnTo>
                  <a:lnTo>
                    <a:pt x="516" y="978"/>
                  </a:lnTo>
                  <a:lnTo>
                    <a:pt x="505" y="1142"/>
                  </a:lnTo>
                  <a:lnTo>
                    <a:pt x="495" y="1310"/>
                  </a:lnTo>
                  <a:lnTo>
                    <a:pt x="485" y="1478"/>
                  </a:lnTo>
                  <a:lnTo>
                    <a:pt x="476" y="1645"/>
                  </a:lnTo>
                  <a:lnTo>
                    <a:pt x="466" y="1808"/>
                  </a:lnTo>
                  <a:lnTo>
                    <a:pt x="452" y="1962"/>
                  </a:lnTo>
                  <a:lnTo>
                    <a:pt x="436" y="2107"/>
                  </a:lnTo>
                  <a:close/>
                </a:path>
              </a:pathLst>
            </a:cu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97080" y="2365560"/>
              <a:ext cx="189360" cy="209160"/>
            </a:xfrm>
            <a:custGeom>
              <a:avLst/>
              <a:gdLst/>
              <a:ahLst/>
              <a:rect l="l" t="t" r="r" b="b"/>
              <a:pathLst>
                <a:path w="380" h="455">
                  <a:moveTo>
                    <a:pt x="107" y="156"/>
                  </a:moveTo>
                  <a:lnTo>
                    <a:pt x="114" y="149"/>
                  </a:lnTo>
                  <a:lnTo>
                    <a:pt x="123" y="142"/>
                  </a:lnTo>
                  <a:lnTo>
                    <a:pt x="131" y="137"/>
                  </a:lnTo>
                  <a:lnTo>
                    <a:pt x="138" y="135"/>
                  </a:lnTo>
                  <a:lnTo>
                    <a:pt x="146" y="138"/>
                  </a:lnTo>
                  <a:lnTo>
                    <a:pt x="152" y="149"/>
                  </a:lnTo>
                  <a:lnTo>
                    <a:pt x="157" y="164"/>
                  </a:lnTo>
                  <a:lnTo>
                    <a:pt x="158" y="182"/>
                  </a:lnTo>
                  <a:lnTo>
                    <a:pt x="155" y="202"/>
                  </a:lnTo>
                  <a:lnTo>
                    <a:pt x="151" y="221"/>
                  </a:lnTo>
                  <a:lnTo>
                    <a:pt x="143" y="240"/>
                  </a:lnTo>
                  <a:lnTo>
                    <a:pt x="130" y="255"/>
                  </a:lnTo>
                  <a:lnTo>
                    <a:pt x="196" y="255"/>
                  </a:lnTo>
                  <a:lnTo>
                    <a:pt x="201" y="229"/>
                  </a:lnTo>
                  <a:lnTo>
                    <a:pt x="168" y="229"/>
                  </a:lnTo>
                  <a:lnTo>
                    <a:pt x="173" y="222"/>
                  </a:lnTo>
                  <a:lnTo>
                    <a:pt x="176" y="214"/>
                  </a:lnTo>
                  <a:lnTo>
                    <a:pt x="178" y="205"/>
                  </a:lnTo>
                  <a:lnTo>
                    <a:pt x="180" y="196"/>
                  </a:lnTo>
                  <a:lnTo>
                    <a:pt x="205" y="196"/>
                  </a:lnTo>
                  <a:lnTo>
                    <a:pt x="208" y="172"/>
                  </a:lnTo>
                  <a:lnTo>
                    <a:pt x="178" y="172"/>
                  </a:lnTo>
                  <a:lnTo>
                    <a:pt x="178" y="163"/>
                  </a:lnTo>
                  <a:lnTo>
                    <a:pt x="178" y="151"/>
                  </a:lnTo>
                  <a:lnTo>
                    <a:pt x="177" y="139"/>
                  </a:lnTo>
                  <a:lnTo>
                    <a:pt x="175" y="128"/>
                  </a:lnTo>
                  <a:lnTo>
                    <a:pt x="205" y="128"/>
                  </a:lnTo>
                  <a:lnTo>
                    <a:pt x="203" y="103"/>
                  </a:lnTo>
                  <a:lnTo>
                    <a:pt x="201" y="103"/>
                  </a:lnTo>
                  <a:lnTo>
                    <a:pt x="198" y="103"/>
                  </a:lnTo>
                  <a:lnTo>
                    <a:pt x="193" y="103"/>
                  </a:lnTo>
                  <a:lnTo>
                    <a:pt x="187" y="103"/>
                  </a:lnTo>
                  <a:lnTo>
                    <a:pt x="178" y="103"/>
                  </a:lnTo>
                  <a:lnTo>
                    <a:pt x="170" y="103"/>
                  </a:lnTo>
                  <a:lnTo>
                    <a:pt x="161" y="103"/>
                  </a:lnTo>
                  <a:lnTo>
                    <a:pt x="152" y="103"/>
                  </a:lnTo>
                  <a:lnTo>
                    <a:pt x="142" y="105"/>
                  </a:lnTo>
                  <a:lnTo>
                    <a:pt x="129" y="111"/>
                  </a:lnTo>
                  <a:lnTo>
                    <a:pt x="115" y="120"/>
                  </a:lnTo>
                  <a:lnTo>
                    <a:pt x="100" y="136"/>
                  </a:lnTo>
                  <a:lnTo>
                    <a:pt x="86" y="157"/>
                  </a:lnTo>
                  <a:lnTo>
                    <a:pt x="72" y="183"/>
                  </a:lnTo>
                  <a:lnTo>
                    <a:pt x="61" y="216"/>
                  </a:lnTo>
                  <a:lnTo>
                    <a:pt x="52" y="256"/>
                  </a:lnTo>
                  <a:lnTo>
                    <a:pt x="46" y="292"/>
                  </a:lnTo>
                  <a:lnTo>
                    <a:pt x="44" y="326"/>
                  </a:lnTo>
                  <a:lnTo>
                    <a:pt x="44" y="357"/>
                  </a:lnTo>
                  <a:lnTo>
                    <a:pt x="46" y="385"/>
                  </a:lnTo>
                  <a:lnTo>
                    <a:pt x="53" y="408"/>
                  </a:lnTo>
                  <a:lnTo>
                    <a:pt x="63" y="426"/>
                  </a:lnTo>
                  <a:lnTo>
                    <a:pt x="77" y="438"/>
                  </a:lnTo>
                  <a:lnTo>
                    <a:pt x="96" y="443"/>
                  </a:lnTo>
                  <a:lnTo>
                    <a:pt x="115" y="443"/>
                  </a:lnTo>
                  <a:lnTo>
                    <a:pt x="134" y="439"/>
                  </a:lnTo>
                  <a:lnTo>
                    <a:pt x="150" y="434"/>
                  </a:lnTo>
                  <a:lnTo>
                    <a:pt x="166" y="426"/>
                  </a:lnTo>
                  <a:lnTo>
                    <a:pt x="180" y="417"/>
                  </a:lnTo>
                  <a:lnTo>
                    <a:pt x="195" y="404"/>
                  </a:lnTo>
                  <a:lnTo>
                    <a:pt x="208" y="391"/>
                  </a:lnTo>
                  <a:lnTo>
                    <a:pt x="222" y="375"/>
                  </a:lnTo>
                  <a:lnTo>
                    <a:pt x="187" y="376"/>
                  </a:lnTo>
                  <a:lnTo>
                    <a:pt x="192" y="368"/>
                  </a:lnTo>
                  <a:lnTo>
                    <a:pt x="199" y="355"/>
                  </a:lnTo>
                  <a:lnTo>
                    <a:pt x="207" y="343"/>
                  </a:lnTo>
                  <a:lnTo>
                    <a:pt x="212" y="335"/>
                  </a:lnTo>
                  <a:lnTo>
                    <a:pt x="261" y="335"/>
                  </a:lnTo>
                  <a:lnTo>
                    <a:pt x="282" y="301"/>
                  </a:lnTo>
                  <a:lnTo>
                    <a:pt x="227" y="302"/>
                  </a:lnTo>
                  <a:lnTo>
                    <a:pt x="231" y="288"/>
                  </a:lnTo>
                  <a:lnTo>
                    <a:pt x="237" y="273"/>
                  </a:lnTo>
                  <a:lnTo>
                    <a:pt x="242" y="258"/>
                  </a:lnTo>
                  <a:lnTo>
                    <a:pt x="245" y="244"/>
                  </a:lnTo>
                  <a:lnTo>
                    <a:pt x="307" y="244"/>
                  </a:lnTo>
                  <a:lnTo>
                    <a:pt x="320" y="211"/>
                  </a:lnTo>
                  <a:lnTo>
                    <a:pt x="252" y="212"/>
                  </a:lnTo>
                  <a:lnTo>
                    <a:pt x="253" y="204"/>
                  </a:lnTo>
                  <a:lnTo>
                    <a:pt x="254" y="195"/>
                  </a:lnTo>
                  <a:lnTo>
                    <a:pt x="256" y="186"/>
                  </a:lnTo>
                  <a:lnTo>
                    <a:pt x="257" y="178"/>
                  </a:lnTo>
                  <a:lnTo>
                    <a:pt x="332" y="178"/>
                  </a:lnTo>
                  <a:lnTo>
                    <a:pt x="342" y="145"/>
                  </a:lnTo>
                  <a:lnTo>
                    <a:pt x="260" y="145"/>
                  </a:lnTo>
                  <a:lnTo>
                    <a:pt x="261" y="134"/>
                  </a:lnTo>
                  <a:lnTo>
                    <a:pt x="261" y="122"/>
                  </a:lnTo>
                  <a:lnTo>
                    <a:pt x="263" y="112"/>
                  </a:lnTo>
                  <a:lnTo>
                    <a:pt x="263" y="101"/>
                  </a:lnTo>
                  <a:lnTo>
                    <a:pt x="355" y="101"/>
                  </a:lnTo>
                  <a:lnTo>
                    <a:pt x="363" y="73"/>
                  </a:lnTo>
                  <a:lnTo>
                    <a:pt x="260" y="73"/>
                  </a:lnTo>
                  <a:lnTo>
                    <a:pt x="259" y="63"/>
                  </a:lnTo>
                  <a:lnTo>
                    <a:pt x="257" y="53"/>
                  </a:lnTo>
                  <a:lnTo>
                    <a:pt x="254" y="43"/>
                  </a:lnTo>
                  <a:lnTo>
                    <a:pt x="250" y="33"/>
                  </a:lnTo>
                  <a:lnTo>
                    <a:pt x="372" y="33"/>
                  </a:lnTo>
                  <a:lnTo>
                    <a:pt x="380" y="0"/>
                  </a:lnTo>
                  <a:lnTo>
                    <a:pt x="355" y="0"/>
                  </a:lnTo>
                  <a:lnTo>
                    <a:pt x="329" y="0"/>
                  </a:lnTo>
                  <a:lnTo>
                    <a:pt x="303" y="0"/>
                  </a:lnTo>
                  <a:lnTo>
                    <a:pt x="278" y="1"/>
                  </a:lnTo>
                  <a:lnTo>
                    <a:pt x="253" y="2"/>
                  </a:lnTo>
                  <a:lnTo>
                    <a:pt x="231" y="4"/>
                  </a:lnTo>
                  <a:lnTo>
                    <a:pt x="213" y="5"/>
                  </a:lnTo>
                  <a:lnTo>
                    <a:pt x="198" y="6"/>
                  </a:lnTo>
                  <a:lnTo>
                    <a:pt x="163" y="15"/>
                  </a:lnTo>
                  <a:lnTo>
                    <a:pt x="131" y="32"/>
                  </a:lnTo>
                  <a:lnTo>
                    <a:pt x="104" y="55"/>
                  </a:lnTo>
                  <a:lnTo>
                    <a:pt x="78" y="85"/>
                  </a:lnTo>
                  <a:lnTo>
                    <a:pt x="56" y="120"/>
                  </a:lnTo>
                  <a:lnTo>
                    <a:pt x="38" y="158"/>
                  </a:lnTo>
                  <a:lnTo>
                    <a:pt x="23" y="197"/>
                  </a:lnTo>
                  <a:lnTo>
                    <a:pt x="11" y="237"/>
                  </a:lnTo>
                  <a:lnTo>
                    <a:pt x="3" y="278"/>
                  </a:lnTo>
                  <a:lnTo>
                    <a:pt x="0" y="317"/>
                  </a:lnTo>
                  <a:lnTo>
                    <a:pt x="0" y="354"/>
                  </a:lnTo>
                  <a:lnTo>
                    <a:pt x="3" y="386"/>
                  </a:lnTo>
                  <a:lnTo>
                    <a:pt x="11" y="414"/>
                  </a:lnTo>
                  <a:lnTo>
                    <a:pt x="23" y="436"/>
                  </a:lnTo>
                  <a:lnTo>
                    <a:pt x="39" y="449"/>
                  </a:lnTo>
                  <a:lnTo>
                    <a:pt x="60" y="455"/>
                  </a:lnTo>
                  <a:lnTo>
                    <a:pt x="41" y="432"/>
                  </a:lnTo>
                  <a:lnTo>
                    <a:pt x="29" y="406"/>
                  </a:lnTo>
                  <a:lnTo>
                    <a:pt x="21" y="375"/>
                  </a:lnTo>
                  <a:lnTo>
                    <a:pt x="17" y="342"/>
                  </a:lnTo>
                  <a:lnTo>
                    <a:pt x="18" y="308"/>
                  </a:lnTo>
                  <a:lnTo>
                    <a:pt x="23" y="272"/>
                  </a:lnTo>
                  <a:lnTo>
                    <a:pt x="31" y="236"/>
                  </a:lnTo>
                  <a:lnTo>
                    <a:pt x="41" y="202"/>
                  </a:lnTo>
                  <a:lnTo>
                    <a:pt x="55" y="168"/>
                  </a:lnTo>
                  <a:lnTo>
                    <a:pt x="70" y="136"/>
                  </a:lnTo>
                  <a:lnTo>
                    <a:pt x="87" y="107"/>
                  </a:lnTo>
                  <a:lnTo>
                    <a:pt x="106" y="83"/>
                  </a:lnTo>
                  <a:lnTo>
                    <a:pt x="125" y="62"/>
                  </a:lnTo>
                  <a:lnTo>
                    <a:pt x="145" y="47"/>
                  </a:lnTo>
                  <a:lnTo>
                    <a:pt x="166" y="38"/>
                  </a:lnTo>
                  <a:lnTo>
                    <a:pt x="185" y="36"/>
                  </a:lnTo>
                  <a:lnTo>
                    <a:pt x="212" y="54"/>
                  </a:lnTo>
                  <a:lnTo>
                    <a:pt x="227" y="98"/>
                  </a:lnTo>
                  <a:lnTo>
                    <a:pt x="229" y="160"/>
                  </a:lnTo>
                  <a:lnTo>
                    <a:pt x="222" y="231"/>
                  </a:lnTo>
                  <a:lnTo>
                    <a:pt x="204" y="301"/>
                  </a:lnTo>
                  <a:lnTo>
                    <a:pt x="177" y="362"/>
                  </a:lnTo>
                  <a:lnTo>
                    <a:pt x="142" y="406"/>
                  </a:lnTo>
                  <a:lnTo>
                    <a:pt x="99" y="422"/>
                  </a:lnTo>
                  <a:lnTo>
                    <a:pt x="87" y="418"/>
                  </a:lnTo>
                  <a:lnTo>
                    <a:pt x="79" y="410"/>
                  </a:lnTo>
                  <a:lnTo>
                    <a:pt x="72" y="398"/>
                  </a:lnTo>
                  <a:lnTo>
                    <a:pt x="68" y="381"/>
                  </a:lnTo>
                  <a:lnTo>
                    <a:pt x="138" y="381"/>
                  </a:lnTo>
                  <a:lnTo>
                    <a:pt x="151" y="363"/>
                  </a:lnTo>
                  <a:lnTo>
                    <a:pt x="64" y="354"/>
                  </a:lnTo>
                  <a:lnTo>
                    <a:pt x="63" y="345"/>
                  </a:lnTo>
                  <a:lnTo>
                    <a:pt x="63" y="334"/>
                  </a:lnTo>
                  <a:lnTo>
                    <a:pt x="63" y="324"/>
                  </a:lnTo>
                  <a:lnTo>
                    <a:pt x="64" y="312"/>
                  </a:lnTo>
                  <a:lnTo>
                    <a:pt x="177" y="312"/>
                  </a:lnTo>
                  <a:lnTo>
                    <a:pt x="175" y="290"/>
                  </a:lnTo>
                  <a:lnTo>
                    <a:pt x="68" y="285"/>
                  </a:lnTo>
                  <a:lnTo>
                    <a:pt x="70" y="273"/>
                  </a:lnTo>
                  <a:lnTo>
                    <a:pt x="72" y="263"/>
                  </a:lnTo>
                  <a:lnTo>
                    <a:pt x="75" y="254"/>
                  </a:lnTo>
                  <a:lnTo>
                    <a:pt x="77" y="242"/>
                  </a:lnTo>
                  <a:lnTo>
                    <a:pt x="129" y="236"/>
                  </a:lnTo>
                  <a:lnTo>
                    <a:pt x="139" y="216"/>
                  </a:lnTo>
                  <a:lnTo>
                    <a:pt x="86" y="209"/>
                  </a:lnTo>
                  <a:lnTo>
                    <a:pt x="90" y="197"/>
                  </a:lnTo>
                  <a:lnTo>
                    <a:pt x="93" y="188"/>
                  </a:lnTo>
                  <a:lnTo>
                    <a:pt x="97" y="179"/>
                  </a:lnTo>
                  <a:lnTo>
                    <a:pt x="100" y="169"/>
                  </a:lnTo>
                  <a:lnTo>
                    <a:pt x="144" y="168"/>
                  </a:lnTo>
                  <a:lnTo>
                    <a:pt x="130" y="156"/>
                  </a:lnTo>
                  <a:lnTo>
                    <a:pt x="107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4520" y="1391040"/>
              <a:ext cx="1485000" cy="1189440"/>
            </a:xfrm>
            <a:custGeom>
              <a:avLst/>
              <a:gdLst/>
              <a:ahLst/>
              <a:rect l="l" t="t" r="r" b="b"/>
              <a:pathLst>
                <a:path w="2976" h="2590">
                  <a:moveTo>
                    <a:pt x="2507" y="2361"/>
                  </a:moveTo>
                  <a:lnTo>
                    <a:pt x="2564" y="2173"/>
                  </a:lnTo>
                  <a:lnTo>
                    <a:pt x="2606" y="1984"/>
                  </a:lnTo>
                  <a:lnTo>
                    <a:pt x="2638" y="1796"/>
                  </a:lnTo>
                  <a:lnTo>
                    <a:pt x="2658" y="1611"/>
                  </a:lnTo>
                  <a:lnTo>
                    <a:pt x="2672" y="1427"/>
                  </a:lnTo>
                  <a:lnTo>
                    <a:pt x="2681" y="1250"/>
                  </a:lnTo>
                  <a:lnTo>
                    <a:pt x="2687" y="1077"/>
                  </a:lnTo>
                  <a:lnTo>
                    <a:pt x="2692" y="912"/>
                  </a:lnTo>
                  <a:lnTo>
                    <a:pt x="2699" y="756"/>
                  </a:lnTo>
                  <a:lnTo>
                    <a:pt x="2709" y="608"/>
                  </a:lnTo>
                  <a:lnTo>
                    <a:pt x="2725" y="472"/>
                  </a:lnTo>
                  <a:lnTo>
                    <a:pt x="2749" y="348"/>
                  </a:lnTo>
                  <a:lnTo>
                    <a:pt x="2785" y="237"/>
                  </a:lnTo>
                  <a:lnTo>
                    <a:pt x="2833" y="143"/>
                  </a:lnTo>
                  <a:lnTo>
                    <a:pt x="2896" y="63"/>
                  </a:lnTo>
                  <a:lnTo>
                    <a:pt x="2976" y="1"/>
                  </a:lnTo>
                  <a:lnTo>
                    <a:pt x="2958" y="0"/>
                  </a:lnTo>
                  <a:lnTo>
                    <a:pt x="2939" y="0"/>
                  </a:lnTo>
                  <a:lnTo>
                    <a:pt x="2921" y="0"/>
                  </a:lnTo>
                  <a:lnTo>
                    <a:pt x="2904" y="0"/>
                  </a:lnTo>
                  <a:lnTo>
                    <a:pt x="2886" y="1"/>
                  </a:lnTo>
                  <a:lnTo>
                    <a:pt x="2870" y="2"/>
                  </a:lnTo>
                  <a:lnTo>
                    <a:pt x="2854" y="3"/>
                  </a:lnTo>
                  <a:lnTo>
                    <a:pt x="2839" y="5"/>
                  </a:lnTo>
                  <a:lnTo>
                    <a:pt x="2824" y="7"/>
                  </a:lnTo>
                  <a:lnTo>
                    <a:pt x="2810" y="9"/>
                  </a:lnTo>
                  <a:lnTo>
                    <a:pt x="2797" y="11"/>
                  </a:lnTo>
                  <a:lnTo>
                    <a:pt x="2785" y="15"/>
                  </a:lnTo>
                  <a:lnTo>
                    <a:pt x="2774" y="18"/>
                  </a:lnTo>
                  <a:lnTo>
                    <a:pt x="2763" y="22"/>
                  </a:lnTo>
                  <a:lnTo>
                    <a:pt x="2754" y="26"/>
                  </a:lnTo>
                  <a:lnTo>
                    <a:pt x="2746" y="31"/>
                  </a:lnTo>
                  <a:lnTo>
                    <a:pt x="2736" y="26"/>
                  </a:lnTo>
                  <a:lnTo>
                    <a:pt x="2731" y="18"/>
                  </a:lnTo>
                  <a:lnTo>
                    <a:pt x="2730" y="8"/>
                  </a:lnTo>
                  <a:lnTo>
                    <a:pt x="2732" y="1"/>
                  </a:lnTo>
                  <a:lnTo>
                    <a:pt x="2724" y="2"/>
                  </a:lnTo>
                  <a:lnTo>
                    <a:pt x="2715" y="7"/>
                  </a:lnTo>
                  <a:lnTo>
                    <a:pt x="2707" y="11"/>
                  </a:lnTo>
                  <a:lnTo>
                    <a:pt x="2697" y="17"/>
                  </a:lnTo>
                  <a:lnTo>
                    <a:pt x="2689" y="24"/>
                  </a:lnTo>
                  <a:lnTo>
                    <a:pt x="2683" y="29"/>
                  </a:lnTo>
                  <a:lnTo>
                    <a:pt x="2676" y="33"/>
                  </a:lnTo>
                  <a:lnTo>
                    <a:pt x="2671" y="34"/>
                  </a:lnTo>
                  <a:lnTo>
                    <a:pt x="2661" y="31"/>
                  </a:lnTo>
                  <a:lnTo>
                    <a:pt x="2655" y="22"/>
                  </a:lnTo>
                  <a:lnTo>
                    <a:pt x="2653" y="10"/>
                  </a:lnTo>
                  <a:lnTo>
                    <a:pt x="2653" y="1"/>
                  </a:lnTo>
                  <a:lnTo>
                    <a:pt x="2645" y="2"/>
                  </a:lnTo>
                  <a:lnTo>
                    <a:pt x="2635" y="5"/>
                  </a:lnTo>
                  <a:lnTo>
                    <a:pt x="2626" y="9"/>
                  </a:lnTo>
                  <a:lnTo>
                    <a:pt x="2617" y="15"/>
                  </a:lnTo>
                  <a:lnTo>
                    <a:pt x="2609" y="21"/>
                  </a:lnTo>
                  <a:lnTo>
                    <a:pt x="2600" y="26"/>
                  </a:lnTo>
                  <a:lnTo>
                    <a:pt x="2592" y="31"/>
                  </a:lnTo>
                  <a:lnTo>
                    <a:pt x="2585" y="36"/>
                  </a:lnTo>
                  <a:lnTo>
                    <a:pt x="2574" y="31"/>
                  </a:lnTo>
                  <a:lnTo>
                    <a:pt x="2568" y="22"/>
                  </a:lnTo>
                  <a:lnTo>
                    <a:pt x="2564" y="11"/>
                  </a:lnTo>
                  <a:lnTo>
                    <a:pt x="2558" y="3"/>
                  </a:lnTo>
                  <a:lnTo>
                    <a:pt x="2552" y="5"/>
                  </a:lnTo>
                  <a:lnTo>
                    <a:pt x="2544" y="9"/>
                  </a:lnTo>
                  <a:lnTo>
                    <a:pt x="2534" y="14"/>
                  </a:lnTo>
                  <a:lnTo>
                    <a:pt x="2524" y="21"/>
                  </a:lnTo>
                  <a:lnTo>
                    <a:pt x="2513" y="28"/>
                  </a:lnTo>
                  <a:lnTo>
                    <a:pt x="2504" y="32"/>
                  </a:lnTo>
                  <a:lnTo>
                    <a:pt x="2496" y="37"/>
                  </a:lnTo>
                  <a:lnTo>
                    <a:pt x="2489" y="38"/>
                  </a:lnTo>
                  <a:lnTo>
                    <a:pt x="2481" y="34"/>
                  </a:lnTo>
                  <a:lnTo>
                    <a:pt x="2479" y="24"/>
                  </a:lnTo>
                  <a:lnTo>
                    <a:pt x="2479" y="13"/>
                  </a:lnTo>
                  <a:lnTo>
                    <a:pt x="2482" y="3"/>
                  </a:lnTo>
                  <a:lnTo>
                    <a:pt x="2474" y="3"/>
                  </a:lnTo>
                  <a:lnTo>
                    <a:pt x="2464" y="8"/>
                  </a:lnTo>
                  <a:lnTo>
                    <a:pt x="2453" y="15"/>
                  </a:lnTo>
                  <a:lnTo>
                    <a:pt x="2443" y="23"/>
                  </a:lnTo>
                  <a:lnTo>
                    <a:pt x="2433" y="31"/>
                  </a:lnTo>
                  <a:lnTo>
                    <a:pt x="2423" y="39"/>
                  </a:lnTo>
                  <a:lnTo>
                    <a:pt x="2414" y="44"/>
                  </a:lnTo>
                  <a:lnTo>
                    <a:pt x="2408" y="46"/>
                  </a:lnTo>
                  <a:lnTo>
                    <a:pt x="2400" y="41"/>
                  </a:lnTo>
                  <a:lnTo>
                    <a:pt x="2397" y="30"/>
                  </a:lnTo>
                  <a:lnTo>
                    <a:pt x="2396" y="15"/>
                  </a:lnTo>
                  <a:lnTo>
                    <a:pt x="2398" y="1"/>
                  </a:lnTo>
                  <a:lnTo>
                    <a:pt x="2388" y="3"/>
                  </a:lnTo>
                  <a:lnTo>
                    <a:pt x="2376" y="10"/>
                  </a:lnTo>
                  <a:lnTo>
                    <a:pt x="2365" y="20"/>
                  </a:lnTo>
                  <a:lnTo>
                    <a:pt x="2353" y="30"/>
                  </a:lnTo>
                  <a:lnTo>
                    <a:pt x="2343" y="41"/>
                  </a:lnTo>
                  <a:lnTo>
                    <a:pt x="2332" y="51"/>
                  </a:lnTo>
                  <a:lnTo>
                    <a:pt x="2324" y="58"/>
                  </a:lnTo>
                  <a:lnTo>
                    <a:pt x="2319" y="60"/>
                  </a:lnTo>
                  <a:lnTo>
                    <a:pt x="2313" y="53"/>
                  </a:lnTo>
                  <a:lnTo>
                    <a:pt x="2312" y="38"/>
                  </a:lnTo>
                  <a:lnTo>
                    <a:pt x="2315" y="20"/>
                  </a:lnTo>
                  <a:lnTo>
                    <a:pt x="2322" y="6"/>
                  </a:lnTo>
                  <a:lnTo>
                    <a:pt x="2309" y="8"/>
                  </a:lnTo>
                  <a:lnTo>
                    <a:pt x="2297" y="15"/>
                  </a:lnTo>
                  <a:lnTo>
                    <a:pt x="2284" y="25"/>
                  </a:lnTo>
                  <a:lnTo>
                    <a:pt x="2271" y="37"/>
                  </a:lnTo>
                  <a:lnTo>
                    <a:pt x="2260" y="48"/>
                  </a:lnTo>
                  <a:lnTo>
                    <a:pt x="2251" y="59"/>
                  </a:lnTo>
                  <a:lnTo>
                    <a:pt x="2241" y="66"/>
                  </a:lnTo>
                  <a:lnTo>
                    <a:pt x="2233" y="68"/>
                  </a:lnTo>
                  <a:lnTo>
                    <a:pt x="2224" y="61"/>
                  </a:lnTo>
                  <a:lnTo>
                    <a:pt x="2223" y="46"/>
                  </a:lnTo>
                  <a:lnTo>
                    <a:pt x="2229" y="28"/>
                  </a:lnTo>
                  <a:lnTo>
                    <a:pt x="2238" y="11"/>
                  </a:lnTo>
                  <a:lnTo>
                    <a:pt x="2229" y="16"/>
                  </a:lnTo>
                  <a:lnTo>
                    <a:pt x="2216" y="24"/>
                  </a:lnTo>
                  <a:lnTo>
                    <a:pt x="2203" y="34"/>
                  </a:lnTo>
                  <a:lnTo>
                    <a:pt x="2190" y="46"/>
                  </a:lnTo>
                  <a:lnTo>
                    <a:pt x="2177" y="58"/>
                  </a:lnTo>
                  <a:lnTo>
                    <a:pt x="2166" y="68"/>
                  </a:lnTo>
                  <a:lnTo>
                    <a:pt x="2158" y="75"/>
                  </a:lnTo>
                  <a:lnTo>
                    <a:pt x="2156" y="77"/>
                  </a:lnTo>
                  <a:lnTo>
                    <a:pt x="2148" y="71"/>
                  </a:lnTo>
                  <a:lnTo>
                    <a:pt x="2147" y="59"/>
                  </a:lnTo>
                  <a:lnTo>
                    <a:pt x="2153" y="43"/>
                  </a:lnTo>
                  <a:lnTo>
                    <a:pt x="2163" y="29"/>
                  </a:lnTo>
                  <a:lnTo>
                    <a:pt x="2151" y="31"/>
                  </a:lnTo>
                  <a:lnTo>
                    <a:pt x="2139" y="37"/>
                  </a:lnTo>
                  <a:lnTo>
                    <a:pt x="2126" y="45"/>
                  </a:lnTo>
                  <a:lnTo>
                    <a:pt x="2113" y="54"/>
                  </a:lnTo>
                  <a:lnTo>
                    <a:pt x="2101" y="63"/>
                  </a:lnTo>
                  <a:lnTo>
                    <a:pt x="2090" y="71"/>
                  </a:lnTo>
                  <a:lnTo>
                    <a:pt x="2082" y="77"/>
                  </a:lnTo>
                  <a:lnTo>
                    <a:pt x="2077" y="79"/>
                  </a:lnTo>
                  <a:lnTo>
                    <a:pt x="2072" y="74"/>
                  </a:lnTo>
                  <a:lnTo>
                    <a:pt x="2072" y="61"/>
                  </a:lnTo>
                  <a:lnTo>
                    <a:pt x="2074" y="45"/>
                  </a:lnTo>
                  <a:lnTo>
                    <a:pt x="2080" y="29"/>
                  </a:lnTo>
                  <a:lnTo>
                    <a:pt x="2072" y="32"/>
                  </a:lnTo>
                  <a:lnTo>
                    <a:pt x="2062" y="39"/>
                  </a:lnTo>
                  <a:lnTo>
                    <a:pt x="2050" y="48"/>
                  </a:lnTo>
                  <a:lnTo>
                    <a:pt x="2037" y="58"/>
                  </a:lnTo>
                  <a:lnTo>
                    <a:pt x="2027" y="68"/>
                  </a:lnTo>
                  <a:lnTo>
                    <a:pt x="2017" y="76"/>
                  </a:lnTo>
                  <a:lnTo>
                    <a:pt x="2010" y="83"/>
                  </a:lnTo>
                  <a:lnTo>
                    <a:pt x="2005" y="85"/>
                  </a:lnTo>
                  <a:lnTo>
                    <a:pt x="2005" y="77"/>
                  </a:lnTo>
                  <a:lnTo>
                    <a:pt x="2007" y="58"/>
                  </a:lnTo>
                  <a:lnTo>
                    <a:pt x="2011" y="36"/>
                  </a:lnTo>
                  <a:lnTo>
                    <a:pt x="2017" y="18"/>
                  </a:lnTo>
                  <a:lnTo>
                    <a:pt x="2007" y="23"/>
                  </a:lnTo>
                  <a:lnTo>
                    <a:pt x="1996" y="32"/>
                  </a:lnTo>
                  <a:lnTo>
                    <a:pt x="1983" y="43"/>
                  </a:lnTo>
                  <a:lnTo>
                    <a:pt x="1971" y="55"/>
                  </a:lnTo>
                  <a:lnTo>
                    <a:pt x="1958" y="68"/>
                  </a:lnTo>
                  <a:lnTo>
                    <a:pt x="1948" y="78"/>
                  </a:lnTo>
                  <a:lnTo>
                    <a:pt x="1938" y="85"/>
                  </a:lnTo>
                  <a:lnTo>
                    <a:pt x="1933" y="87"/>
                  </a:lnTo>
                  <a:lnTo>
                    <a:pt x="1928" y="78"/>
                  </a:lnTo>
                  <a:lnTo>
                    <a:pt x="1928" y="56"/>
                  </a:lnTo>
                  <a:lnTo>
                    <a:pt x="1930" y="31"/>
                  </a:lnTo>
                  <a:lnTo>
                    <a:pt x="1935" y="9"/>
                  </a:lnTo>
                  <a:lnTo>
                    <a:pt x="1926" y="14"/>
                  </a:lnTo>
                  <a:lnTo>
                    <a:pt x="1913" y="26"/>
                  </a:lnTo>
                  <a:lnTo>
                    <a:pt x="1899" y="43"/>
                  </a:lnTo>
                  <a:lnTo>
                    <a:pt x="1885" y="60"/>
                  </a:lnTo>
                  <a:lnTo>
                    <a:pt x="1872" y="78"/>
                  </a:lnTo>
                  <a:lnTo>
                    <a:pt x="1860" y="94"/>
                  </a:lnTo>
                  <a:lnTo>
                    <a:pt x="1850" y="105"/>
                  </a:lnTo>
                  <a:lnTo>
                    <a:pt x="1844" y="108"/>
                  </a:lnTo>
                  <a:lnTo>
                    <a:pt x="1839" y="105"/>
                  </a:lnTo>
                  <a:lnTo>
                    <a:pt x="1838" y="96"/>
                  </a:lnTo>
                  <a:lnTo>
                    <a:pt x="1840" y="84"/>
                  </a:lnTo>
                  <a:lnTo>
                    <a:pt x="1844" y="70"/>
                  </a:lnTo>
                  <a:lnTo>
                    <a:pt x="1849" y="54"/>
                  </a:lnTo>
                  <a:lnTo>
                    <a:pt x="1853" y="39"/>
                  </a:lnTo>
                  <a:lnTo>
                    <a:pt x="1859" y="24"/>
                  </a:lnTo>
                  <a:lnTo>
                    <a:pt x="1862" y="11"/>
                  </a:lnTo>
                  <a:lnTo>
                    <a:pt x="1849" y="18"/>
                  </a:lnTo>
                  <a:lnTo>
                    <a:pt x="1834" y="32"/>
                  </a:lnTo>
                  <a:lnTo>
                    <a:pt x="1816" y="52"/>
                  </a:lnTo>
                  <a:lnTo>
                    <a:pt x="1800" y="73"/>
                  </a:lnTo>
                  <a:lnTo>
                    <a:pt x="1785" y="94"/>
                  </a:lnTo>
                  <a:lnTo>
                    <a:pt x="1774" y="112"/>
                  </a:lnTo>
                  <a:lnTo>
                    <a:pt x="1763" y="126"/>
                  </a:lnTo>
                  <a:lnTo>
                    <a:pt x="1759" y="130"/>
                  </a:lnTo>
                  <a:lnTo>
                    <a:pt x="1756" y="117"/>
                  </a:lnTo>
                  <a:lnTo>
                    <a:pt x="1759" y="87"/>
                  </a:lnTo>
                  <a:lnTo>
                    <a:pt x="1763" y="52"/>
                  </a:lnTo>
                  <a:lnTo>
                    <a:pt x="1769" y="22"/>
                  </a:lnTo>
                  <a:lnTo>
                    <a:pt x="1758" y="29"/>
                  </a:lnTo>
                  <a:lnTo>
                    <a:pt x="1745" y="43"/>
                  </a:lnTo>
                  <a:lnTo>
                    <a:pt x="1732" y="62"/>
                  </a:lnTo>
                  <a:lnTo>
                    <a:pt x="1720" y="84"/>
                  </a:lnTo>
                  <a:lnTo>
                    <a:pt x="1708" y="106"/>
                  </a:lnTo>
                  <a:lnTo>
                    <a:pt x="1698" y="124"/>
                  </a:lnTo>
                  <a:lnTo>
                    <a:pt x="1690" y="137"/>
                  </a:lnTo>
                  <a:lnTo>
                    <a:pt x="1685" y="142"/>
                  </a:lnTo>
                  <a:lnTo>
                    <a:pt x="1679" y="129"/>
                  </a:lnTo>
                  <a:lnTo>
                    <a:pt x="1677" y="98"/>
                  </a:lnTo>
                  <a:lnTo>
                    <a:pt x="1679" y="59"/>
                  </a:lnTo>
                  <a:lnTo>
                    <a:pt x="1686" y="22"/>
                  </a:lnTo>
                  <a:lnTo>
                    <a:pt x="1678" y="29"/>
                  </a:lnTo>
                  <a:lnTo>
                    <a:pt x="1665" y="44"/>
                  </a:lnTo>
                  <a:lnTo>
                    <a:pt x="1649" y="63"/>
                  </a:lnTo>
                  <a:lnTo>
                    <a:pt x="1633" y="85"/>
                  </a:lnTo>
                  <a:lnTo>
                    <a:pt x="1616" y="107"/>
                  </a:lnTo>
                  <a:lnTo>
                    <a:pt x="1602" y="126"/>
                  </a:lnTo>
                  <a:lnTo>
                    <a:pt x="1591" y="138"/>
                  </a:lnTo>
                  <a:lnTo>
                    <a:pt x="1585" y="144"/>
                  </a:lnTo>
                  <a:lnTo>
                    <a:pt x="1582" y="131"/>
                  </a:lnTo>
                  <a:lnTo>
                    <a:pt x="1586" y="99"/>
                  </a:lnTo>
                  <a:lnTo>
                    <a:pt x="1594" y="60"/>
                  </a:lnTo>
                  <a:lnTo>
                    <a:pt x="1604" y="26"/>
                  </a:lnTo>
                  <a:lnTo>
                    <a:pt x="1595" y="32"/>
                  </a:lnTo>
                  <a:lnTo>
                    <a:pt x="1581" y="47"/>
                  </a:lnTo>
                  <a:lnTo>
                    <a:pt x="1565" y="68"/>
                  </a:lnTo>
                  <a:lnTo>
                    <a:pt x="1548" y="91"/>
                  </a:lnTo>
                  <a:lnTo>
                    <a:pt x="1531" y="115"/>
                  </a:lnTo>
                  <a:lnTo>
                    <a:pt x="1514" y="136"/>
                  </a:lnTo>
                  <a:lnTo>
                    <a:pt x="1503" y="151"/>
                  </a:lnTo>
                  <a:lnTo>
                    <a:pt x="1496" y="157"/>
                  </a:lnTo>
                  <a:lnTo>
                    <a:pt x="1496" y="144"/>
                  </a:lnTo>
                  <a:lnTo>
                    <a:pt x="1501" y="112"/>
                  </a:lnTo>
                  <a:lnTo>
                    <a:pt x="1508" y="71"/>
                  </a:lnTo>
                  <a:lnTo>
                    <a:pt x="1514" y="34"/>
                  </a:lnTo>
                  <a:lnTo>
                    <a:pt x="1505" y="44"/>
                  </a:lnTo>
                  <a:lnTo>
                    <a:pt x="1494" y="60"/>
                  </a:lnTo>
                  <a:lnTo>
                    <a:pt x="1480" y="83"/>
                  </a:lnTo>
                  <a:lnTo>
                    <a:pt x="1465" y="108"/>
                  </a:lnTo>
                  <a:lnTo>
                    <a:pt x="1450" y="134"/>
                  </a:lnTo>
                  <a:lnTo>
                    <a:pt x="1437" y="154"/>
                  </a:lnTo>
                  <a:lnTo>
                    <a:pt x="1427" y="170"/>
                  </a:lnTo>
                  <a:lnTo>
                    <a:pt x="1420" y="176"/>
                  </a:lnTo>
                  <a:lnTo>
                    <a:pt x="1415" y="164"/>
                  </a:lnTo>
                  <a:lnTo>
                    <a:pt x="1417" y="130"/>
                  </a:lnTo>
                  <a:lnTo>
                    <a:pt x="1425" y="85"/>
                  </a:lnTo>
                  <a:lnTo>
                    <a:pt x="1437" y="39"/>
                  </a:lnTo>
                  <a:lnTo>
                    <a:pt x="1430" y="46"/>
                  </a:lnTo>
                  <a:lnTo>
                    <a:pt x="1419" y="62"/>
                  </a:lnTo>
                  <a:lnTo>
                    <a:pt x="1405" y="84"/>
                  </a:lnTo>
                  <a:lnTo>
                    <a:pt x="1389" y="107"/>
                  </a:lnTo>
                  <a:lnTo>
                    <a:pt x="1372" y="131"/>
                  </a:lnTo>
                  <a:lnTo>
                    <a:pt x="1358" y="152"/>
                  </a:lnTo>
                  <a:lnTo>
                    <a:pt x="1346" y="166"/>
                  </a:lnTo>
                  <a:lnTo>
                    <a:pt x="1339" y="172"/>
                  </a:lnTo>
                  <a:lnTo>
                    <a:pt x="1335" y="159"/>
                  </a:lnTo>
                  <a:lnTo>
                    <a:pt x="1339" y="128"/>
                  </a:lnTo>
                  <a:lnTo>
                    <a:pt x="1349" y="87"/>
                  </a:lnTo>
                  <a:lnTo>
                    <a:pt x="1359" y="49"/>
                  </a:lnTo>
                  <a:lnTo>
                    <a:pt x="1347" y="56"/>
                  </a:lnTo>
                  <a:lnTo>
                    <a:pt x="1335" y="71"/>
                  </a:lnTo>
                  <a:lnTo>
                    <a:pt x="1321" y="92"/>
                  </a:lnTo>
                  <a:lnTo>
                    <a:pt x="1307" y="115"/>
                  </a:lnTo>
                  <a:lnTo>
                    <a:pt x="1294" y="139"/>
                  </a:lnTo>
                  <a:lnTo>
                    <a:pt x="1283" y="159"/>
                  </a:lnTo>
                  <a:lnTo>
                    <a:pt x="1274" y="173"/>
                  </a:lnTo>
                  <a:lnTo>
                    <a:pt x="1268" y="179"/>
                  </a:lnTo>
                  <a:lnTo>
                    <a:pt x="1262" y="166"/>
                  </a:lnTo>
                  <a:lnTo>
                    <a:pt x="1262" y="134"/>
                  </a:lnTo>
                  <a:lnTo>
                    <a:pt x="1268" y="93"/>
                  </a:lnTo>
                  <a:lnTo>
                    <a:pt x="1278" y="54"/>
                  </a:lnTo>
                  <a:lnTo>
                    <a:pt x="1271" y="62"/>
                  </a:lnTo>
                  <a:lnTo>
                    <a:pt x="1262" y="78"/>
                  </a:lnTo>
                  <a:lnTo>
                    <a:pt x="1250" y="100"/>
                  </a:lnTo>
                  <a:lnTo>
                    <a:pt x="1237" y="123"/>
                  </a:lnTo>
                  <a:lnTo>
                    <a:pt x="1223" y="147"/>
                  </a:lnTo>
                  <a:lnTo>
                    <a:pt x="1212" y="168"/>
                  </a:lnTo>
                  <a:lnTo>
                    <a:pt x="1201" y="183"/>
                  </a:lnTo>
                  <a:lnTo>
                    <a:pt x="1194" y="189"/>
                  </a:lnTo>
                  <a:lnTo>
                    <a:pt x="1188" y="176"/>
                  </a:lnTo>
                  <a:lnTo>
                    <a:pt x="1187" y="145"/>
                  </a:lnTo>
                  <a:lnTo>
                    <a:pt x="1192" y="106"/>
                  </a:lnTo>
                  <a:lnTo>
                    <a:pt x="1202" y="68"/>
                  </a:lnTo>
                  <a:lnTo>
                    <a:pt x="1193" y="78"/>
                  </a:lnTo>
                  <a:lnTo>
                    <a:pt x="1182" y="96"/>
                  </a:lnTo>
                  <a:lnTo>
                    <a:pt x="1168" y="117"/>
                  </a:lnTo>
                  <a:lnTo>
                    <a:pt x="1154" y="142"/>
                  </a:lnTo>
                  <a:lnTo>
                    <a:pt x="1139" y="164"/>
                  </a:lnTo>
                  <a:lnTo>
                    <a:pt x="1126" y="183"/>
                  </a:lnTo>
                  <a:lnTo>
                    <a:pt x="1116" y="197"/>
                  </a:lnTo>
                  <a:lnTo>
                    <a:pt x="1108" y="202"/>
                  </a:lnTo>
                  <a:lnTo>
                    <a:pt x="1102" y="189"/>
                  </a:lnTo>
                  <a:lnTo>
                    <a:pt x="1103" y="158"/>
                  </a:lnTo>
                  <a:lnTo>
                    <a:pt x="1110" y="117"/>
                  </a:lnTo>
                  <a:lnTo>
                    <a:pt x="1117" y="77"/>
                  </a:lnTo>
                  <a:lnTo>
                    <a:pt x="1109" y="86"/>
                  </a:lnTo>
                  <a:lnTo>
                    <a:pt x="1097" y="105"/>
                  </a:lnTo>
                  <a:lnTo>
                    <a:pt x="1083" y="128"/>
                  </a:lnTo>
                  <a:lnTo>
                    <a:pt x="1068" y="153"/>
                  </a:lnTo>
                  <a:lnTo>
                    <a:pt x="1053" y="179"/>
                  </a:lnTo>
                  <a:lnTo>
                    <a:pt x="1040" y="199"/>
                  </a:lnTo>
                  <a:lnTo>
                    <a:pt x="1032" y="214"/>
                  </a:lnTo>
                  <a:lnTo>
                    <a:pt x="1028" y="220"/>
                  </a:lnTo>
                  <a:lnTo>
                    <a:pt x="1025" y="205"/>
                  </a:lnTo>
                  <a:lnTo>
                    <a:pt x="1027" y="167"/>
                  </a:lnTo>
                  <a:lnTo>
                    <a:pt x="1034" y="121"/>
                  </a:lnTo>
                  <a:lnTo>
                    <a:pt x="1044" y="81"/>
                  </a:lnTo>
                  <a:lnTo>
                    <a:pt x="1034" y="93"/>
                  </a:lnTo>
                  <a:lnTo>
                    <a:pt x="1021" y="113"/>
                  </a:lnTo>
                  <a:lnTo>
                    <a:pt x="1006" y="136"/>
                  </a:lnTo>
                  <a:lnTo>
                    <a:pt x="993" y="160"/>
                  </a:lnTo>
                  <a:lnTo>
                    <a:pt x="980" y="184"/>
                  </a:lnTo>
                  <a:lnTo>
                    <a:pt x="968" y="204"/>
                  </a:lnTo>
                  <a:lnTo>
                    <a:pt x="959" y="218"/>
                  </a:lnTo>
                  <a:lnTo>
                    <a:pt x="955" y="222"/>
                  </a:lnTo>
                  <a:lnTo>
                    <a:pt x="951" y="208"/>
                  </a:lnTo>
                  <a:lnTo>
                    <a:pt x="951" y="175"/>
                  </a:lnTo>
                  <a:lnTo>
                    <a:pt x="956" y="134"/>
                  </a:lnTo>
                  <a:lnTo>
                    <a:pt x="964" y="98"/>
                  </a:lnTo>
                  <a:lnTo>
                    <a:pt x="956" y="109"/>
                  </a:lnTo>
                  <a:lnTo>
                    <a:pt x="943" y="127"/>
                  </a:lnTo>
                  <a:lnTo>
                    <a:pt x="929" y="150"/>
                  </a:lnTo>
                  <a:lnTo>
                    <a:pt x="914" y="174"/>
                  </a:lnTo>
                  <a:lnTo>
                    <a:pt x="899" y="198"/>
                  </a:lnTo>
                  <a:lnTo>
                    <a:pt x="887" y="218"/>
                  </a:lnTo>
                  <a:lnTo>
                    <a:pt x="877" y="232"/>
                  </a:lnTo>
                  <a:lnTo>
                    <a:pt x="872" y="237"/>
                  </a:lnTo>
                  <a:lnTo>
                    <a:pt x="867" y="223"/>
                  </a:lnTo>
                  <a:lnTo>
                    <a:pt x="867" y="191"/>
                  </a:lnTo>
                  <a:lnTo>
                    <a:pt x="872" y="151"/>
                  </a:lnTo>
                  <a:lnTo>
                    <a:pt x="879" y="111"/>
                  </a:lnTo>
                  <a:lnTo>
                    <a:pt x="869" y="122"/>
                  </a:lnTo>
                  <a:lnTo>
                    <a:pt x="858" y="140"/>
                  </a:lnTo>
                  <a:lnTo>
                    <a:pt x="844" y="164"/>
                  </a:lnTo>
                  <a:lnTo>
                    <a:pt x="828" y="189"/>
                  </a:lnTo>
                  <a:lnTo>
                    <a:pt x="813" y="214"/>
                  </a:lnTo>
                  <a:lnTo>
                    <a:pt x="800" y="235"/>
                  </a:lnTo>
                  <a:lnTo>
                    <a:pt x="790" y="249"/>
                  </a:lnTo>
                  <a:lnTo>
                    <a:pt x="783" y="253"/>
                  </a:lnTo>
                  <a:lnTo>
                    <a:pt x="780" y="240"/>
                  </a:lnTo>
                  <a:lnTo>
                    <a:pt x="782" y="207"/>
                  </a:lnTo>
                  <a:lnTo>
                    <a:pt x="789" y="167"/>
                  </a:lnTo>
                  <a:lnTo>
                    <a:pt x="795" y="131"/>
                  </a:lnTo>
                  <a:lnTo>
                    <a:pt x="786" y="143"/>
                  </a:lnTo>
                  <a:lnTo>
                    <a:pt x="774" y="162"/>
                  </a:lnTo>
                  <a:lnTo>
                    <a:pt x="761" y="187"/>
                  </a:lnTo>
                  <a:lnTo>
                    <a:pt x="746" y="213"/>
                  </a:lnTo>
                  <a:lnTo>
                    <a:pt x="732" y="237"/>
                  </a:lnTo>
                  <a:lnTo>
                    <a:pt x="720" y="259"/>
                  </a:lnTo>
                  <a:lnTo>
                    <a:pt x="709" y="273"/>
                  </a:lnTo>
                  <a:lnTo>
                    <a:pt x="704" y="279"/>
                  </a:lnTo>
                  <a:lnTo>
                    <a:pt x="700" y="264"/>
                  </a:lnTo>
                  <a:lnTo>
                    <a:pt x="704" y="229"/>
                  </a:lnTo>
                  <a:lnTo>
                    <a:pt x="712" y="185"/>
                  </a:lnTo>
                  <a:lnTo>
                    <a:pt x="727" y="142"/>
                  </a:lnTo>
                  <a:lnTo>
                    <a:pt x="716" y="154"/>
                  </a:lnTo>
                  <a:lnTo>
                    <a:pt x="704" y="174"/>
                  </a:lnTo>
                  <a:lnTo>
                    <a:pt x="687" y="199"/>
                  </a:lnTo>
                  <a:lnTo>
                    <a:pt x="670" y="226"/>
                  </a:lnTo>
                  <a:lnTo>
                    <a:pt x="654" y="252"/>
                  </a:lnTo>
                  <a:lnTo>
                    <a:pt x="639" y="274"/>
                  </a:lnTo>
                  <a:lnTo>
                    <a:pt x="629" y="290"/>
                  </a:lnTo>
                  <a:lnTo>
                    <a:pt x="623" y="296"/>
                  </a:lnTo>
                  <a:lnTo>
                    <a:pt x="618" y="282"/>
                  </a:lnTo>
                  <a:lnTo>
                    <a:pt x="619" y="248"/>
                  </a:lnTo>
                  <a:lnTo>
                    <a:pt x="625" y="203"/>
                  </a:lnTo>
                  <a:lnTo>
                    <a:pt x="639" y="159"/>
                  </a:lnTo>
                  <a:lnTo>
                    <a:pt x="629" y="170"/>
                  </a:lnTo>
                  <a:lnTo>
                    <a:pt x="615" y="189"/>
                  </a:lnTo>
                  <a:lnTo>
                    <a:pt x="600" y="212"/>
                  </a:lnTo>
                  <a:lnTo>
                    <a:pt x="584" y="236"/>
                  </a:lnTo>
                  <a:lnTo>
                    <a:pt x="569" y="260"/>
                  </a:lnTo>
                  <a:lnTo>
                    <a:pt x="556" y="281"/>
                  </a:lnTo>
                  <a:lnTo>
                    <a:pt x="547" y="296"/>
                  </a:lnTo>
                  <a:lnTo>
                    <a:pt x="541" y="302"/>
                  </a:lnTo>
                  <a:lnTo>
                    <a:pt x="536" y="299"/>
                  </a:lnTo>
                  <a:lnTo>
                    <a:pt x="535" y="291"/>
                  </a:lnTo>
                  <a:lnTo>
                    <a:pt x="535" y="279"/>
                  </a:lnTo>
                  <a:lnTo>
                    <a:pt x="538" y="263"/>
                  </a:lnTo>
                  <a:lnTo>
                    <a:pt x="542" y="245"/>
                  </a:lnTo>
                  <a:lnTo>
                    <a:pt x="547" y="227"/>
                  </a:lnTo>
                  <a:lnTo>
                    <a:pt x="554" y="208"/>
                  </a:lnTo>
                  <a:lnTo>
                    <a:pt x="562" y="192"/>
                  </a:lnTo>
                  <a:lnTo>
                    <a:pt x="551" y="202"/>
                  </a:lnTo>
                  <a:lnTo>
                    <a:pt x="536" y="219"/>
                  </a:lnTo>
                  <a:lnTo>
                    <a:pt x="520" y="240"/>
                  </a:lnTo>
                  <a:lnTo>
                    <a:pt x="502" y="261"/>
                  </a:lnTo>
                  <a:lnTo>
                    <a:pt x="485" y="283"/>
                  </a:lnTo>
                  <a:lnTo>
                    <a:pt x="470" y="301"/>
                  </a:lnTo>
                  <a:lnTo>
                    <a:pt x="457" y="313"/>
                  </a:lnTo>
                  <a:lnTo>
                    <a:pt x="450" y="317"/>
                  </a:lnTo>
                  <a:lnTo>
                    <a:pt x="444" y="309"/>
                  </a:lnTo>
                  <a:lnTo>
                    <a:pt x="445" y="291"/>
                  </a:lnTo>
                  <a:lnTo>
                    <a:pt x="451" y="271"/>
                  </a:lnTo>
                  <a:lnTo>
                    <a:pt x="459" y="252"/>
                  </a:lnTo>
                  <a:lnTo>
                    <a:pt x="421" y="312"/>
                  </a:lnTo>
                  <a:lnTo>
                    <a:pt x="393" y="407"/>
                  </a:lnTo>
                  <a:lnTo>
                    <a:pt x="371" y="530"/>
                  </a:lnTo>
                  <a:lnTo>
                    <a:pt x="353" y="679"/>
                  </a:lnTo>
                  <a:lnTo>
                    <a:pt x="340" y="847"/>
                  </a:lnTo>
                  <a:lnTo>
                    <a:pt x="328" y="1029"/>
                  </a:lnTo>
                  <a:lnTo>
                    <a:pt x="318" y="1220"/>
                  </a:lnTo>
                  <a:lnTo>
                    <a:pt x="306" y="1417"/>
                  </a:lnTo>
                  <a:lnTo>
                    <a:pt x="292" y="1613"/>
                  </a:lnTo>
                  <a:lnTo>
                    <a:pt x="275" y="1803"/>
                  </a:lnTo>
                  <a:lnTo>
                    <a:pt x="252" y="1984"/>
                  </a:lnTo>
                  <a:lnTo>
                    <a:pt x="221" y="2149"/>
                  </a:lnTo>
                  <a:lnTo>
                    <a:pt x="183" y="2293"/>
                  </a:lnTo>
                  <a:lnTo>
                    <a:pt x="133" y="2413"/>
                  </a:lnTo>
                  <a:lnTo>
                    <a:pt x="73" y="2501"/>
                  </a:lnTo>
                  <a:lnTo>
                    <a:pt x="0" y="2555"/>
                  </a:lnTo>
                  <a:lnTo>
                    <a:pt x="8" y="2553"/>
                  </a:lnTo>
                  <a:lnTo>
                    <a:pt x="18" y="2550"/>
                  </a:lnTo>
                  <a:lnTo>
                    <a:pt x="28" y="2546"/>
                  </a:lnTo>
                  <a:lnTo>
                    <a:pt x="40" y="2543"/>
                  </a:lnTo>
                  <a:lnTo>
                    <a:pt x="50" y="2539"/>
                  </a:lnTo>
                  <a:lnTo>
                    <a:pt x="60" y="2536"/>
                  </a:lnTo>
                  <a:lnTo>
                    <a:pt x="68" y="2535"/>
                  </a:lnTo>
                  <a:lnTo>
                    <a:pt x="73" y="2535"/>
                  </a:lnTo>
                  <a:lnTo>
                    <a:pt x="76" y="2538"/>
                  </a:lnTo>
                  <a:lnTo>
                    <a:pt x="73" y="2543"/>
                  </a:lnTo>
                  <a:lnTo>
                    <a:pt x="69" y="2550"/>
                  </a:lnTo>
                  <a:lnTo>
                    <a:pt x="62" y="2557"/>
                  </a:lnTo>
                  <a:lnTo>
                    <a:pt x="56" y="2565"/>
                  </a:lnTo>
                  <a:lnTo>
                    <a:pt x="53" y="2570"/>
                  </a:lnTo>
                  <a:lnTo>
                    <a:pt x="53" y="2575"/>
                  </a:lnTo>
                  <a:lnTo>
                    <a:pt x="57" y="2576"/>
                  </a:lnTo>
                  <a:lnTo>
                    <a:pt x="70" y="2574"/>
                  </a:lnTo>
                  <a:lnTo>
                    <a:pt x="85" y="2568"/>
                  </a:lnTo>
                  <a:lnTo>
                    <a:pt x="100" y="2561"/>
                  </a:lnTo>
                  <a:lnTo>
                    <a:pt x="116" y="2554"/>
                  </a:lnTo>
                  <a:lnTo>
                    <a:pt x="130" y="2547"/>
                  </a:lnTo>
                  <a:lnTo>
                    <a:pt x="144" y="2540"/>
                  </a:lnTo>
                  <a:lnTo>
                    <a:pt x="154" y="2536"/>
                  </a:lnTo>
                  <a:lnTo>
                    <a:pt x="161" y="2535"/>
                  </a:lnTo>
                  <a:lnTo>
                    <a:pt x="163" y="2537"/>
                  </a:lnTo>
                  <a:lnTo>
                    <a:pt x="161" y="2543"/>
                  </a:lnTo>
                  <a:lnTo>
                    <a:pt x="156" y="2550"/>
                  </a:lnTo>
                  <a:lnTo>
                    <a:pt x="151" y="2558"/>
                  </a:lnTo>
                  <a:lnTo>
                    <a:pt x="146" y="2566"/>
                  </a:lnTo>
                  <a:lnTo>
                    <a:pt x="144" y="2573"/>
                  </a:lnTo>
                  <a:lnTo>
                    <a:pt x="145" y="2577"/>
                  </a:lnTo>
                  <a:lnTo>
                    <a:pt x="152" y="2578"/>
                  </a:lnTo>
                  <a:lnTo>
                    <a:pt x="163" y="2577"/>
                  </a:lnTo>
                  <a:lnTo>
                    <a:pt x="175" y="2572"/>
                  </a:lnTo>
                  <a:lnTo>
                    <a:pt x="189" y="2565"/>
                  </a:lnTo>
                  <a:lnTo>
                    <a:pt x="202" y="2555"/>
                  </a:lnTo>
                  <a:lnTo>
                    <a:pt x="215" y="2546"/>
                  </a:lnTo>
                  <a:lnTo>
                    <a:pt x="225" y="2539"/>
                  </a:lnTo>
                  <a:lnTo>
                    <a:pt x="235" y="2534"/>
                  </a:lnTo>
                  <a:lnTo>
                    <a:pt x="242" y="2532"/>
                  </a:lnTo>
                  <a:lnTo>
                    <a:pt x="245" y="2539"/>
                  </a:lnTo>
                  <a:lnTo>
                    <a:pt x="245" y="2552"/>
                  </a:lnTo>
                  <a:lnTo>
                    <a:pt x="242" y="2567"/>
                  </a:lnTo>
                  <a:lnTo>
                    <a:pt x="234" y="2578"/>
                  </a:lnTo>
                  <a:lnTo>
                    <a:pt x="244" y="2573"/>
                  </a:lnTo>
                  <a:lnTo>
                    <a:pt x="257" y="2566"/>
                  </a:lnTo>
                  <a:lnTo>
                    <a:pt x="269" y="2557"/>
                  </a:lnTo>
                  <a:lnTo>
                    <a:pt x="283" y="2547"/>
                  </a:lnTo>
                  <a:lnTo>
                    <a:pt x="295" y="2538"/>
                  </a:lnTo>
                  <a:lnTo>
                    <a:pt x="305" y="2531"/>
                  </a:lnTo>
                  <a:lnTo>
                    <a:pt x="313" y="2525"/>
                  </a:lnTo>
                  <a:lnTo>
                    <a:pt x="319" y="2524"/>
                  </a:lnTo>
                  <a:lnTo>
                    <a:pt x="326" y="2530"/>
                  </a:lnTo>
                  <a:lnTo>
                    <a:pt x="328" y="2545"/>
                  </a:lnTo>
                  <a:lnTo>
                    <a:pt x="323" y="2566"/>
                  </a:lnTo>
                  <a:lnTo>
                    <a:pt x="310" y="2589"/>
                  </a:lnTo>
                  <a:lnTo>
                    <a:pt x="323" y="2581"/>
                  </a:lnTo>
                  <a:lnTo>
                    <a:pt x="338" y="2570"/>
                  </a:lnTo>
                  <a:lnTo>
                    <a:pt x="354" y="2559"/>
                  </a:lnTo>
                  <a:lnTo>
                    <a:pt x="371" y="2547"/>
                  </a:lnTo>
                  <a:lnTo>
                    <a:pt x="384" y="2536"/>
                  </a:lnTo>
                  <a:lnTo>
                    <a:pt x="397" y="2527"/>
                  </a:lnTo>
                  <a:lnTo>
                    <a:pt x="407" y="2521"/>
                  </a:lnTo>
                  <a:lnTo>
                    <a:pt x="413" y="2519"/>
                  </a:lnTo>
                  <a:lnTo>
                    <a:pt x="417" y="2521"/>
                  </a:lnTo>
                  <a:lnTo>
                    <a:pt x="417" y="2527"/>
                  </a:lnTo>
                  <a:lnTo>
                    <a:pt x="414" y="2536"/>
                  </a:lnTo>
                  <a:lnTo>
                    <a:pt x="411" y="2547"/>
                  </a:lnTo>
                  <a:lnTo>
                    <a:pt x="405" y="2559"/>
                  </a:lnTo>
                  <a:lnTo>
                    <a:pt x="399" y="2570"/>
                  </a:lnTo>
                  <a:lnTo>
                    <a:pt x="393" y="2581"/>
                  </a:lnTo>
                  <a:lnTo>
                    <a:pt x="386" y="2590"/>
                  </a:lnTo>
                  <a:lnTo>
                    <a:pt x="401" y="2581"/>
                  </a:lnTo>
                  <a:lnTo>
                    <a:pt x="417" y="2569"/>
                  </a:lnTo>
                  <a:lnTo>
                    <a:pt x="435" y="2555"/>
                  </a:lnTo>
                  <a:lnTo>
                    <a:pt x="454" y="2542"/>
                  </a:lnTo>
                  <a:lnTo>
                    <a:pt x="471" y="2529"/>
                  </a:lnTo>
                  <a:lnTo>
                    <a:pt x="485" y="2519"/>
                  </a:lnTo>
                  <a:lnTo>
                    <a:pt x="496" y="2512"/>
                  </a:lnTo>
                  <a:lnTo>
                    <a:pt x="503" y="2509"/>
                  </a:lnTo>
                  <a:lnTo>
                    <a:pt x="507" y="2512"/>
                  </a:lnTo>
                  <a:lnTo>
                    <a:pt x="508" y="2517"/>
                  </a:lnTo>
                  <a:lnTo>
                    <a:pt x="508" y="2525"/>
                  </a:lnTo>
                  <a:lnTo>
                    <a:pt x="507" y="2535"/>
                  </a:lnTo>
                  <a:lnTo>
                    <a:pt x="502" y="2546"/>
                  </a:lnTo>
                  <a:lnTo>
                    <a:pt x="497" y="2558"/>
                  </a:lnTo>
                  <a:lnTo>
                    <a:pt x="489" y="2569"/>
                  </a:lnTo>
                  <a:lnTo>
                    <a:pt x="479" y="2581"/>
                  </a:lnTo>
                  <a:lnTo>
                    <a:pt x="494" y="2572"/>
                  </a:lnTo>
                  <a:lnTo>
                    <a:pt x="510" y="2559"/>
                  </a:lnTo>
                  <a:lnTo>
                    <a:pt x="528" y="2546"/>
                  </a:lnTo>
                  <a:lnTo>
                    <a:pt x="546" y="2534"/>
                  </a:lnTo>
                  <a:lnTo>
                    <a:pt x="563" y="2522"/>
                  </a:lnTo>
                  <a:lnTo>
                    <a:pt x="577" y="2512"/>
                  </a:lnTo>
                  <a:lnTo>
                    <a:pt x="587" y="2505"/>
                  </a:lnTo>
                  <a:lnTo>
                    <a:pt x="594" y="2502"/>
                  </a:lnTo>
                  <a:lnTo>
                    <a:pt x="596" y="2505"/>
                  </a:lnTo>
                  <a:lnTo>
                    <a:pt x="596" y="2509"/>
                  </a:lnTo>
                  <a:lnTo>
                    <a:pt x="595" y="2519"/>
                  </a:lnTo>
                  <a:lnTo>
                    <a:pt x="593" y="2529"/>
                  </a:lnTo>
                  <a:lnTo>
                    <a:pt x="588" y="2542"/>
                  </a:lnTo>
                  <a:lnTo>
                    <a:pt x="583" y="2555"/>
                  </a:lnTo>
                  <a:lnTo>
                    <a:pt x="575" y="2568"/>
                  </a:lnTo>
                  <a:lnTo>
                    <a:pt x="565" y="2581"/>
                  </a:lnTo>
                  <a:lnTo>
                    <a:pt x="579" y="2570"/>
                  </a:lnTo>
                  <a:lnTo>
                    <a:pt x="594" y="2558"/>
                  </a:lnTo>
                  <a:lnTo>
                    <a:pt x="611" y="2544"/>
                  </a:lnTo>
                  <a:lnTo>
                    <a:pt x="627" y="2529"/>
                  </a:lnTo>
                  <a:lnTo>
                    <a:pt x="642" y="2515"/>
                  </a:lnTo>
                  <a:lnTo>
                    <a:pt x="655" y="2504"/>
                  </a:lnTo>
                  <a:lnTo>
                    <a:pt x="666" y="2496"/>
                  </a:lnTo>
                  <a:lnTo>
                    <a:pt x="672" y="2492"/>
                  </a:lnTo>
                  <a:lnTo>
                    <a:pt x="675" y="2493"/>
                  </a:lnTo>
                  <a:lnTo>
                    <a:pt x="677" y="2500"/>
                  </a:lnTo>
                  <a:lnTo>
                    <a:pt x="677" y="2509"/>
                  </a:lnTo>
                  <a:lnTo>
                    <a:pt x="675" y="2521"/>
                  </a:lnTo>
                  <a:lnTo>
                    <a:pt x="670" y="2534"/>
                  </a:lnTo>
                  <a:lnTo>
                    <a:pt x="664" y="2547"/>
                  </a:lnTo>
                  <a:lnTo>
                    <a:pt x="656" y="2560"/>
                  </a:lnTo>
                  <a:lnTo>
                    <a:pt x="645" y="2572"/>
                  </a:lnTo>
                  <a:lnTo>
                    <a:pt x="661" y="2562"/>
                  </a:lnTo>
                  <a:lnTo>
                    <a:pt x="678" y="2550"/>
                  </a:lnTo>
                  <a:lnTo>
                    <a:pt x="695" y="2535"/>
                  </a:lnTo>
                  <a:lnTo>
                    <a:pt x="713" y="2520"/>
                  </a:lnTo>
                  <a:lnTo>
                    <a:pt x="727" y="2506"/>
                  </a:lnTo>
                  <a:lnTo>
                    <a:pt x="739" y="2494"/>
                  </a:lnTo>
                  <a:lnTo>
                    <a:pt x="750" y="2486"/>
                  </a:lnTo>
                  <a:lnTo>
                    <a:pt x="755" y="2484"/>
                  </a:lnTo>
                  <a:lnTo>
                    <a:pt x="759" y="2487"/>
                  </a:lnTo>
                  <a:lnTo>
                    <a:pt x="761" y="2493"/>
                  </a:lnTo>
                  <a:lnTo>
                    <a:pt x="763" y="2502"/>
                  </a:lnTo>
                  <a:lnTo>
                    <a:pt x="763" y="2515"/>
                  </a:lnTo>
                  <a:lnTo>
                    <a:pt x="761" y="2528"/>
                  </a:lnTo>
                  <a:lnTo>
                    <a:pt x="757" y="2543"/>
                  </a:lnTo>
                  <a:lnTo>
                    <a:pt x="748" y="2558"/>
                  </a:lnTo>
                  <a:lnTo>
                    <a:pt x="737" y="2572"/>
                  </a:lnTo>
                  <a:lnTo>
                    <a:pt x="753" y="2562"/>
                  </a:lnTo>
                  <a:lnTo>
                    <a:pt x="769" y="2549"/>
                  </a:lnTo>
                  <a:lnTo>
                    <a:pt x="784" y="2534"/>
                  </a:lnTo>
                  <a:lnTo>
                    <a:pt x="798" y="2516"/>
                  </a:lnTo>
                  <a:lnTo>
                    <a:pt x="811" y="2501"/>
                  </a:lnTo>
                  <a:lnTo>
                    <a:pt x="822" y="2489"/>
                  </a:lnTo>
                  <a:lnTo>
                    <a:pt x="831" y="2479"/>
                  </a:lnTo>
                  <a:lnTo>
                    <a:pt x="838" y="2476"/>
                  </a:lnTo>
                  <a:lnTo>
                    <a:pt x="842" y="2478"/>
                  </a:lnTo>
                  <a:lnTo>
                    <a:pt x="844" y="2483"/>
                  </a:lnTo>
                  <a:lnTo>
                    <a:pt x="844" y="2492"/>
                  </a:lnTo>
                  <a:lnTo>
                    <a:pt x="843" y="2505"/>
                  </a:lnTo>
                  <a:lnTo>
                    <a:pt x="838" y="2519"/>
                  </a:lnTo>
                  <a:lnTo>
                    <a:pt x="833" y="2534"/>
                  </a:lnTo>
                  <a:lnTo>
                    <a:pt x="822" y="2551"/>
                  </a:lnTo>
                  <a:lnTo>
                    <a:pt x="810" y="2568"/>
                  </a:lnTo>
                  <a:lnTo>
                    <a:pt x="824" y="2560"/>
                  </a:lnTo>
                  <a:lnTo>
                    <a:pt x="839" y="2547"/>
                  </a:lnTo>
                  <a:lnTo>
                    <a:pt x="854" y="2532"/>
                  </a:lnTo>
                  <a:lnTo>
                    <a:pt x="869" y="2516"/>
                  </a:lnTo>
                  <a:lnTo>
                    <a:pt x="882" y="2501"/>
                  </a:lnTo>
                  <a:lnTo>
                    <a:pt x="894" y="2489"/>
                  </a:lnTo>
                  <a:lnTo>
                    <a:pt x="904" y="2479"/>
                  </a:lnTo>
                  <a:lnTo>
                    <a:pt x="911" y="2476"/>
                  </a:lnTo>
                  <a:lnTo>
                    <a:pt x="914" y="2487"/>
                  </a:lnTo>
                  <a:lnTo>
                    <a:pt x="911" y="2514"/>
                  </a:lnTo>
                  <a:lnTo>
                    <a:pt x="902" y="2544"/>
                  </a:lnTo>
                  <a:lnTo>
                    <a:pt x="890" y="2565"/>
                  </a:lnTo>
                  <a:lnTo>
                    <a:pt x="905" y="2553"/>
                  </a:lnTo>
                  <a:lnTo>
                    <a:pt x="920" y="2539"/>
                  </a:lnTo>
                  <a:lnTo>
                    <a:pt x="933" y="2523"/>
                  </a:lnTo>
                  <a:lnTo>
                    <a:pt x="944" y="2508"/>
                  </a:lnTo>
                  <a:lnTo>
                    <a:pt x="956" y="2493"/>
                  </a:lnTo>
                  <a:lnTo>
                    <a:pt x="965" y="2482"/>
                  </a:lnTo>
                  <a:lnTo>
                    <a:pt x="972" y="2472"/>
                  </a:lnTo>
                  <a:lnTo>
                    <a:pt x="978" y="2469"/>
                  </a:lnTo>
                  <a:lnTo>
                    <a:pt x="985" y="2477"/>
                  </a:lnTo>
                  <a:lnTo>
                    <a:pt x="985" y="2502"/>
                  </a:lnTo>
                  <a:lnTo>
                    <a:pt x="978" y="2534"/>
                  </a:lnTo>
                  <a:lnTo>
                    <a:pt x="960" y="2562"/>
                  </a:lnTo>
                  <a:lnTo>
                    <a:pt x="975" y="2554"/>
                  </a:lnTo>
                  <a:lnTo>
                    <a:pt x="990" y="2540"/>
                  </a:lnTo>
                  <a:lnTo>
                    <a:pt x="1005" y="2525"/>
                  </a:lnTo>
                  <a:lnTo>
                    <a:pt x="1018" y="2508"/>
                  </a:lnTo>
                  <a:lnTo>
                    <a:pt x="1030" y="2492"/>
                  </a:lnTo>
                  <a:lnTo>
                    <a:pt x="1040" y="2478"/>
                  </a:lnTo>
                  <a:lnTo>
                    <a:pt x="1047" y="2470"/>
                  </a:lnTo>
                  <a:lnTo>
                    <a:pt x="1051" y="2469"/>
                  </a:lnTo>
                  <a:lnTo>
                    <a:pt x="1061" y="2484"/>
                  </a:lnTo>
                  <a:lnTo>
                    <a:pt x="1061" y="2507"/>
                  </a:lnTo>
                  <a:lnTo>
                    <a:pt x="1056" y="2536"/>
                  </a:lnTo>
                  <a:lnTo>
                    <a:pt x="1048" y="2562"/>
                  </a:lnTo>
                  <a:lnTo>
                    <a:pt x="1058" y="2547"/>
                  </a:lnTo>
                  <a:lnTo>
                    <a:pt x="1070" y="2532"/>
                  </a:lnTo>
                  <a:lnTo>
                    <a:pt x="1081" y="2516"/>
                  </a:lnTo>
                  <a:lnTo>
                    <a:pt x="1092" y="2502"/>
                  </a:lnTo>
                  <a:lnTo>
                    <a:pt x="1102" y="2490"/>
                  </a:lnTo>
                  <a:lnTo>
                    <a:pt x="1112" y="2478"/>
                  </a:lnTo>
                  <a:lnTo>
                    <a:pt x="1121" y="2471"/>
                  </a:lnTo>
                  <a:lnTo>
                    <a:pt x="1127" y="2468"/>
                  </a:lnTo>
                  <a:lnTo>
                    <a:pt x="1135" y="2476"/>
                  </a:lnTo>
                  <a:lnTo>
                    <a:pt x="1134" y="2501"/>
                  </a:lnTo>
                  <a:lnTo>
                    <a:pt x="1127" y="2532"/>
                  </a:lnTo>
                  <a:lnTo>
                    <a:pt x="1116" y="2558"/>
                  </a:lnTo>
                  <a:lnTo>
                    <a:pt x="1130" y="2545"/>
                  </a:lnTo>
                  <a:lnTo>
                    <a:pt x="1144" y="2530"/>
                  </a:lnTo>
                  <a:lnTo>
                    <a:pt x="1159" y="2515"/>
                  </a:lnTo>
                  <a:lnTo>
                    <a:pt x="1174" y="2499"/>
                  </a:lnTo>
                  <a:lnTo>
                    <a:pt x="1187" y="2484"/>
                  </a:lnTo>
                  <a:lnTo>
                    <a:pt x="1200" y="2471"/>
                  </a:lnTo>
                  <a:lnTo>
                    <a:pt x="1210" y="2463"/>
                  </a:lnTo>
                  <a:lnTo>
                    <a:pt x="1218" y="2459"/>
                  </a:lnTo>
                  <a:lnTo>
                    <a:pt x="1222" y="2461"/>
                  </a:lnTo>
                  <a:lnTo>
                    <a:pt x="1223" y="2469"/>
                  </a:lnTo>
                  <a:lnTo>
                    <a:pt x="1223" y="2481"/>
                  </a:lnTo>
                  <a:lnTo>
                    <a:pt x="1221" y="2496"/>
                  </a:lnTo>
                  <a:lnTo>
                    <a:pt x="1217" y="2512"/>
                  </a:lnTo>
                  <a:lnTo>
                    <a:pt x="1212" y="2528"/>
                  </a:lnTo>
                  <a:lnTo>
                    <a:pt x="1205" y="2543"/>
                  </a:lnTo>
                  <a:lnTo>
                    <a:pt x="1195" y="2557"/>
                  </a:lnTo>
                  <a:lnTo>
                    <a:pt x="1212" y="2542"/>
                  </a:lnTo>
                  <a:lnTo>
                    <a:pt x="1228" y="2525"/>
                  </a:lnTo>
                  <a:lnTo>
                    <a:pt x="1244" y="2509"/>
                  </a:lnTo>
                  <a:lnTo>
                    <a:pt x="1258" y="2494"/>
                  </a:lnTo>
                  <a:lnTo>
                    <a:pt x="1271" y="2482"/>
                  </a:lnTo>
                  <a:lnTo>
                    <a:pt x="1283" y="2470"/>
                  </a:lnTo>
                  <a:lnTo>
                    <a:pt x="1292" y="2463"/>
                  </a:lnTo>
                  <a:lnTo>
                    <a:pt x="1298" y="2461"/>
                  </a:lnTo>
                  <a:lnTo>
                    <a:pt x="1304" y="2471"/>
                  </a:lnTo>
                  <a:lnTo>
                    <a:pt x="1301" y="2496"/>
                  </a:lnTo>
                  <a:lnTo>
                    <a:pt x="1293" y="2525"/>
                  </a:lnTo>
                  <a:lnTo>
                    <a:pt x="1282" y="2553"/>
                  </a:lnTo>
                  <a:lnTo>
                    <a:pt x="1297" y="2540"/>
                  </a:lnTo>
                  <a:lnTo>
                    <a:pt x="1311" y="2527"/>
                  </a:lnTo>
                  <a:lnTo>
                    <a:pt x="1324" y="2511"/>
                  </a:lnTo>
                  <a:lnTo>
                    <a:pt x="1337" y="2496"/>
                  </a:lnTo>
                  <a:lnTo>
                    <a:pt x="1347" y="2481"/>
                  </a:lnTo>
                  <a:lnTo>
                    <a:pt x="1356" y="2469"/>
                  </a:lnTo>
                  <a:lnTo>
                    <a:pt x="1362" y="2461"/>
                  </a:lnTo>
                  <a:lnTo>
                    <a:pt x="1367" y="2459"/>
                  </a:lnTo>
                  <a:lnTo>
                    <a:pt x="1373" y="2468"/>
                  </a:lnTo>
                  <a:lnTo>
                    <a:pt x="1374" y="2491"/>
                  </a:lnTo>
                  <a:lnTo>
                    <a:pt x="1367" y="2522"/>
                  </a:lnTo>
                  <a:lnTo>
                    <a:pt x="1350" y="2555"/>
                  </a:lnTo>
                  <a:lnTo>
                    <a:pt x="1365" y="2540"/>
                  </a:lnTo>
                  <a:lnTo>
                    <a:pt x="1380" y="2524"/>
                  </a:lnTo>
                  <a:lnTo>
                    <a:pt x="1394" y="2506"/>
                  </a:lnTo>
                  <a:lnTo>
                    <a:pt x="1406" y="2489"/>
                  </a:lnTo>
                  <a:lnTo>
                    <a:pt x="1418" y="2472"/>
                  </a:lnTo>
                  <a:lnTo>
                    <a:pt x="1428" y="2460"/>
                  </a:lnTo>
                  <a:lnTo>
                    <a:pt x="1435" y="2452"/>
                  </a:lnTo>
                  <a:lnTo>
                    <a:pt x="1441" y="2449"/>
                  </a:lnTo>
                  <a:lnTo>
                    <a:pt x="1447" y="2458"/>
                  </a:lnTo>
                  <a:lnTo>
                    <a:pt x="1451" y="2479"/>
                  </a:lnTo>
                  <a:lnTo>
                    <a:pt x="1455" y="2511"/>
                  </a:lnTo>
                  <a:lnTo>
                    <a:pt x="1453" y="2549"/>
                  </a:lnTo>
                  <a:lnTo>
                    <a:pt x="1464" y="2532"/>
                  </a:lnTo>
                  <a:lnTo>
                    <a:pt x="1476" y="2514"/>
                  </a:lnTo>
                  <a:lnTo>
                    <a:pt x="1489" y="2496"/>
                  </a:lnTo>
                  <a:lnTo>
                    <a:pt x="1502" y="2477"/>
                  </a:lnTo>
                  <a:lnTo>
                    <a:pt x="1514" y="2460"/>
                  </a:lnTo>
                  <a:lnTo>
                    <a:pt x="1524" y="2446"/>
                  </a:lnTo>
                  <a:lnTo>
                    <a:pt x="1532" y="2437"/>
                  </a:lnTo>
                  <a:lnTo>
                    <a:pt x="1535" y="2433"/>
                  </a:lnTo>
                  <a:lnTo>
                    <a:pt x="1542" y="2445"/>
                  </a:lnTo>
                  <a:lnTo>
                    <a:pt x="1542" y="2474"/>
                  </a:lnTo>
                  <a:lnTo>
                    <a:pt x="1535" y="2511"/>
                  </a:lnTo>
                  <a:lnTo>
                    <a:pt x="1520" y="2544"/>
                  </a:lnTo>
                  <a:lnTo>
                    <a:pt x="1534" y="2530"/>
                  </a:lnTo>
                  <a:lnTo>
                    <a:pt x="1548" y="2514"/>
                  </a:lnTo>
                  <a:lnTo>
                    <a:pt x="1559" y="2496"/>
                  </a:lnTo>
                  <a:lnTo>
                    <a:pt x="1570" y="2477"/>
                  </a:lnTo>
                  <a:lnTo>
                    <a:pt x="1580" y="2460"/>
                  </a:lnTo>
                  <a:lnTo>
                    <a:pt x="1588" y="2446"/>
                  </a:lnTo>
                  <a:lnTo>
                    <a:pt x="1596" y="2437"/>
                  </a:lnTo>
                  <a:lnTo>
                    <a:pt x="1604" y="2433"/>
                  </a:lnTo>
                  <a:lnTo>
                    <a:pt x="1610" y="2448"/>
                  </a:lnTo>
                  <a:lnTo>
                    <a:pt x="1614" y="2483"/>
                  </a:lnTo>
                  <a:lnTo>
                    <a:pt x="1610" y="2521"/>
                  </a:lnTo>
                  <a:lnTo>
                    <a:pt x="1601" y="2546"/>
                  </a:lnTo>
                  <a:lnTo>
                    <a:pt x="1614" y="2534"/>
                  </a:lnTo>
                  <a:lnTo>
                    <a:pt x="1625" y="2516"/>
                  </a:lnTo>
                  <a:lnTo>
                    <a:pt x="1635" y="2497"/>
                  </a:lnTo>
                  <a:lnTo>
                    <a:pt x="1646" y="2477"/>
                  </a:lnTo>
                  <a:lnTo>
                    <a:pt x="1656" y="2459"/>
                  </a:lnTo>
                  <a:lnTo>
                    <a:pt x="1664" y="2444"/>
                  </a:lnTo>
                  <a:lnTo>
                    <a:pt x="1672" y="2432"/>
                  </a:lnTo>
                  <a:lnTo>
                    <a:pt x="1679" y="2429"/>
                  </a:lnTo>
                  <a:lnTo>
                    <a:pt x="1688" y="2440"/>
                  </a:lnTo>
                  <a:lnTo>
                    <a:pt x="1691" y="2470"/>
                  </a:lnTo>
                  <a:lnTo>
                    <a:pt x="1688" y="2505"/>
                  </a:lnTo>
                  <a:lnTo>
                    <a:pt x="1682" y="2536"/>
                  </a:lnTo>
                  <a:lnTo>
                    <a:pt x="1693" y="2523"/>
                  </a:lnTo>
                  <a:lnTo>
                    <a:pt x="1702" y="2507"/>
                  </a:lnTo>
                  <a:lnTo>
                    <a:pt x="1711" y="2489"/>
                  </a:lnTo>
                  <a:lnTo>
                    <a:pt x="1718" y="2469"/>
                  </a:lnTo>
                  <a:lnTo>
                    <a:pt x="1726" y="2451"/>
                  </a:lnTo>
                  <a:lnTo>
                    <a:pt x="1732" y="2436"/>
                  </a:lnTo>
                  <a:lnTo>
                    <a:pt x="1739" y="2425"/>
                  </a:lnTo>
                  <a:lnTo>
                    <a:pt x="1745" y="2421"/>
                  </a:lnTo>
                  <a:lnTo>
                    <a:pt x="1755" y="2429"/>
                  </a:lnTo>
                  <a:lnTo>
                    <a:pt x="1761" y="2454"/>
                  </a:lnTo>
                  <a:lnTo>
                    <a:pt x="1761" y="2493"/>
                  </a:lnTo>
                  <a:lnTo>
                    <a:pt x="1753" y="2540"/>
                  </a:lnTo>
                  <a:lnTo>
                    <a:pt x="1763" y="2523"/>
                  </a:lnTo>
                  <a:lnTo>
                    <a:pt x="1775" y="2504"/>
                  </a:lnTo>
                  <a:lnTo>
                    <a:pt x="1786" y="2481"/>
                  </a:lnTo>
                  <a:lnTo>
                    <a:pt x="1798" y="2458"/>
                  </a:lnTo>
                  <a:lnTo>
                    <a:pt x="1807" y="2437"/>
                  </a:lnTo>
                  <a:lnTo>
                    <a:pt x="1816" y="2419"/>
                  </a:lnTo>
                  <a:lnTo>
                    <a:pt x="1824" y="2408"/>
                  </a:lnTo>
                  <a:lnTo>
                    <a:pt x="1829" y="2403"/>
                  </a:lnTo>
                  <a:lnTo>
                    <a:pt x="1837" y="2416"/>
                  </a:lnTo>
                  <a:lnTo>
                    <a:pt x="1843" y="2448"/>
                  </a:lnTo>
                  <a:lnTo>
                    <a:pt x="1845" y="2487"/>
                  </a:lnTo>
                  <a:lnTo>
                    <a:pt x="1842" y="2523"/>
                  </a:lnTo>
                  <a:lnTo>
                    <a:pt x="1853" y="2505"/>
                  </a:lnTo>
                  <a:lnTo>
                    <a:pt x="1864" y="2483"/>
                  </a:lnTo>
                  <a:lnTo>
                    <a:pt x="1874" y="2461"/>
                  </a:lnTo>
                  <a:lnTo>
                    <a:pt x="1883" y="2439"/>
                  </a:lnTo>
                  <a:lnTo>
                    <a:pt x="1891" y="2419"/>
                  </a:lnTo>
                  <a:lnTo>
                    <a:pt x="1899" y="2405"/>
                  </a:lnTo>
                  <a:lnTo>
                    <a:pt x="1905" y="2394"/>
                  </a:lnTo>
                  <a:lnTo>
                    <a:pt x="1911" y="2391"/>
                  </a:lnTo>
                  <a:lnTo>
                    <a:pt x="1916" y="2394"/>
                  </a:lnTo>
                  <a:lnTo>
                    <a:pt x="1923" y="2403"/>
                  </a:lnTo>
                  <a:lnTo>
                    <a:pt x="1929" y="2418"/>
                  </a:lnTo>
                  <a:lnTo>
                    <a:pt x="1934" y="2438"/>
                  </a:lnTo>
                  <a:lnTo>
                    <a:pt x="1936" y="2459"/>
                  </a:lnTo>
                  <a:lnTo>
                    <a:pt x="1936" y="2483"/>
                  </a:lnTo>
                  <a:lnTo>
                    <a:pt x="1934" y="2507"/>
                  </a:lnTo>
                  <a:lnTo>
                    <a:pt x="1927" y="2530"/>
                  </a:lnTo>
                  <a:lnTo>
                    <a:pt x="1938" y="2509"/>
                  </a:lnTo>
                  <a:lnTo>
                    <a:pt x="1948" y="2487"/>
                  </a:lnTo>
                  <a:lnTo>
                    <a:pt x="1955" y="2464"/>
                  </a:lnTo>
                  <a:lnTo>
                    <a:pt x="1960" y="2441"/>
                  </a:lnTo>
                  <a:lnTo>
                    <a:pt x="1964" y="2421"/>
                  </a:lnTo>
                  <a:lnTo>
                    <a:pt x="1967" y="2403"/>
                  </a:lnTo>
                  <a:lnTo>
                    <a:pt x="1971" y="2392"/>
                  </a:lnTo>
                  <a:lnTo>
                    <a:pt x="1974" y="2386"/>
                  </a:lnTo>
                  <a:lnTo>
                    <a:pt x="1979" y="2388"/>
                  </a:lnTo>
                  <a:lnTo>
                    <a:pt x="1986" y="2396"/>
                  </a:lnTo>
                  <a:lnTo>
                    <a:pt x="1991" y="2410"/>
                  </a:lnTo>
                  <a:lnTo>
                    <a:pt x="1998" y="2429"/>
                  </a:lnTo>
                  <a:lnTo>
                    <a:pt x="2002" y="2449"/>
                  </a:lnTo>
                  <a:lnTo>
                    <a:pt x="2004" y="2472"/>
                  </a:lnTo>
                  <a:lnTo>
                    <a:pt x="2003" y="2497"/>
                  </a:lnTo>
                  <a:lnTo>
                    <a:pt x="1997" y="2521"/>
                  </a:lnTo>
                  <a:lnTo>
                    <a:pt x="2009" y="2504"/>
                  </a:lnTo>
                  <a:lnTo>
                    <a:pt x="2017" y="2485"/>
                  </a:lnTo>
                  <a:lnTo>
                    <a:pt x="2024" y="2464"/>
                  </a:lnTo>
                  <a:lnTo>
                    <a:pt x="2028" y="2445"/>
                  </a:lnTo>
                  <a:lnTo>
                    <a:pt x="2032" y="2426"/>
                  </a:lnTo>
                  <a:lnTo>
                    <a:pt x="2036" y="2411"/>
                  </a:lnTo>
                  <a:lnTo>
                    <a:pt x="2040" y="2401"/>
                  </a:lnTo>
                  <a:lnTo>
                    <a:pt x="2044" y="2396"/>
                  </a:lnTo>
                  <a:lnTo>
                    <a:pt x="2050" y="2399"/>
                  </a:lnTo>
                  <a:lnTo>
                    <a:pt x="2057" y="2406"/>
                  </a:lnTo>
                  <a:lnTo>
                    <a:pt x="2063" y="2418"/>
                  </a:lnTo>
                  <a:lnTo>
                    <a:pt x="2069" y="2433"/>
                  </a:lnTo>
                  <a:lnTo>
                    <a:pt x="2073" y="2453"/>
                  </a:lnTo>
                  <a:lnTo>
                    <a:pt x="2075" y="2474"/>
                  </a:lnTo>
                  <a:lnTo>
                    <a:pt x="2075" y="2498"/>
                  </a:lnTo>
                  <a:lnTo>
                    <a:pt x="2072" y="2523"/>
                  </a:lnTo>
                  <a:lnTo>
                    <a:pt x="2084" y="2506"/>
                  </a:lnTo>
                  <a:lnTo>
                    <a:pt x="2093" y="2484"/>
                  </a:lnTo>
                  <a:lnTo>
                    <a:pt x="2100" y="2462"/>
                  </a:lnTo>
                  <a:lnTo>
                    <a:pt x="2104" y="2439"/>
                  </a:lnTo>
                  <a:lnTo>
                    <a:pt x="2109" y="2419"/>
                  </a:lnTo>
                  <a:lnTo>
                    <a:pt x="2112" y="2402"/>
                  </a:lnTo>
                  <a:lnTo>
                    <a:pt x="2116" y="2390"/>
                  </a:lnTo>
                  <a:lnTo>
                    <a:pt x="2120" y="2384"/>
                  </a:lnTo>
                  <a:lnTo>
                    <a:pt x="2126" y="2386"/>
                  </a:lnTo>
                  <a:lnTo>
                    <a:pt x="2134" y="2395"/>
                  </a:lnTo>
                  <a:lnTo>
                    <a:pt x="2141" y="2410"/>
                  </a:lnTo>
                  <a:lnTo>
                    <a:pt x="2148" y="2430"/>
                  </a:lnTo>
                  <a:lnTo>
                    <a:pt x="2153" y="2452"/>
                  </a:lnTo>
                  <a:lnTo>
                    <a:pt x="2155" y="2476"/>
                  </a:lnTo>
                  <a:lnTo>
                    <a:pt x="2153" y="2501"/>
                  </a:lnTo>
                  <a:lnTo>
                    <a:pt x="2146" y="2525"/>
                  </a:lnTo>
                  <a:lnTo>
                    <a:pt x="2158" y="2508"/>
                  </a:lnTo>
                  <a:lnTo>
                    <a:pt x="2168" y="2486"/>
                  </a:lnTo>
                  <a:lnTo>
                    <a:pt x="2175" y="2463"/>
                  </a:lnTo>
                  <a:lnTo>
                    <a:pt x="2180" y="2440"/>
                  </a:lnTo>
                  <a:lnTo>
                    <a:pt x="2184" y="2418"/>
                  </a:lnTo>
                  <a:lnTo>
                    <a:pt x="2187" y="2400"/>
                  </a:lnTo>
                  <a:lnTo>
                    <a:pt x="2191" y="2388"/>
                  </a:lnTo>
                  <a:lnTo>
                    <a:pt x="2194" y="2384"/>
                  </a:lnTo>
                  <a:lnTo>
                    <a:pt x="2199" y="2385"/>
                  </a:lnTo>
                  <a:lnTo>
                    <a:pt x="2204" y="2391"/>
                  </a:lnTo>
                  <a:lnTo>
                    <a:pt x="2210" y="2400"/>
                  </a:lnTo>
                  <a:lnTo>
                    <a:pt x="2216" y="2414"/>
                  </a:lnTo>
                  <a:lnTo>
                    <a:pt x="2221" y="2432"/>
                  </a:lnTo>
                  <a:lnTo>
                    <a:pt x="2223" y="2455"/>
                  </a:lnTo>
                  <a:lnTo>
                    <a:pt x="2224" y="2483"/>
                  </a:lnTo>
                  <a:lnTo>
                    <a:pt x="2223" y="2517"/>
                  </a:lnTo>
                  <a:lnTo>
                    <a:pt x="2231" y="2501"/>
                  </a:lnTo>
                  <a:lnTo>
                    <a:pt x="2238" y="2482"/>
                  </a:lnTo>
                  <a:lnTo>
                    <a:pt x="2245" y="2460"/>
                  </a:lnTo>
                  <a:lnTo>
                    <a:pt x="2252" y="2438"/>
                  </a:lnTo>
                  <a:lnTo>
                    <a:pt x="2257" y="2418"/>
                  </a:lnTo>
                  <a:lnTo>
                    <a:pt x="2263" y="2401"/>
                  </a:lnTo>
                  <a:lnTo>
                    <a:pt x="2268" y="2390"/>
                  </a:lnTo>
                  <a:lnTo>
                    <a:pt x="2272" y="2384"/>
                  </a:lnTo>
                  <a:lnTo>
                    <a:pt x="2277" y="2386"/>
                  </a:lnTo>
                  <a:lnTo>
                    <a:pt x="2284" y="2394"/>
                  </a:lnTo>
                  <a:lnTo>
                    <a:pt x="2290" y="2407"/>
                  </a:lnTo>
                  <a:lnTo>
                    <a:pt x="2297" y="2423"/>
                  </a:lnTo>
                  <a:lnTo>
                    <a:pt x="2301" y="2443"/>
                  </a:lnTo>
                  <a:lnTo>
                    <a:pt x="2305" y="2463"/>
                  </a:lnTo>
                  <a:lnTo>
                    <a:pt x="2307" y="2484"/>
                  </a:lnTo>
                  <a:lnTo>
                    <a:pt x="2305" y="2505"/>
                  </a:lnTo>
                  <a:lnTo>
                    <a:pt x="2317" y="2466"/>
                  </a:lnTo>
                  <a:lnTo>
                    <a:pt x="2322" y="2422"/>
                  </a:lnTo>
                  <a:lnTo>
                    <a:pt x="2325" y="2387"/>
                  </a:lnTo>
                  <a:lnTo>
                    <a:pt x="2332" y="2370"/>
                  </a:lnTo>
                  <a:lnTo>
                    <a:pt x="2338" y="2370"/>
                  </a:lnTo>
                  <a:lnTo>
                    <a:pt x="2345" y="2375"/>
                  </a:lnTo>
                  <a:lnTo>
                    <a:pt x="2351" y="2384"/>
                  </a:lnTo>
                  <a:lnTo>
                    <a:pt x="2355" y="2396"/>
                  </a:lnTo>
                  <a:lnTo>
                    <a:pt x="2360" y="2413"/>
                  </a:lnTo>
                  <a:lnTo>
                    <a:pt x="2362" y="2432"/>
                  </a:lnTo>
                  <a:lnTo>
                    <a:pt x="2362" y="2455"/>
                  </a:lnTo>
                  <a:lnTo>
                    <a:pt x="2360" y="2479"/>
                  </a:lnTo>
                  <a:lnTo>
                    <a:pt x="2373" y="2461"/>
                  </a:lnTo>
                  <a:lnTo>
                    <a:pt x="2381" y="2440"/>
                  </a:lnTo>
                  <a:lnTo>
                    <a:pt x="2384" y="2419"/>
                  </a:lnTo>
                  <a:lnTo>
                    <a:pt x="2384" y="2400"/>
                  </a:lnTo>
                  <a:lnTo>
                    <a:pt x="2383" y="2383"/>
                  </a:lnTo>
                  <a:lnTo>
                    <a:pt x="2383" y="2368"/>
                  </a:lnTo>
                  <a:lnTo>
                    <a:pt x="2383" y="2356"/>
                  </a:lnTo>
                  <a:lnTo>
                    <a:pt x="2385" y="2350"/>
                  </a:lnTo>
                  <a:lnTo>
                    <a:pt x="2391" y="2349"/>
                  </a:lnTo>
                  <a:lnTo>
                    <a:pt x="2398" y="2350"/>
                  </a:lnTo>
                  <a:lnTo>
                    <a:pt x="2407" y="2356"/>
                  </a:lnTo>
                  <a:lnTo>
                    <a:pt x="2415" y="2364"/>
                  </a:lnTo>
                  <a:lnTo>
                    <a:pt x="2424" y="2377"/>
                  </a:lnTo>
                  <a:lnTo>
                    <a:pt x="2431" y="2392"/>
                  </a:lnTo>
                  <a:lnTo>
                    <a:pt x="2437" y="2410"/>
                  </a:lnTo>
                  <a:lnTo>
                    <a:pt x="2441" y="2432"/>
                  </a:lnTo>
                  <a:lnTo>
                    <a:pt x="2449" y="2414"/>
                  </a:lnTo>
                  <a:lnTo>
                    <a:pt x="2454" y="2395"/>
                  </a:lnTo>
                  <a:lnTo>
                    <a:pt x="2460" y="2377"/>
                  </a:lnTo>
                  <a:lnTo>
                    <a:pt x="2465" y="2360"/>
                  </a:lnTo>
                  <a:lnTo>
                    <a:pt x="2468" y="2345"/>
                  </a:lnTo>
                  <a:lnTo>
                    <a:pt x="2472" y="2333"/>
                  </a:lnTo>
                  <a:lnTo>
                    <a:pt x="2475" y="2325"/>
                  </a:lnTo>
                  <a:lnTo>
                    <a:pt x="2479" y="2322"/>
                  </a:lnTo>
                  <a:lnTo>
                    <a:pt x="2487" y="2322"/>
                  </a:lnTo>
                  <a:lnTo>
                    <a:pt x="2497" y="2328"/>
                  </a:lnTo>
                  <a:lnTo>
                    <a:pt x="2505" y="2341"/>
                  </a:lnTo>
                  <a:lnTo>
                    <a:pt x="2507" y="2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0520" y="1410840"/>
              <a:ext cx="179640" cy="199440"/>
            </a:xfrm>
            <a:custGeom>
              <a:avLst/>
              <a:gdLst/>
              <a:ahLst/>
              <a:rect l="l" t="t" r="r" b="b"/>
              <a:pathLst>
                <a:path w="358" h="436">
                  <a:moveTo>
                    <a:pt x="234" y="81"/>
                  </a:moveTo>
                  <a:lnTo>
                    <a:pt x="229" y="75"/>
                  </a:lnTo>
                  <a:lnTo>
                    <a:pt x="225" y="71"/>
                  </a:lnTo>
                  <a:lnTo>
                    <a:pt x="219" y="67"/>
                  </a:lnTo>
                  <a:lnTo>
                    <a:pt x="213" y="65"/>
                  </a:lnTo>
                  <a:lnTo>
                    <a:pt x="207" y="63"/>
                  </a:lnTo>
                  <a:lnTo>
                    <a:pt x="202" y="60"/>
                  </a:lnTo>
                  <a:lnTo>
                    <a:pt x="197" y="60"/>
                  </a:lnTo>
                  <a:lnTo>
                    <a:pt x="191" y="59"/>
                  </a:lnTo>
                  <a:lnTo>
                    <a:pt x="177" y="60"/>
                  </a:lnTo>
                  <a:lnTo>
                    <a:pt x="163" y="65"/>
                  </a:lnTo>
                  <a:lnTo>
                    <a:pt x="150" y="72"/>
                  </a:lnTo>
                  <a:lnTo>
                    <a:pt x="136" y="82"/>
                  </a:lnTo>
                  <a:lnTo>
                    <a:pt x="123" y="96"/>
                  </a:lnTo>
                  <a:lnTo>
                    <a:pt x="111" y="112"/>
                  </a:lnTo>
                  <a:lnTo>
                    <a:pt x="99" y="129"/>
                  </a:lnTo>
                  <a:lnTo>
                    <a:pt x="90" y="150"/>
                  </a:lnTo>
                  <a:lnTo>
                    <a:pt x="83" y="166"/>
                  </a:lnTo>
                  <a:lnTo>
                    <a:pt x="76" y="184"/>
                  </a:lnTo>
                  <a:lnTo>
                    <a:pt x="69" y="201"/>
                  </a:lnTo>
                  <a:lnTo>
                    <a:pt x="63" y="218"/>
                  </a:lnTo>
                  <a:lnTo>
                    <a:pt x="56" y="237"/>
                  </a:lnTo>
                  <a:lnTo>
                    <a:pt x="51" y="254"/>
                  </a:lnTo>
                  <a:lnTo>
                    <a:pt x="46" y="272"/>
                  </a:lnTo>
                  <a:lnTo>
                    <a:pt x="40" y="290"/>
                  </a:lnTo>
                  <a:lnTo>
                    <a:pt x="64" y="290"/>
                  </a:lnTo>
                  <a:lnTo>
                    <a:pt x="62" y="303"/>
                  </a:lnTo>
                  <a:lnTo>
                    <a:pt x="60" y="323"/>
                  </a:lnTo>
                  <a:lnTo>
                    <a:pt x="59" y="340"/>
                  </a:lnTo>
                  <a:lnTo>
                    <a:pt x="58" y="347"/>
                  </a:lnTo>
                  <a:lnTo>
                    <a:pt x="24" y="347"/>
                  </a:lnTo>
                  <a:lnTo>
                    <a:pt x="22" y="355"/>
                  </a:lnTo>
                  <a:lnTo>
                    <a:pt x="19" y="362"/>
                  </a:lnTo>
                  <a:lnTo>
                    <a:pt x="18" y="370"/>
                  </a:lnTo>
                  <a:lnTo>
                    <a:pt x="16" y="377"/>
                  </a:lnTo>
                  <a:lnTo>
                    <a:pt x="59" y="377"/>
                  </a:lnTo>
                  <a:lnTo>
                    <a:pt x="64" y="406"/>
                  </a:lnTo>
                  <a:lnTo>
                    <a:pt x="9" y="407"/>
                  </a:lnTo>
                  <a:lnTo>
                    <a:pt x="0" y="434"/>
                  </a:lnTo>
                  <a:lnTo>
                    <a:pt x="104" y="434"/>
                  </a:lnTo>
                  <a:lnTo>
                    <a:pt x="91" y="413"/>
                  </a:lnTo>
                  <a:lnTo>
                    <a:pt x="82" y="390"/>
                  </a:lnTo>
                  <a:lnTo>
                    <a:pt x="77" y="364"/>
                  </a:lnTo>
                  <a:lnTo>
                    <a:pt x="76" y="337"/>
                  </a:lnTo>
                  <a:lnTo>
                    <a:pt x="78" y="308"/>
                  </a:lnTo>
                  <a:lnTo>
                    <a:pt x="84" y="279"/>
                  </a:lnTo>
                  <a:lnTo>
                    <a:pt x="92" y="250"/>
                  </a:lnTo>
                  <a:lnTo>
                    <a:pt x="102" y="223"/>
                  </a:lnTo>
                  <a:lnTo>
                    <a:pt x="114" y="196"/>
                  </a:lnTo>
                  <a:lnTo>
                    <a:pt x="127" y="171"/>
                  </a:lnTo>
                  <a:lnTo>
                    <a:pt x="140" y="149"/>
                  </a:lnTo>
                  <a:lnTo>
                    <a:pt x="154" y="129"/>
                  </a:lnTo>
                  <a:lnTo>
                    <a:pt x="168" y="114"/>
                  </a:lnTo>
                  <a:lnTo>
                    <a:pt x="182" y="104"/>
                  </a:lnTo>
                  <a:lnTo>
                    <a:pt x="196" y="99"/>
                  </a:lnTo>
                  <a:lnTo>
                    <a:pt x="207" y="99"/>
                  </a:lnTo>
                  <a:lnTo>
                    <a:pt x="219" y="112"/>
                  </a:lnTo>
                  <a:lnTo>
                    <a:pt x="227" y="139"/>
                  </a:lnTo>
                  <a:lnTo>
                    <a:pt x="230" y="176"/>
                  </a:lnTo>
                  <a:lnTo>
                    <a:pt x="226" y="216"/>
                  </a:lnTo>
                  <a:lnTo>
                    <a:pt x="214" y="256"/>
                  </a:lnTo>
                  <a:lnTo>
                    <a:pt x="192" y="292"/>
                  </a:lnTo>
                  <a:lnTo>
                    <a:pt x="160" y="316"/>
                  </a:lnTo>
                  <a:lnTo>
                    <a:pt x="115" y="326"/>
                  </a:lnTo>
                  <a:lnTo>
                    <a:pt x="108" y="355"/>
                  </a:lnTo>
                  <a:lnTo>
                    <a:pt x="109" y="378"/>
                  </a:lnTo>
                  <a:lnTo>
                    <a:pt x="114" y="398"/>
                  </a:lnTo>
                  <a:lnTo>
                    <a:pt x="123" y="412"/>
                  </a:lnTo>
                  <a:lnTo>
                    <a:pt x="135" y="423"/>
                  </a:lnTo>
                  <a:lnTo>
                    <a:pt x="146" y="430"/>
                  </a:lnTo>
                  <a:lnTo>
                    <a:pt x="158" y="435"/>
                  </a:lnTo>
                  <a:lnTo>
                    <a:pt x="167" y="436"/>
                  </a:lnTo>
                  <a:lnTo>
                    <a:pt x="195" y="432"/>
                  </a:lnTo>
                  <a:lnTo>
                    <a:pt x="220" y="421"/>
                  </a:lnTo>
                  <a:lnTo>
                    <a:pt x="244" y="405"/>
                  </a:lnTo>
                  <a:lnTo>
                    <a:pt x="267" y="383"/>
                  </a:lnTo>
                  <a:lnTo>
                    <a:pt x="287" y="356"/>
                  </a:lnTo>
                  <a:lnTo>
                    <a:pt x="305" y="325"/>
                  </a:lnTo>
                  <a:lnTo>
                    <a:pt x="321" y="293"/>
                  </a:lnTo>
                  <a:lnTo>
                    <a:pt x="334" y="257"/>
                  </a:lnTo>
                  <a:lnTo>
                    <a:pt x="344" y="222"/>
                  </a:lnTo>
                  <a:lnTo>
                    <a:pt x="352" y="185"/>
                  </a:lnTo>
                  <a:lnTo>
                    <a:pt x="357" y="148"/>
                  </a:lnTo>
                  <a:lnTo>
                    <a:pt x="358" y="112"/>
                  </a:lnTo>
                  <a:lnTo>
                    <a:pt x="356" y="80"/>
                  </a:lnTo>
                  <a:lnTo>
                    <a:pt x="349" y="49"/>
                  </a:lnTo>
                  <a:lnTo>
                    <a:pt x="340" y="22"/>
                  </a:lnTo>
                  <a:lnTo>
                    <a:pt x="326" y="0"/>
                  </a:lnTo>
                  <a:lnTo>
                    <a:pt x="231" y="8"/>
                  </a:lnTo>
                  <a:lnTo>
                    <a:pt x="234" y="32"/>
                  </a:lnTo>
                  <a:lnTo>
                    <a:pt x="314" y="32"/>
                  </a:lnTo>
                  <a:lnTo>
                    <a:pt x="319" y="43"/>
                  </a:lnTo>
                  <a:lnTo>
                    <a:pt x="324" y="55"/>
                  </a:lnTo>
                  <a:lnTo>
                    <a:pt x="327" y="67"/>
                  </a:lnTo>
                  <a:lnTo>
                    <a:pt x="329" y="80"/>
                  </a:lnTo>
                  <a:lnTo>
                    <a:pt x="234" y="81"/>
                  </a:lnTo>
                  <a:lnTo>
                    <a:pt x="245" y="108"/>
                  </a:lnTo>
                  <a:lnTo>
                    <a:pt x="329" y="108"/>
                  </a:lnTo>
                  <a:lnTo>
                    <a:pt x="329" y="120"/>
                  </a:lnTo>
                  <a:lnTo>
                    <a:pt x="329" y="133"/>
                  </a:lnTo>
                  <a:lnTo>
                    <a:pt x="329" y="146"/>
                  </a:lnTo>
                  <a:lnTo>
                    <a:pt x="328" y="158"/>
                  </a:lnTo>
                  <a:lnTo>
                    <a:pt x="254" y="161"/>
                  </a:lnTo>
                  <a:lnTo>
                    <a:pt x="254" y="186"/>
                  </a:lnTo>
                  <a:lnTo>
                    <a:pt x="325" y="182"/>
                  </a:lnTo>
                  <a:lnTo>
                    <a:pt x="322" y="192"/>
                  </a:lnTo>
                  <a:lnTo>
                    <a:pt x="320" y="201"/>
                  </a:lnTo>
                  <a:lnTo>
                    <a:pt x="318" y="211"/>
                  </a:lnTo>
                  <a:lnTo>
                    <a:pt x="316" y="220"/>
                  </a:lnTo>
                  <a:lnTo>
                    <a:pt x="250" y="220"/>
                  </a:lnTo>
                  <a:lnTo>
                    <a:pt x="244" y="246"/>
                  </a:lnTo>
                  <a:lnTo>
                    <a:pt x="306" y="246"/>
                  </a:lnTo>
                  <a:lnTo>
                    <a:pt x="301" y="261"/>
                  </a:lnTo>
                  <a:lnTo>
                    <a:pt x="294" y="276"/>
                  </a:lnTo>
                  <a:lnTo>
                    <a:pt x="287" y="290"/>
                  </a:lnTo>
                  <a:lnTo>
                    <a:pt x="279" y="302"/>
                  </a:lnTo>
                  <a:lnTo>
                    <a:pt x="220" y="300"/>
                  </a:lnTo>
                  <a:lnTo>
                    <a:pt x="203" y="322"/>
                  </a:lnTo>
                  <a:lnTo>
                    <a:pt x="264" y="322"/>
                  </a:lnTo>
                  <a:lnTo>
                    <a:pt x="258" y="326"/>
                  </a:lnTo>
                  <a:lnTo>
                    <a:pt x="253" y="332"/>
                  </a:lnTo>
                  <a:lnTo>
                    <a:pt x="248" y="337"/>
                  </a:lnTo>
                  <a:lnTo>
                    <a:pt x="242" y="341"/>
                  </a:lnTo>
                  <a:lnTo>
                    <a:pt x="177" y="341"/>
                  </a:lnTo>
                  <a:lnTo>
                    <a:pt x="183" y="337"/>
                  </a:lnTo>
                  <a:lnTo>
                    <a:pt x="190" y="332"/>
                  </a:lnTo>
                  <a:lnTo>
                    <a:pt x="197" y="328"/>
                  </a:lnTo>
                  <a:lnTo>
                    <a:pt x="203" y="322"/>
                  </a:lnTo>
                  <a:lnTo>
                    <a:pt x="220" y="300"/>
                  </a:lnTo>
                  <a:lnTo>
                    <a:pt x="228" y="288"/>
                  </a:lnTo>
                  <a:lnTo>
                    <a:pt x="234" y="275"/>
                  </a:lnTo>
                  <a:lnTo>
                    <a:pt x="240" y="260"/>
                  </a:lnTo>
                  <a:lnTo>
                    <a:pt x="244" y="246"/>
                  </a:lnTo>
                  <a:lnTo>
                    <a:pt x="250" y="220"/>
                  </a:lnTo>
                  <a:lnTo>
                    <a:pt x="251" y="212"/>
                  </a:lnTo>
                  <a:lnTo>
                    <a:pt x="252" y="203"/>
                  </a:lnTo>
                  <a:lnTo>
                    <a:pt x="253" y="195"/>
                  </a:lnTo>
                  <a:lnTo>
                    <a:pt x="254" y="186"/>
                  </a:lnTo>
                  <a:lnTo>
                    <a:pt x="254" y="161"/>
                  </a:lnTo>
                  <a:lnTo>
                    <a:pt x="253" y="147"/>
                  </a:lnTo>
                  <a:lnTo>
                    <a:pt x="252" y="133"/>
                  </a:lnTo>
                  <a:lnTo>
                    <a:pt x="250" y="119"/>
                  </a:lnTo>
                  <a:lnTo>
                    <a:pt x="245" y="108"/>
                  </a:lnTo>
                  <a:lnTo>
                    <a:pt x="234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5720" y="172368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5720" y="194436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15720" y="216468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641680" y="2362320"/>
            <a:ext cx="7016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Arial"/>
              </a:rPr>
              <a:t>A corto plaz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650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u medición es en general menor a un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650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Miden variables de performance individual y/o gru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650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Habitualmente se utilizan en áreas comerciales o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650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e vincula con indicadores como ventas, market share, cobranzas, productividad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545"/>
            </a:gs>
            <a:gs pos="50000">
              <a:srgbClr val="009999"/>
            </a:gs>
            <a:gs pos="100000">
              <a:srgbClr val="00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6280" y="259920"/>
            <a:ext cx="90694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9900"/>
                </a:solidFill>
                <a:latin typeface="Times New Roman"/>
              </a:rPr>
              <a:t>Tipos de Planes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1680" y="1599840"/>
            <a:ext cx="478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Incentiv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1371600"/>
            <a:ext cx="1703520" cy="1233360"/>
            <a:chOff x="914400" y="1371600"/>
            <a:chExt cx="1703520" cy="1233360"/>
          </a:xfrm>
        </p:grpSpPr>
        <p:sp>
          <p:nvSpPr>
            <p:cNvPr id="148" name=""/>
            <p:cNvSpPr/>
            <p:nvPr/>
          </p:nvSpPr>
          <p:spPr>
            <a:xfrm>
              <a:off x="914400" y="1371600"/>
              <a:ext cx="1703520" cy="1233360"/>
            </a:xfrm>
            <a:custGeom>
              <a:avLst/>
              <a:gdLst/>
              <a:ahLst/>
              <a:rect l="l" t="t" r="r" b="b"/>
              <a:pathLst>
                <a:path w="3416" h="2688">
                  <a:moveTo>
                    <a:pt x="436" y="2107"/>
                  </a:moveTo>
                  <a:lnTo>
                    <a:pt x="431" y="2107"/>
                  </a:lnTo>
                  <a:lnTo>
                    <a:pt x="419" y="2107"/>
                  </a:lnTo>
                  <a:lnTo>
                    <a:pt x="400" y="2107"/>
                  </a:lnTo>
                  <a:lnTo>
                    <a:pt x="377" y="2107"/>
                  </a:lnTo>
                  <a:lnTo>
                    <a:pt x="353" y="2107"/>
                  </a:lnTo>
                  <a:lnTo>
                    <a:pt x="329" y="2107"/>
                  </a:lnTo>
                  <a:lnTo>
                    <a:pt x="306" y="2107"/>
                  </a:lnTo>
                  <a:lnTo>
                    <a:pt x="287" y="2107"/>
                  </a:lnTo>
                  <a:lnTo>
                    <a:pt x="278" y="2107"/>
                  </a:lnTo>
                  <a:lnTo>
                    <a:pt x="269" y="2108"/>
                  </a:lnTo>
                  <a:lnTo>
                    <a:pt x="257" y="2111"/>
                  </a:lnTo>
                  <a:lnTo>
                    <a:pt x="246" y="2113"/>
                  </a:lnTo>
                  <a:lnTo>
                    <a:pt x="233" y="2117"/>
                  </a:lnTo>
                  <a:lnTo>
                    <a:pt x="220" y="2121"/>
                  </a:lnTo>
                  <a:lnTo>
                    <a:pt x="207" y="2127"/>
                  </a:lnTo>
                  <a:lnTo>
                    <a:pt x="193" y="2133"/>
                  </a:lnTo>
                  <a:lnTo>
                    <a:pt x="179" y="2141"/>
                  </a:lnTo>
                  <a:lnTo>
                    <a:pt x="165" y="2150"/>
                  </a:lnTo>
                  <a:lnTo>
                    <a:pt x="151" y="2160"/>
                  </a:lnTo>
                  <a:lnTo>
                    <a:pt x="138" y="2172"/>
                  </a:lnTo>
                  <a:lnTo>
                    <a:pt x="125" y="2185"/>
                  </a:lnTo>
                  <a:lnTo>
                    <a:pt x="112" y="2199"/>
                  </a:lnTo>
                  <a:lnTo>
                    <a:pt x="101" y="2216"/>
                  </a:lnTo>
                  <a:lnTo>
                    <a:pt x="90" y="2233"/>
                  </a:lnTo>
                  <a:lnTo>
                    <a:pt x="65" y="2282"/>
                  </a:lnTo>
                  <a:lnTo>
                    <a:pt x="43" y="2333"/>
                  </a:lnTo>
                  <a:lnTo>
                    <a:pt x="25" y="2383"/>
                  </a:lnTo>
                  <a:lnTo>
                    <a:pt x="12" y="2430"/>
                  </a:lnTo>
                  <a:lnTo>
                    <a:pt x="4" y="2476"/>
                  </a:lnTo>
                  <a:lnTo>
                    <a:pt x="0" y="2519"/>
                  </a:lnTo>
                  <a:lnTo>
                    <a:pt x="2" y="2557"/>
                  </a:lnTo>
                  <a:lnTo>
                    <a:pt x="10" y="2591"/>
                  </a:lnTo>
                  <a:lnTo>
                    <a:pt x="15" y="2605"/>
                  </a:lnTo>
                  <a:lnTo>
                    <a:pt x="23" y="2620"/>
                  </a:lnTo>
                  <a:lnTo>
                    <a:pt x="35" y="2636"/>
                  </a:lnTo>
                  <a:lnTo>
                    <a:pt x="50" y="2651"/>
                  </a:lnTo>
                  <a:lnTo>
                    <a:pt x="67" y="2666"/>
                  </a:lnTo>
                  <a:lnTo>
                    <a:pt x="88" y="2678"/>
                  </a:lnTo>
                  <a:lnTo>
                    <a:pt x="112" y="2686"/>
                  </a:lnTo>
                  <a:lnTo>
                    <a:pt x="140" y="2688"/>
                  </a:lnTo>
                  <a:lnTo>
                    <a:pt x="155" y="2688"/>
                  </a:lnTo>
                  <a:lnTo>
                    <a:pt x="182" y="2688"/>
                  </a:lnTo>
                  <a:lnTo>
                    <a:pt x="222" y="2687"/>
                  </a:lnTo>
                  <a:lnTo>
                    <a:pt x="271" y="2686"/>
                  </a:lnTo>
                  <a:lnTo>
                    <a:pt x="331" y="2685"/>
                  </a:lnTo>
                  <a:lnTo>
                    <a:pt x="399" y="2683"/>
                  </a:lnTo>
                  <a:lnTo>
                    <a:pt x="476" y="2682"/>
                  </a:lnTo>
                  <a:lnTo>
                    <a:pt x="560" y="2680"/>
                  </a:lnTo>
                  <a:lnTo>
                    <a:pt x="651" y="2679"/>
                  </a:lnTo>
                  <a:lnTo>
                    <a:pt x="747" y="2676"/>
                  </a:lnTo>
                  <a:lnTo>
                    <a:pt x="848" y="2675"/>
                  </a:lnTo>
                  <a:lnTo>
                    <a:pt x="953" y="2673"/>
                  </a:lnTo>
                  <a:lnTo>
                    <a:pt x="1061" y="2671"/>
                  </a:lnTo>
                  <a:lnTo>
                    <a:pt x="1172" y="2668"/>
                  </a:lnTo>
                  <a:lnTo>
                    <a:pt x="1284" y="2666"/>
                  </a:lnTo>
                  <a:lnTo>
                    <a:pt x="1397" y="2664"/>
                  </a:lnTo>
                  <a:lnTo>
                    <a:pt x="1509" y="2662"/>
                  </a:lnTo>
                  <a:lnTo>
                    <a:pt x="1620" y="2659"/>
                  </a:lnTo>
                  <a:lnTo>
                    <a:pt x="1729" y="2657"/>
                  </a:lnTo>
                  <a:lnTo>
                    <a:pt x="1835" y="2655"/>
                  </a:lnTo>
                  <a:lnTo>
                    <a:pt x="1938" y="2652"/>
                  </a:lnTo>
                  <a:lnTo>
                    <a:pt x="2037" y="2651"/>
                  </a:lnTo>
                  <a:lnTo>
                    <a:pt x="2129" y="2649"/>
                  </a:lnTo>
                  <a:lnTo>
                    <a:pt x="2216" y="2648"/>
                  </a:lnTo>
                  <a:lnTo>
                    <a:pt x="2296" y="2645"/>
                  </a:lnTo>
                  <a:lnTo>
                    <a:pt x="2368" y="2644"/>
                  </a:lnTo>
                  <a:lnTo>
                    <a:pt x="2431" y="2643"/>
                  </a:lnTo>
                  <a:lnTo>
                    <a:pt x="2484" y="2642"/>
                  </a:lnTo>
                  <a:lnTo>
                    <a:pt x="2527" y="2641"/>
                  </a:lnTo>
                  <a:lnTo>
                    <a:pt x="2559" y="2640"/>
                  </a:lnTo>
                  <a:lnTo>
                    <a:pt x="2578" y="2640"/>
                  </a:lnTo>
                  <a:lnTo>
                    <a:pt x="2585" y="2640"/>
                  </a:lnTo>
                  <a:lnTo>
                    <a:pt x="2667" y="2620"/>
                  </a:lnTo>
                  <a:lnTo>
                    <a:pt x="2737" y="2565"/>
                  </a:lnTo>
                  <a:lnTo>
                    <a:pt x="2797" y="2478"/>
                  </a:lnTo>
                  <a:lnTo>
                    <a:pt x="2847" y="2365"/>
                  </a:lnTo>
                  <a:lnTo>
                    <a:pt x="2888" y="2229"/>
                  </a:lnTo>
                  <a:lnTo>
                    <a:pt x="2923" y="2076"/>
                  </a:lnTo>
                  <a:lnTo>
                    <a:pt x="2949" y="1909"/>
                  </a:lnTo>
                  <a:lnTo>
                    <a:pt x="2970" y="1734"/>
                  </a:lnTo>
                  <a:lnTo>
                    <a:pt x="2984" y="1555"/>
                  </a:lnTo>
                  <a:lnTo>
                    <a:pt x="2994" y="1377"/>
                  </a:lnTo>
                  <a:lnTo>
                    <a:pt x="3001" y="1203"/>
                  </a:lnTo>
                  <a:lnTo>
                    <a:pt x="3005" y="1039"/>
                  </a:lnTo>
                  <a:lnTo>
                    <a:pt x="3006" y="889"/>
                  </a:lnTo>
                  <a:lnTo>
                    <a:pt x="3006" y="758"/>
                  </a:lnTo>
                  <a:lnTo>
                    <a:pt x="3005" y="650"/>
                  </a:lnTo>
                  <a:lnTo>
                    <a:pt x="3005" y="569"/>
                  </a:lnTo>
                  <a:lnTo>
                    <a:pt x="3009" y="569"/>
                  </a:lnTo>
                  <a:lnTo>
                    <a:pt x="3022" y="569"/>
                  </a:lnTo>
                  <a:lnTo>
                    <a:pt x="3040" y="569"/>
                  </a:lnTo>
                  <a:lnTo>
                    <a:pt x="3063" y="569"/>
                  </a:lnTo>
                  <a:lnTo>
                    <a:pt x="3086" y="569"/>
                  </a:lnTo>
                  <a:lnTo>
                    <a:pt x="3111" y="569"/>
                  </a:lnTo>
                  <a:lnTo>
                    <a:pt x="3130" y="569"/>
                  </a:lnTo>
                  <a:lnTo>
                    <a:pt x="3146" y="569"/>
                  </a:lnTo>
                  <a:lnTo>
                    <a:pt x="3160" y="569"/>
                  </a:lnTo>
                  <a:lnTo>
                    <a:pt x="3179" y="568"/>
                  </a:lnTo>
                  <a:lnTo>
                    <a:pt x="3199" y="566"/>
                  </a:lnTo>
                  <a:lnTo>
                    <a:pt x="3222" y="560"/>
                  </a:lnTo>
                  <a:lnTo>
                    <a:pt x="3247" y="551"/>
                  </a:lnTo>
                  <a:lnTo>
                    <a:pt x="3273" y="536"/>
                  </a:lnTo>
                  <a:lnTo>
                    <a:pt x="3300" y="515"/>
                  </a:lnTo>
                  <a:lnTo>
                    <a:pt x="3326" y="486"/>
                  </a:lnTo>
                  <a:lnTo>
                    <a:pt x="3354" y="448"/>
                  </a:lnTo>
                  <a:lnTo>
                    <a:pt x="3376" y="408"/>
                  </a:lnTo>
                  <a:lnTo>
                    <a:pt x="3392" y="369"/>
                  </a:lnTo>
                  <a:lnTo>
                    <a:pt x="3404" y="327"/>
                  </a:lnTo>
                  <a:lnTo>
                    <a:pt x="3411" y="285"/>
                  </a:lnTo>
                  <a:lnTo>
                    <a:pt x="3416" y="242"/>
                  </a:lnTo>
                  <a:lnTo>
                    <a:pt x="3416" y="198"/>
                  </a:lnTo>
                  <a:lnTo>
                    <a:pt x="3414" y="153"/>
                  </a:lnTo>
                  <a:lnTo>
                    <a:pt x="3411" y="134"/>
                  </a:lnTo>
                  <a:lnTo>
                    <a:pt x="3407" y="115"/>
                  </a:lnTo>
                  <a:lnTo>
                    <a:pt x="3402" y="98"/>
                  </a:lnTo>
                  <a:lnTo>
                    <a:pt x="3395" y="83"/>
                  </a:lnTo>
                  <a:lnTo>
                    <a:pt x="3387" y="69"/>
                  </a:lnTo>
                  <a:lnTo>
                    <a:pt x="3377" y="56"/>
                  </a:lnTo>
                  <a:lnTo>
                    <a:pt x="3364" y="45"/>
                  </a:lnTo>
                  <a:lnTo>
                    <a:pt x="3350" y="36"/>
                  </a:lnTo>
                  <a:lnTo>
                    <a:pt x="3334" y="26"/>
                  </a:lnTo>
                  <a:lnTo>
                    <a:pt x="3316" y="20"/>
                  </a:lnTo>
                  <a:lnTo>
                    <a:pt x="3296" y="14"/>
                  </a:lnTo>
                  <a:lnTo>
                    <a:pt x="3273" y="8"/>
                  </a:lnTo>
                  <a:lnTo>
                    <a:pt x="3248" y="5"/>
                  </a:lnTo>
                  <a:lnTo>
                    <a:pt x="3220" y="2"/>
                  </a:lnTo>
                  <a:lnTo>
                    <a:pt x="3190" y="0"/>
                  </a:lnTo>
                  <a:lnTo>
                    <a:pt x="3157" y="0"/>
                  </a:lnTo>
                  <a:lnTo>
                    <a:pt x="3145" y="0"/>
                  </a:lnTo>
                  <a:lnTo>
                    <a:pt x="3122" y="1"/>
                  </a:lnTo>
                  <a:lnTo>
                    <a:pt x="3089" y="2"/>
                  </a:lnTo>
                  <a:lnTo>
                    <a:pt x="3045" y="3"/>
                  </a:lnTo>
                  <a:lnTo>
                    <a:pt x="2993" y="6"/>
                  </a:lnTo>
                  <a:lnTo>
                    <a:pt x="2932" y="8"/>
                  </a:lnTo>
                  <a:lnTo>
                    <a:pt x="2864" y="10"/>
                  </a:lnTo>
                  <a:lnTo>
                    <a:pt x="2789" y="14"/>
                  </a:lnTo>
                  <a:lnTo>
                    <a:pt x="2709" y="17"/>
                  </a:lnTo>
                  <a:lnTo>
                    <a:pt x="2623" y="21"/>
                  </a:lnTo>
                  <a:lnTo>
                    <a:pt x="2532" y="24"/>
                  </a:lnTo>
                  <a:lnTo>
                    <a:pt x="2438" y="28"/>
                  </a:lnTo>
                  <a:lnTo>
                    <a:pt x="2341" y="32"/>
                  </a:lnTo>
                  <a:lnTo>
                    <a:pt x="2242" y="36"/>
                  </a:lnTo>
                  <a:lnTo>
                    <a:pt x="2141" y="40"/>
                  </a:lnTo>
                  <a:lnTo>
                    <a:pt x="2039" y="44"/>
                  </a:lnTo>
                  <a:lnTo>
                    <a:pt x="1937" y="48"/>
                  </a:lnTo>
                  <a:lnTo>
                    <a:pt x="1835" y="53"/>
                  </a:lnTo>
                  <a:lnTo>
                    <a:pt x="1736" y="56"/>
                  </a:lnTo>
                  <a:lnTo>
                    <a:pt x="1638" y="61"/>
                  </a:lnTo>
                  <a:lnTo>
                    <a:pt x="1544" y="65"/>
                  </a:lnTo>
                  <a:lnTo>
                    <a:pt x="1453" y="68"/>
                  </a:lnTo>
                  <a:lnTo>
                    <a:pt x="1365" y="71"/>
                  </a:lnTo>
                  <a:lnTo>
                    <a:pt x="1285" y="75"/>
                  </a:lnTo>
                  <a:lnTo>
                    <a:pt x="1209" y="78"/>
                  </a:lnTo>
                  <a:lnTo>
                    <a:pt x="1140" y="81"/>
                  </a:lnTo>
                  <a:lnTo>
                    <a:pt x="1079" y="83"/>
                  </a:lnTo>
                  <a:lnTo>
                    <a:pt x="1024" y="85"/>
                  </a:lnTo>
                  <a:lnTo>
                    <a:pt x="981" y="86"/>
                  </a:lnTo>
                  <a:lnTo>
                    <a:pt x="945" y="88"/>
                  </a:lnTo>
                  <a:lnTo>
                    <a:pt x="921" y="89"/>
                  </a:lnTo>
                  <a:lnTo>
                    <a:pt x="907" y="89"/>
                  </a:lnTo>
                  <a:lnTo>
                    <a:pt x="825" y="104"/>
                  </a:lnTo>
                  <a:lnTo>
                    <a:pt x="756" y="145"/>
                  </a:lnTo>
                  <a:lnTo>
                    <a:pt x="697" y="211"/>
                  </a:lnTo>
                  <a:lnTo>
                    <a:pt x="649" y="300"/>
                  </a:lnTo>
                  <a:lnTo>
                    <a:pt x="609" y="407"/>
                  </a:lnTo>
                  <a:lnTo>
                    <a:pt x="578" y="531"/>
                  </a:lnTo>
                  <a:lnTo>
                    <a:pt x="552" y="669"/>
                  </a:lnTo>
                  <a:lnTo>
                    <a:pt x="533" y="819"/>
                  </a:lnTo>
                  <a:lnTo>
                    <a:pt x="516" y="978"/>
                  </a:lnTo>
                  <a:lnTo>
                    <a:pt x="505" y="1142"/>
                  </a:lnTo>
                  <a:lnTo>
                    <a:pt x="495" y="1310"/>
                  </a:lnTo>
                  <a:lnTo>
                    <a:pt x="485" y="1478"/>
                  </a:lnTo>
                  <a:lnTo>
                    <a:pt x="476" y="1645"/>
                  </a:lnTo>
                  <a:lnTo>
                    <a:pt x="466" y="1808"/>
                  </a:lnTo>
                  <a:lnTo>
                    <a:pt x="452" y="1962"/>
                  </a:lnTo>
                  <a:lnTo>
                    <a:pt x="436" y="2107"/>
                  </a:lnTo>
                  <a:close/>
                </a:path>
              </a:pathLst>
            </a:cu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97080" y="2365560"/>
              <a:ext cx="189360" cy="209160"/>
            </a:xfrm>
            <a:custGeom>
              <a:avLst/>
              <a:gdLst/>
              <a:ahLst/>
              <a:rect l="l" t="t" r="r" b="b"/>
              <a:pathLst>
                <a:path w="380" h="455">
                  <a:moveTo>
                    <a:pt x="107" y="156"/>
                  </a:moveTo>
                  <a:lnTo>
                    <a:pt x="114" y="149"/>
                  </a:lnTo>
                  <a:lnTo>
                    <a:pt x="123" y="142"/>
                  </a:lnTo>
                  <a:lnTo>
                    <a:pt x="131" y="137"/>
                  </a:lnTo>
                  <a:lnTo>
                    <a:pt x="138" y="135"/>
                  </a:lnTo>
                  <a:lnTo>
                    <a:pt x="146" y="138"/>
                  </a:lnTo>
                  <a:lnTo>
                    <a:pt x="152" y="149"/>
                  </a:lnTo>
                  <a:lnTo>
                    <a:pt x="157" y="164"/>
                  </a:lnTo>
                  <a:lnTo>
                    <a:pt x="158" y="182"/>
                  </a:lnTo>
                  <a:lnTo>
                    <a:pt x="155" y="202"/>
                  </a:lnTo>
                  <a:lnTo>
                    <a:pt x="151" y="221"/>
                  </a:lnTo>
                  <a:lnTo>
                    <a:pt x="143" y="240"/>
                  </a:lnTo>
                  <a:lnTo>
                    <a:pt x="130" y="255"/>
                  </a:lnTo>
                  <a:lnTo>
                    <a:pt x="196" y="255"/>
                  </a:lnTo>
                  <a:lnTo>
                    <a:pt x="201" y="229"/>
                  </a:lnTo>
                  <a:lnTo>
                    <a:pt x="168" y="229"/>
                  </a:lnTo>
                  <a:lnTo>
                    <a:pt x="173" y="222"/>
                  </a:lnTo>
                  <a:lnTo>
                    <a:pt x="176" y="214"/>
                  </a:lnTo>
                  <a:lnTo>
                    <a:pt x="178" y="205"/>
                  </a:lnTo>
                  <a:lnTo>
                    <a:pt x="180" y="196"/>
                  </a:lnTo>
                  <a:lnTo>
                    <a:pt x="205" y="196"/>
                  </a:lnTo>
                  <a:lnTo>
                    <a:pt x="208" y="172"/>
                  </a:lnTo>
                  <a:lnTo>
                    <a:pt x="178" y="172"/>
                  </a:lnTo>
                  <a:lnTo>
                    <a:pt x="178" y="163"/>
                  </a:lnTo>
                  <a:lnTo>
                    <a:pt x="178" y="151"/>
                  </a:lnTo>
                  <a:lnTo>
                    <a:pt x="177" y="139"/>
                  </a:lnTo>
                  <a:lnTo>
                    <a:pt x="175" y="128"/>
                  </a:lnTo>
                  <a:lnTo>
                    <a:pt x="205" y="128"/>
                  </a:lnTo>
                  <a:lnTo>
                    <a:pt x="203" y="103"/>
                  </a:lnTo>
                  <a:lnTo>
                    <a:pt x="201" y="103"/>
                  </a:lnTo>
                  <a:lnTo>
                    <a:pt x="198" y="103"/>
                  </a:lnTo>
                  <a:lnTo>
                    <a:pt x="193" y="103"/>
                  </a:lnTo>
                  <a:lnTo>
                    <a:pt x="187" y="103"/>
                  </a:lnTo>
                  <a:lnTo>
                    <a:pt x="178" y="103"/>
                  </a:lnTo>
                  <a:lnTo>
                    <a:pt x="170" y="103"/>
                  </a:lnTo>
                  <a:lnTo>
                    <a:pt x="161" y="103"/>
                  </a:lnTo>
                  <a:lnTo>
                    <a:pt x="152" y="103"/>
                  </a:lnTo>
                  <a:lnTo>
                    <a:pt x="142" y="105"/>
                  </a:lnTo>
                  <a:lnTo>
                    <a:pt x="129" y="111"/>
                  </a:lnTo>
                  <a:lnTo>
                    <a:pt x="115" y="120"/>
                  </a:lnTo>
                  <a:lnTo>
                    <a:pt x="100" y="136"/>
                  </a:lnTo>
                  <a:lnTo>
                    <a:pt x="86" y="157"/>
                  </a:lnTo>
                  <a:lnTo>
                    <a:pt x="72" y="183"/>
                  </a:lnTo>
                  <a:lnTo>
                    <a:pt x="61" y="216"/>
                  </a:lnTo>
                  <a:lnTo>
                    <a:pt x="52" y="256"/>
                  </a:lnTo>
                  <a:lnTo>
                    <a:pt x="46" y="292"/>
                  </a:lnTo>
                  <a:lnTo>
                    <a:pt x="44" y="326"/>
                  </a:lnTo>
                  <a:lnTo>
                    <a:pt x="44" y="357"/>
                  </a:lnTo>
                  <a:lnTo>
                    <a:pt x="46" y="385"/>
                  </a:lnTo>
                  <a:lnTo>
                    <a:pt x="53" y="408"/>
                  </a:lnTo>
                  <a:lnTo>
                    <a:pt x="63" y="426"/>
                  </a:lnTo>
                  <a:lnTo>
                    <a:pt x="77" y="438"/>
                  </a:lnTo>
                  <a:lnTo>
                    <a:pt x="96" y="443"/>
                  </a:lnTo>
                  <a:lnTo>
                    <a:pt x="115" y="443"/>
                  </a:lnTo>
                  <a:lnTo>
                    <a:pt x="134" y="439"/>
                  </a:lnTo>
                  <a:lnTo>
                    <a:pt x="150" y="434"/>
                  </a:lnTo>
                  <a:lnTo>
                    <a:pt x="166" y="426"/>
                  </a:lnTo>
                  <a:lnTo>
                    <a:pt x="180" y="417"/>
                  </a:lnTo>
                  <a:lnTo>
                    <a:pt x="195" y="404"/>
                  </a:lnTo>
                  <a:lnTo>
                    <a:pt x="208" y="391"/>
                  </a:lnTo>
                  <a:lnTo>
                    <a:pt x="222" y="375"/>
                  </a:lnTo>
                  <a:lnTo>
                    <a:pt x="187" y="376"/>
                  </a:lnTo>
                  <a:lnTo>
                    <a:pt x="192" y="368"/>
                  </a:lnTo>
                  <a:lnTo>
                    <a:pt x="199" y="355"/>
                  </a:lnTo>
                  <a:lnTo>
                    <a:pt x="207" y="343"/>
                  </a:lnTo>
                  <a:lnTo>
                    <a:pt x="212" y="335"/>
                  </a:lnTo>
                  <a:lnTo>
                    <a:pt x="261" y="335"/>
                  </a:lnTo>
                  <a:lnTo>
                    <a:pt x="282" y="301"/>
                  </a:lnTo>
                  <a:lnTo>
                    <a:pt x="227" y="302"/>
                  </a:lnTo>
                  <a:lnTo>
                    <a:pt x="231" y="288"/>
                  </a:lnTo>
                  <a:lnTo>
                    <a:pt x="237" y="273"/>
                  </a:lnTo>
                  <a:lnTo>
                    <a:pt x="242" y="258"/>
                  </a:lnTo>
                  <a:lnTo>
                    <a:pt x="245" y="244"/>
                  </a:lnTo>
                  <a:lnTo>
                    <a:pt x="307" y="244"/>
                  </a:lnTo>
                  <a:lnTo>
                    <a:pt x="320" y="211"/>
                  </a:lnTo>
                  <a:lnTo>
                    <a:pt x="252" y="212"/>
                  </a:lnTo>
                  <a:lnTo>
                    <a:pt x="253" y="204"/>
                  </a:lnTo>
                  <a:lnTo>
                    <a:pt x="254" y="195"/>
                  </a:lnTo>
                  <a:lnTo>
                    <a:pt x="256" y="186"/>
                  </a:lnTo>
                  <a:lnTo>
                    <a:pt x="257" y="178"/>
                  </a:lnTo>
                  <a:lnTo>
                    <a:pt x="332" y="178"/>
                  </a:lnTo>
                  <a:lnTo>
                    <a:pt x="342" y="145"/>
                  </a:lnTo>
                  <a:lnTo>
                    <a:pt x="260" y="145"/>
                  </a:lnTo>
                  <a:lnTo>
                    <a:pt x="261" y="134"/>
                  </a:lnTo>
                  <a:lnTo>
                    <a:pt x="261" y="122"/>
                  </a:lnTo>
                  <a:lnTo>
                    <a:pt x="263" y="112"/>
                  </a:lnTo>
                  <a:lnTo>
                    <a:pt x="263" y="101"/>
                  </a:lnTo>
                  <a:lnTo>
                    <a:pt x="355" y="101"/>
                  </a:lnTo>
                  <a:lnTo>
                    <a:pt x="363" y="73"/>
                  </a:lnTo>
                  <a:lnTo>
                    <a:pt x="260" y="73"/>
                  </a:lnTo>
                  <a:lnTo>
                    <a:pt x="259" y="63"/>
                  </a:lnTo>
                  <a:lnTo>
                    <a:pt x="257" y="53"/>
                  </a:lnTo>
                  <a:lnTo>
                    <a:pt x="254" y="43"/>
                  </a:lnTo>
                  <a:lnTo>
                    <a:pt x="250" y="33"/>
                  </a:lnTo>
                  <a:lnTo>
                    <a:pt x="372" y="33"/>
                  </a:lnTo>
                  <a:lnTo>
                    <a:pt x="380" y="0"/>
                  </a:lnTo>
                  <a:lnTo>
                    <a:pt x="355" y="0"/>
                  </a:lnTo>
                  <a:lnTo>
                    <a:pt x="329" y="0"/>
                  </a:lnTo>
                  <a:lnTo>
                    <a:pt x="303" y="0"/>
                  </a:lnTo>
                  <a:lnTo>
                    <a:pt x="278" y="1"/>
                  </a:lnTo>
                  <a:lnTo>
                    <a:pt x="253" y="2"/>
                  </a:lnTo>
                  <a:lnTo>
                    <a:pt x="231" y="4"/>
                  </a:lnTo>
                  <a:lnTo>
                    <a:pt x="213" y="5"/>
                  </a:lnTo>
                  <a:lnTo>
                    <a:pt x="198" y="6"/>
                  </a:lnTo>
                  <a:lnTo>
                    <a:pt x="163" y="15"/>
                  </a:lnTo>
                  <a:lnTo>
                    <a:pt x="131" y="32"/>
                  </a:lnTo>
                  <a:lnTo>
                    <a:pt x="104" y="55"/>
                  </a:lnTo>
                  <a:lnTo>
                    <a:pt x="78" y="85"/>
                  </a:lnTo>
                  <a:lnTo>
                    <a:pt x="56" y="120"/>
                  </a:lnTo>
                  <a:lnTo>
                    <a:pt x="38" y="158"/>
                  </a:lnTo>
                  <a:lnTo>
                    <a:pt x="23" y="197"/>
                  </a:lnTo>
                  <a:lnTo>
                    <a:pt x="11" y="237"/>
                  </a:lnTo>
                  <a:lnTo>
                    <a:pt x="3" y="278"/>
                  </a:lnTo>
                  <a:lnTo>
                    <a:pt x="0" y="317"/>
                  </a:lnTo>
                  <a:lnTo>
                    <a:pt x="0" y="354"/>
                  </a:lnTo>
                  <a:lnTo>
                    <a:pt x="3" y="386"/>
                  </a:lnTo>
                  <a:lnTo>
                    <a:pt x="11" y="414"/>
                  </a:lnTo>
                  <a:lnTo>
                    <a:pt x="23" y="436"/>
                  </a:lnTo>
                  <a:lnTo>
                    <a:pt x="39" y="449"/>
                  </a:lnTo>
                  <a:lnTo>
                    <a:pt x="60" y="455"/>
                  </a:lnTo>
                  <a:lnTo>
                    <a:pt x="41" y="432"/>
                  </a:lnTo>
                  <a:lnTo>
                    <a:pt x="29" y="406"/>
                  </a:lnTo>
                  <a:lnTo>
                    <a:pt x="21" y="375"/>
                  </a:lnTo>
                  <a:lnTo>
                    <a:pt x="17" y="342"/>
                  </a:lnTo>
                  <a:lnTo>
                    <a:pt x="18" y="308"/>
                  </a:lnTo>
                  <a:lnTo>
                    <a:pt x="23" y="272"/>
                  </a:lnTo>
                  <a:lnTo>
                    <a:pt x="31" y="236"/>
                  </a:lnTo>
                  <a:lnTo>
                    <a:pt x="41" y="202"/>
                  </a:lnTo>
                  <a:lnTo>
                    <a:pt x="55" y="168"/>
                  </a:lnTo>
                  <a:lnTo>
                    <a:pt x="70" y="136"/>
                  </a:lnTo>
                  <a:lnTo>
                    <a:pt x="87" y="107"/>
                  </a:lnTo>
                  <a:lnTo>
                    <a:pt x="106" y="83"/>
                  </a:lnTo>
                  <a:lnTo>
                    <a:pt x="125" y="62"/>
                  </a:lnTo>
                  <a:lnTo>
                    <a:pt x="145" y="47"/>
                  </a:lnTo>
                  <a:lnTo>
                    <a:pt x="166" y="38"/>
                  </a:lnTo>
                  <a:lnTo>
                    <a:pt x="185" y="36"/>
                  </a:lnTo>
                  <a:lnTo>
                    <a:pt x="212" y="54"/>
                  </a:lnTo>
                  <a:lnTo>
                    <a:pt x="227" y="98"/>
                  </a:lnTo>
                  <a:lnTo>
                    <a:pt x="229" y="160"/>
                  </a:lnTo>
                  <a:lnTo>
                    <a:pt x="222" y="231"/>
                  </a:lnTo>
                  <a:lnTo>
                    <a:pt x="204" y="301"/>
                  </a:lnTo>
                  <a:lnTo>
                    <a:pt x="177" y="362"/>
                  </a:lnTo>
                  <a:lnTo>
                    <a:pt x="142" y="406"/>
                  </a:lnTo>
                  <a:lnTo>
                    <a:pt x="99" y="422"/>
                  </a:lnTo>
                  <a:lnTo>
                    <a:pt x="87" y="418"/>
                  </a:lnTo>
                  <a:lnTo>
                    <a:pt x="79" y="410"/>
                  </a:lnTo>
                  <a:lnTo>
                    <a:pt x="72" y="398"/>
                  </a:lnTo>
                  <a:lnTo>
                    <a:pt x="68" y="381"/>
                  </a:lnTo>
                  <a:lnTo>
                    <a:pt x="138" y="381"/>
                  </a:lnTo>
                  <a:lnTo>
                    <a:pt x="151" y="363"/>
                  </a:lnTo>
                  <a:lnTo>
                    <a:pt x="64" y="354"/>
                  </a:lnTo>
                  <a:lnTo>
                    <a:pt x="63" y="345"/>
                  </a:lnTo>
                  <a:lnTo>
                    <a:pt x="63" y="334"/>
                  </a:lnTo>
                  <a:lnTo>
                    <a:pt x="63" y="324"/>
                  </a:lnTo>
                  <a:lnTo>
                    <a:pt x="64" y="312"/>
                  </a:lnTo>
                  <a:lnTo>
                    <a:pt x="177" y="312"/>
                  </a:lnTo>
                  <a:lnTo>
                    <a:pt x="175" y="290"/>
                  </a:lnTo>
                  <a:lnTo>
                    <a:pt x="68" y="285"/>
                  </a:lnTo>
                  <a:lnTo>
                    <a:pt x="70" y="273"/>
                  </a:lnTo>
                  <a:lnTo>
                    <a:pt x="72" y="263"/>
                  </a:lnTo>
                  <a:lnTo>
                    <a:pt x="75" y="254"/>
                  </a:lnTo>
                  <a:lnTo>
                    <a:pt x="77" y="242"/>
                  </a:lnTo>
                  <a:lnTo>
                    <a:pt x="129" y="236"/>
                  </a:lnTo>
                  <a:lnTo>
                    <a:pt x="139" y="216"/>
                  </a:lnTo>
                  <a:lnTo>
                    <a:pt x="86" y="209"/>
                  </a:lnTo>
                  <a:lnTo>
                    <a:pt x="90" y="197"/>
                  </a:lnTo>
                  <a:lnTo>
                    <a:pt x="93" y="188"/>
                  </a:lnTo>
                  <a:lnTo>
                    <a:pt x="97" y="179"/>
                  </a:lnTo>
                  <a:lnTo>
                    <a:pt x="100" y="169"/>
                  </a:lnTo>
                  <a:lnTo>
                    <a:pt x="144" y="168"/>
                  </a:lnTo>
                  <a:lnTo>
                    <a:pt x="130" y="156"/>
                  </a:lnTo>
                  <a:lnTo>
                    <a:pt x="107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74520" y="1391040"/>
              <a:ext cx="1485000" cy="1189440"/>
            </a:xfrm>
            <a:custGeom>
              <a:avLst/>
              <a:gdLst/>
              <a:ahLst/>
              <a:rect l="l" t="t" r="r" b="b"/>
              <a:pathLst>
                <a:path w="2976" h="2590">
                  <a:moveTo>
                    <a:pt x="2507" y="2361"/>
                  </a:moveTo>
                  <a:lnTo>
                    <a:pt x="2564" y="2173"/>
                  </a:lnTo>
                  <a:lnTo>
                    <a:pt x="2606" y="1984"/>
                  </a:lnTo>
                  <a:lnTo>
                    <a:pt x="2638" y="1796"/>
                  </a:lnTo>
                  <a:lnTo>
                    <a:pt x="2658" y="1611"/>
                  </a:lnTo>
                  <a:lnTo>
                    <a:pt x="2672" y="1427"/>
                  </a:lnTo>
                  <a:lnTo>
                    <a:pt x="2681" y="1250"/>
                  </a:lnTo>
                  <a:lnTo>
                    <a:pt x="2687" y="1077"/>
                  </a:lnTo>
                  <a:lnTo>
                    <a:pt x="2692" y="912"/>
                  </a:lnTo>
                  <a:lnTo>
                    <a:pt x="2699" y="756"/>
                  </a:lnTo>
                  <a:lnTo>
                    <a:pt x="2709" y="608"/>
                  </a:lnTo>
                  <a:lnTo>
                    <a:pt x="2725" y="472"/>
                  </a:lnTo>
                  <a:lnTo>
                    <a:pt x="2749" y="348"/>
                  </a:lnTo>
                  <a:lnTo>
                    <a:pt x="2785" y="237"/>
                  </a:lnTo>
                  <a:lnTo>
                    <a:pt x="2833" y="143"/>
                  </a:lnTo>
                  <a:lnTo>
                    <a:pt x="2896" y="63"/>
                  </a:lnTo>
                  <a:lnTo>
                    <a:pt x="2976" y="1"/>
                  </a:lnTo>
                  <a:lnTo>
                    <a:pt x="2958" y="0"/>
                  </a:lnTo>
                  <a:lnTo>
                    <a:pt x="2939" y="0"/>
                  </a:lnTo>
                  <a:lnTo>
                    <a:pt x="2921" y="0"/>
                  </a:lnTo>
                  <a:lnTo>
                    <a:pt x="2904" y="0"/>
                  </a:lnTo>
                  <a:lnTo>
                    <a:pt x="2886" y="1"/>
                  </a:lnTo>
                  <a:lnTo>
                    <a:pt x="2870" y="2"/>
                  </a:lnTo>
                  <a:lnTo>
                    <a:pt x="2854" y="3"/>
                  </a:lnTo>
                  <a:lnTo>
                    <a:pt x="2839" y="5"/>
                  </a:lnTo>
                  <a:lnTo>
                    <a:pt x="2824" y="7"/>
                  </a:lnTo>
                  <a:lnTo>
                    <a:pt x="2810" y="9"/>
                  </a:lnTo>
                  <a:lnTo>
                    <a:pt x="2797" y="11"/>
                  </a:lnTo>
                  <a:lnTo>
                    <a:pt x="2785" y="15"/>
                  </a:lnTo>
                  <a:lnTo>
                    <a:pt x="2774" y="18"/>
                  </a:lnTo>
                  <a:lnTo>
                    <a:pt x="2763" y="22"/>
                  </a:lnTo>
                  <a:lnTo>
                    <a:pt x="2754" y="26"/>
                  </a:lnTo>
                  <a:lnTo>
                    <a:pt x="2746" y="31"/>
                  </a:lnTo>
                  <a:lnTo>
                    <a:pt x="2736" y="26"/>
                  </a:lnTo>
                  <a:lnTo>
                    <a:pt x="2731" y="18"/>
                  </a:lnTo>
                  <a:lnTo>
                    <a:pt x="2730" y="8"/>
                  </a:lnTo>
                  <a:lnTo>
                    <a:pt x="2732" y="1"/>
                  </a:lnTo>
                  <a:lnTo>
                    <a:pt x="2724" y="2"/>
                  </a:lnTo>
                  <a:lnTo>
                    <a:pt x="2715" y="7"/>
                  </a:lnTo>
                  <a:lnTo>
                    <a:pt x="2707" y="11"/>
                  </a:lnTo>
                  <a:lnTo>
                    <a:pt x="2697" y="17"/>
                  </a:lnTo>
                  <a:lnTo>
                    <a:pt x="2689" y="24"/>
                  </a:lnTo>
                  <a:lnTo>
                    <a:pt x="2683" y="29"/>
                  </a:lnTo>
                  <a:lnTo>
                    <a:pt x="2676" y="33"/>
                  </a:lnTo>
                  <a:lnTo>
                    <a:pt x="2671" y="34"/>
                  </a:lnTo>
                  <a:lnTo>
                    <a:pt x="2661" y="31"/>
                  </a:lnTo>
                  <a:lnTo>
                    <a:pt x="2655" y="22"/>
                  </a:lnTo>
                  <a:lnTo>
                    <a:pt x="2653" y="10"/>
                  </a:lnTo>
                  <a:lnTo>
                    <a:pt x="2653" y="1"/>
                  </a:lnTo>
                  <a:lnTo>
                    <a:pt x="2645" y="2"/>
                  </a:lnTo>
                  <a:lnTo>
                    <a:pt x="2635" y="5"/>
                  </a:lnTo>
                  <a:lnTo>
                    <a:pt x="2626" y="9"/>
                  </a:lnTo>
                  <a:lnTo>
                    <a:pt x="2617" y="15"/>
                  </a:lnTo>
                  <a:lnTo>
                    <a:pt x="2609" y="21"/>
                  </a:lnTo>
                  <a:lnTo>
                    <a:pt x="2600" y="26"/>
                  </a:lnTo>
                  <a:lnTo>
                    <a:pt x="2592" y="31"/>
                  </a:lnTo>
                  <a:lnTo>
                    <a:pt x="2585" y="36"/>
                  </a:lnTo>
                  <a:lnTo>
                    <a:pt x="2574" y="31"/>
                  </a:lnTo>
                  <a:lnTo>
                    <a:pt x="2568" y="22"/>
                  </a:lnTo>
                  <a:lnTo>
                    <a:pt x="2564" y="11"/>
                  </a:lnTo>
                  <a:lnTo>
                    <a:pt x="2558" y="3"/>
                  </a:lnTo>
                  <a:lnTo>
                    <a:pt x="2552" y="5"/>
                  </a:lnTo>
                  <a:lnTo>
                    <a:pt x="2544" y="9"/>
                  </a:lnTo>
                  <a:lnTo>
                    <a:pt x="2534" y="14"/>
                  </a:lnTo>
                  <a:lnTo>
                    <a:pt x="2524" y="21"/>
                  </a:lnTo>
                  <a:lnTo>
                    <a:pt x="2513" y="28"/>
                  </a:lnTo>
                  <a:lnTo>
                    <a:pt x="2504" y="32"/>
                  </a:lnTo>
                  <a:lnTo>
                    <a:pt x="2496" y="37"/>
                  </a:lnTo>
                  <a:lnTo>
                    <a:pt x="2489" y="38"/>
                  </a:lnTo>
                  <a:lnTo>
                    <a:pt x="2481" y="34"/>
                  </a:lnTo>
                  <a:lnTo>
                    <a:pt x="2479" y="24"/>
                  </a:lnTo>
                  <a:lnTo>
                    <a:pt x="2479" y="13"/>
                  </a:lnTo>
                  <a:lnTo>
                    <a:pt x="2482" y="3"/>
                  </a:lnTo>
                  <a:lnTo>
                    <a:pt x="2474" y="3"/>
                  </a:lnTo>
                  <a:lnTo>
                    <a:pt x="2464" y="8"/>
                  </a:lnTo>
                  <a:lnTo>
                    <a:pt x="2453" y="15"/>
                  </a:lnTo>
                  <a:lnTo>
                    <a:pt x="2443" y="23"/>
                  </a:lnTo>
                  <a:lnTo>
                    <a:pt x="2433" y="31"/>
                  </a:lnTo>
                  <a:lnTo>
                    <a:pt x="2423" y="39"/>
                  </a:lnTo>
                  <a:lnTo>
                    <a:pt x="2414" y="44"/>
                  </a:lnTo>
                  <a:lnTo>
                    <a:pt x="2408" y="46"/>
                  </a:lnTo>
                  <a:lnTo>
                    <a:pt x="2400" y="41"/>
                  </a:lnTo>
                  <a:lnTo>
                    <a:pt x="2397" y="30"/>
                  </a:lnTo>
                  <a:lnTo>
                    <a:pt x="2396" y="15"/>
                  </a:lnTo>
                  <a:lnTo>
                    <a:pt x="2398" y="1"/>
                  </a:lnTo>
                  <a:lnTo>
                    <a:pt x="2388" y="3"/>
                  </a:lnTo>
                  <a:lnTo>
                    <a:pt x="2376" y="10"/>
                  </a:lnTo>
                  <a:lnTo>
                    <a:pt x="2365" y="20"/>
                  </a:lnTo>
                  <a:lnTo>
                    <a:pt x="2353" y="30"/>
                  </a:lnTo>
                  <a:lnTo>
                    <a:pt x="2343" y="41"/>
                  </a:lnTo>
                  <a:lnTo>
                    <a:pt x="2332" y="51"/>
                  </a:lnTo>
                  <a:lnTo>
                    <a:pt x="2324" y="58"/>
                  </a:lnTo>
                  <a:lnTo>
                    <a:pt x="2319" y="60"/>
                  </a:lnTo>
                  <a:lnTo>
                    <a:pt x="2313" y="53"/>
                  </a:lnTo>
                  <a:lnTo>
                    <a:pt x="2312" y="38"/>
                  </a:lnTo>
                  <a:lnTo>
                    <a:pt x="2315" y="20"/>
                  </a:lnTo>
                  <a:lnTo>
                    <a:pt x="2322" y="6"/>
                  </a:lnTo>
                  <a:lnTo>
                    <a:pt x="2309" y="8"/>
                  </a:lnTo>
                  <a:lnTo>
                    <a:pt x="2297" y="15"/>
                  </a:lnTo>
                  <a:lnTo>
                    <a:pt x="2284" y="25"/>
                  </a:lnTo>
                  <a:lnTo>
                    <a:pt x="2271" y="37"/>
                  </a:lnTo>
                  <a:lnTo>
                    <a:pt x="2260" y="48"/>
                  </a:lnTo>
                  <a:lnTo>
                    <a:pt x="2251" y="59"/>
                  </a:lnTo>
                  <a:lnTo>
                    <a:pt x="2241" y="66"/>
                  </a:lnTo>
                  <a:lnTo>
                    <a:pt x="2233" y="68"/>
                  </a:lnTo>
                  <a:lnTo>
                    <a:pt x="2224" y="61"/>
                  </a:lnTo>
                  <a:lnTo>
                    <a:pt x="2223" y="46"/>
                  </a:lnTo>
                  <a:lnTo>
                    <a:pt x="2229" y="28"/>
                  </a:lnTo>
                  <a:lnTo>
                    <a:pt x="2238" y="11"/>
                  </a:lnTo>
                  <a:lnTo>
                    <a:pt x="2229" y="16"/>
                  </a:lnTo>
                  <a:lnTo>
                    <a:pt x="2216" y="24"/>
                  </a:lnTo>
                  <a:lnTo>
                    <a:pt x="2203" y="34"/>
                  </a:lnTo>
                  <a:lnTo>
                    <a:pt x="2190" y="46"/>
                  </a:lnTo>
                  <a:lnTo>
                    <a:pt x="2177" y="58"/>
                  </a:lnTo>
                  <a:lnTo>
                    <a:pt x="2166" y="68"/>
                  </a:lnTo>
                  <a:lnTo>
                    <a:pt x="2158" y="75"/>
                  </a:lnTo>
                  <a:lnTo>
                    <a:pt x="2156" y="77"/>
                  </a:lnTo>
                  <a:lnTo>
                    <a:pt x="2148" y="71"/>
                  </a:lnTo>
                  <a:lnTo>
                    <a:pt x="2147" y="59"/>
                  </a:lnTo>
                  <a:lnTo>
                    <a:pt x="2153" y="43"/>
                  </a:lnTo>
                  <a:lnTo>
                    <a:pt x="2163" y="29"/>
                  </a:lnTo>
                  <a:lnTo>
                    <a:pt x="2151" y="31"/>
                  </a:lnTo>
                  <a:lnTo>
                    <a:pt x="2139" y="37"/>
                  </a:lnTo>
                  <a:lnTo>
                    <a:pt x="2126" y="45"/>
                  </a:lnTo>
                  <a:lnTo>
                    <a:pt x="2113" y="54"/>
                  </a:lnTo>
                  <a:lnTo>
                    <a:pt x="2101" y="63"/>
                  </a:lnTo>
                  <a:lnTo>
                    <a:pt x="2090" y="71"/>
                  </a:lnTo>
                  <a:lnTo>
                    <a:pt x="2082" y="77"/>
                  </a:lnTo>
                  <a:lnTo>
                    <a:pt x="2077" y="79"/>
                  </a:lnTo>
                  <a:lnTo>
                    <a:pt x="2072" y="74"/>
                  </a:lnTo>
                  <a:lnTo>
                    <a:pt x="2072" y="61"/>
                  </a:lnTo>
                  <a:lnTo>
                    <a:pt x="2074" y="45"/>
                  </a:lnTo>
                  <a:lnTo>
                    <a:pt x="2080" y="29"/>
                  </a:lnTo>
                  <a:lnTo>
                    <a:pt x="2072" y="32"/>
                  </a:lnTo>
                  <a:lnTo>
                    <a:pt x="2062" y="39"/>
                  </a:lnTo>
                  <a:lnTo>
                    <a:pt x="2050" y="48"/>
                  </a:lnTo>
                  <a:lnTo>
                    <a:pt x="2037" y="58"/>
                  </a:lnTo>
                  <a:lnTo>
                    <a:pt x="2027" y="68"/>
                  </a:lnTo>
                  <a:lnTo>
                    <a:pt x="2017" y="76"/>
                  </a:lnTo>
                  <a:lnTo>
                    <a:pt x="2010" y="83"/>
                  </a:lnTo>
                  <a:lnTo>
                    <a:pt x="2005" y="85"/>
                  </a:lnTo>
                  <a:lnTo>
                    <a:pt x="2005" y="77"/>
                  </a:lnTo>
                  <a:lnTo>
                    <a:pt x="2007" y="58"/>
                  </a:lnTo>
                  <a:lnTo>
                    <a:pt x="2011" y="36"/>
                  </a:lnTo>
                  <a:lnTo>
                    <a:pt x="2017" y="18"/>
                  </a:lnTo>
                  <a:lnTo>
                    <a:pt x="2007" y="23"/>
                  </a:lnTo>
                  <a:lnTo>
                    <a:pt x="1996" y="32"/>
                  </a:lnTo>
                  <a:lnTo>
                    <a:pt x="1983" y="43"/>
                  </a:lnTo>
                  <a:lnTo>
                    <a:pt x="1971" y="55"/>
                  </a:lnTo>
                  <a:lnTo>
                    <a:pt x="1958" y="68"/>
                  </a:lnTo>
                  <a:lnTo>
                    <a:pt x="1948" y="78"/>
                  </a:lnTo>
                  <a:lnTo>
                    <a:pt x="1938" y="85"/>
                  </a:lnTo>
                  <a:lnTo>
                    <a:pt x="1933" y="87"/>
                  </a:lnTo>
                  <a:lnTo>
                    <a:pt x="1928" y="78"/>
                  </a:lnTo>
                  <a:lnTo>
                    <a:pt x="1928" y="56"/>
                  </a:lnTo>
                  <a:lnTo>
                    <a:pt x="1930" y="31"/>
                  </a:lnTo>
                  <a:lnTo>
                    <a:pt x="1935" y="9"/>
                  </a:lnTo>
                  <a:lnTo>
                    <a:pt x="1926" y="14"/>
                  </a:lnTo>
                  <a:lnTo>
                    <a:pt x="1913" y="26"/>
                  </a:lnTo>
                  <a:lnTo>
                    <a:pt x="1899" y="43"/>
                  </a:lnTo>
                  <a:lnTo>
                    <a:pt x="1885" y="60"/>
                  </a:lnTo>
                  <a:lnTo>
                    <a:pt x="1872" y="78"/>
                  </a:lnTo>
                  <a:lnTo>
                    <a:pt x="1860" y="94"/>
                  </a:lnTo>
                  <a:lnTo>
                    <a:pt x="1850" y="105"/>
                  </a:lnTo>
                  <a:lnTo>
                    <a:pt x="1844" y="108"/>
                  </a:lnTo>
                  <a:lnTo>
                    <a:pt x="1839" y="105"/>
                  </a:lnTo>
                  <a:lnTo>
                    <a:pt x="1838" y="96"/>
                  </a:lnTo>
                  <a:lnTo>
                    <a:pt x="1840" y="84"/>
                  </a:lnTo>
                  <a:lnTo>
                    <a:pt x="1844" y="70"/>
                  </a:lnTo>
                  <a:lnTo>
                    <a:pt x="1849" y="54"/>
                  </a:lnTo>
                  <a:lnTo>
                    <a:pt x="1853" y="39"/>
                  </a:lnTo>
                  <a:lnTo>
                    <a:pt x="1859" y="24"/>
                  </a:lnTo>
                  <a:lnTo>
                    <a:pt x="1862" y="11"/>
                  </a:lnTo>
                  <a:lnTo>
                    <a:pt x="1849" y="18"/>
                  </a:lnTo>
                  <a:lnTo>
                    <a:pt x="1834" y="32"/>
                  </a:lnTo>
                  <a:lnTo>
                    <a:pt x="1816" y="52"/>
                  </a:lnTo>
                  <a:lnTo>
                    <a:pt x="1800" y="73"/>
                  </a:lnTo>
                  <a:lnTo>
                    <a:pt x="1785" y="94"/>
                  </a:lnTo>
                  <a:lnTo>
                    <a:pt x="1774" y="112"/>
                  </a:lnTo>
                  <a:lnTo>
                    <a:pt x="1763" y="126"/>
                  </a:lnTo>
                  <a:lnTo>
                    <a:pt x="1759" y="130"/>
                  </a:lnTo>
                  <a:lnTo>
                    <a:pt x="1756" y="117"/>
                  </a:lnTo>
                  <a:lnTo>
                    <a:pt x="1759" y="87"/>
                  </a:lnTo>
                  <a:lnTo>
                    <a:pt x="1763" y="52"/>
                  </a:lnTo>
                  <a:lnTo>
                    <a:pt x="1769" y="22"/>
                  </a:lnTo>
                  <a:lnTo>
                    <a:pt x="1758" y="29"/>
                  </a:lnTo>
                  <a:lnTo>
                    <a:pt x="1745" y="43"/>
                  </a:lnTo>
                  <a:lnTo>
                    <a:pt x="1732" y="62"/>
                  </a:lnTo>
                  <a:lnTo>
                    <a:pt x="1720" y="84"/>
                  </a:lnTo>
                  <a:lnTo>
                    <a:pt x="1708" y="106"/>
                  </a:lnTo>
                  <a:lnTo>
                    <a:pt x="1698" y="124"/>
                  </a:lnTo>
                  <a:lnTo>
                    <a:pt x="1690" y="137"/>
                  </a:lnTo>
                  <a:lnTo>
                    <a:pt x="1685" y="142"/>
                  </a:lnTo>
                  <a:lnTo>
                    <a:pt x="1679" y="129"/>
                  </a:lnTo>
                  <a:lnTo>
                    <a:pt x="1677" y="98"/>
                  </a:lnTo>
                  <a:lnTo>
                    <a:pt x="1679" y="59"/>
                  </a:lnTo>
                  <a:lnTo>
                    <a:pt x="1686" y="22"/>
                  </a:lnTo>
                  <a:lnTo>
                    <a:pt x="1678" y="29"/>
                  </a:lnTo>
                  <a:lnTo>
                    <a:pt x="1665" y="44"/>
                  </a:lnTo>
                  <a:lnTo>
                    <a:pt x="1649" y="63"/>
                  </a:lnTo>
                  <a:lnTo>
                    <a:pt x="1633" y="85"/>
                  </a:lnTo>
                  <a:lnTo>
                    <a:pt x="1616" y="107"/>
                  </a:lnTo>
                  <a:lnTo>
                    <a:pt x="1602" y="126"/>
                  </a:lnTo>
                  <a:lnTo>
                    <a:pt x="1591" y="138"/>
                  </a:lnTo>
                  <a:lnTo>
                    <a:pt x="1585" y="144"/>
                  </a:lnTo>
                  <a:lnTo>
                    <a:pt x="1582" y="131"/>
                  </a:lnTo>
                  <a:lnTo>
                    <a:pt x="1586" y="99"/>
                  </a:lnTo>
                  <a:lnTo>
                    <a:pt x="1594" y="60"/>
                  </a:lnTo>
                  <a:lnTo>
                    <a:pt x="1604" y="26"/>
                  </a:lnTo>
                  <a:lnTo>
                    <a:pt x="1595" y="32"/>
                  </a:lnTo>
                  <a:lnTo>
                    <a:pt x="1581" y="47"/>
                  </a:lnTo>
                  <a:lnTo>
                    <a:pt x="1565" y="68"/>
                  </a:lnTo>
                  <a:lnTo>
                    <a:pt x="1548" y="91"/>
                  </a:lnTo>
                  <a:lnTo>
                    <a:pt x="1531" y="115"/>
                  </a:lnTo>
                  <a:lnTo>
                    <a:pt x="1514" y="136"/>
                  </a:lnTo>
                  <a:lnTo>
                    <a:pt x="1503" y="151"/>
                  </a:lnTo>
                  <a:lnTo>
                    <a:pt x="1496" y="157"/>
                  </a:lnTo>
                  <a:lnTo>
                    <a:pt x="1496" y="144"/>
                  </a:lnTo>
                  <a:lnTo>
                    <a:pt x="1501" y="112"/>
                  </a:lnTo>
                  <a:lnTo>
                    <a:pt x="1508" y="71"/>
                  </a:lnTo>
                  <a:lnTo>
                    <a:pt x="1514" y="34"/>
                  </a:lnTo>
                  <a:lnTo>
                    <a:pt x="1505" y="44"/>
                  </a:lnTo>
                  <a:lnTo>
                    <a:pt x="1494" y="60"/>
                  </a:lnTo>
                  <a:lnTo>
                    <a:pt x="1480" y="83"/>
                  </a:lnTo>
                  <a:lnTo>
                    <a:pt x="1465" y="108"/>
                  </a:lnTo>
                  <a:lnTo>
                    <a:pt x="1450" y="134"/>
                  </a:lnTo>
                  <a:lnTo>
                    <a:pt x="1437" y="154"/>
                  </a:lnTo>
                  <a:lnTo>
                    <a:pt x="1427" y="170"/>
                  </a:lnTo>
                  <a:lnTo>
                    <a:pt x="1420" y="176"/>
                  </a:lnTo>
                  <a:lnTo>
                    <a:pt x="1415" y="164"/>
                  </a:lnTo>
                  <a:lnTo>
                    <a:pt x="1417" y="130"/>
                  </a:lnTo>
                  <a:lnTo>
                    <a:pt x="1425" y="85"/>
                  </a:lnTo>
                  <a:lnTo>
                    <a:pt x="1437" y="39"/>
                  </a:lnTo>
                  <a:lnTo>
                    <a:pt x="1430" y="46"/>
                  </a:lnTo>
                  <a:lnTo>
                    <a:pt x="1419" y="62"/>
                  </a:lnTo>
                  <a:lnTo>
                    <a:pt x="1405" y="84"/>
                  </a:lnTo>
                  <a:lnTo>
                    <a:pt x="1389" y="107"/>
                  </a:lnTo>
                  <a:lnTo>
                    <a:pt x="1372" y="131"/>
                  </a:lnTo>
                  <a:lnTo>
                    <a:pt x="1358" y="152"/>
                  </a:lnTo>
                  <a:lnTo>
                    <a:pt x="1346" y="166"/>
                  </a:lnTo>
                  <a:lnTo>
                    <a:pt x="1339" y="172"/>
                  </a:lnTo>
                  <a:lnTo>
                    <a:pt x="1335" y="159"/>
                  </a:lnTo>
                  <a:lnTo>
                    <a:pt x="1339" y="128"/>
                  </a:lnTo>
                  <a:lnTo>
                    <a:pt x="1349" y="87"/>
                  </a:lnTo>
                  <a:lnTo>
                    <a:pt x="1359" y="49"/>
                  </a:lnTo>
                  <a:lnTo>
                    <a:pt x="1347" y="56"/>
                  </a:lnTo>
                  <a:lnTo>
                    <a:pt x="1335" y="71"/>
                  </a:lnTo>
                  <a:lnTo>
                    <a:pt x="1321" y="92"/>
                  </a:lnTo>
                  <a:lnTo>
                    <a:pt x="1307" y="115"/>
                  </a:lnTo>
                  <a:lnTo>
                    <a:pt x="1294" y="139"/>
                  </a:lnTo>
                  <a:lnTo>
                    <a:pt x="1283" y="159"/>
                  </a:lnTo>
                  <a:lnTo>
                    <a:pt x="1274" y="173"/>
                  </a:lnTo>
                  <a:lnTo>
                    <a:pt x="1268" y="179"/>
                  </a:lnTo>
                  <a:lnTo>
                    <a:pt x="1262" y="166"/>
                  </a:lnTo>
                  <a:lnTo>
                    <a:pt x="1262" y="134"/>
                  </a:lnTo>
                  <a:lnTo>
                    <a:pt x="1268" y="93"/>
                  </a:lnTo>
                  <a:lnTo>
                    <a:pt x="1278" y="54"/>
                  </a:lnTo>
                  <a:lnTo>
                    <a:pt x="1271" y="62"/>
                  </a:lnTo>
                  <a:lnTo>
                    <a:pt x="1262" y="78"/>
                  </a:lnTo>
                  <a:lnTo>
                    <a:pt x="1250" y="100"/>
                  </a:lnTo>
                  <a:lnTo>
                    <a:pt x="1237" y="123"/>
                  </a:lnTo>
                  <a:lnTo>
                    <a:pt x="1223" y="147"/>
                  </a:lnTo>
                  <a:lnTo>
                    <a:pt x="1212" y="168"/>
                  </a:lnTo>
                  <a:lnTo>
                    <a:pt x="1201" y="183"/>
                  </a:lnTo>
                  <a:lnTo>
                    <a:pt x="1194" y="189"/>
                  </a:lnTo>
                  <a:lnTo>
                    <a:pt x="1188" y="176"/>
                  </a:lnTo>
                  <a:lnTo>
                    <a:pt x="1187" y="145"/>
                  </a:lnTo>
                  <a:lnTo>
                    <a:pt x="1192" y="106"/>
                  </a:lnTo>
                  <a:lnTo>
                    <a:pt x="1202" y="68"/>
                  </a:lnTo>
                  <a:lnTo>
                    <a:pt x="1193" y="78"/>
                  </a:lnTo>
                  <a:lnTo>
                    <a:pt x="1182" y="96"/>
                  </a:lnTo>
                  <a:lnTo>
                    <a:pt x="1168" y="117"/>
                  </a:lnTo>
                  <a:lnTo>
                    <a:pt x="1154" y="142"/>
                  </a:lnTo>
                  <a:lnTo>
                    <a:pt x="1139" y="164"/>
                  </a:lnTo>
                  <a:lnTo>
                    <a:pt x="1126" y="183"/>
                  </a:lnTo>
                  <a:lnTo>
                    <a:pt x="1116" y="197"/>
                  </a:lnTo>
                  <a:lnTo>
                    <a:pt x="1108" y="202"/>
                  </a:lnTo>
                  <a:lnTo>
                    <a:pt x="1102" y="189"/>
                  </a:lnTo>
                  <a:lnTo>
                    <a:pt x="1103" y="158"/>
                  </a:lnTo>
                  <a:lnTo>
                    <a:pt x="1110" y="117"/>
                  </a:lnTo>
                  <a:lnTo>
                    <a:pt x="1117" y="77"/>
                  </a:lnTo>
                  <a:lnTo>
                    <a:pt x="1109" y="86"/>
                  </a:lnTo>
                  <a:lnTo>
                    <a:pt x="1097" y="105"/>
                  </a:lnTo>
                  <a:lnTo>
                    <a:pt x="1083" y="128"/>
                  </a:lnTo>
                  <a:lnTo>
                    <a:pt x="1068" y="153"/>
                  </a:lnTo>
                  <a:lnTo>
                    <a:pt x="1053" y="179"/>
                  </a:lnTo>
                  <a:lnTo>
                    <a:pt x="1040" y="199"/>
                  </a:lnTo>
                  <a:lnTo>
                    <a:pt x="1032" y="214"/>
                  </a:lnTo>
                  <a:lnTo>
                    <a:pt x="1028" y="220"/>
                  </a:lnTo>
                  <a:lnTo>
                    <a:pt x="1025" y="205"/>
                  </a:lnTo>
                  <a:lnTo>
                    <a:pt x="1027" y="167"/>
                  </a:lnTo>
                  <a:lnTo>
                    <a:pt x="1034" y="121"/>
                  </a:lnTo>
                  <a:lnTo>
                    <a:pt x="1044" y="81"/>
                  </a:lnTo>
                  <a:lnTo>
                    <a:pt x="1034" y="93"/>
                  </a:lnTo>
                  <a:lnTo>
                    <a:pt x="1021" y="113"/>
                  </a:lnTo>
                  <a:lnTo>
                    <a:pt x="1006" y="136"/>
                  </a:lnTo>
                  <a:lnTo>
                    <a:pt x="993" y="160"/>
                  </a:lnTo>
                  <a:lnTo>
                    <a:pt x="980" y="184"/>
                  </a:lnTo>
                  <a:lnTo>
                    <a:pt x="968" y="204"/>
                  </a:lnTo>
                  <a:lnTo>
                    <a:pt x="959" y="218"/>
                  </a:lnTo>
                  <a:lnTo>
                    <a:pt x="955" y="222"/>
                  </a:lnTo>
                  <a:lnTo>
                    <a:pt x="951" y="208"/>
                  </a:lnTo>
                  <a:lnTo>
                    <a:pt x="951" y="175"/>
                  </a:lnTo>
                  <a:lnTo>
                    <a:pt x="956" y="134"/>
                  </a:lnTo>
                  <a:lnTo>
                    <a:pt x="964" y="98"/>
                  </a:lnTo>
                  <a:lnTo>
                    <a:pt x="956" y="109"/>
                  </a:lnTo>
                  <a:lnTo>
                    <a:pt x="943" y="127"/>
                  </a:lnTo>
                  <a:lnTo>
                    <a:pt x="929" y="150"/>
                  </a:lnTo>
                  <a:lnTo>
                    <a:pt x="914" y="174"/>
                  </a:lnTo>
                  <a:lnTo>
                    <a:pt x="899" y="198"/>
                  </a:lnTo>
                  <a:lnTo>
                    <a:pt x="887" y="218"/>
                  </a:lnTo>
                  <a:lnTo>
                    <a:pt x="877" y="232"/>
                  </a:lnTo>
                  <a:lnTo>
                    <a:pt x="872" y="237"/>
                  </a:lnTo>
                  <a:lnTo>
                    <a:pt x="867" y="223"/>
                  </a:lnTo>
                  <a:lnTo>
                    <a:pt x="867" y="191"/>
                  </a:lnTo>
                  <a:lnTo>
                    <a:pt x="872" y="151"/>
                  </a:lnTo>
                  <a:lnTo>
                    <a:pt x="879" y="111"/>
                  </a:lnTo>
                  <a:lnTo>
                    <a:pt x="869" y="122"/>
                  </a:lnTo>
                  <a:lnTo>
                    <a:pt x="858" y="140"/>
                  </a:lnTo>
                  <a:lnTo>
                    <a:pt x="844" y="164"/>
                  </a:lnTo>
                  <a:lnTo>
                    <a:pt x="828" y="189"/>
                  </a:lnTo>
                  <a:lnTo>
                    <a:pt x="813" y="214"/>
                  </a:lnTo>
                  <a:lnTo>
                    <a:pt x="800" y="235"/>
                  </a:lnTo>
                  <a:lnTo>
                    <a:pt x="790" y="249"/>
                  </a:lnTo>
                  <a:lnTo>
                    <a:pt x="783" y="253"/>
                  </a:lnTo>
                  <a:lnTo>
                    <a:pt x="780" y="240"/>
                  </a:lnTo>
                  <a:lnTo>
                    <a:pt x="782" y="207"/>
                  </a:lnTo>
                  <a:lnTo>
                    <a:pt x="789" y="167"/>
                  </a:lnTo>
                  <a:lnTo>
                    <a:pt x="795" y="131"/>
                  </a:lnTo>
                  <a:lnTo>
                    <a:pt x="786" y="143"/>
                  </a:lnTo>
                  <a:lnTo>
                    <a:pt x="774" y="162"/>
                  </a:lnTo>
                  <a:lnTo>
                    <a:pt x="761" y="187"/>
                  </a:lnTo>
                  <a:lnTo>
                    <a:pt x="746" y="213"/>
                  </a:lnTo>
                  <a:lnTo>
                    <a:pt x="732" y="237"/>
                  </a:lnTo>
                  <a:lnTo>
                    <a:pt x="720" y="259"/>
                  </a:lnTo>
                  <a:lnTo>
                    <a:pt x="709" y="273"/>
                  </a:lnTo>
                  <a:lnTo>
                    <a:pt x="704" y="279"/>
                  </a:lnTo>
                  <a:lnTo>
                    <a:pt x="700" y="264"/>
                  </a:lnTo>
                  <a:lnTo>
                    <a:pt x="704" y="229"/>
                  </a:lnTo>
                  <a:lnTo>
                    <a:pt x="712" y="185"/>
                  </a:lnTo>
                  <a:lnTo>
                    <a:pt x="727" y="142"/>
                  </a:lnTo>
                  <a:lnTo>
                    <a:pt x="716" y="154"/>
                  </a:lnTo>
                  <a:lnTo>
                    <a:pt x="704" y="174"/>
                  </a:lnTo>
                  <a:lnTo>
                    <a:pt x="687" y="199"/>
                  </a:lnTo>
                  <a:lnTo>
                    <a:pt x="670" y="226"/>
                  </a:lnTo>
                  <a:lnTo>
                    <a:pt x="654" y="252"/>
                  </a:lnTo>
                  <a:lnTo>
                    <a:pt x="639" y="274"/>
                  </a:lnTo>
                  <a:lnTo>
                    <a:pt x="629" y="290"/>
                  </a:lnTo>
                  <a:lnTo>
                    <a:pt x="623" y="296"/>
                  </a:lnTo>
                  <a:lnTo>
                    <a:pt x="618" y="282"/>
                  </a:lnTo>
                  <a:lnTo>
                    <a:pt x="619" y="248"/>
                  </a:lnTo>
                  <a:lnTo>
                    <a:pt x="625" y="203"/>
                  </a:lnTo>
                  <a:lnTo>
                    <a:pt x="639" y="159"/>
                  </a:lnTo>
                  <a:lnTo>
                    <a:pt x="629" y="170"/>
                  </a:lnTo>
                  <a:lnTo>
                    <a:pt x="615" y="189"/>
                  </a:lnTo>
                  <a:lnTo>
                    <a:pt x="600" y="212"/>
                  </a:lnTo>
                  <a:lnTo>
                    <a:pt x="584" y="236"/>
                  </a:lnTo>
                  <a:lnTo>
                    <a:pt x="569" y="260"/>
                  </a:lnTo>
                  <a:lnTo>
                    <a:pt x="556" y="281"/>
                  </a:lnTo>
                  <a:lnTo>
                    <a:pt x="547" y="296"/>
                  </a:lnTo>
                  <a:lnTo>
                    <a:pt x="541" y="302"/>
                  </a:lnTo>
                  <a:lnTo>
                    <a:pt x="536" y="299"/>
                  </a:lnTo>
                  <a:lnTo>
                    <a:pt x="535" y="291"/>
                  </a:lnTo>
                  <a:lnTo>
                    <a:pt x="535" y="279"/>
                  </a:lnTo>
                  <a:lnTo>
                    <a:pt x="538" y="263"/>
                  </a:lnTo>
                  <a:lnTo>
                    <a:pt x="542" y="245"/>
                  </a:lnTo>
                  <a:lnTo>
                    <a:pt x="547" y="227"/>
                  </a:lnTo>
                  <a:lnTo>
                    <a:pt x="554" y="208"/>
                  </a:lnTo>
                  <a:lnTo>
                    <a:pt x="562" y="192"/>
                  </a:lnTo>
                  <a:lnTo>
                    <a:pt x="551" y="202"/>
                  </a:lnTo>
                  <a:lnTo>
                    <a:pt x="536" y="219"/>
                  </a:lnTo>
                  <a:lnTo>
                    <a:pt x="520" y="240"/>
                  </a:lnTo>
                  <a:lnTo>
                    <a:pt x="502" y="261"/>
                  </a:lnTo>
                  <a:lnTo>
                    <a:pt x="485" y="283"/>
                  </a:lnTo>
                  <a:lnTo>
                    <a:pt x="470" y="301"/>
                  </a:lnTo>
                  <a:lnTo>
                    <a:pt x="457" y="313"/>
                  </a:lnTo>
                  <a:lnTo>
                    <a:pt x="450" y="317"/>
                  </a:lnTo>
                  <a:lnTo>
                    <a:pt x="444" y="309"/>
                  </a:lnTo>
                  <a:lnTo>
                    <a:pt x="445" y="291"/>
                  </a:lnTo>
                  <a:lnTo>
                    <a:pt x="451" y="271"/>
                  </a:lnTo>
                  <a:lnTo>
                    <a:pt x="459" y="252"/>
                  </a:lnTo>
                  <a:lnTo>
                    <a:pt x="421" y="312"/>
                  </a:lnTo>
                  <a:lnTo>
                    <a:pt x="393" y="407"/>
                  </a:lnTo>
                  <a:lnTo>
                    <a:pt x="371" y="530"/>
                  </a:lnTo>
                  <a:lnTo>
                    <a:pt x="353" y="679"/>
                  </a:lnTo>
                  <a:lnTo>
                    <a:pt x="340" y="847"/>
                  </a:lnTo>
                  <a:lnTo>
                    <a:pt x="328" y="1029"/>
                  </a:lnTo>
                  <a:lnTo>
                    <a:pt x="318" y="1220"/>
                  </a:lnTo>
                  <a:lnTo>
                    <a:pt x="306" y="1417"/>
                  </a:lnTo>
                  <a:lnTo>
                    <a:pt x="292" y="1613"/>
                  </a:lnTo>
                  <a:lnTo>
                    <a:pt x="275" y="1803"/>
                  </a:lnTo>
                  <a:lnTo>
                    <a:pt x="252" y="1984"/>
                  </a:lnTo>
                  <a:lnTo>
                    <a:pt x="221" y="2149"/>
                  </a:lnTo>
                  <a:lnTo>
                    <a:pt x="183" y="2293"/>
                  </a:lnTo>
                  <a:lnTo>
                    <a:pt x="133" y="2413"/>
                  </a:lnTo>
                  <a:lnTo>
                    <a:pt x="73" y="2501"/>
                  </a:lnTo>
                  <a:lnTo>
                    <a:pt x="0" y="2555"/>
                  </a:lnTo>
                  <a:lnTo>
                    <a:pt x="8" y="2553"/>
                  </a:lnTo>
                  <a:lnTo>
                    <a:pt x="18" y="2550"/>
                  </a:lnTo>
                  <a:lnTo>
                    <a:pt x="28" y="2546"/>
                  </a:lnTo>
                  <a:lnTo>
                    <a:pt x="40" y="2543"/>
                  </a:lnTo>
                  <a:lnTo>
                    <a:pt x="50" y="2539"/>
                  </a:lnTo>
                  <a:lnTo>
                    <a:pt x="60" y="2536"/>
                  </a:lnTo>
                  <a:lnTo>
                    <a:pt x="68" y="2535"/>
                  </a:lnTo>
                  <a:lnTo>
                    <a:pt x="73" y="2535"/>
                  </a:lnTo>
                  <a:lnTo>
                    <a:pt x="76" y="2538"/>
                  </a:lnTo>
                  <a:lnTo>
                    <a:pt x="73" y="2543"/>
                  </a:lnTo>
                  <a:lnTo>
                    <a:pt x="69" y="2550"/>
                  </a:lnTo>
                  <a:lnTo>
                    <a:pt x="62" y="2557"/>
                  </a:lnTo>
                  <a:lnTo>
                    <a:pt x="56" y="2565"/>
                  </a:lnTo>
                  <a:lnTo>
                    <a:pt x="53" y="2570"/>
                  </a:lnTo>
                  <a:lnTo>
                    <a:pt x="53" y="2575"/>
                  </a:lnTo>
                  <a:lnTo>
                    <a:pt x="57" y="2576"/>
                  </a:lnTo>
                  <a:lnTo>
                    <a:pt x="70" y="2574"/>
                  </a:lnTo>
                  <a:lnTo>
                    <a:pt x="85" y="2568"/>
                  </a:lnTo>
                  <a:lnTo>
                    <a:pt x="100" y="2561"/>
                  </a:lnTo>
                  <a:lnTo>
                    <a:pt x="116" y="2554"/>
                  </a:lnTo>
                  <a:lnTo>
                    <a:pt x="130" y="2547"/>
                  </a:lnTo>
                  <a:lnTo>
                    <a:pt x="144" y="2540"/>
                  </a:lnTo>
                  <a:lnTo>
                    <a:pt x="154" y="2536"/>
                  </a:lnTo>
                  <a:lnTo>
                    <a:pt x="161" y="2535"/>
                  </a:lnTo>
                  <a:lnTo>
                    <a:pt x="163" y="2537"/>
                  </a:lnTo>
                  <a:lnTo>
                    <a:pt x="161" y="2543"/>
                  </a:lnTo>
                  <a:lnTo>
                    <a:pt x="156" y="2550"/>
                  </a:lnTo>
                  <a:lnTo>
                    <a:pt x="151" y="2558"/>
                  </a:lnTo>
                  <a:lnTo>
                    <a:pt x="146" y="2566"/>
                  </a:lnTo>
                  <a:lnTo>
                    <a:pt x="144" y="2573"/>
                  </a:lnTo>
                  <a:lnTo>
                    <a:pt x="145" y="2577"/>
                  </a:lnTo>
                  <a:lnTo>
                    <a:pt x="152" y="2578"/>
                  </a:lnTo>
                  <a:lnTo>
                    <a:pt x="163" y="2577"/>
                  </a:lnTo>
                  <a:lnTo>
                    <a:pt x="175" y="2572"/>
                  </a:lnTo>
                  <a:lnTo>
                    <a:pt x="189" y="2565"/>
                  </a:lnTo>
                  <a:lnTo>
                    <a:pt x="202" y="2555"/>
                  </a:lnTo>
                  <a:lnTo>
                    <a:pt x="215" y="2546"/>
                  </a:lnTo>
                  <a:lnTo>
                    <a:pt x="225" y="2539"/>
                  </a:lnTo>
                  <a:lnTo>
                    <a:pt x="235" y="2534"/>
                  </a:lnTo>
                  <a:lnTo>
                    <a:pt x="242" y="2532"/>
                  </a:lnTo>
                  <a:lnTo>
                    <a:pt x="245" y="2539"/>
                  </a:lnTo>
                  <a:lnTo>
                    <a:pt x="245" y="2552"/>
                  </a:lnTo>
                  <a:lnTo>
                    <a:pt x="242" y="2567"/>
                  </a:lnTo>
                  <a:lnTo>
                    <a:pt x="234" y="2578"/>
                  </a:lnTo>
                  <a:lnTo>
                    <a:pt x="244" y="2573"/>
                  </a:lnTo>
                  <a:lnTo>
                    <a:pt x="257" y="2566"/>
                  </a:lnTo>
                  <a:lnTo>
                    <a:pt x="269" y="2557"/>
                  </a:lnTo>
                  <a:lnTo>
                    <a:pt x="283" y="2547"/>
                  </a:lnTo>
                  <a:lnTo>
                    <a:pt x="295" y="2538"/>
                  </a:lnTo>
                  <a:lnTo>
                    <a:pt x="305" y="2531"/>
                  </a:lnTo>
                  <a:lnTo>
                    <a:pt x="313" y="2525"/>
                  </a:lnTo>
                  <a:lnTo>
                    <a:pt x="319" y="2524"/>
                  </a:lnTo>
                  <a:lnTo>
                    <a:pt x="326" y="2530"/>
                  </a:lnTo>
                  <a:lnTo>
                    <a:pt x="328" y="2545"/>
                  </a:lnTo>
                  <a:lnTo>
                    <a:pt x="323" y="2566"/>
                  </a:lnTo>
                  <a:lnTo>
                    <a:pt x="310" y="2589"/>
                  </a:lnTo>
                  <a:lnTo>
                    <a:pt x="323" y="2581"/>
                  </a:lnTo>
                  <a:lnTo>
                    <a:pt x="338" y="2570"/>
                  </a:lnTo>
                  <a:lnTo>
                    <a:pt x="354" y="2559"/>
                  </a:lnTo>
                  <a:lnTo>
                    <a:pt x="371" y="2547"/>
                  </a:lnTo>
                  <a:lnTo>
                    <a:pt x="384" y="2536"/>
                  </a:lnTo>
                  <a:lnTo>
                    <a:pt x="397" y="2527"/>
                  </a:lnTo>
                  <a:lnTo>
                    <a:pt x="407" y="2521"/>
                  </a:lnTo>
                  <a:lnTo>
                    <a:pt x="413" y="2519"/>
                  </a:lnTo>
                  <a:lnTo>
                    <a:pt x="417" y="2521"/>
                  </a:lnTo>
                  <a:lnTo>
                    <a:pt x="417" y="2527"/>
                  </a:lnTo>
                  <a:lnTo>
                    <a:pt x="414" y="2536"/>
                  </a:lnTo>
                  <a:lnTo>
                    <a:pt x="411" y="2547"/>
                  </a:lnTo>
                  <a:lnTo>
                    <a:pt x="405" y="2559"/>
                  </a:lnTo>
                  <a:lnTo>
                    <a:pt x="399" y="2570"/>
                  </a:lnTo>
                  <a:lnTo>
                    <a:pt x="393" y="2581"/>
                  </a:lnTo>
                  <a:lnTo>
                    <a:pt x="386" y="2590"/>
                  </a:lnTo>
                  <a:lnTo>
                    <a:pt x="401" y="2581"/>
                  </a:lnTo>
                  <a:lnTo>
                    <a:pt x="417" y="2569"/>
                  </a:lnTo>
                  <a:lnTo>
                    <a:pt x="435" y="2555"/>
                  </a:lnTo>
                  <a:lnTo>
                    <a:pt x="454" y="2542"/>
                  </a:lnTo>
                  <a:lnTo>
                    <a:pt x="471" y="2529"/>
                  </a:lnTo>
                  <a:lnTo>
                    <a:pt x="485" y="2519"/>
                  </a:lnTo>
                  <a:lnTo>
                    <a:pt x="496" y="2512"/>
                  </a:lnTo>
                  <a:lnTo>
                    <a:pt x="503" y="2509"/>
                  </a:lnTo>
                  <a:lnTo>
                    <a:pt x="507" y="2512"/>
                  </a:lnTo>
                  <a:lnTo>
                    <a:pt x="508" y="2517"/>
                  </a:lnTo>
                  <a:lnTo>
                    <a:pt x="508" y="2525"/>
                  </a:lnTo>
                  <a:lnTo>
                    <a:pt x="507" y="2535"/>
                  </a:lnTo>
                  <a:lnTo>
                    <a:pt x="502" y="2546"/>
                  </a:lnTo>
                  <a:lnTo>
                    <a:pt x="497" y="2558"/>
                  </a:lnTo>
                  <a:lnTo>
                    <a:pt x="489" y="2569"/>
                  </a:lnTo>
                  <a:lnTo>
                    <a:pt x="479" y="2581"/>
                  </a:lnTo>
                  <a:lnTo>
                    <a:pt x="494" y="2572"/>
                  </a:lnTo>
                  <a:lnTo>
                    <a:pt x="510" y="2559"/>
                  </a:lnTo>
                  <a:lnTo>
                    <a:pt x="528" y="2546"/>
                  </a:lnTo>
                  <a:lnTo>
                    <a:pt x="546" y="2534"/>
                  </a:lnTo>
                  <a:lnTo>
                    <a:pt x="563" y="2522"/>
                  </a:lnTo>
                  <a:lnTo>
                    <a:pt x="577" y="2512"/>
                  </a:lnTo>
                  <a:lnTo>
                    <a:pt x="587" y="2505"/>
                  </a:lnTo>
                  <a:lnTo>
                    <a:pt x="594" y="2502"/>
                  </a:lnTo>
                  <a:lnTo>
                    <a:pt x="596" y="2505"/>
                  </a:lnTo>
                  <a:lnTo>
                    <a:pt x="596" y="2509"/>
                  </a:lnTo>
                  <a:lnTo>
                    <a:pt x="595" y="2519"/>
                  </a:lnTo>
                  <a:lnTo>
                    <a:pt x="593" y="2529"/>
                  </a:lnTo>
                  <a:lnTo>
                    <a:pt x="588" y="2542"/>
                  </a:lnTo>
                  <a:lnTo>
                    <a:pt x="583" y="2555"/>
                  </a:lnTo>
                  <a:lnTo>
                    <a:pt x="575" y="2568"/>
                  </a:lnTo>
                  <a:lnTo>
                    <a:pt x="565" y="2581"/>
                  </a:lnTo>
                  <a:lnTo>
                    <a:pt x="579" y="2570"/>
                  </a:lnTo>
                  <a:lnTo>
                    <a:pt x="594" y="2558"/>
                  </a:lnTo>
                  <a:lnTo>
                    <a:pt x="611" y="2544"/>
                  </a:lnTo>
                  <a:lnTo>
                    <a:pt x="627" y="2529"/>
                  </a:lnTo>
                  <a:lnTo>
                    <a:pt x="642" y="2515"/>
                  </a:lnTo>
                  <a:lnTo>
                    <a:pt x="655" y="2504"/>
                  </a:lnTo>
                  <a:lnTo>
                    <a:pt x="666" y="2496"/>
                  </a:lnTo>
                  <a:lnTo>
                    <a:pt x="672" y="2492"/>
                  </a:lnTo>
                  <a:lnTo>
                    <a:pt x="675" y="2493"/>
                  </a:lnTo>
                  <a:lnTo>
                    <a:pt x="677" y="2500"/>
                  </a:lnTo>
                  <a:lnTo>
                    <a:pt x="677" y="2509"/>
                  </a:lnTo>
                  <a:lnTo>
                    <a:pt x="675" y="2521"/>
                  </a:lnTo>
                  <a:lnTo>
                    <a:pt x="670" y="2534"/>
                  </a:lnTo>
                  <a:lnTo>
                    <a:pt x="664" y="2547"/>
                  </a:lnTo>
                  <a:lnTo>
                    <a:pt x="656" y="2560"/>
                  </a:lnTo>
                  <a:lnTo>
                    <a:pt x="645" y="2572"/>
                  </a:lnTo>
                  <a:lnTo>
                    <a:pt x="661" y="2562"/>
                  </a:lnTo>
                  <a:lnTo>
                    <a:pt x="678" y="2550"/>
                  </a:lnTo>
                  <a:lnTo>
                    <a:pt x="695" y="2535"/>
                  </a:lnTo>
                  <a:lnTo>
                    <a:pt x="713" y="2520"/>
                  </a:lnTo>
                  <a:lnTo>
                    <a:pt x="727" y="2506"/>
                  </a:lnTo>
                  <a:lnTo>
                    <a:pt x="739" y="2494"/>
                  </a:lnTo>
                  <a:lnTo>
                    <a:pt x="750" y="2486"/>
                  </a:lnTo>
                  <a:lnTo>
                    <a:pt x="755" y="2484"/>
                  </a:lnTo>
                  <a:lnTo>
                    <a:pt x="759" y="2487"/>
                  </a:lnTo>
                  <a:lnTo>
                    <a:pt x="761" y="2493"/>
                  </a:lnTo>
                  <a:lnTo>
                    <a:pt x="763" y="2502"/>
                  </a:lnTo>
                  <a:lnTo>
                    <a:pt x="763" y="2515"/>
                  </a:lnTo>
                  <a:lnTo>
                    <a:pt x="761" y="2528"/>
                  </a:lnTo>
                  <a:lnTo>
                    <a:pt x="757" y="2543"/>
                  </a:lnTo>
                  <a:lnTo>
                    <a:pt x="748" y="2558"/>
                  </a:lnTo>
                  <a:lnTo>
                    <a:pt x="737" y="2572"/>
                  </a:lnTo>
                  <a:lnTo>
                    <a:pt x="753" y="2562"/>
                  </a:lnTo>
                  <a:lnTo>
                    <a:pt x="769" y="2549"/>
                  </a:lnTo>
                  <a:lnTo>
                    <a:pt x="784" y="2534"/>
                  </a:lnTo>
                  <a:lnTo>
                    <a:pt x="798" y="2516"/>
                  </a:lnTo>
                  <a:lnTo>
                    <a:pt x="811" y="2501"/>
                  </a:lnTo>
                  <a:lnTo>
                    <a:pt x="822" y="2489"/>
                  </a:lnTo>
                  <a:lnTo>
                    <a:pt x="831" y="2479"/>
                  </a:lnTo>
                  <a:lnTo>
                    <a:pt x="838" y="2476"/>
                  </a:lnTo>
                  <a:lnTo>
                    <a:pt x="842" y="2478"/>
                  </a:lnTo>
                  <a:lnTo>
                    <a:pt x="844" y="2483"/>
                  </a:lnTo>
                  <a:lnTo>
                    <a:pt x="844" y="2492"/>
                  </a:lnTo>
                  <a:lnTo>
                    <a:pt x="843" y="2505"/>
                  </a:lnTo>
                  <a:lnTo>
                    <a:pt x="838" y="2519"/>
                  </a:lnTo>
                  <a:lnTo>
                    <a:pt x="833" y="2534"/>
                  </a:lnTo>
                  <a:lnTo>
                    <a:pt x="822" y="2551"/>
                  </a:lnTo>
                  <a:lnTo>
                    <a:pt x="810" y="2568"/>
                  </a:lnTo>
                  <a:lnTo>
                    <a:pt x="824" y="2560"/>
                  </a:lnTo>
                  <a:lnTo>
                    <a:pt x="839" y="2547"/>
                  </a:lnTo>
                  <a:lnTo>
                    <a:pt x="854" y="2532"/>
                  </a:lnTo>
                  <a:lnTo>
                    <a:pt x="869" y="2516"/>
                  </a:lnTo>
                  <a:lnTo>
                    <a:pt x="882" y="2501"/>
                  </a:lnTo>
                  <a:lnTo>
                    <a:pt x="894" y="2489"/>
                  </a:lnTo>
                  <a:lnTo>
                    <a:pt x="904" y="2479"/>
                  </a:lnTo>
                  <a:lnTo>
                    <a:pt x="911" y="2476"/>
                  </a:lnTo>
                  <a:lnTo>
                    <a:pt x="914" y="2487"/>
                  </a:lnTo>
                  <a:lnTo>
                    <a:pt x="911" y="2514"/>
                  </a:lnTo>
                  <a:lnTo>
                    <a:pt x="902" y="2544"/>
                  </a:lnTo>
                  <a:lnTo>
                    <a:pt x="890" y="2565"/>
                  </a:lnTo>
                  <a:lnTo>
                    <a:pt x="905" y="2553"/>
                  </a:lnTo>
                  <a:lnTo>
                    <a:pt x="920" y="2539"/>
                  </a:lnTo>
                  <a:lnTo>
                    <a:pt x="933" y="2523"/>
                  </a:lnTo>
                  <a:lnTo>
                    <a:pt x="944" y="2508"/>
                  </a:lnTo>
                  <a:lnTo>
                    <a:pt x="956" y="2493"/>
                  </a:lnTo>
                  <a:lnTo>
                    <a:pt x="965" y="2482"/>
                  </a:lnTo>
                  <a:lnTo>
                    <a:pt x="972" y="2472"/>
                  </a:lnTo>
                  <a:lnTo>
                    <a:pt x="978" y="2469"/>
                  </a:lnTo>
                  <a:lnTo>
                    <a:pt x="985" y="2477"/>
                  </a:lnTo>
                  <a:lnTo>
                    <a:pt x="985" y="2502"/>
                  </a:lnTo>
                  <a:lnTo>
                    <a:pt x="978" y="2534"/>
                  </a:lnTo>
                  <a:lnTo>
                    <a:pt x="960" y="2562"/>
                  </a:lnTo>
                  <a:lnTo>
                    <a:pt x="975" y="2554"/>
                  </a:lnTo>
                  <a:lnTo>
                    <a:pt x="990" y="2540"/>
                  </a:lnTo>
                  <a:lnTo>
                    <a:pt x="1005" y="2525"/>
                  </a:lnTo>
                  <a:lnTo>
                    <a:pt x="1018" y="2508"/>
                  </a:lnTo>
                  <a:lnTo>
                    <a:pt x="1030" y="2492"/>
                  </a:lnTo>
                  <a:lnTo>
                    <a:pt x="1040" y="2478"/>
                  </a:lnTo>
                  <a:lnTo>
                    <a:pt x="1047" y="2470"/>
                  </a:lnTo>
                  <a:lnTo>
                    <a:pt x="1051" y="2469"/>
                  </a:lnTo>
                  <a:lnTo>
                    <a:pt x="1061" y="2484"/>
                  </a:lnTo>
                  <a:lnTo>
                    <a:pt x="1061" y="2507"/>
                  </a:lnTo>
                  <a:lnTo>
                    <a:pt x="1056" y="2536"/>
                  </a:lnTo>
                  <a:lnTo>
                    <a:pt x="1048" y="2562"/>
                  </a:lnTo>
                  <a:lnTo>
                    <a:pt x="1058" y="2547"/>
                  </a:lnTo>
                  <a:lnTo>
                    <a:pt x="1070" y="2532"/>
                  </a:lnTo>
                  <a:lnTo>
                    <a:pt x="1081" y="2516"/>
                  </a:lnTo>
                  <a:lnTo>
                    <a:pt x="1092" y="2502"/>
                  </a:lnTo>
                  <a:lnTo>
                    <a:pt x="1102" y="2490"/>
                  </a:lnTo>
                  <a:lnTo>
                    <a:pt x="1112" y="2478"/>
                  </a:lnTo>
                  <a:lnTo>
                    <a:pt x="1121" y="2471"/>
                  </a:lnTo>
                  <a:lnTo>
                    <a:pt x="1127" y="2468"/>
                  </a:lnTo>
                  <a:lnTo>
                    <a:pt x="1135" y="2476"/>
                  </a:lnTo>
                  <a:lnTo>
                    <a:pt x="1134" y="2501"/>
                  </a:lnTo>
                  <a:lnTo>
                    <a:pt x="1127" y="2532"/>
                  </a:lnTo>
                  <a:lnTo>
                    <a:pt x="1116" y="2558"/>
                  </a:lnTo>
                  <a:lnTo>
                    <a:pt x="1130" y="2545"/>
                  </a:lnTo>
                  <a:lnTo>
                    <a:pt x="1144" y="2530"/>
                  </a:lnTo>
                  <a:lnTo>
                    <a:pt x="1159" y="2515"/>
                  </a:lnTo>
                  <a:lnTo>
                    <a:pt x="1174" y="2499"/>
                  </a:lnTo>
                  <a:lnTo>
                    <a:pt x="1187" y="2484"/>
                  </a:lnTo>
                  <a:lnTo>
                    <a:pt x="1200" y="2471"/>
                  </a:lnTo>
                  <a:lnTo>
                    <a:pt x="1210" y="2463"/>
                  </a:lnTo>
                  <a:lnTo>
                    <a:pt x="1218" y="2459"/>
                  </a:lnTo>
                  <a:lnTo>
                    <a:pt x="1222" y="2461"/>
                  </a:lnTo>
                  <a:lnTo>
                    <a:pt x="1223" y="2469"/>
                  </a:lnTo>
                  <a:lnTo>
                    <a:pt x="1223" y="2481"/>
                  </a:lnTo>
                  <a:lnTo>
                    <a:pt x="1221" y="2496"/>
                  </a:lnTo>
                  <a:lnTo>
                    <a:pt x="1217" y="2512"/>
                  </a:lnTo>
                  <a:lnTo>
                    <a:pt x="1212" y="2528"/>
                  </a:lnTo>
                  <a:lnTo>
                    <a:pt x="1205" y="2543"/>
                  </a:lnTo>
                  <a:lnTo>
                    <a:pt x="1195" y="2557"/>
                  </a:lnTo>
                  <a:lnTo>
                    <a:pt x="1212" y="2542"/>
                  </a:lnTo>
                  <a:lnTo>
                    <a:pt x="1228" y="2525"/>
                  </a:lnTo>
                  <a:lnTo>
                    <a:pt x="1244" y="2509"/>
                  </a:lnTo>
                  <a:lnTo>
                    <a:pt x="1258" y="2494"/>
                  </a:lnTo>
                  <a:lnTo>
                    <a:pt x="1271" y="2482"/>
                  </a:lnTo>
                  <a:lnTo>
                    <a:pt x="1283" y="2470"/>
                  </a:lnTo>
                  <a:lnTo>
                    <a:pt x="1292" y="2463"/>
                  </a:lnTo>
                  <a:lnTo>
                    <a:pt x="1298" y="2461"/>
                  </a:lnTo>
                  <a:lnTo>
                    <a:pt x="1304" y="2471"/>
                  </a:lnTo>
                  <a:lnTo>
                    <a:pt x="1301" y="2496"/>
                  </a:lnTo>
                  <a:lnTo>
                    <a:pt x="1293" y="2525"/>
                  </a:lnTo>
                  <a:lnTo>
                    <a:pt x="1282" y="2553"/>
                  </a:lnTo>
                  <a:lnTo>
                    <a:pt x="1297" y="2540"/>
                  </a:lnTo>
                  <a:lnTo>
                    <a:pt x="1311" y="2527"/>
                  </a:lnTo>
                  <a:lnTo>
                    <a:pt x="1324" y="2511"/>
                  </a:lnTo>
                  <a:lnTo>
                    <a:pt x="1337" y="2496"/>
                  </a:lnTo>
                  <a:lnTo>
                    <a:pt x="1347" y="2481"/>
                  </a:lnTo>
                  <a:lnTo>
                    <a:pt x="1356" y="2469"/>
                  </a:lnTo>
                  <a:lnTo>
                    <a:pt x="1362" y="2461"/>
                  </a:lnTo>
                  <a:lnTo>
                    <a:pt x="1367" y="2459"/>
                  </a:lnTo>
                  <a:lnTo>
                    <a:pt x="1373" y="2468"/>
                  </a:lnTo>
                  <a:lnTo>
                    <a:pt x="1374" y="2491"/>
                  </a:lnTo>
                  <a:lnTo>
                    <a:pt x="1367" y="2522"/>
                  </a:lnTo>
                  <a:lnTo>
                    <a:pt x="1350" y="2555"/>
                  </a:lnTo>
                  <a:lnTo>
                    <a:pt x="1365" y="2540"/>
                  </a:lnTo>
                  <a:lnTo>
                    <a:pt x="1380" y="2524"/>
                  </a:lnTo>
                  <a:lnTo>
                    <a:pt x="1394" y="2506"/>
                  </a:lnTo>
                  <a:lnTo>
                    <a:pt x="1406" y="2489"/>
                  </a:lnTo>
                  <a:lnTo>
                    <a:pt x="1418" y="2472"/>
                  </a:lnTo>
                  <a:lnTo>
                    <a:pt x="1428" y="2460"/>
                  </a:lnTo>
                  <a:lnTo>
                    <a:pt x="1435" y="2452"/>
                  </a:lnTo>
                  <a:lnTo>
                    <a:pt x="1441" y="2449"/>
                  </a:lnTo>
                  <a:lnTo>
                    <a:pt x="1447" y="2458"/>
                  </a:lnTo>
                  <a:lnTo>
                    <a:pt x="1451" y="2479"/>
                  </a:lnTo>
                  <a:lnTo>
                    <a:pt x="1455" y="2511"/>
                  </a:lnTo>
                  <a:lnTo>
                    <a:pt x="1453" y="2549"/>
                  </a:lnTo>
                  <a:lnTo>
                    <a:pt x="1464" y="2532"/>
                  </a:lnTo>
                  <a:lnTo>
                    <a:pt x="1476" y="2514"/>
                  </a:lnTo>
                  <a:lnTo>
                    <a:pt x="1489" y="2496"/>
                  </a:lnTo>
                  <a:lnTo>
                    <a:pt x="1502" y="2477"/>
                  </a:lnTo>
                  <a:lnTo>
                    <a:pt x="1514" y="2460"/>
                  </a:lnTo>
                  <a:lnTo>
                    <a:pt x="1524" y="2446"/>
                  </a:lnTo>
                  <a:lnTo>
                    <a:pt x="1532" y="2437"/>
                  </a:lnTo>
                  <a:lnTo>
                    <a:pt x="1535" y="2433"/>
                  </a:lnTo>
                  <a:lnTo>
                    <a:pt x="1542" y="2445"/>
                  </a:lnTo>
                  <a:lnTo>
                    <a:pt x="1542" y="2474"/>
                  </a:lnTo>
                  <a:lnTo>
                    <a:pt x="1535" y="2511"/>
                  </a:lnTo>
                  <a:lnTo>
                    <a:pt x="1520" y="2544"/>
                  </a:lnTo>
                  <a:lnTo>
                    <a:pt x="1534" y="2530"/>
                  </a:lnTo>
                  <a:lnTo>
                    <a:pt x="1548" y="2514"/>
                  </a:lnTo>
                  <a:lnTo>
                    <a:pt x="1559" y="2496"/>
                  </a:lnTo>
                  <a:lnTo>
                    <a:pt x="1570" y="2477"/>
                  </a:lnTo>
                  <a:lnTo>
                    <a:pt x="1580" y="2460"/>
                  </a:lnTo>
                  <a:lnTo>
                    <a:pt x="1588" y="2446"/>
                  </a:lnTo>
                  <a:lnTo>
                    <a:pt x="1596" y="2437"/>
                  </a:lnTo>
                  <a:lnTo>
                    <a:pt x="1604" y="2433"/>
                  </a:lnTo>
                  <a:lnTo>
                    <a:pt x="1610" y="2448"/>
                  </a:lnTo>
                  <a:lnTo>
                    <a:pt x="1614" y="2483"/>
                  </a:lnTo>
                  <a:lnTo>
                    <a:pt x="1610" y="2521"/>
                  </a:lnTo>
                  <a:lnTo>
                    <a:pt x="1601" y="2546"/>
                  </a:lnTo>
                  <a:lnTo>
                    <a:pt x="1614" y="2534"/>
                  </a:lnTo>
                  <a:lnTo>
                    <a:pt x="1625" y="2516"/>
                  </a:lnTo>
                  <a:lnTo>
                    <a:pt x="1635" y="2497"/>
                  </a:lnTo>
                  <a:lnTo>
                    <a:pt x="1646" y="2477"/>
                  </a:lnTo>
                  <a:lnTo>
                    <a:pt x="1656" y="2459"/>
                  </a:lnTo>
                  <a:lnTo>
                    <a:pt x="1664" y="2444"/>
                  </a:lnTo>
                  <a:lnTo>
                    <a:pt x="1672" y="2432"/>
                  </a:lnTo>
                  <a:lnTo>
                    <a:pt x="1679" y="2429"/>
                  </a:lnTo>
                  <a:lnTo>
                    <a:pt x="1688" y="2440"/>
                  </a:lnTo>
                  <a:lnTo>
                    <a:pt x="1691" y="2470"/>
                  </a:lnTo>
                  <a:lnTo>
                    <a:pt x="1688" y="2505"/>
                  </a:lnTo>
                  <a:lnTo>
                    <a:pt x="1682" y="2536"/>
                  </a:lnTo>
                  <a:lnTo>
                    <a:pt x="1693" y="2523"/>
                  </a:lnTo>
                  <a:lnTo>
                    <a:pt x="1702" y="2507"/>
                  </a:lnTo>
                  <a:lnTo>
                    <a:pt x="1711" y="2489"/>
                  </a:lnTo>
                  <a:lnTo>
                    <a:pt x="1718" y="2469"/>
                  </a:lnTo>
                  <a:lnTo>
                    <a:pt x="1726" y="2451"/>
                  </a:lnTo>
                  <a:lnTo>
                    <a:pt x="1732" y="2436"/>
                  </a:lnTo>
                  <a:lnTo>
                    <a:pt x="1739" y="2425"/>
                  </a:lnTo>
                  <a:lnTo>
                    <a:pt x="1745" y="2421"/>
                  </a:lnTo>
                  <a:lnTo>
                    <a:pt x="1755" y="2429"/>
                  </a:lnTo>
                  <a:lnTo>
                    <a:pt x="1761" y="2454"/>
                  </a:lnTo>
                  <a:lnTo>
                    <a:pt x="1761" y="2493"/>
                  </a:lnTo>
                  <a:lnTo>
                    <a:pt x="1753" y="2540"/>
                  </a:lnTo>
                  <a:lnTo>
                    <a:pt x="1763" y="2523"/>
                  </a:lnTo>
                  <a:lnTo>
                    <a:pt x="1775" y="2504"/>
                  </a:lnTo>
                  <a:lnTo>
                    <a:pt x="1786" y="2481"/>
                  </a:lnTo>
                  <a:lnTo>
                    <a:pt x="1798" y="2458"/>
                  </a:lnTo>
                  <a:lnTo>
                    <a:pt x="1807" y="2437"/>
                  </a:lnTo>
                  <a:lnTo>
                    <a:pt x="1816" y="2419"/>
                  </a:lnTo>
                  <a:lnTo>
                    <a:pt x="1824" y="2408"/>
                  </a:lnTo>
                  <a:lnTo>
                    <a:pt x="1829" y="2403"/>
                  </a:lnTo>
                  <a:lnTo>
                    <a:pt x="1837" y="2416"/>
                  </a:lnTo>
                  <a:lnTo>
                    <a:pt x="1843" y="2448"/>
                  </a:lnTo>
                  <a:lnTo>
                    <a:pt x="1845" y="2487"/>
                  </a:lnTo>
                  <a:lnTo>
                    <a:pt x="1842" y="2523"/>
                  </a:lnTo>
                  <a:lnTo>
                    <a:pt x="1853" y="2505"/>
                  </a:lnTo>
                  <a:lnTo>
                    <a:pt x="1864" y="2483"/>
                  </a:lnTo>
                  <a:lnTo>
                    <a:pt x="1874" y="2461"/>
                  </a:lnTo>
                  <a:lnTo>
                    <a:pt x="1883" y="2439"/>
                  </a:lnTo>
                  <a:lnTo>
                    <a:pt x="1891" y="2419"/>
                  </a:lnTo>
                  <a:lnTo>
                    <a:pt x="1899" y="2405"/>
                  </a:lnTo>
                  <a:lnTo>
                    <a:pt x="1905" y="2394"/>
                  </a:lnTo>
                  <a:lnTo>
                    <a:pt x="1911" y="2391"/>
                  </a:lnTo>
                  <a:lnTo>
                    <a:pt x="1916" y="2394"/>
                  </a:lnTo>
                  <a:lnTo>
                    <a:pt x="1923" y="2403"/>
                  </a:lnTo>
                  <a:lnTo>
                    <a:pt x="1929" y="2418"/>
                  </a:lnTo>
                  <a:lnTo>
                    <a:pt x="1934" y="2438"/>
                  </a:lnTo>
                  <a:lnTo>
                    <a:pt x="1936" y="2459"/>
                  </a:lnTo>
                  <a:lnTo>
                    <a:pt x="1936" y="2483"/>
                  </a:lnTo>
                  <a:lnTo>
                    <a:pt x="1934" y="2507"/>
                  </a:lnTo>
                  <a:lnTo>
                    <a:pt x="1927" y="2530"/>
                  </a:lnTo>
                  <a:lnTo>
                    <a:pt x="1938" y="2509"/>
                  </a:lnTo>
                  <a:lnTo>
                    <a:pt x="1948" y="2487"/>
                  </a:lnTo>
                  <a:lnTo>
                    <a:pt x="1955" y="2464"/>
                  </a:lnTo>
                  <a:lnTo>
                    <a:pt x="1960" y="2441"/>
                  </a:lnTo>
                  <a:lnTo>
                    <a:pt x="1964" y="2421"/>
                  </a:lnTo>
                  <a:lnTo>
                    <a:pt x="1967" y="2403"/>
                  </a:lnTo>
                  <a:lnTo>
                    <a:pt x="1971" y="2392"/>
                  </a:lnTo>
                  <a:lnTo>
                    <a:pt x="1974" y="2386"/>
                  </a:lnTo>
                  <a:lnTo>
                    <a:pt x="1979" y="2388"/>
                  </a:lnTo>
                  <a:lnTo>
                    <a:pt x="1986" y="2396"/>
                  </a:lnTo>
                  <a:lnTo>
                    <a:pt x="1991" y="2410"/>
                  </a:lnTo>
                  <a:lnTo>
                    <a:pt x="1998" y="2429"/>
                  </a:lnTo>
                  <a:lnTo>
                    <a:pt x="2002" y="2449"/>
                  </a:lnTo>
                  <a:lnTo>
                    <a:pt x="2004" y="2472"/>
                  </a:lnTo>
                  <a:lnTo>
                    <a:pt x="2003" y="2497"/>
                  </a:lnTo>
                  <a:lnTo>
                    <a:pt x="1997" y="2521"/>
                  </a:lnTo>
                  <a:lnTo>
                    <a:pt x="2009" y="2504"/>
                  </a:lnTo>
                  <a:lnTo>
                    <a:pt x="2017" y="2485"/>
                  </a:lnTo>
                  <a:lnTo>
                    <a:pt x="2024" y="2464"/>
                  </a:lnTo>
                  <a:lnTo>
                    <a:pt x="2028" y="2445"/>
                  </a:lnTo>
                  <a:lnTo>
                    <a:pt x="2032" y="2426"/>
                  </a:lnTo>
                  <a:lnTo>
                    <a:pt x="2036" y="2411"/>
                  </a:lnTo>
                  <a:lnTo>
                    <a:pt x="2040" y="2401"/>
                  </a:lnTo>
                  <a:lnTo>
                    <a:pt x="2044" y="2396"/>
                  </a:lnTo>
                  <a:lnTo>
                    <a:pt x="2050" y="2399"/>
                  </a:lnTo>
                  <a:lnTo>
                    <a:pt x="2057" y="2406"/>
                  </a:lnTo>
                  <a:lnTo>
                    <a:pt x="2063" y="2418"/>
                  </a:lnTo>
                  <a:lnTo>
                    <a:pt x="2069" y="2433"/>
                  </a:lnTo>
                  <a:lnTo>
                    <a:pt x="2073" y="2453"/>
                  </a:lnTo>
                  <a:lnTo>
                    <a:pt x="2075" y="2474"/>
                  </a:lnTo>
                  <a:lnTo>
                    <a:pt x="2075" y="2498"/>
                  </a:lnTo>
                  <a:lnTo>
                    <a:pt x="2072" y="2523"/>
                  </a:lnTo>
                  <a:lnTo>
                    <a:pt x="2084" y="2506"/>
                  </a:lnTo>
                  <a:lnTo>
                    <a:pt x="2093" y="2484"/>
                  </a:lnTo>
                  <a:lnTo>
                    <a:pt x="2100" y="2462"/>
                  </a:lnTo>
                  <a:lnTo>
                    <a:pt x="2104" y="2439"/>
                  </a:lnTo>
                  <a:lnTo>
                    <a:pt x="2109" y="2419"/>
                  </a:lnTo>
                  <a:lnTo>
                    <a:pt x="2112" y="2402"/>
                  </a:lnTo>
                  <a:lnTo>
                    <a:pt x="2116" y="2390"/>
                  </a:lnTo>
                  <a:lnTo>
                    <a:pt x="2120" y="2384"/>
                  </a:lnTo>
                  <a:lnTo>
                    <a:pt x="2126" y="2386"/>
                  </a:lnTo>
                  <a:lnTo>
                    <a:pt x="2134" y="2395"/>
                  </a:lnTo>
                  <a:lnTo>
                    <a:pt x="2141" y="2410"/>
                  </a:lnTo>
                  <a:lnTo>
                    <a:pt x="2148" y="2430"/>
                  </a:lnTo>
                  <a:lnTo>
                    <a:pt x="2153" y="2452"/>
                  </a:lnTo>
                  <a:lnTo>
                    <a:pt x="2155" y="2476"/>
                  </a:lnTo>
                  <a:lnTo>
                    <a:pt x="2153" y="2501"/>
                  </a:lnTo>
                  <a:lnTo>
                    <a:pt x="2146" y="2525"/>
                  </a:lnTo>
                  <a:lnTo>
                    <a:pt x="2158" y="2508"/>
                  </a:lnTo>
                  <a:lnTo>
                    <a:pt x="2168" y="2486"/>
                  </a:lnTo>
                  <a:lnTo>
                    <a:pt x="2175" y="2463"/>
                  </a:lnTo>
                  <a:lnTo>
                    <a:pt x="2180" y="2440"/>
                  </a:lnTo>
                  <a:lnTo>
                    <a:pt x="2184" y="2418"/>
                  </a:lnTo>
                  <a:lnTo>
                    <a:pt x="2187" y="2400"/>
                  </a:lnTo>
                  <a:lnTo>
                    <a:pt x="2191" y="2388"/>
                  </a:lnTo>
                  <a:lnTo>
                    <a:pt x="2194" y="2384"/>
                  </a:lnTo>
                  <a:lnTo>
                    <a:pt x="2199" y="2385"/>
                  </a:lnTo>
                  <a:lnTo>
                    <a:pt x="2204" y="2391"/>
                  </a:lnTo>
                  <a:lnTo>
                    <a:pt x="2210" y="2400"/>
                  </a:lnTo>
                  <a:lnTo>
                    <a:pt x="2216" y="2414"/>
                  </a:lnTo>
                  <a:lnTo>
                    <a:pt x="2221" y="2432"/>
                  </a:lnTo>
                  <a:lnTo>
                    <a:pt x="2223" y="2455"/>
                  </a:lnTo>
                  <a:lnTo>
                    <a:pt x="2224" y="2483"/>
                  </a:lnTo>
                  <a:lnTo>
                    <a:pt x="2223" y="2517"/>
                  </a:lnTo>
                  <a:lnTo>
                    <a:pt x="2231" y="2501"/>
                  </a:lnTo>
                  <a:lnTo>
                    <a:pt x="2238" y="2482"/>
                  </a:lnTo>
                  <a:lnTo>
                    <a:pt x="2245" y="2460"/>
                  </a:lnTo>
                  <a:lnTo>
                    <a:pt x="2252" y="2438"/>
                  </a:lnTo>
                  <a:lnTo>
                    <a:pt x="2257" y="2418"/>
                  </a:lnTo>
                  <a:lnTo>
                    <a:pt x="2263" y="2401"/>
                  </a:lnTo>
                  <a:lnTo>
                    <a:pt x="2268" y="2390"/>
                  </a:lnTo>
                  <a:lnTo>
                    <a:pt x="2272" y="2384"/>
                  </a:lnTo>
                  <a:lnTo>
                    <a:pt x="2277" y="2386"/>
                  </a:lnTo>
                  <a:lnTo>
                    <a:pt x="2284" y="2394"/>
                  </a:lnTo>
                  <a:lnTo>
                    <a:pt x="2290" y="2407"/>
                  </a:lnTo>
                  <a:lnTo>
                    <a:pt x="2297" y="2423"/>
                  </a:lnTo>
                  <a:lnTo>
                    <a:pt x="2301" y="2443"/>
                  </a:lnTo>
                  <a:lnTo>
                    <a:pt x="2305" y="2463"/>
                  </a:lnTo>
                  <a:lnTo>
                    <a:pt x="2307" y="2484"/>
                  </a:lnTo>
                  <a:lnTo>
                    <a:pt x="2305" y="2505"/>
                  </a:lnTo>
                  <a:lnTo>
                    <a:pt x="2317" y="2466"/>
                  </a:lnTo>
                  <a:lnTo>
                    <a:pt x="2322" y="2422"/>
                  </a:lnTo>
                  <a:lnTo>
                    <a:pt x="2325" y="2387"/>
                  </a:lnTo>
                  <a:lnTo>
                    <a:pt x="2332" y="2370"/>
                  </a:lnTo>
                  <a:lnTo>
                    <a:pt x="2338" y="2370"/>
                  </a:lnTo>
                  <a:lnTo>
                    <a:pt x="2345" y="2375"/>
                  </a:lnTo>
                  <a:lnTo>
                    <a:pt x="2351" y="2384"/>
                  </a:lnTo>
                  <a:lnTo>
                    <a:pt x="2355" y="2396"/>
                  </a:lnTo>
                  <a:lnTo>
                    <a:pt x="2360" y="2413"/>
                  </a:lnTo>
                  <a:lnTo>
                    <a:pt x="2362" y="2432"/>
                  </a:lnTo>
                  <a:lnTo>
                    <a:pt x="2362" y="2455"/>
                  </a:lnTo>
                  <a:lnTo>
                    <a:pt x="2360" y="2479"/>
                  </a:lnTo>
                  <a:lnTo>
                    <a:pt x="2373" y="2461"/>
                  </a:lnTo>
                  <a:lnTo>
                    <a:pt x="2381" y="2440"/>
                  </a:lnTo>
                  <a:lnTo>
                    <a:pt x="2384" y="2419"/>
                  </a:lnTo>
                  <a:lnTo>
                    <a:pt x="2384" y="2400"/>
                  </a:lnTo>
                  <a:lnTo>
                    <a:pt x="2383" y="2383"/>
                  </a:lnTo>
                  <a:lnTo>
                    <a:pt x="2383" y="2368"/>
                  </a:lnTo>
                  <a:lnTo>
                    <a:pt x="2383" y="2356"/>
                  </a:lnTo>
                  <a:lnTo>
                    <a:pt x="2385" y="2350"/>
                  </a:lnTo>
                  <a:lnTo>
                    <a:pt x="2391" y="2349"/>
                  </a:lnTo>
                  <a:lnTo>
                    <a:pt x="2398" y="2350"/>
                  </a:lnTo>
                  <a:lnTo>
                    <a:pt x="2407" y="2356"/>
                  </a:lnTo>
                  <a:lnTo>
                    <a:pt x="2415" y="2364"/>
                  </a:lnTo>
                  <a:lnTo>
                    <a:pt x="2424" y="2377"/>
                  </a:lnTo>
                  <a:lnTo>
                    <a:pt x="2431" y="2392"/>
                  </a:lnTo>
                  <a:lnTo>
                    <a:pt x="2437" y="2410"/>
                  </a:lnTo>
                  <a:lnTo>
                    <a:pt x="2441" y="2432"/>
                  </a:lnTo>
                  <a:lnTo>
                    <a:pt x="2449" y="2414"/>
                  </a:lnTo>
                  <a:lnTo>
                    <a:pt x="2454" y="2395"/>
                  </a:lnTo>
                  <a:lnTo>
                    <a:pt x="2460" y="2377"/>
                  </a:lnTo>
                  <a:lnTo>
                    <a:pt x="2465" y="2360"/>
                  </a:lnTo>
                  <a:lnTo>
                    <a:pt x="2468" y="2345"/>
                  </a:lnTo>
                  <a:lnTo>
                    <a:pt x="2472" y="2333"/>
                  </a:lnTo>
                  <a:lnTo>
                    <a:pt x="2475" y="2325"/>
                  </a:lnTo>
                  <a:lnTo>
                    <a:pt x="2479" y="2322"/>
                  </a:lnTo>
                  <a:lnTo>
                    <a:pt x="2487" y="2322"/>
                  </a:lnTo>
                  <a:lnTo>
                    <a:pt x="2497" y="2328"/>
                  </a:lnTo>
                  <a:lnTo>
                    <a:pt x="2505" y="2341"/>
                  </a:lnTo>
                  <a:lnTo>
                    <a:pt x="2507" y="2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0520" y="1410840"/>
              <a:ext cx="179640" cy="199440"/>
            </a:xfrm>
            <a:custGeom>
              <a:avLst/>
              <a:gdLst/>
              <a:ahLst/>
              <a:rect l="l" t="t" r="r" b="b"/>
              <a:pathLst>
                <a:path w="358" h="436">
                  <a:moveTo>
                    <a:pt x="234" y="81"/>
                  </a:moveTo>
                  <a:lnTo>
                    <a:pt x="229" y="75"/>
                  </a:lnTo>
                  <a:lnTo>
                    <a:pt x="225" y="71"/>
                  </a:lnTo>
                  <a:lnTo>
                    <a:pt x="219" y="67"/>
                  </a:lnTo>
                  <a:lnTo>
                    <a:pt x="213" y="65"/>
                  </a:lnTo>
                  <a:lnTo>
                    <a:pt x="207" y="63"/>
                  </a:lnTo>
                  <a:lnTo>
                    <a:pt x="202" y="60"/>
                  </a:lnTo>
                  <a:lnTo>
                    <a:pt x="197" y="60"/>
                  </a:lnTo>
                  <a:lnTo>
                    <a:pt x="191" y="59"/>
                  </a:lnTo>
                  <a:lnTo>
                    <a:pt x="177" y="60"/>
                  </a:lnTo>
                  <a:lnTo>
                    <a:pt x="163" y="65"/>
                  </a:lnTo>
                  <a:lnTo>
                    <a:pt x="150" y="72"/>
                  </a:lnTo>
                  <a:lnTo>
                    <a:pt x="136" y="82"/>
                  </a:lnTo>
                  <a:lnTo>
                    <a:pt x="123" y="96"/>
                  </a:lnTo>
                  <a:lnTo>
                    <a:pt x="111" y="112"/>
                  </a:lnTo>
                  <a:lnTo>
                    <a:pt x="99" y="129"/>
                  </a:lnTo>
                  <a:lnTo>
                    <a:pt x="90" y="150"/>
                  </a:lnTo>
                  <a:lnTo>
                    <a:pt x="83" y="166"/>
                  </a:lnTo>
                  <a:lnTo>
                    <a:pt x="76" y="184"/>
                  </a:lnTo>
                  <a:lnTo>
                    <a:pt x="69" y="201"/>
                  </a:lnTo>
                  <a:lnTo>
                    <a:pt x="63" y="218"/>
                  </a:lnTo>
                  <a:lnTo>
                    <a:pt x="56" y="237"/>
                  </a:lnTo>
                  <a:lnTo>
                    <a:pt x="51" y="254"/>
                  </a:lnTo>
                  <a:lnTo>
                    <a:pt x="46" y="272"/>
                  </a:lnTo>
                  <a:lnTo>
                    <a:pt x="40" y="290"/>
                  </a:lnTo>
                  <a:lnTo>
                    <a:pt x="64" y="290"/>
                  </a:lnTo>
                  <a:lnTo>
                    <a:pt x="62" y="303"/>
                  </a:lnTo>
                  <a:lnTo>
                    <a:pt x="60" y="323"/>
                  </a:lnTo>
                  <a:lnTo>
                    <a:pt x="59" y="340"/>
                  </a:lnTo>
                  <a:lnTo>
                    <a:pt x="58" y="347"/>
                  </a:lnTo>
                  <a:lnTo>
                    <a:pt x="24" y="347"/>
                  </a:lnTo>
                  <a:lnTo>
                    <a:pt x="22" y="355"/>
                  </a:lnTo>
                  <a:lnTo>
                    <a:pt x="19" y="362"/>
                  </a:lnTo>
                  <a:lnTo>
                    <a:pt x="18" y="370"/>
                  </a:lnTo>
                  <a:lnTo>
                    <a:pt x="16" y="377"/>
                  </a:lnTo>
                  <a:lnTo>
                    <a:pt x="59" y="377"/>
                  </a:lnTo>
                  <a:lnTo>
                    <a:pt x="64" y="406"/>
                  </a:lnTo>
                  <a:lnTo>
                    <a:pt x="9" y="407"/>
                  </a:lnTo>
                  <a:lnTo>
                    <a:pt x="0" y="434"/>
                  </a:lnTo>
                  <a:lnTo>
                    <a:pt x="104" y="434"/>
                  </a:lnTo>
                  <a:lnTo>
                    <a:pt x="91" y="413"/>
                  </a:lnTo>
                  <a:lnTo>
                    <a:pt x="82" y="390"/>
                  </a:lnTo>
                  <a:lnTo>
                    <a:pt x="77" y="364"/>
                  </a:lnTo>
                  <a:lnTo>
                    <a:pt x="76" y="337"/>
                  </a:lnTo>
                  <a:lnTo>
                    <a:pt x="78" y="308"/>
                  </a:lnTo>
                  <a:lnTo>
                    <a:pt x="84" y="279"/>
                  </a:lnTo>
                  <a:lnTo>
                    <a:pt x="92" y="250"/>
                  </a:lnTo>
                  <a:lnTo>
                    <a:pt x="102" y="223"/>
                  </a:lnTo>
                  <a:lnTo>
                    <a:pt x="114" y="196"/>
                  </a:lnTo>
                  <a:lnTo>
                    <a:pt x="127" y="171"/>
                  </a:lnTo>
                  <a:lnTo>
                    <a:pt x="140" y="149"/>
                  </a:lnTo>
                  <a:lnTo>
                    <a:pt x="154" y="129"/>
                  </a:lnTo>
                  <a:lnTo>
                    <a:pt x="168" y="114"/>
                  </a:lnTo>
                  <a:lnTo>
                    <a:pt x="182" y="104"/>
                  </a:lnTo>
                  <a:lnTo>
                    <a:pt x="196" y="99"/>
                  </a:lnTo>
                  <a:lnTo>
                    <a:pt x="207" y="99"/>
                  </a:lnTo>
                  <a:lnTo>
                    <a:pt x="219" y="112"/>
                  </a:lnTo>
                  <a:lnTo>
                    <a:pt x="227" y="139"/>
                  </a:lnTo>
                  <a:lnTo>
                    <a:pt x="230" y="176"/>
                  </a:lnTo>
                  <a:lnTo>
                    <a:pt x="226" y="216"/>
                  </a:lnTo>
                  <a:lnTo>
                    <a:pt x="214" y="256"/>
                  </a:lnTo>
                  <a:lnTo>
                    <a:pt x="192" y="292"/>
                  </a:lnTo>
                  <a:lnTo>
                    <a:pt x="160" y="316"/>
                  </a:lnTo>
                  <a:lnTo>
                    <a:pt x="115" y="326"/>
                  </a:lnTo>
                  <a:lnTo>
                    <a:pt x="108" y="355"/>
                  </a:lnTo>
                  <a:lnTo>
                    <a:pt x="109" y="378"/>
                  </a:lnTo>
                  <a:lnTo>
                    <a:pt x="114" y="398"/>
                  </a:lnTo>
                  <a:lnTo>
                    <a:pt x="123" y="412"/>
                  </a:lnTo>
                  <a:lnTo>
                    <a:pt x="135" y="423"/>
                  </a:lnTo>
                  <a:lnTo>
                    <a:pt x="146" y="430"/>
                  </a:lnTo>
                  <a:lnTo>
                    <a:pt x="158" y="435"/>
                  </a:lnTo>
                  <a:lnTo>
                    <a:pt x="167" y="436"/>
                  </a:lnTo>
                  <a:lnTo>
                    <a:pt x="195" y="432"/>
                  </a:lnTo>
                  <a:lnTo>
                    <a:pt x="220" y="421"/>
                  </a:lnTo>
                  <a:lnTo>
                    <a:pt x="244" y="405"/>
                  </a:lnTo>
                  <a:lnTo>
                    <a:pt x="267" y="383"/>
                  </a:lnTo>
                  <a:lnTo>
                    <a:pt x="287" y="356"/>
                  </a:lnTo>
                  <a:lnTo>
                    <a:pt x="305" y="325"/>
                  </a:lnTo>
                  <a:lnTo>
                    <a:pt x="321" y="293"/>
                  </a:lnTo>
                  <a:lnTo>
                    <a:pt x="334" y="257"/>
                  </a:lnTo>
                  <a:lnTo>
                    <a:pt x="344" y="222"/>
                  </a:lnTo>
                  <a:lnTo>
                    <a:pt x="352" y="185"/>
                  </a:lnTo>
                  <a:lnTo>
                    <a:pt x="357" y="148"/>
                  </a:lnTo>
                  <a:lnTo>
                    <a:pt x="358" y="112"/>
                  </a:lnTo>
                  <a:lnTo>
                    <a:pt x="356" y="80"/>
                  </a:lnTo>
                  <a:lnTo>
                    <a:pt x="349" y="49"/>
                  </a:lnTo>
                  <a:lnTo>
                    <a:pt x="340" y="22"/>
                  </a:lnTo>
                  <a:lnTo>
                    <a:pt x="326" y="0"/>
                  </a:lnTo>
                  <a:lnTo>
                    <a:pt x="231" y="8"/>
                  </a:lnTo>
                  <a:lnTo>
                    <a:pt x="234" y="32"/>
                  </a:lnTo>
                  <a:lnTo>
                    <a:pt x="314" y="32"/>
                  </a:lnTo>
                  <a:lnTo>
                    <a:pt x="319" y="43"/>
                  </a:lnTo>
                  <a:lnTo>
                    <a:pt x="324" y="55"/>
                  </a:lnTo>
                  <a:lnTo>
                    <a:pt x="327" y="67"/>
                  </a:lnTo>
                  <a:lnTo>
                    <a:pt x="329" y="80"/>
                  </a:lnTo>
                  <a:lnTo>
                    <a:pt x="234" y="81"/>
                  </a:lnTo>
                  <a:lnTo>
                    <a:pt x="245" y="108"/>
                  </a:lnTo>
                  <a:lnTo>
                    <a:pt x="329" y="108"/>
                  </a:lnTo>
                  <a:lnTo>
                    <a:pt x="329" y="120"/>
                  </a:lnTo>
                  <a:lnTo>
                    <a:pt x="329" y="133"/>
                  </a:lnTo>
                  <a:lnTo>
                    <a:pt x="329" y="146"/>
                  </a:lnTo>
                  <a:lnTo>
                    <a:pt x="328" y="158"/>
                  </a:lnTo>
                  <a:lnTo>
                    <a:pt x="254" y="161"/>
                  </a:lnTo>
                  <a:lnTo>
                    <a:pt x="254" y="186"/>
                  </a:lnTo>
                  <a:lnTo>
                    <a:pt x="325" y="182"/>
                  </a:lnTo>
                  <a:lnTo>
                    <a:pt x="322" y="192"/>
                  </a:lnTo>
                  <a:lnTo>
                    <a:pt x="320" y="201"/>
                  </a:lnTo>
                  <a:lnTo>
                    <a:pt x="318" y="211"/>
                  </a:lnTo>
                  <a:lnTo>
                    <a:pt x="316" y="220"/>
                  </a:lnTo>
                  <a:lnTo>
                    <a:pt x="250" y="220"/>
                  </a:lnTo>
                  <a:lnTo>
                    <a:pt x="244" y="246"/>
                  </a:lnTo>
                  <a:lnTo>
                    <a:pt x="306" y="246"/>
                  </a:lnTo>
                  <a:lnTo>
                    <a:pt x="301" y="261"/>
                  </a:lnTo>
                  <a:lnTo>
                    <a:pt x="294" y="276"/>
                  </a:lnTo>
                  <a:lnTo>
                    <a:pt x="287" y="290"/>
                  </a:lnTo>
                  <a:lnTo>
                    <a:pt x="279" y="302"/>
                  </a:lnTo>
                  <a:lnTo>
                    <a:pt x="220" y="300"/>
                  </a:lnTo>
                  <a:lnTo>
                    <a:pt x="203" y="322"/>
                  </a:lnTo>
                  <a:lnTo>
                    <a:pt x="264" y="322"/>
                  </a:lnTo>
                  <a:lnTo>
                    <a:pt x="258" y="326"/>
                  </a:lnTo>
                  <a:lnTo>
                    <a:pt x="253" y="332"/>
                  </a:lnTo>
                  <a:lnTo>
                    <a:pt x="248" y="337"/>
                  </a:lnTo>
                  <a:lnTo>
                    <a:pt x="242" y="341"/>
                  </a:lnTo>
                  <a:lnTo>
                    <a:pt x="177" y="341"/>
                  </a:lnTo>
                  <a:lnTo>
                    <a:pt x="183" y="337"/>
                  </a:lnTo>
                  <a:lnTo>
                    <a:pt x="190" y="332"/>
                  </a:lnTo>
                  <a:lnTo>
                    <a:pt x="197" y="328"/>
                  </a:lnTo>
                  <a:lnTo>
                    <a:pt x="203" y="322"/>
                  </a:lnTo>
                  <a:lnTo>
                    <a:pt x="220" y="300"/>
                  </a:lnTo>
                  <a:lnTo>
                    <a:pt x="228" y="288"/>
                  </a:lnTo>
                  <a:lnTo>
                    <a:pt x="234" y="275"/>
                  </a:lnTo>
                  <a:lnTo>
                    <a:pt x="240" y="260"/>
                  </a:lnTo>
                  <a:lnTo>
                    <a:pt x="244" y="246"/>
                  </a:lnTo>
                  <a:lnTo>
                    <a:pt x="250" y="220"/>
                  </a:lnTo>
                  <a:lnTo>
                    <a:pt x="251" y="212"/>
                  </a:lnTo>
                  <a:lnTo>
                    <a:pt x="252" y="203"/>
                  </a:lnTo>
                  <a:lnTo>
                    <a:pt x="253" y="195"/>
                  </a:lnTo>
                  <a:lnTo>
                    <a:pt x="254" y="186"/>
                  </a:lnTo>
                  <a:lnTo>
                    <a:pt x="254" y="161"/>
                  </a:lnTo>
                  <a:lnTo>
                    <a:pt x="253" y="147"/>
                  </a:lnTo>
                  <a:lnTo>
                    <a:pt x="252" y="133"/>
                  </a:lnTo>
                  <a:lnTo>
                    <a:pt x="250" y="119"/>
                  </a:lnTo>
                  <a:lnTo>
                    <a:pt x="245" y="108"/>
                  </a:lnTo>
                  <a:lnTo>
                    <a:pt x="234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15720" y="172368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15720" y="194436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5720" y="2164680"/>
              <a:ext cx="1005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641680" y="2362320"/>
            <a:ext cx="7016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217080" indent="-217080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Arial"/>
              </a:rPr>
              <a:t>A mediano y largo plaz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e utilizan en la medida que se pretend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Retener al personal cla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Incrementar el compromiso de los Ejecutiv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Premiar efectivamente el alto desempeñ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Tener un sistema flexible d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linear los intereses de la Dirección con los intereses de los Accionist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85000"/>
              </a:lnSpc>
              <a:spcBef>
                <a:spcPts val="1514"/>
              </a:spcBef>
              <a:buClr>
                <a:srgbClr val="99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segurar el costo de los objetivos a largo plaz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16:40:27Z</dcterms:created>
  <dc:creator>DAVE</dc:creator>
  <dc:description/>
  <dc:language>en-US</dc:language>
  <cp:lastModifiedBy>C.P.C.E.C.A.B.A.</cp:lastModifiedBy>
  <cp:lastPrinted>2001-10-04T21:16:05Z</cp:lastPrinted>
  <dcterms:modified xsi:type="dcterms:W3CDTF">2006-03-29T15:22:11Z</dcterms:modified>
  <cp:revision>136</cp:revision>
  <dc:subject/>
  <dc:title>Flex Benefits for the New Millenni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614120</vt:r8>
  </property>
  <property fmtid="{D5CDD505-2E9C-101B-9397-08002B2CF9AE}" pid="3" name="_AuthorEmail">
    <vt:lpwstr>Hernan.Ventura@WatsonWyatt.com</vt:lpwstr>
  </property>
  <property fmtid="{D5CDD505-2E9C-101B-9397-08002B2CF9AE}" pid="4" name="_AuthorEmailDisplayName">
    <vt:lpwstr>Ventura, Hernan (Buenos Aires)</vt:lpwstr>
  </property>
  <property fmtid="{D5CDD505-2E9C-101B-9397-08002B2CF9AE}" pid="5" name="_EmailSubject">
    <vt:lpwstr>Presentación</vt:lpwstr>
  </property>
</Properties>
</file>