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BUTANE.wav" ContentType="audio/x-wav"/>
  <Override PartName="/ppt/media/AVISO.WAV" ContentType="audio/x-wav"/>
  <Override PartName="/ppt/media/CLASSIC.wav" ContentType="audio/x-wav"/>
  <Override PartName="/ppt/media/image6.jpeg" ContentType="image/jpeg"/>
  <Override PartName="/ppt/media/breeze.wav" ContentType="audio/x-wav"/>
  <Override PartName="/ppt/media/image7.png" ContentType="image/png"/>
  <Override PartName="/ppt/media/click.wav" ContentType="audio/x-wav"/>
  <Override PartName="/ppt/media/type.wav" ContentType="audio/x-wav"/>
  <Override PartName="/ppt/media/arrow.wav" ContentType="audio/x-wav"/>
  <Override PartName="/ppt/media/image5.png" ContentType="image/png"/>
  <Override PartName="/ppt/media/image13.wmf" ContentType="image/x-wmf"/>
  <Override PartName="/ppt/media/image14.jpeg" ContentType="image/jpeg"/>
  <Override PartName="/ppt/media/image2.png" ContentType="image/png"/>
  <Override PartName="/ppt/media/image11.png" ContentType="image/png"/>
  <Override PartName="/ppt/media/HOCKEY.wav" ContentType="audio/x-wav"/>
  <Override PartName="/ppt/media/entrada%20otra.wav" ContentType="audio/x-wav"/>
  <Override PartName="/ppt/media/BAMBOO.wav" ContentType="audio/x-wav"/>
  <Override PartName="/ppt/media/image3.png" ContentType="image/png"/>
  <Override PartName="/ppt/media/image9.gif" ContentType="image/gif"/>
  <Override PartName="/ppt/media/image12.jpeg" ContentType="image/jpeg"/>
  <Override PartName="/ppt/media/image10.gif" ContentType="image/gif"/>
  <Override PartName="/ppt/media/image8.wmf" ContentType="image/x-wmf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872-E666-4465-B540-3B7499CB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DD8-64F5-4843-8B89-F7D9B39E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C3D-0D20-47E6-BC37-B47C1BD0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2B8-BC9E-4126-945B-1BDFCC80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D19-8DD3-4F6F-BB54-8BB82534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1DDC-05CB-4DF5-B05D-885867E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62C5-FBFF-4A04-B926-C9D3A50C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ABE6-748E-45D0-BAA8-65299AF4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C999-E696-43B7-8D15-70DB0422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62E5-E5E1-4EB5-9B1A-49A5031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8DE7-57DB-4D83-918E-CCEFC4A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52A-1A78-4C60-9F9A-B422A4C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32A-7C77-40C3-8060-700D54CC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2307-A084-48B0-B57F-98DE4AA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A04C-78B1-4848-92C7-EC5DC20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C86-2664-455F-94F3-0C4B2C37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88A9-4500-4B04-918D-B2D51B22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437B-CDA0-4EE5-9F4D-0C0E8B36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8746-8F28-4AB7-846E-B48B7CDC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7C4C-1F47-4F63-8615-D2F9B3BA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F774-7F71-460C-AA2D-0B2A4830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E9E8-9182-4023-A92C-93DB4EEF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F7F-050A-464D-B629-1413896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047D-0B49-4FDB-A119-AD01528F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2A30-4BF3-47B2-9D35-C1CB470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34AC-972F-4800-B600-D81FAB1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9FE8-8CF8-4514-9C2B-31EA1E9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4F44-681F-4199-914A-D78F3775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6C66-D00F-47FA-8516-41F953DD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4DE8-882A-4CDE-9650-4C7B50F5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38A-1219-47AA-BE8A-5D51F84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AD3-236B-4FB8-87D3-F0C2426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811-C533-46D7-9B5D-01C2C53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EE8-0F4F-4E1F-A49B-6858765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032-3291-48EC-A08E-953A5D4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6ED-C5C3-4622-8FAA-84A6241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740-F384-4662-B33D-21A658EC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599-86CF-4CC4-A144-724203EC32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F238-03B5-4129-A309-A2C61E6C2A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cpcecf.org.a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click.wav"/><Relationship Id="rId4" Type="http://schemas.openxmlformats.org/officeDocument/2006/relationships/audio" Target="../media/CLASSIC.wav"/><Relationship Id="rId5" Type="http://schemas.openxmlformats.org/officeDocument/2006/relationships/audio" Target="../media/arrow.wav"/><Relationship Id="rId6" Type="http://schemas.openxmlformats.org/officeDocument/2006/relationships/audio" Target="../media/AVISO.WAV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BUTANE.wav"/><Relationship Id="rId8" Type="http://schemas.openxmlformats.org/officeDocument/2006/relationships/audio" Target="../media/typ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TANE.wav"/><Relationship Id="rId3" Type="http://schemas.openxmlformats.org/officeDocument/2006/relationships/audio" Target="../media/BAMBOO.wav"/><Relationship Id="rId4" Type="http://schemas.openxmlformats.org/officeDocument/2006/relationships/audio" Target="../media/BAMBOO.wav"/><Relationship Id="rId5" Type="http://schemas.openxmlformats.org/officeDocument/2006/relationships/audio" Target="../media/BAMBOO.wav"/><Relationship Id="rId6" Type="http://schemas.openxmlformats.org/officeDocument/2006/relationships/audio" Target="../media/BAMBOO.wav"/><Relationship Id="rId7" Type="http://schemas.openxmlformats.org/officeDocument/2006/relationships/audio" Target="../media/BAMBOO.wav"/><Relationship Id="rId8" Type="http://schemas.openxmlformats.org/officeDocument/2006/relationships/audio" Target="../media/BAMBOO.wav"/><Relationship Id="rId9" Type="http://schemas.openxmlformats.org/officeDocument/2006/relationships/audio" Target="../media/BAMBOO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TAN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audio" Target="../media/AVISO.WAV"/><Relationship Id="rId5" Type="http://schemas.openxmlformats.org/officeDocument/2006/relationships/audio" Target="../media/AVISO.WAV"/><Relationship Id="rId6" Type="http://schemas.openxmlformats.org/officeDocument/2006/relationships/audio" Target="../media/entrada%20ot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HOCKEY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type.wav"/><Relationship Id="rId3" Type="http://schemas.openxmlformats.org/officeDocument/2006/relationships/audio" Target="../media/CLASSIC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-316080"/>
            <a:ext cx="9143640" cy="2276280"/>
            <a:chOff x="0" y="-316080"/>
            <a:chExt cx="9143640" cy="22762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9080" y="49680"/>
              <a:ext cx="1317960" cy="13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253520" y="49680"/>
              <a:ext cx="330084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548240" y="49680"/>
              <a:ext cx="459540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19080" y="1426320"/>
              <a:ext cx="3805920" cy="5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0" y="-316080"/>
              <a:ext cx="1340640" cy="39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212480" y="-316080"/>
              <a:ext cx="7907760" cy="398880"/>
            </a:xfrm>
            <a:prstGeom prst="rect">
              <a:avLst/>
            </a:prstGeom>
            <a:solidFill>
              <a:srgbClr val="0000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90360" y="2881080"/>
            <a:ext cx="8926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bbe0e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Verdana"/>
              </a:rPr>
              <a:t>Cómo brindamos un mejor servicio a la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Verdana"/>
              </a:rPr>
              <a:t>El Consejo al servicio del Sín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539424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r. C. P. Domingo O. Rodrígu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5877000"/>
            <a:ext cx="396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dente de la  Comisión de Actuación Profesional en Procesos Concu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str">
                                      <p:cBhvr additive="repl">
                                        <p:cTn id="3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76360" y="36360"/>
            <a:ext cx="6048360" cy="520560"/>
          </a:xfrm>
          <a:prstGeom prst="rect">
            <a:avLst/>
          </a:prstGeom>
          <a:solidFill>
            <a:srgbClr val="d28ab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DEL CONS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84360"/>
            <a:ext cx="88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sesores técnic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ursos y Quiebras: Dra. Abogada María C. Pan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r. C.P. Marcelo Villol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tros asesores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emas fiscales, societarios, labora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0" y="2997360"/>
            <a:ext cx="914400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stema de Control Profesional en la Justi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edor: Dr. C.P. Luis Eduardo Delpi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sultas página web del Consej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pcecf.org.a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Área Temática: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Actuación Judicial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–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Sorteo de Síndicos Concursales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3910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formát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ormatización arts. 35 y 39 LC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E UTILIDAD PARA LOS SINDICO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00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ahoma"/>
              </a:rPr>
              <a:t>Ley de Concursos Vigen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1995 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4.5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6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Refor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1997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4.760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Factura de cré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1998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4.764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Empresas Privatiz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1999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111 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Contratos de Maqu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0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284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Entidades deportiv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0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374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Concurso de Mutu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1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563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forma: </a:t>
            </a:r>
            <a:r>
              <a:rPr b="0" i="1" lang="es-ES" sz="2000" spc="-1" strike="noStrike">
                <a:solidFill>
                  <a:srgbClr val="ffffff"/>
                </a:solidFill>
                <a:latin typeface="Century Gothic"/>
              </a:rPr>
              <a:t>no ri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1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589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Contrareforma: vig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3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750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Patrimonios cultu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4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5.972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Tasa de Justicia </a:t>
            </a:r>
            <a:r>
              <a:rPr b="0" lang="es-ES" sz="1700" spc="-1" strike="noStrike">
                <a:solidFill>
                  <a:srgbClr val="ffffff"/>
                </a:solidFill>
                <a:latin typeface="Century Gothic"/>
              </a:rPr>
              <a:t>(vigente para concursos anteriores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…….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Fuero de atracción y otros tem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DE UTILIDAD PARA LOS SINDICO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 u="sng">
                <a:solidFill>
                  <a:srgbClr val="ffffff"/>
                </a:solidFill>
                <a:uFillTx/>
                <a:latin typeface="Tahoma"/>
              </a:rPr>
              <a:t>Normas Complementaria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RG 790 AFIP y sus reforma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RG 1916 AFIP: tasa de justicia – planes de pag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RG 1975 AFIP y normas similares del GCBA y Provincias: notificación de Concursos y Quiebra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Reglamento de la Justicia Comercial: novedades sobre Informatización arts. 35 y 39 LCQ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Honorarios mínimos en Concursos y Quiebras , certificación de la Excma. Cámara Comerci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entury Gothic"/>
              </a:rPr>
              <a:t>Ley 1181 CABA: CASSABA: aport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Courier New"/>
              </a:rPr>
              <a:t>LAS NOVEDADES SE PUBLICAN EN NUESTRA PAGIN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684360" y="-109440"/>
            <a:ext cx="10009440" cy="6967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2060640"/>
            <a:ext cx="7344000" cy="45370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 Old Face"/>
              </a:rPr>
              <a:t>La sociedad desea que los magistrados, abogados, síndicos y otros auxiliares de la justicia actúen no sólo como profesionales bien capacitados y eficientes, se espera de ellos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 Old Face"/>
              </a:rPr>
              <a:t>La ética (palabra olvidada en los planes de estudio de nuestras universidades) debe ir más allá de los discursos y de declamaciones públicas, debe ser  un                          inseparable en la actuación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89000"/>
            <a:ext cx="32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 Rounded MT Bold"/>
              </a:rPr>
              <a:t>ET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386064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Baskerville Old Face"/>
              </a:rPr>
              <a:t>actuación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5516640"/>
            <a:ext cx="25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Baskerville Old Face"/>
              </a:rPr>
              <a:t>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8351 -0.35695 E">
                                      <p:cBhvr>
                                        <p:cTn id="59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60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61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1840" cy="6856560"/>
            <a:chOff x="0" y="0"/>
            <a:chExt cx="9141840" cy="6856560"/>
          </a:xfrm>
        </p:grpSpPr>
        <p:pic>
          <p:nvPicPr>
            <p:cNvPr id="203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1840" cy="48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>
              <a:lum bright="70000" contrast="-70000"/>
            </a:blip>
            <a:srcRect l="0" t="0" r="65779" b="-5482"/>
            <a:stretch/>
          </p:blipFill>
          <p:spPr>
            <a:xfrm>
              <a:off x="0" y="4865760"/>
              <a:ext cx="9096840" cy="19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820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Comisión de actuación profesional en procesos concurs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Berlin Sans FB"/>
              </a:rPr>
              <a:t>“</a:t>
            </a:r>
            <a:r>
              <a:rPr b="1" lang="en-US" sz="3200" spc="-1" strike="noStrike">
                <a:solidFill>
                  <a:srgbClr val="009999"/>
                </a:solidFill>
                <a:latin typeface="Berlin Sans FB"/>
              </a:rPr>
              <a:t>VALOR AGREGADO QUE DAN LAS COMISI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3716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Gussoni 16/12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5157720"/>
            <a:ext cx="8281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3399"/>
                </a:solidFill>
                <a:latin typeface="Comic Sans MS"/>
              </a:rPr>
              <a:t>EL RINCÓN DE LOS SÍNDICOS</a:t>
            </a: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7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S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0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260280"/>
            <a:ext cx="6558120" cy="98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OBJETIVOS Y FUNCIONES DE LA CO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700280"/>
            <a:ext cx="9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studiar y dar a conocer su opinión sobre los siguientes te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205000"/>
            <a:ext cx="889308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Concursales, preconcursales y de las empresas en cri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Interpretaciones y/o modificaciones de la Ley de Concursos y de Leyes y/o normas vinculadas y mantener actualizado un proyecto de reformas a dicha l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Actuación profesional en el ámbito de la Sindicatura Concursal y en el asesoramiento a empresas en crisis, en concurso o preconcur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Régimen de designación de Síndicos y su desempeñ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El estudio de las cuestiones relacionadas con Intervenciones, Liquidaciones Judiciales, Co-Administración de Quiebras y otras tareas judiciales que puedan surgir como derivadas del Síndico Concur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11160"/>
            <a:ext cx="9396360" cy="68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Dictámenes solicitados por la Mesa Dir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Informes sobre temas específicos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Investigación: legislación, doctrina, jurisprudencia, proyectos de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Defensa profesional: denuncias, honorari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Organización de actos acad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Coordinación de actividades con otr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Publicaciones:  - Cuadernos Profesionales Nº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- “El informe general del Síndico Concurs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-  El informe individual del síndico: a preparar en el añ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-  Recopilación de fallos (llegamos al Nº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- Página del CPCECABA  </a:t>
            </a:r>
            <a:r>
              <a:rPr b="1" i="1" lang="es-ES" sz="1800" spc="-1" strike="noStrike">
                <a:solidFill>
                  <a:srgbClr val="ffffff"/>
                </a:solidFill>
                <a:latin typeface="Arial Rounded MT Bold"/>
              </a:rPr>
              <a:t>“Actuación Judi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- Novedades legislativas: proyectos y  nuevas norm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(llegamos al Nº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0"/>
            <a:ext cx="6558120" cy="98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Qué hace la comisión?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MB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9640" y="1700280"/>
          <a:ext cx="8209080" cy="4056120"/>
        </p:xfrm>
        <a:graphic>
          <a:graphicData uri="http://schemas.openxmlformats.org/drawingml/2006/table">
            <a:tbl>
              <a:tblPr/>
              <a:tblGrid>
                <a:gridCol w="3384720"/>
                <a:gridCol w="2435040"/>
                <a:gridCol w="23893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i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d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sl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iel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Laulet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isprud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Villol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Ca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a profes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S. Akosk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Montelvet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s fisc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 Estev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o Be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Manfre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Kiper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. académ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Kalomys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Tor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2700360" y="3333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04640"/>
            <a:ext cx="6558120" cy="98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A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340000" y="1268280"/>
            <a:ext cx="4968720" cy="4695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5013360"/>
            <a:ext cx="7632720" cy="1114200"/>
          </a:xfrm>
          <a:custGeom>
            <a:avLst/>
            <a:gdLst>
              <a:gd name="textAreaLeft" fmla="*/ 0 w 7632720"/>
              <a:gd name="textAreaRight" fmla="*/ 7633080 w 7632720"/>
              <a:gd name="textAreaTop" fmla="*/ 144360 h 1114200"/>
              <a:gd name="textAreaBottom" fmla="*/ 969840 h 1114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544c72"/>
              </a:gs>
              <a:gs pos="50000">
                <a:srgbClr val="b8a6f8"/>
              </a:gs>
              <a:gs pos="100000">
                <a:srgbClr val="544c7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uhaus 93"/>
              </a:rPr>
              <a:t>Están todos invitados a participar, aportar y compartir la “sufrida” familia sin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404640"/>
            <a:ext cx="849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MO INSCRIBIRS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unicarse con la Asesora Técnica de la Comisión Dra. C.P.  Amalia V.B. de B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382-9262 balla@cponline.org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708280"/>
            <a:ext cx="878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UNIONES PLENARIAS DE LA COMISIÓ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ndo martes de cada mes (marzo – diciembre)18.30 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912000" y="990720"/>
            <a:ext cx="248436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ntrada%20ot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4000" cy="532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50920" y="2637000"/>
            <a:ext cx="860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UALIZACION PROFESION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150"/>
                            </p:stCondLst>
                            <p:childTnLst>
                              <p:par>
                                <p:cTn id="29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8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3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C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4000" cy="532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635280" y="0"/>
            <a:ext cx="2087640" cy="785520"/>
          </a:xfrm>
          <a:prstGeom prst="rect">
            <a:avLst/>
          </a:prstGeom>
          <a:solidFill>
            <a:srgbClr val="a9e1f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20640"/>
            <a:ext cx="9144000" cy="80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b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19/04/06 – Taller:  </a:t>
            </a: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“Verificación de créditos fiscales 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es-ES" sz="2200" spc="-1" strike="noStrike">
                <a:solidFill>
                  <a:srgbClr val="ffffff"/>
                </a:solidFill>
                <a:latin typeface="Arial"/>
              </a:rPr>
              <a:t>prevision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En preparación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harlas debates: mensuales mayo a 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Talleres: mensuales mayo a 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IV Jornada de Jurisprudencia para Síndicos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(fecha a fij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Jornadas interdisciplina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scuela de Educación Continuada (EEC): circulares                      (E-mail: </a:t>
            </a: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of_académica@cponline.org.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27/04, 18/05, 22/06 y 27/07 (jueves mensual, 18-20 hs)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ctualización mensual para Síndicos Concurs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4000" cy="5327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158920" y="141120"/>
            <a:ext cx="511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IZACIO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57360"/>
            <a:ext cx="9144000" cy="67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VIII Jornadas de Actuación Judicial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  y 15 de juni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49360"/>
            <a:ext cx="1000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ALGUNOS EVENTOS RELEVANTES DE ESTE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1052640"/>
            <a:ext cx="5977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LEGIO DE GRADUADOS EN CC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22050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cc00"/>
                </a:solidFill>
                <a:uFillTx/>
                <a:latin typeface="Bookman Old Style"/>
              </a:rPr>
              <a:t>colegio@cgce.com.ar/cursos@cgce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565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CE PROV DE BS AS – DELEGACION AVELLANE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823680" y="2923560"/>
            <a:ext cx="78613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I Jornada Bonaerense de Sindicatura Concu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9 y 30 de juni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4724280"/>
            <a:ext cx="817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I Congreso Nacional de Derecho Concursal y                     IV Congreso Iberoamericano de la Insolv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sario, 27, 28 y 29 de septiembre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5805360"/>
            <a:ext cx="87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urier New"/>
              </a:rPr>
              <a:t>AGENDA ANUAL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 prepa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podrá consultar próximamente en nuestra pági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3645000"/>
            <a:ext cx="83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CE UNIVERSIDAD NACIONAL DE CUYO y otr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3933720"/>
            <a:ext cx="67690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rnadas de Derecho Concur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9 y 30 de juni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701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01"/>
                            </p:stCondLst>
                            <p:childTnLst>
                              <p:par>
                                <p:cTn id="412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S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201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3:56Z</dcterms:created>
  <dc:creator>Fernanda</dc:creator>
  <dc:description/>
  <dc:language>en-US</dc:language>
  <cp:lastModifiedBy>Rodriguez y Mendoza</cp:lastModifiedBy>
  <dcterms:modified xsi:type="dcterms:W3CDTF">2006-03-28T19:49:05Z</dcterms:modified>
  <cp:revision>51</cp:revision>
  <dc:subject/>
  <dc:title>Comisión de actualización profesional en procesos concurs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6131101</vt:r8>
  </property>
  <property fmtid="{D5CDD505-2E9C-101B-9397-08002B2CF9AE}" pid="3" name="_AuthorEmail">
    <vt:lpwstr>drodriguez1@cponline.org.ar</vt:lpwstr>
  </property>
  <property fmtid="{D5CDD505-2E9C-101B-9397-08002B2CF9AE}" pid="4" name="_AuthorEmailDisplayName">
    <vt:lpwstr>Domingo O. Rodriguez</vt:lpwstr>
  </property>
  <property fmtid="{D5CDD505-2E9C-101B-9397-08002B2CF9AE}" pid="5" name="_EmailSubject">
    <vt:lpwstr>presentacion 29-03</vt:lpwstr>
  </property>
</Properties>
</file>