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0AC-D806-4793-AF55-C04CBD8F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A84-744E-41D6-9F21-2D65E1C6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6866-9800-44A8-8D20-DDF56238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E5FE-D2BD-4B36-A6DD-AF8FEF16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923-4F21-4F77-B336-16B9BF2B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8FD-E98B-4B4A-B437-AED47ADF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53F-0486-49B9-ACB2-14D68CB2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EB65-AA9B-44DC-BA7B-7380440A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51FE-53A3-40FB-85F3-DB46B6FF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5878-C9FD-4AE0-91A9-46FAE3E6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A5A-75DD-4E43-84EE-51CA1B6E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4FCF-D1AA-4A96-A0C8-3C51E2CF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FE91-5F0F-4F27-942D-95F3695A0E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549000"/>
            <a:ext cx="84200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93366"/>
                </a:solidFill>
                <a:latin typeface="Verdana"/>
              </a:rPr>
              <a:t>Informe General</a:t>
            </a:r>
            <a:br>
              <a:rPr sz="3600"/>
            </a:br>
            <a:br>
              <a:rPr sz="3600"/>
            </a:br>
            <a:r>
              <a:rPr b="1" i="1" lang="es-ES" sz="2400" spc="-1" strike="noStrike">
                <a:solidFill>
                  <a:srgbClr val="333399"/>
                </a:solidFill>
                <a:latin typeface="Verdana"/>
              </a:rPr>
              <a:t>inc.1: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causas del desequilibri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5720" y="2492280"/>
            <a:ext cx="69339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asos sugeridos para su elaboración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º)  inc. 4 art. 39 L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º)  inc. 2 art. 11 L.C.: no vincu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º)  breve reseña de la evolución de la   deu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º)  análisis económico y financier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dicadores+explicación+infracapit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257960" y="2708280"/>
            <a:ext cx="181476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00cc"/>
                </a:solidFill>
                <a:latin typeface="Verdana"/>
              </a:rPr>
              <a:t>Inc. 9:</a:t>
            </a:r>
            <a:r>
              <a:rPr b="1" lang="es-ES" sz="2400" spc="-1" strike="noStrike">
                <a:solidFill>
                  <a:srgbClr val="6600cc"/>
                </a:solidFill>
                <a:latin typeface="Verdana"/>
              </a:rPr>
              <a:t> clasificación de los acreedores efectuada por el deu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341000"/>
            <a:ext cx="8915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cc"/>
                </a:solidFill>
                <a:latin typeface="Verdana"/>
              </a:rPr>
              <a:t>Categorías mínimas</a:t>
            </a:r>
            <a:r>
              <a:rPr b="0" lang="es-ES" sz="2000" spc="-1" strike="noStrike">
                <a:solidFill>
                  <a:srgbClr val="6600cc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6600cc"/>
                </a:solidFill>
                <a:latin typeface="Arial"/>
              </a:rPr>
              <a:t> quirografarios,  quirografarios laborales 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cc"/>
                </a:solidFill>
                <a:latin typeface="Arial"/>
              </a:rPr>
              <a:t>                                                </a:t>
            </a:r>
            <a:r>
              <a:rPr b="0" lang="es-ES" sz="1800" spc="-1" strike="noStrike">
                <a:solidFill>
                  <a:srgbClr val="6600cc"/>
                </a:solidFill>
                <a:latin typeface="Arial"/>
              </a:rPr>
              <a:t>privilegiados</a:t>
            </a:r>
            <a:r>
              <a:rPr b="1" lang="es-E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6600cc"/>
                </a:solidFill>
                <a:latin typeface="Arial"/>
              </a:rPr>
              <a:t>+</a:t>
            </a:r>
            <a:r>
              <a:rPr b="1" lang="es-E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6600cc"/>
                </a:solidFill>
                <a:latin typeface="Arial"/>
              </a:rPr>
              <a:t>subordi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cc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cc"/>
                </a:solidFill>
                <a:latin typeface="Verdana"/>
              </a:rPr>
              <a:t>Síndico debe</a:t>
            </a:r>
            <a:r>
              <a:rPr b="0" lang="es-ES" sz="18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es-ES" sz="2000" spc="-1" strike="noStrike">
                <a:solidFill>
                  <a:srgbClr val="6600cc"/>
                </a:solidFill>
                <a:latin typeface="Verdana"/>
              </a:rPr>
              <a:t>opin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cc"/>
                </a:solidFill>
                <a:latin typeface="Arial"/>
              </a:rPr>
              <a:t>sobre exhaustiv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cc"/>
                </a:solidFill>
                <a:latin typeface="Arial"/>
              </a:rPr>
              <a:t>corrección de los nombres de los acreedores, montos de sus acreencias y pertinencia de su inclusión en cada cl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cc"/>
                </a:solidFill>
                <a:latin typeface="Verdana"/>
              </a:rPr>
              <a:t>Síndico no debe:</a:t>
            </a:r>
            <a:r>
              <a:rPr b="0" lang="es-ES" sz="2000" spc="-1" strike="noStrike">
                <a:solidFill>
                  <a:srgbClr val="6600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6600cc"/>
                </a:solidFill>
                <a:latin typeface="Arial"/>
              </a:rPr>
              <a:t>-  opina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cc"/>
                </a:solidFill>
                <a:latin typeface="Arial"/>
              </a:rPr>
              <a:t>sobre conveniencia / inconveniencia de la categor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cc"/>
                </a:solidFill>
                <a:latin typeface="Arial"/>
              </a:rPr>
              <a:t>si no existen quirografarios laborales (y no se categorizan condicionales por eventuales renuncias de privilegios laborales) y deudora  no plantea propuesta para privilegi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6600cc"/>
                </a:solidFill>
                <a:latin typeface="Arial"/>
              </a:rPr>
              <a:t>-  modific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6600cc"/>
                </a:solidFill>
                <a:latin typeface="Arial"/>
              </a:rPr>
              <a:t>-  suplir la falta de la presentación por parte de deu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00cc"/>
                </a:solidFill>
                <a:latin typeface="Verdana"/>
              </a:rPr>
              <a:t>Inc. 10:</a:t>
            </a:r>
            <a:r>
              <a:rPr b="1" lang="es-ES" sz="2400" spc="-1" strike="noStrike">
                <a:solidFill>
                  <a:srgbClr val="6600cc"/>
                </a:solidFill>
                <a:latin typeface="Verdana"/>
              </a:rPr>
              <a:t> ¿existe concentración económica </a:t>
            </a:r>
            <a:br>
              <a:rPr sz="2400"/>
            </a:br>
            <a:r>
              <a:rPr b="1" lang="es-ES" sz="2400" spc="-1" strike="noStrike">
                <a:solidFill>
                  <a:srgbClr val="6600cc"/>
                </a:solidFill>
                <a:latin typeface="Verdana"/>
              </a:rPr>
              <a:t>en violación a la Ley de Defensa de la Competencia (LDC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as preguntas que el síndico debe responder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¿hay fusión? ¿transferencias de fondos de comercio? ¿una sociedad controla a otra?, etc.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 s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ometer la cuestión a los parámetros cuantitativos de la LD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ción por no notific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ulta de hasta $ 1.000.000 diari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yuntiva sind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ormar en el Informe General o, además, solicitar al Tribunal la notificación al de la D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ÍTIC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incronía. ¿Y la propuesta o la liquidación en la quiebra ? Los Antecedentes Parlamentarios de la LC 25.589 se refieren 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amdow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33399"/>
                </a:solidFill>
                <a:latin typeface="Impact"/>
              </a:rPr>
              <a:t>¿ Intercambiamos  idea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Bookman Old Style"/>
              </a:rPr>
              <a:t>Gra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99"/>
                </a:solidFill>
                <a:latin typeface="Bookman Old Style"/>
              </a:rPr>
              <a:t>Muchas  graci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33ff"/>
                </a:solidFill>
                <a:latin typeface="Verdana"/>
              </a:rPr>
              <a:t>inc. 2:</a:t>
            </a:r>
            <a:r>
              <a:rPr b="1" lang="es-ES" sz="2400" spc="-1" strike="noStrike">
                <a:solidFill>
                  <a:srgbClr val="9933ff"/>
                </a:solidFill>
                <a:latin typeface="Verdana"/>
              </a:rPr>
              <a:t> composición detallada del activo a V.P.R. de      cada rubro + intan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784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9900cc"/>
                </a:solidFill>
                <a:uFillTx/>
                <a:latin typeface="Verdana"/>
              </a:rPr>
              <a:t>Fuentes de información</a:t>
            </a:r>
            <a:r>
              <a:rPr b="0" lang="es-ES" sz="2000" spc="-1" strike="noStrike">
                <a:solidFill>
                  <a:srgbClr val="9900cc"/>
                </a:solidFill>
                <a:latin typeface="Verdana"/>
              </a:rPr>
              <a:t>: inventario, expediente,infor- mes de dominio, estado contable posconcursal, pedi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cc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9900cc"/>
                </a:solidFill>
                <a:latin typeface="Verdana"/>
              </a:rPr>
              <a:t>didos de verificación de créditos.  Si quiebra: +  AFIP (levantamiento secreto fiscal)   y  correspondencia intercept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9900cc"/>
                </a:solidFill>
                <a:uFillTx/>
                <a:latin typeface="Verdana"/>
              </a:rPr>
              <a:t>Fecha de corte</a:t>
            </a:r>
            <a:r>
              <a:rPr b="0" lang="es-ES" sz="2000" spc="-1" strike="noStrike">
                <a:solidFill>
                  <a:srgbClr val="9900cc"/>
                </a:solidFill>
                <a:latin typeface="Verdana"/>
              </a:rPr>
              <a:t>: lo más cercana posible a la fecha de presentación del Informe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9900cc"/>
                </a:solidFill>
                <a:uFillTx/>
                <a:latin typeface="Verdana"/>
              </a:rPr>
              <a:t>Criterio de valuación</a:t>
            </a:r>
            <a:r>
              <a:rPr b="0" lang="es-ES" sz="2000" spc="-1" strike="noStrike">
                <a:solidFill>
                  <a:srgbClr val="9900cc"/>
                </a:solidFill>
                <a:latin typeface="Verdana"/>
              </a:rPr>
              <a:t>: V.P.R. por rubro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cc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9900cc"/>
                </a:solidFill>
                <a:latin typeface="Verdana"/>
              </a:rPr>
              <a:t>Subasta judicial. Controver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9900cc"/>
                </a:solidFill>
                <a:uFillTx/>
                <a:latin typeface="Verdana"/>
              </a:rPr>
              <a:t>Intangibles</a:t>
            </a:r>
            <a:r>
              <a:rPr b="0" lang="es-ES" sz="20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9900cc"/>
                </a:solidFill>
                <a:latin typeface="Wingdings"/>
                <a:ea typeface="Wingdings"/>
              </a:rPr>
              <a:t></a:t>
            </a:r>
            <a:r>
              <a:rPr b="0" lang="es-ES" sz="2000" spc="-1" strike="noStrike">
                <a:solidFill>
                  <a:srgbClr val="9900cc"/>
                </a:solidFill>
                <a:latin typeface="Verdana"/>
              </a:rPr>
              <a:t>aptitud para generar ganancias / super  utilidades futu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65960" y="3645000"/>
            <a:ext cx="1295280" cy="1439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cc"/>
                </a:solidFill>
                <a:latin typeface="Verdana"/>
              </a:rPr>
              <a:t>inc. 3:</a:t>
            </a:r>
            <a:r>
              <a:rPr b="1" lang="es-ES" sz="2400" spc="-1" strike="noStrike">
                <a:solidFill>
                  <a:srgbClr val="0000cc"/>
                </a:solidFill>
                <a:latin typeface="Verdana"/>
              </a:rPr>
              <a:t> composición pasivo: resolución art. 36 LC. + pasivo denunciado y no peticionante de verif.+ pasivos según libros no incluidos 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989000"/>
            <a:ext cx="8915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6600cc"/>
                </a:solidFill>
                <a:uFillTx/>
                <a:latin typeface="Verdana"/>
              </a:rPr>
              <a:t>Fecha de corte</a:t>
            </a:r>
            <a:r>
              <a:rPr b="1" i="1" lang="es-ES" sz="2800" spc="-1" strike="noStrike">
                <a:solidFill>
                  <a:srgbClr val="6600cc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6600cc"/>
                </a:solidFill>
                <a:latin typeface="Verdana"/>
              </a:rPr>
              <a:t>Concurso preventivo o conversión:</a:t>
            </a:r>
            <a:r>
              <a:rPr b="0" lang="es-ES" sz="2800" spc="-1" strike="noStrike">
                <a:solidFill>
                  <a:srgbClr val="6600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cc"/>
                </a:solidFill>
                <a:latin typeface="Verdana"/>
              </a:rPr>
              <a:t>    </a:t>
            </a:r>
            <a:r>
              <a:rPr b="1" lang="es-ES" sz="2000" spc="-1" strike="noStrike">
                <a:solidFill>
                  <a:srgbClr val="6600cc"/>
                </a:solidFill>
                <a:latin typeface="Verdana"/>
              </a:rPr>
              <a:t>primera presentación de art. 11 L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6600cc"/>
                </a:solidFill>
                <a:latin typeface="Verdana"/>
              </a:rPr>
              <a:t>Quiebra:</a:t>
            </a:r>
            <a:r>
              <a:rPr b="0" lang="es-ES" sz="2800" spc="-1" strike="noStrike">
                <a:solidFill>
                  <a:srgbClr val="6600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cc"/>
                </a:solidFill>
                <a:latin typeface="Verdana"/>
              </a:rPr>
              <a:t>fecha del decreto de quie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00cc"/>
                </a:solidFill>
                <a:latin typeface="Verdana"/>
              </a:rPr>
              <a:t>¡ Cuidado con la fecha !</a:t>
            </a: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4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Verdana"/>
              </a:rPr>
              <a:t>Inc. 4: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dictamen libros de contabilidad s/ arts. 43, 44 y 51 C.Comercio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341360"/>
            <a:ext cx="89154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Además d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.Comercio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Art. 33, inc. 2: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uniform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Art. 45: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asientos diarios en el Diario y por global gtos. Men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Art. 48: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Libro inventarios. Fir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Art. 53: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Libros indispensables: encuadernados, foliados y rubri -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Art. 54: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Prohibido: asientos en orden no progresivo; blancos; in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terlineaciones, raspaduras, enmiendas; tachar; arrancar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ho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Art. 66: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libros en idioma nacional y de la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ey de Sociedades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Art. 61: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excepción art. 53 CCom. </a:t>
            </a:r>
            <a:r>
              <a:rPr b="0" lang="es-E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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autorización adm. o jud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ff33cc"/>
                </a:solidFill>
                <a:latin typeface="Impact"/>
              </a:rPr>
              <a:t>¡ D  i  s  c  u  l  p  a  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2" dur="1" fill="hold"/>
                                  <p:tgtEl>
                                    <p:spTgt spid="5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00cc"/>
                </a:solidFill>
                <a:latin typeface="Verdana"/>
              </a:rPr>
              <a:t>Inc. 5:</a:t>
            </a:r>
            <a:r>
              <a:rPr b="1" lang="es-ES" sz="2000" spc="-1" strike="noStrike">
                <a:solidFill>
                  <a:srgbClr val="6600cc"/>
                </a:solidFill>
                <a:latin typeface="Verdana"/>
              </a:rPr>
              <a:t> inscripciones deudor (contrato soc. y modifs.) y nom bre y domicilio de administradores y socios con responsabi- lidad limit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Primera par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99"/>
                </a:solidFill>
                <a:uFillTx/>
                <a:latin typeface="Arial"/>
              </a:rPr>
              <a:t>Persona física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DNI, CUIT / CUIL, ANA, CNV, RPC, Consejo o Colegio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99"/>
                </a:solidFill>
                <a:uFillTx/>
                <a:latin typeface="Arial"/>
              </a:rPr>
              <a:t>Soc. constituida regularmente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fecha const., nº y fecha de regist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99"/>
                </a:solidFill>
                <a:uFillTx/>
                <a:latin typeface="Arial"/>
              </a:rPr>
              <a:t>Soc. no constituida regularmente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fecha del instrumento constitutivo y eventuales modifs.e inscrip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cc"/>
                </a:solidFill>
                <a:latin typeface="Verdana"/>
              </a:rPr>
              <a:t>Continuación </a:t>
            </a:r>
            <a:r>
              <a:rPr b="1" i="1" lang="es-ES" sz="2400" spc="-1" strike="noStrike">
                <a:solidFill>
                  <a:srgbClr val="6600cc"/>
                </a:solidFill>
                <a:latin typeface="Verdana"/>
              </a:rPr>
              <a:t>inc. 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99ff"/>
                </a:solidFill>
                <a:latin typeface="Arial"/>
              </a:rPr>
              <a:t>Segunda par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00cc"/>
                </a:solidFill>
                <a:latin typeface="Arial"/>
              </a:rPr>
              <a:t>Socios:</a:t>
            </a:r>
            <a:r>
              <a:rPr b="0" lang="es-ES" sz="3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Arial"/>
              </a:rPr>
              <a:t>colectiva, comanditados de SCS, capi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Arial"/>
              </a:rPr>
              <a:t>talistas de C &amp; I y comanditados de S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00cc"/>
                </a:solidFill>
                <a:latin typeface="Arial"/>
              </a:rPr>
              <a:t>Interpretación ampli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cc"/>
                </a:solidFill>
                <a:latin typeface="Arial"/>
              </a:rPr>
              <a:t>págs. 38 / 40 del Cuaderno Profesional nº 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5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Verdana"/>
              </a:rPr>
              <a:t>Inc. 6: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época de cesación de pa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la práctica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ía-mes-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orías diver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curso preventiv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en principio las observacio -   nes al Informe General no se sustanc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Quieb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trámite del art. 117 LC.  El síndico puede modificar fecha cesación de pagos informada en concurso por contar en la quiebra con &lt; inform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ímite de retroacción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2 años desde auto de quiebra o presentación en concurso preventivo (art. 116 L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mportancia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origen del período de sospecha de la quiebra =&gt;arts. 118/120; 149, 160, 173/174 y 236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00cc"/>
                </a:solidFill>
                <a:latin typeface="Verdana"/>
              </a:rPr>
              <a:t>Inc. 7:</a:t>
            </a:r>
            <a:r>
              <a:rPr b="1" lang="es-ES" sz="20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6600cc"/>
                </a:solidFill>
                <a:latin typeface="Verdana"/>
              </a:rPr>
              <a:t>¿ los socios realizaron regularmente sus aportes?</a:t>
            </a:r>
            <a:br>
              <a:rPr sz="2400"/>
            </a:br>
            <a:r>
              <a:rPr b="1" lang="es-ES" sz="2400" spc="-1" strike="noStrike">
                <a:solidFill>
                  <a:srgbClr val="6600cc"/>
                </a:solidFill>
                <a:latin typeface="Verdana"/>
              </a:rPr>
              <a:t>Si  no =&gt; responsabilidad patrimon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cio en mora desde vto. del plazo o inscripción de la sociedad: art. 37 LS. =&gt; daños +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scriptor moroso: art. 193 LS =&gt; gtos., intereses moratorios y d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RL y CS en quiebra: acreedores pueden impugnar aporte dentro de los 5 años, salvo si valuación judicial: art. 51 L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orte de fondo de comercio: acción de inoponibilidad por infracción a la Ley 11.867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bbbb"/>
            </a:gs>
            <a:gs pos="50000">
              <a:srgbClr val="ff99ff"/>
            </a:gs>
            <a:gs pos="100000">
              <a:srgbClr val="47bbb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Verdana"/>
              </a:rPr>
              <a:t>Inc. 8: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ctos susceptibles de revocación: arts. 118 y 119 L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Art. 118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actos ineficaces de pleno derecho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Art. 119: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actos ineficaces por conocimiento de la cesación de pa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333399"/>
                </a:solidFill>
                <a:latin typeface="Arial"/>
              </a:rPr>
              <a:t>Todos posteriores a la fecha inicial de cesación de pagos del inc. 6 Informe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Posturas en el concurso prevent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Mayoritaria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l síndico sólo debe informar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Minoritaria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idem anterior + iniciar acción (Rive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00:50:23Z</dcterms:created>
  <dc:creator>USUARIO</dc:creator>
  <dc:description/>
  <dc:language>en-US</dc:language>
  <cp:lastModifiedBy>USUARIO</cp:lastModifiedBy>
  <dcterms:modified xsi:type="dcterms:W3CDTF">2006-03-30T04:15:29Z</dcterms:modified>
  <cp:revision>20</cp:revision>
  <dc:subject/>
  <dc:title>Informe General inc. 1: causas del desequilibrio económico</dc:title>
</cp:coreProperties>
</file>