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4EC-12BA-4307-B5A7-7CA2405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C0E-4A99-4D57-8BD8-96616D3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AD6-FCF1-417C-97F4-8C7A1935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911-F310-4937-B03B-E415E816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639-7945-4B21-92E5-BAB6B448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120-7C0C-442E-AA61-F02E8BCC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187-558C-4AAB-A981-1730FEC1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E23-AE52-4373-8AC6-EE92A0DC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70E-6358-4BFB-852D-51E9FA9B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D3D-F821-48DD-87DA-BAF1361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DDA-1582-4E04-B1BE-F61779E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269-BA35-4609-829A-C561F95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015-0EB3-4915-9080-7C1522A70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O NACIONAL DE BAS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77800" y="4365360"/>
            <a:ext cx="561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LA INSCRIP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43160" y="1397160"/>
          <a:ext cx="541980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1397160"/>
                    <a:ext cx="54198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41600" y="1125360"/>
          <a:ext cx="664200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125360"/>
                    <a:ext cx="664200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82560" y="1197000"/>
          <a:ext cx="71312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1197000"/>
                    <a:ext cx="71312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16120" y="1108080"/>
          <a:ext cx="6549840" cy="49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108080"/>
                    <a:ext cx="654984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03360" y="1090440"/>
          <a:ext cx="705492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090440"/>
                    <a:ext cx="705492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47720" y="1177920"/>
          <a:ext cx="68421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177920"/>
                    <a:ext cx="68421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27040" y="1035000"/>
          <a:ext cx="712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035000"/>
                    <a:ext cx="712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04800" y="1035000"/>
          <a:ext cx="712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035000"/>
                    <a:ext cx="712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IO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4365720"/>
            <a:ext cx="725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ww.jus.gov.ar/datospersonal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212840" y="836640"/>
          <a:ext cx="7623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836640"/>
                    <a:ext cx="7623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 Nacional de Protección de Da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Nacional de 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92400" y="83664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83664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470400" y="2924280"/>
            <a:ext cx="1950840" cy="217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2400" y="114300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14300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58760" y="95400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95400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627360" y="4221000"/>
            <a:ext cx="2106720" cy="28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cripción de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92400" y="114300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14300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370160" y="114300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14300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4880" y="40464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de Inscripción – FA.01 (contin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58760" y="114300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14300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21:08:15Z</dcterms:created>
  <dc:creator>maria</dc:creator>
  <dc:description/>
  <dc:language>en-US</dc:language>
  <cp:lastModifiedBy>Thelma Karen Stretcu</cp:lastModifiedBy>
  <dcterms:modified xsi:type="dcterms:W3CDTF">2006-02-20T14:24:51Z</dcterms:modified>
  <cp:revision>7</cp:revision>
  <dc:subject/>
  <dc:title>REGISTRO NACIONAL DE BASES DE DATOS</dc:title>
</cp:coreProperties>
</file>