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52560" y="685440"/>
            <a:ext cx="495288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B10F6-46DA-4E2F-8B4D-27B2CECA2B9E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JETOS OBLIGADOS DE LA L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8E259-5A3F-491A-B495-0421699E5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F20F4-D073-4CC8-AC6B-31D643185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54369-6F63-4E8B-8E6D-F942BC486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583E8-D52A-4896-8C0B-B42BD103A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FF2BB-E6CA-4D8F-B036-031FE0CAD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3317F-6A75-462F-A46E-571179785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24080-C27E-4A2A-9202-75E7409C7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09AEC-1481-43B0-99D7-466D33C53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8C5A5-0C1C-4FB8-8967-AF7CB92AA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4E234-ADA5-4181-9092-4FF02B3EF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62A06-221F-42DC-91EA-A55EF36F4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12F55-DE6E-41E8-9023-12A1C9C60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1A19F-1DAD-4DC3-A294-8392EE5332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mailto:lascala@neogestion3.com.ar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LEY DE PROTECCION DE DATOS PERSONA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ROL DEL PROFESIONAL EN CIENCIAS ECONOMIC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14176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GESTION DE LA SEGURIDAD: ESTRUCTU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392640" y="2924280"/>
            <a:ext cx="3043080" cy="936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PROCEDIMIEN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392640" y="4149720"/>
            <a:ext cx="3043080" cy="93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ASIGNACION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RESPONSABIL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83360" y="1700280"/>
            <a:ext cx="207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COMUNIC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 CLIENT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980400" y="1628640"/>
            <a:ext cx="257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COMUNICACIÓN AL PERS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24320" y="2997360"/>
            <a:ext cx="1954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RCH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MODIFICAC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DESTRUCC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139880" y="3141720"/>
            <a:ext cx="202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INFORMAT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21080" y="4869000"/>
            <a:ext cx="171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QUIEN TIE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CCES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190640" y="4869000"/>
            <a:ext cx="2239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CONTRATOS C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LOS CESIONAR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392640" y="5373720"/>
            <a:ext cx="3043080" cy="936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CAPACITAC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2640" y="1557360"/>
            <a:ext cx="3043080" cy="936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POLITICAS 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SEGUR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3003120" y="1916280"/>
            <a:ext cx="466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2535120" y="4653000"/>
            <a:ext cx="857520" cy="360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2925360" y="3429000"/>
            <a:ext cx="466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 flipV="1">
            <a:off x="2457360" y="5229360"/>
            <a:ext cx="1013040" cy="503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356520" y="1916280"/>
            <a:ext cx="7808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435720" y="3357720"/>
            <a:ext cx="623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435720" y="4653000"/>
            <a:ext cx="623880" cy="288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6356520" y="5444640"/>
            <a:ext cx="623880" cy="289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14176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ONTRATOS DE TERCERIZAC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99061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OBLIGATORIO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T.25 DEL D.REGLAM.1558/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FORMA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R ESCRIT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REQUISITOS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BER DE RESPETO A LA FINALIDAD DE LA RECOLECCION DE LOS DA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 PRESTADOR ACTUA  POR CUENTA DEL RESPONSABLE DE LOS DA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HIBICION DE CEDER LOS DATOS SIN CONSENTIMIEN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ERVACION DE LOS DATOS POR EL PERIODO QUE DURE EL CONTRA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BER DE SEGURIDAD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PONSABILIDAD SOLIDAR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14176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ONCLU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99061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 LEY PLANTEA UNA NUEVA PROBLEMÁTICA ADMINISTRATIVA Y LEGAL EN LA EMPRESAS QUE SE PRESENTAN COMO UNA POSIBILIDA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 NUEVOS SERVICIOS PROFESION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14176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MUCHAS GRACI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99061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Dra.C.P.Silvia Catalina Lasca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lascala@neogestion3.com.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ilvialascala@fibertel.com.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0"/>
            <a:ext cx="9906120" cy="18288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RESPONSABILIDAD PROFESION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3141720"/>
            <a:ext cx="9906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UJETOS OBLIGADO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Protección por uso indebido de datos, evitar sanciones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4724280"/>
            <a:ext cx="9906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SESORES DE CLI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Posibilidad de nuevos servici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2057400"/>
            <a:ext cx="454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BASES   PROP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22760" y="2057400"/>
            <a:ext cx="528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ESIONARIOS DE BAS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7680" y="3048120"/>
            <a:ext cx="5283000" cy="216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MPLE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LIE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(APLICATIVOS AFIP, DGR,ET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BASES LEY 25.246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118120" y="3581280"/>
            <a:ext cx="478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AREAS TERCERIZAD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0"/>
            <a:ext cx="9906120" cy="17398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SUJETOS OBLIGAD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14176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TERCERIZAC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47560" y="1655280"/>
            <a:ext cx="4367520" cy="446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ARE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LIQUIDACION SUELD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PAGO DE HABERES POR INTERMEDIO DE  BANC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GESTION RR.HH.(Selección, Capacitación, Evaluación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GESTION DE COMPR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35320" y="1600200"/>
            <a:ext cx="4375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ctr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Verdana"/>
              </a:rPr>
              <a:t>B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1" lang="es-ES" sz="1600" spc="-1" strike="noStrike">
                <a:solidFill>
                  <a:srgbClr val="000000"/>
                </a:solidFill>
                <a:latin typeface="Verdana"/>
              </a:rPr>
              <a:t>LEGAJOS DE PERSONAL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Verdana"/>
              </a:rPr>
              <a:t>             </a:t>
            </a:r>
            <a:r>
              <a:rPr b="1" lang="es-ES" sz="1600" spc="-1" strike="noStrike">
                <a:solidFill>
                  <a:srgbClr val="000000"/>
                </a:solidFill>
                <a:latin typeface="Verdana"/>
              </a:rPr>
              <a:t>C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1" lang="es-ES" sz="1600" spc="-1" strike="noStrike">
                <a:solidFill>
                  <a:srgbClr val="000000"/>
                </a:solidFill>
                <a:latin typeface="Verdana"/>
              </a:rPr>
              <a:t>DATOS SENSI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Verdana"/>
              </a:rPr>
              <a:t>(preocupacionales,  afiliac.sindica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Verdana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Verdana"/>
              </a:rPr>
              <a:t>                     </a:t>
            </a:r>
            <a:r>
              <a:rPr b="1" lang="es-ES" sz="1600" spc="-1" strike="noStrike">
                <a:solidFill>
                  <a:srgbClr val="000000"/>
                </a:solidFill>
                <a:latin typeface="Verdana"/>
              </a:rPr>
              <a:t>DATOS DE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Verdana"/>
              </a:rPr>
              <a:t>                  </a:t>
            </a:r>
            <a:r>
              <a:rPr b="1" lang="es-ES" sz="1600" spc="-1" strike="noStrike">
                <a:solidFill>
                  <a:srgbClr val="000000"/>
                </a:solidFill>
                <a:latin typeface="Verdana"/>
              </a:rPr>
              <a:t>PROVEEDO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40320" y="3048120"/>
            <a:ext cx="1638360" cy="457200"/>
          </a:xfrm>
          <a:custGeom>
            <a:avLst/>
            <a:gdLst>
              <a:gd name="textAreaLeft" fmla="*/ 0 w 1638360"/>
              <a:gd name="textAreaRight" fmla="*/ 1638720 w 163836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503600" y="5334120"/>
            <a:ext cx="1605240" cy="392040"/>
          </a:xfrm>
          <a:custGeom>
            <a:avLst/>
            <a:gdLst>
              <a:gd name="textAreaLeft" fmla="*/ 0 w 1605240"/>
              <a:gd name="textAreaRight" fmla="*/ 1605600 w 1605240"/>
              <a:gd name="textAreaTop" fmla="*/ 0 h 392040"/>
              <a:gd name="textAreaBottom" fmla="*/ 392400 h 392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14176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TERCERIZAC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47560" y="1655280"/>
            <a:ext cx="4367520" cy="446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AR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ACTURACION Y GESTION DE COBRANZ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AUDITORIA INTER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35320" y="1600200"/>
            <a:ext cx="4375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B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DATOS DE CLIE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       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(grales, correo                electrónico)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DATOS DE CLIENTES Y PROVEED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60640" y="2895480"/>
            <a:ext cx="1640160" cy="460440"/>
          </a:xfrm>
          <a:custGeom>
            <a:avLst/>
            <a:gdLst>
              <a:gd name="textAreaLeft" fmla="*/ 0 w 1640160"/>
              <a:gd name="textAreaRight" fmla="*/ 1640520 w 1640160"/>
              <a:gd name="textAreaTop" fmla="*/ 0 h 460440"/>
              <a:gd name="textAreaBottom" fmla="*/ 460800 h 460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62640" y="5334120"/>
            <a:ext cx="1604880" cy="473040"/>
          </a:xfrm>
          <a:custGeom>
            <a:avLst/>
            <a:gdLst>
              <a:gd name="textAreaLeft" fmla="*/ 0 w 1604880"/>
              <a:gd name="textAreaRight" fmla="*/ 1605240 w 1604880"/>
              <a:gd name="textAreaTop" fmla="*/ 0 h 473040"/>
              <a:gd name="textAreaBottom" fmla="*/ 473400 h 473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14176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BASES DE USO PERSON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-360" y="1523520"/>
            <a:ext cx="99061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3200" spc="-1" strike="noStrike">
                <a:solidFill>
                  <a:srgbClr val="cc0000"/>
                </a:solidFill>
                <a:latin typeface="Verdana"/>
              </a:rPr>
              <a:t>NO  ENCUADRAN EN LA 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PERICIAS JUDICI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AUDITORIA Y CERTIFICACION DE BAL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0" y="0"/>
            <a:ext cx="9906120" cy="12952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OBLIGACIO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420920" y="2219400"/>
            <a:ext cx="199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890000" y="2122560"/>
            <a:ext cx="624456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REGISTRAC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GARANTIZAR SEGURIDAD Y CONFIDENCIAL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DE LA INFORMAC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DERECHO DE ACCE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INFORMACION A LOS TITULARES: PAUTAS 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RECOLECCION DE DATOS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14176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REGISTRACION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DNPD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FORMULARIOS FA01 Y FB01: Pregunt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Responsable del archivo o base de da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Finalidad del archiv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Naturaleza de los datos personales contenidos en cada archiv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Forma de recolección y actualización de dato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Modo de interrelacionar la información registrad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Seguridad de los da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Tiempo de conservación de los da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Derecho de Acces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0" y="0"/>
            <a:ext cx="9906120" cy="11253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RECOLECCION DE DATO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27360" y="1413000"/>
            <a:ext cx="2495520" cy="1224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ESTUD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627360" y="4724280"/>
            <a:ext cx="2497320" cy="1224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ANALI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428760" y="4943880"/>
            <a:ext cx="22618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IERTOS ADECUAD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PERTINEN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CTUALIZAD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980400" y="4653000"/>
            <a:ext cx="2479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123680" y="4956120"/>
            <a:ext cx="219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SENTIMI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A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513480" y="2997360"/>
            <a:ext cx="2495520" cy="1223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FORMA 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RECOLECC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895320" y="2997360"/>
            <a:ext cx="2495520" cy="1223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CAL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045120" y="2060640"/>
            <a:ext cx="1795680" cy="863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1987200" y="2133720"/>
            <a:ext cx="1639800" cy="790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066760" y="4221000"/>
            <a:ext cx="1638360" cy="863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6044760" y="4221000"/>
            <a:ext cx="1716120" cy="862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3T16:56:26Z</dcterms:created>
  <dc:creator>SILVIA</dc:creator>
  <dc:description/>
  <dc:language>en-US</dc:language>
  <cp:lastModifiedBy>Thelma Karen Stretcu</cp:lastModifiedBy>
  <dcterms:modified xsi:type="dcterms:W3CDTF">2006-02-14T18:47:17Z</dcterms:modified>
  <cp:revision>14</cp:revision>
  <dc:subject/>
  <dc:title>Diapositiva 1</dc:title>
</cp:coreProperties>
</file>