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wmf" ContentType="image/x-wmf"/>
  <Override PartName="/ppt/media/image10.gif" ContentType="image/gi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A533-03A5-45A7-925B-B0F8B3DDE3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55 – Asociación Radio Instituto – Curso por correspon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55 – Asociación Radio Instituto – Curso por correspon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55 – Asociación Radio Instituto – Curso por correspon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55 – Asociación Radio Instituto – Curso por correspon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8A2-C3B7-4372-A333-ECC9B725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F9D-5BF4-4014-B445-A2996619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D3D-3057-4D76-ADC3-853E34FA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A6A-53D1-4C2B-8138-2ED1148D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A04-7A45-4715-B9C7-9E272A88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DB7-453B-413B-AF0A-FBA2241D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A9D-B602-475B-9C05-2104FC3D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5D0-C9EB-4147-9648-DF4FA33C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C03-F4E3-4D9E-8BE8-F854BE7B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5BA-7C5C-4D4F-A5DA-81D703F3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7B0-D181-46EA-A659-22CB6739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FCB-D262-47AB-A1F7-D0C1F23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0BE-7686-41FC-9453-EEAB4BE58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AA66-7D97-4B40-B248-F5121167A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40000" y="0"/>
            <a:ext cx="6804000" cy="685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340000" y="1700280"/>
            <a:ext cx="6735600" cy="792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24000" y="616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2406960" y="65530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pyright 2005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2268360" cy="129384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179280" y="5877000"/>
            <a:ext cx="206712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4000" y="2133720"/>
            <a:ext cx="6480360" cy="22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Nuevos Emprendimientos Innovadores y su Financi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597708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PCECF  -  10 de Noviembre de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51195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Ing. Enrique Dra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42920" y="2216160"/>
            <a:ext cx="5761080" cy="3805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ausa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an motivación por un proyecto pro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scasas posibilidades de emple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Que es un 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Emprendedo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193-7F24-48E9-AE58-514C4397B1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Tipos  de  Emprendimi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73440" y="2565000"/>
            <a:ext cx="5975280" cy="30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Arial"/>
              </a:rPr>
              <a:t>Nuevos Emprendimientos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Star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0000"/>
                </a:solidFill>
                <a:uFillTx/>
                <a:latin typeface="Arial"/>
              </a:rPr>
              <a:t>Emprendimientos Corpo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rporate Entrepreneu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rporate  Ven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ntrapreneu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4BD-1E37-424A-8387-25BD347B04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uevos  Emprendimi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914200" y="1916280"/>
            <a:ext cx="5761080" cy="43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El Emprendedor toma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El Emprendedor es el “dueño” del concepto y de la idea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El Emprendedor es el dueño o socio mayor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La recompensa para el Emprendedor, en principio , i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Un error puede significar el fra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Vulnerable a influencias ex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771-25F1-4F5E-B16F-B2AF6D30A8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uevos  Emprendimi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87280" y="1999800"/>
            <a:ext cx="5761080" cy="438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Independencia del Emprend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Flexibilidad para cambios de 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Velocidad para la toma de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Bajo nivel de segu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No hay red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Pocas personas con quien consu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Objetivo y escala limitada, al menos inic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Severas limitaciones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AD8-CE3D-435F-80BA-29AE44D3C1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71640" y="27000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333360"/>
            <a:ext cx="59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48000" y="299880"/>
            <a:ext cx="6588000" cy="111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mprendedor  Corpo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2362320"/>
            <a:ext cx="6656400" cy="365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Es aquel, que de manera formal o informal, desarrolla actividades destinadas a crear nuevas oportunidades de negocios en compañías establecidas, por medio de innovaciones de productos y/o servicios y nuevos desarrollos comerciales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Zahra  (19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A39-AE92-43A9-9BB0-DA7A4F928E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71640" y="27000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33360"/>
            <a:ext cx="59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40000" y="299880"/>
            <a:ext cx="6696000" cy="111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mprendedor  Tecnoló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630520"/>
            <a:ext cx="6192720" cy="274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Es aquel cuyos emprendimientos y proyectos están basados en el uso de los recursos de 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BD5-099E-4605-8084-F7C8B41A231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27000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33360"/>
            <a:ext cx="59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0000" y="299880"/>
            <a:ext cx="6696000" cy="111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mprendedor  Tecnoló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17840" y="2058840"/>
            <a:ext cx="4683240" cy="42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D92-703B-4E60-BA5E-6A08236B1A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71640" y="27000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333360"/>
            <a:ext cx="59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619272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46280" y="2502000"/>
            <a:ext cx="6346800" cy="31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ocesos por los cuales una organización transforma mano de obra , capital , materiales  e información en productos y servicios de mayor valor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layton M. Christensen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084-D5D2-4A4D-AACF-63841B81D16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71640" y="27000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33360"/>
            <a:ext cx="59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619272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2276640"/>
            <a:ext cx="6359400" cy="36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Este concepto de Tecnología va mas allá de Ingeniería y Manufactura e incluye procesos de marketing, inversión y gerenciamiento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9900"/>
                </a:solidFill>
                <a:uFillTx/>
                <a:latin typeface="Arial"/>
              </a:rPr>
              <a:t>Innovación </a:t>
            </a:r>
            <a:r>
              <a:rPr b="1" lang="es-AR" sz="2400" spc="-1" strike="noStrike">
                <a:solidFill>
                  <a:srgbClr val="009900"/>
                </a:solidFill>
                <a:latin typeface="Arial"/>
              </a:rPr>
              <a:t>se refiere a cambios en algunas de estas tecnologías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561-05F3-4D82-B7F0-97D8E5F9B3A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57080" y="259920"/>
            <a:ext cx="633564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Tipos  de  Emprendimi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27280" y="2414160"/>
            <a:ext cx="6305760" cy="353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duct 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mbién llamado  Technology  P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ket 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mbién llamado  Market  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DDF-C77E-4DA3-812B-629E5843CD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71640" y="27000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3336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Que es u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mprendedo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6048360" cy="460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E2C-530A-4551-B453-291FAEC75BA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racterísticas de los Emprendimientos 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33760" y="2512800"/>
            <a:ext cx="6186240" cy="300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No todos los emprendedores son innov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No todos los innovadores son emprend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Innovación tiene que ver con lo descono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Gerenciar se refiere a administrar y contr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B57-ACC4-4CED-8676-8AAAA5A35B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racterísticas de los Emprendimientos 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62120" y="1844280"/>
            <a:ext cx="6330960" cy="458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Innovar requiere libertad , mientras que reglas y procedimientos estrictos desestimu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Innovar es riesgoso , no hacerlo tambi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A pesar de la mayor complejidad de las nuevas innovaciones, estas provienen mas frecuentemente de emprendedores e inventores individuales que de grandes laboratorios de I +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La innovación generalmente considerada producto de la genialidad, lo es mucho mas de la persistencia y la continu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E3C-8287-4CCF-9605-FA78E64DD6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27280" y="274680"/>
            <a:ext cx="6059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urope’s 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84360" y="2060640"/>
            <a:ext cx="6483600" cy="42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Dynamic Entrepreneurs – The Job Cre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European Foundation for Entrepreneurship Research fundada en 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Seleccionadas aquellas empresas cuya facturación y empleo creció en el periodo 1989 –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Los emprendimientos europeos crecen a una tasa anual superior al 2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F4F-F931-47F9-9B26-54AAA6E7CD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43280" y="347760"/>
            <a:ext cx="5843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Generación de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6119640" cy="395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33cc"/>
                </a:solidFill>
                <a:uFillTx/>
                <a:latin typeface="Arial"/>
              </a:rPr>
              <a:t>Product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talmente n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ustituto de un product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ejoras a un product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Servici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Totalmente n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Sustituto de un servici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Mejoras a un servici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0A2-297C-45B4-9DBC-2CB4C6E8E2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42920" y="417240"/>
            <a:ext cx="5770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Generación de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34760" y="2136240"/>
            <a:ext cx="6357960" cy="410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cc"/>
                </a:solidFill>
                <a:uFillTx/>
                <a:latin typeface="Arial"/>
              </a:rPr>
              <a:t>Proces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Reingeniería total o pa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Desarrollo de un nuev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Terce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9900"/>
                </a:solidFill>
                <a:uFillTx/>
                <a:latin typeface="Arial"/>
              </a:rPr>
              <a:t>Comercializació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Nuevos canales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Nuevo esquema de “pric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Nuevas ideas de promoción y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Ataque a nuevos nichos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AE5-6F41-4E02-A674-C49A613AD6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60480" y="417240"/>
            <a:ext cx="6059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68160" y="1700280"/>
            <a:ext cx="6567480" cy="487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cc"/>
                </a:solidFill>
                <a:latin typeface="Arial"/>
              </a:rPr>
              <a:t>Encuesta de la Product Development Management Association (USA) a 189 grandes compañías reconocidas como innovadora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76 % utiliza grupos multidisciplinarios para el desarroll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lrededor del 55 % de las compañías tiene estrategias defin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 promedio lleva alrededor de 3 años la creación de nuevos productos/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Solo 1 de cada 11 ideas resulta exi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 1990 el 32 % de la facturación correspondía a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 1995 el 38 % de la facturación correspondía a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225-BA85-4646-BF4E-45192EE2C8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5640" y="228600"/>
            <a:ext cx="643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30520" y="2226960"/>
            <a:ext cx="6262560" cy="37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Generación de la idea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Preparación del Plan de Nego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Start-up  y 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Desarrollo en ré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C79-CFC2-4025-863C-E6DF42076F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0" y="419040"/>
            <a:ext cx="5986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  del 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31640" y="2273040"/>
            <a:ext cx="5256360" cy="353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33cc"/>
                </a:solidFill>
                <a:uFillTx/>
                <a:latin typeface="Arial"/>
              </a:rPr>
              <a:t>Condiciones  prin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Valor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ercado adecu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Grado de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CBA-D271-413D-84B9-9E270F5582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71280" y="417240"/>
            <a:ext cx="5915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ección de la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58680" y="1923840"/>
            <a:ext cx="5916600" cy="431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3300"/>
                </a:solidFill>
                <a:uFillTx/>
                <a:latin typeface="Arial"/>
              </a:rPr>
              <a:t>Acuerdo de Confidenci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NDA – Non disclosur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3300"/>
                </a:solidFill>
                <a:uFillTx/>
                <a:latin typeface="Arial"/>
              </a:rPr>
              <a:t>Nota de condi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Term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3300"/>
                </a:solidFill>
                <a:uFillTx/>
                <a:latin typeface="Arial"/>
              </a:rPr>
              <a:t>Carta de In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MOU – Memorandum of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LOI – Letter of Int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3300"/>
                </a:solidFill>
                <a:uFillTx/>
                <a:latin typeface="Arial"/>
              </a:rPr>
              <a:t>Acuerdo Marco + Ane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3300"/>
                </a:solidFill>
                <a:uFillTx/>
                <a:latin typeface="Arial"/>
              </a:rPr>
              <a:t>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65B-0AFB-45B4-81F0-51E831EE07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lan de Negoci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32000" y="2114640"/>
            <a:ext cx="518508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957-BB3C-4FCB-A0A0-85ABF5D49D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71640" y="27000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3336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Que es u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mprendedo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492280"/>
            <a:ext cx="63594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ff"/>
                </a:solidFill>
                <a:latin typeface="Arial"/>
              </a:rPr>
              <a:t>Son individuos que persiguen oportunidades, mas allá de los recursos que controlan actu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tevenson  y  Jarillo (19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445-2829-473B-A64C-22DA26B33EF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6192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lan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0560" y="1792440"/>
            <a:ext cx="5041800" cy="48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587-8943-4DB8-B16F-776B999D31E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0000" y="417240"/>
            <a:ext cx="5986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lan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76720" y="1989000"/>
          <a:ext cx="4835520" cy="4406760"/>
        </p:xfrm>
        <a:graphic>
          <a:graphicData uri="http://schemas.openxmlformats.org/drawingml/2006/table">
            <a:tbl>
              <a:tblPr/>
              <a:tblGrid>
                <a:gridCol w="483552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- Resumen Ejecu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- Producto / Serv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- Equipo Geren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- Mercado y Compe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- Marketing y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- Estructura y Organ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- Calendario de Imple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- Oportunidades y riesg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- Planeamiento financi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DA0-7F54-4F44-B611-662D315DC8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89200" y="490680"/>
            <a:ext cx="605952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Resumen  Ejecu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60480" y="1926720"/>
            <a:ext cx="6059160" cy="452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Su objetivo es capturar el interés de posibles inversores y participantes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Su lectura no puede llevar mas 10 a 15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Debe ser muy claro , sintético y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Debe describir los aspectos destacab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Arial"/>
              </a:rPr>
              <a:t>Descripción del Producto /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Arial"/>
              </a:rPr>
              <a:t>Beneficios  para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Arial"/>
              </a:rPr>
              <a:t>Mercados a los cuales se ap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Arial"/>
              </a:rPr>
              <a:t>Experiencia del grupo g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Arial"/>
              </a:rPr>
              <a:t>Necesidades de fina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Arial"/>
              </a:rPr>
              <a:t>Retorno de la inversion (ROI) estim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350-C5C6-4F7F-9D7D-FEC3D35B8D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61920" y="490680"/>
            <a:ext cx="5986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Producto -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73200" y="2008080"/>
            <a:ext cx="6491520" cy="451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Beneficios para el Client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ecesidad aun no atendida por otr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enor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as pres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ejor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stado de desarrollo del Producto / Servici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specificaciones 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rototipos constru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ruebas pil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edidas de protección de la ide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atentes , Marcas , derecho de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DA0-0C4F-4603-ABF7-B70361D181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0000" y="418680"/>
            <a:ext cx="598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quipo  Ger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82360" y="2134800"/>
            <a:ext cx="6210360" cy="4102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cc"/>
                </a:solidFill>
                <a:latin typeface="Arial"/>
              </a:rPr>
              <a:t>Integrantes del grupo dir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cc"/>
                </a:solidFill>
                <a:latin typeface="Arial"/>
              </a:rPr>
              <a:t>Antecedentes profes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cc"/>
                </a:solidFill>
                <a:latin typeface="Arial"/>
              </a:rPr>
              <a:t>Nivel de compromiso con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cc"/>
                </a:solidFill>
                <a:latin typeface="Arial"/>
              </a:rPr>
              <a:t>Experiencias conjunta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4F7-CFC1-43F2-AA49-8EFF2500C6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771640" y="27000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404640"/>
            <a:ext cx="67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Mercado y 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5472000" cy="45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7EF-A946-44E8-B99B-4162328CB6E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418680"/>
            <a:ext cx="66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Mercado  y  Compe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44400" y="2064960"/>
            <a:ext cx="6591240" cy="417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00"/>
                </a:solidFill>
                <a:latin typeface="Arial"/>
              </a:rPr>
              <a:t>Descripción del mercado y sus estad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00"/>
                </a:solidFill>
                <a:latin typeface="Arial"/>
              </a:rPr>
              <a:t>Proyección de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00"/>
                </a:solidFill>
                <a:latin typeface="Arial"/>
              </a:rPr>
              <a:t>Análisis de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00"/>
                </a:solidFill>
                <a:latin typeface="Arial"/>
              </a:rPr>
              <a:t>Análisis de posibles Ali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D4B-3024-4BF6-A837-545D32BC9D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11280" y="270000"/>
            <a:ext cx="65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5545080" cy="439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054-0493-465B-9116-3FC0E4F205E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89200" y="417240"/>
            <a:ext cx="605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Marketing  y  V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17560" y="2205000"/>
            <a:ext cx="6275160" cy="386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cc"/>
                </a:solidFill>
                <a:latin typeface="Arial"/>
              </a:rPr>
              <a:t>El Producto / Servicio y sus principales 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cc"/>
                </a:solidFill>
                <a:latin typeface="Arial"/>
              </a:rPr>
              <a:t>Estrategia de precios y descu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cc"/>
                </a:solidFill>
                <a:latin typeface="Arial"/>
              </a:rPr>
              <a:t>Estructura de Ventas pr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cc"/>
                </a:solidFill>
                <a:latin typeface="Arial"/>
              </a:rPr>
              <a:t>Canales de Ventas (Venta Indirec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cc"/>
                </a:solidFill>
                <a:latin typeface="Arial"/>
              </a:rPr>
              <a:t>Estrategia de Promoción y 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28E-3D12-4793-9880-4969F72BB73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46280" y="188640"/>
            <a:ext cx="6346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structura  y  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16360" y="2063880"/>
            <a:ext cx="5759280" cy="4101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Definición de la Estructura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Organi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Definición de roles y 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osible estrategia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Localización y fac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Relaciones y Alianz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6C4-3666-4E60-97CE-DF3DA74B71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71640" y="27000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33336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Que es u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mprendedo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2421000"/>
            <a:ext cx="6659640" cy="352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Son individuos que crean valor, por efecto del trabajo colectivo de personas y organizaciones, a los efectos de implementar una idea, a través de la aplicación de creatividad, decisión y del compromiso de asumir riesgos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Acc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61A-3311-43CD-9B0F-7EFA14A6F0B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115560"/>
            <a:ext cx="6130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Calendario  de  Imple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51240" y="1995120"/>
            <a:ext cx="6657840" cy="431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Horizonte de planeamiento :  3  a  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Indicar principales hi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Calendario de incorporación de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Programas de inducción y entr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Inversiones y amor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0D7-2D19-4F31-9DB3-8F7755A6CB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89200" y="274320"/>
            <a:ext cx="6130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Oportunidades  y  Ries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4360" y="2018880"/>
            <a:ext cx="6546960" cy="443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cc"/>
                </a:solidFill>
                <a:latin typeface="Arial"/>
              </a:rPr>
              <a:t>Desarrollar 3 escenari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5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Pesim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5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alista o mas prob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5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Optim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Identificar los riesgos y oportunidades en cada e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Indicar las medidas previstas para las situaciones plant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4BE-321A-4739-947B-3D923C1AD51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27280" y="115920"/>
            <a:ext cx="6059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Planeamiento  financi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92360" y="1961640"/>
            <a:ext cx="6300720" cy="441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Los 3 documentos principales s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Balanc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Activo Cor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Activo No cor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Pasivo Cor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Pasivo No cor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Patrimonio N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Cuadro de resultados (P &amp; L – Profit and Lo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E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Flujo de Caja (Cash f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3A8-E542-4596-9A3E-B9FFF7DA6C3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6192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Por favor, 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un Inversor por aquí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43280" y="1825560"/>
            <a:ext cx="5761080" cy="46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2CD-CDE9-4D47-87E4-3A23EE287B8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anciación  e  Invers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23880" y="2066400"/>
            <a:ext cx="6684840" cy="424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Tipicamente los Emprendimientos Tecnológicos siguen la siguiente secuencia de financiació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Recursos y ahorros de los socios fund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amiliares y amigos ( Friends and Fam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ngeles ( Angel fina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Inversores de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Inversores Institu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A11-8CD7-4EA1-89E2-FD7A9075A2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17920" y="201240"/>
            <a:ext cx="62020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Lanzamiento  del 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90480" y="1944720"/>
            <a:ext cx="6473880" cy="450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Elección del momento mas adec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Cumplimiento de las formalidades le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Constitución e integración del grup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Desarrollo inicial de las relaciones con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Acciones iniciales de Marketing y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Relaciones con entidades financi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Relaciones institu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Cámaras Empres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Universidades y labor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EAB-A359-4E86-9AC6-CD9AE681F2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89200" y="188640"/>
            <a:ext cx="6130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Gerenciamiento  del 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11280" y="2394000"/>
            <a:ext cx="6624720" cy="3411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Reuniones semanale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Análisis de resultados mens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Control de Gestión Trimes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Revisión de Planeamiento estratégico (semest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cc"/>
                </a:solidFill>
                <a:latin typeface="Arial"/>
              </a:rPr>
              <a:t>Planeamiento ,revisión y ajuste de proyecciones (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449-CA06-4C59-A412-9F6096CEC5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60480" y="259920"/>
            <a:ext cx="6059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Finalización  del 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56000" y="2133720"/>
            <a:ext cx="6377040" cy="40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ff"/>
                </a:solidFill>
                <a:latin typeface="Arial"/>
              </a:rPr>
              <a:t>Estrategia de salida ( Exit Strate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Venta de la compañía a inversore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Venta de la compañía a una empres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Cotización en Bolsa (IPO Initial Public Off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ntinuación de los fund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Incorporación de nuevos inver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uy out – Compra de acciones a los inversores in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C06-6ABC-4BF9-83DE-FCF5E9071FE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914200" y="2174400"/>
            <a:ext cx="5689800" cy="363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cebida como una Organización No Gubernamental (ONG), su misión es promover la creación de nuevas empresas y organizaciones sociales, capitalizando los conocimientos y experiencias de profesionales, científicos y técnicos.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I  E  C  y 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ADC-34D4-4F15-8F30-FE41801BFF3C}" type="slidenum">
              <a:t>48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56000" y="198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ff"/>
                </a:solidFill>
                <a:uFillTx/>
                <a:latin typeface="Arial"/>
              </a:rPr>
              <a:t>MUCHAS  GRACIAS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64000" y="1916280"/>
            <a:ext cx="615600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D6D-EFB5-41F0-8587-6C9B4764DE9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771280" y="2463840"/>
            <a:ext cx="5977080" cy="32702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s aquel que descubre </a:t>
            </a: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oportunidades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y las transforma en </a:t>
            </a: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negocios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Que es un 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mprendedo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E39-483D-416E-80B9-66063ADACA90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Cuenta pr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92520" y="2928960"/>
            <a:ext cx="3116160" cy="33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29D-D1B4-4F2E-9022-23782A6AC2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19560" y="2033640"/>
            <a:ext cx="4781520" cy="405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Cuenta pr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A38-DE97-43FB-8631-8747F8422C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03640" y="2276640"/>
            <a:ext cx="5184720" cy="37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I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"/>
              </a:rPr>
              <a:t>Ap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cc00"/>
                </a:solidFill>
                <a:latin typeface="Arial"/>
              </a:rPr>
              <a:t>Visica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"/>
              </a:rPr>
              <a:t>D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Que es un 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mprendedo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580-FC3C-4626-94C0-AB016AF44C29}" type="slidenum">
              <a:t>8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03640" y="2060640"/>
            <a:ext cx="5184720" cy="41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"/>
              </a:rPr>
              <a:t>Patagon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cc00"/>
                </a:solidFill>
                <a:latin typeface="Arial"/>
              </a:rPr>
              <a:t>Officenet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Core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Que es un 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mprendedo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AC3-6B67-4610-A277-F96B832441C8}" type="slidenum">
              <a:t>9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0:44:16Z</dcterms:created>
  <dc:creator>user</dc:creator>
  <dc:description/>
  <dc:language>en-US</dc:language>
  <cp:lastModifiedBy>C.P.C.E.C.A.B.A.</cp:lastModifiedBy>
  <dcterms:modified xsi:type="dcterms:W3CDTF">2005-12-02T22:04:11Z</dcterms:modified>
  <cp:revision>11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0424465</vt:r8>
  </property>
  <property fmtid="{D5CDD505-2E9C-101B-9397-08002B2CF9AE}" pid="3" name="_AuthorEmail">
    <vt:lpwstr>edraier@iecyt.com.ar</vt:lpwstr>
  </property>
  <property fmtid="{D5CDD505-2E9C-101B-9397-08002B2CF9AE}" pid="4" name="_AuthorEmailDisplayName">
    <vt:lpwstr>Enrique Draier</vt:lpwstr>
  </property>
  <property fmtid="{D5CDD505-2E9C-101B-9397-08002B2CF9AE}" pid="5" name="_EmailSubject">
    <vt:lpwstr>Presentación 10-11-2005</vt:lpwstr>
  </property>
</Properties>
</file>