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049-09C8-45E2-8A9D-00EA1B9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257-B500-413E-8A37-65AD408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B2D-2F0B-402F-8421-E1190E65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B0A-D548-4973-9FBD-06FB581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73A-C1E1-4A36-9BC0-C38BF6D7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EE8-33E6-4422-A3B7-8DECB94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7E5-F851-4B7F-9325-5E0B5071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50E-BFA3-4735-8904-9B9AB46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8F0-B962-4B49-8C5A-C9802AB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BA2-5A54-445A-969B-A342A48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BC2-DEF4-408F-8283-F7CF729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1ED-3541-41E0-B7FC-094010F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A8F-260B-45EC-9827-5A33E59B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5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248520"/>
            <a:ext cx="1828440" cy="457200"/>
            <a:chOff x="838080" y="6248520"/>
            <a:chExt cx="1828440" cy="457200"/>
          </a:xfrm>
        </p:grpSpPr>
        <p:pic>
          <p:nvPicPr>
            <p:cNvPr id="7" name="cimei" descr=""/>
            <p:cNvPicPr/>
            <p:nvPr/>
          </p:nvPicPr>
          <p:blipFill>
            <a:blip r:embed="rId2"/>
            <a:stretch/>
          </p:blipFill>
          <p:spPr>
            <a:xfrm>
              <a:off x="838080" y="6248520"/>
              <a:ext cx="13017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sello%20cema%201" descr=""/>
            <p:cNvPicPr/>
            <p:nvPr/>
          </p:nvPicPr>
          <p:blipFill>
            <a:blip r:embed="rId3"/>
            <a:stretch/>
          </p:blipFill>
          <p:spPr>
            <a:xfrm>
              <a:off x="2139840" y="6248520"/>
              <a:ext cx="526680" cy="44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>
            <a:off x="762120" y="60948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43000"/>
            <a:ext cx="815328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isión de Estudios sobre Mercado de Capitales C.P.C.E.C.A.B.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ón Científica y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de Noviembre d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é Pablo Dap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udios encuentran que el financiamiento en países desarrollados de empresas no financieras descan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 en instrumentos de deu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% en emisión de accion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1.1% en reinversión de ganancia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entras que en Argenti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79% del financiamiento proviene de la reinversión de gananci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que solo 6.9% surge del crédito de ban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idencia es similar en otros estudios. De una encuesta efectuada por F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70% de los encuestados contestan que la reinversión de utilidades es su principal fuente de financiamien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porte de los propios socios representa 12,5% en casos PYMES y 7,3% de grandes empre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mismo un relevamiento reciente efectuado por la Cámara Argentina de Comercio revela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45% de los comerciantes no tiene relación con los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que del resto el 35% mantiene solamente una relación transaccional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más expon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el 69% del sector la principal fuente de financiamiento es la reinversión de utilidad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que para un 30% los proveedores representan una fuente relevante de financia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relevamiento de la Unión Industrial Argentina durante 2003 muestra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estructura de financiamiento de las empresa relevadas el capital propio (inicial mas reinversión de utilidades) representaba a 2001 el 59.5% del financiamiento total (respecto de un 55.6% en 1994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que otras Deudas (que incluye a Proveedores) representaba en 2001 un 33.4% del financiamiento total (contra un 27.1% en 1994), siendo que finalmente un 7.1% esta financiado con bancos (contra un 17.3% en 199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s cifras son consistentes con las que surgen de relevamientos del Instituto Argentino de Mercado de Capitales (1999), y con la encuesta mas recientemente realizada por el Instituto Argentino de Ejecutivos de Finanzas expone que mas del 60% de las empresas utilizan fondos prop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situación no es eficiente para la economía por los siguientes motiv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ficiente monto de inversión agregada por insuficiencia de fondos, que limita la capacidad de expansión y la obtención de escalas optimas y en definitiva el desarrollo a través de mercados extern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segundo lugar, el capital se encuentra concentrado en la propiedad, contribuyendo a falta de diversificación de aho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ercer lugar, no brinda oportunidades de inversión al resto de la economía, que la harían mas resistente a shoc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mente, no alienta las inversiones de riesgo en el financiamiento de nuevos emprendimientos, ya que no se existen vías de recupero del capital claras para los inve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mente, no alienta las inversiones de riesgo en el financiamiento de nuevos emprendimientos, ya que no se existen vías de recupero del capital claras para los inverso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883908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formación de la empresa es fundamental para revelar su verdadera naturaleza, dada la inquietud hacia el repago que puede tener el acreedor al financiar inver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de información s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idades pas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con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rspectiv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jos de fondos proy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yectos d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spectiva bajo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ficultades que enfrentan las empresas para acceder al financ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ficultades que enfrentan los inversores para realizar un adecuado análisis de la capacidad de pago de los empren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vestigación de ca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nalizaron dos dimen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dimensión estraté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dimensión de sistem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poseen objetivos de cort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poseen objetivo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planificaron como alcanz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evalúan el desempeño de la empresa a la luz de esos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2,17%  no posee objetivos a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,69% se maneja sin objetivos para el año en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1,15% no ha planificado como va a lograr los objetivos de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1,73% no ha planificado como lograr esos objetivos de cort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5,65% no realizan evaluación del cumplimiento de lo planificado para lograr los obj. de largo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98% no evalúan el desempeño de la empresa a la luz de los objetivos de corto plaz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ón sistema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zan presupuesto a tres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zan presupuesto a un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zan flujo de fondos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 flujo de fondos men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ón sistema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1,31% de la muestra no confecciona presupuesto a tres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9,27% de la muestra no confecciona presupuesto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9,56% de la muestra no confecciona flujo de fondos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% de la muestra utiliza flujo de fondos men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cambios en precios relativos y el crecimiento generan oportunidades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inversión necesita ser financiada, y el rol del mercado de capitales es fundamental en es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haber problemas de oferta y de demanda del créd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ntro de los problemas de demanda, se encuentran las dificultades por evasión prevsional y fisvacal, y la falta de registros que permitan realizar proy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3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3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3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566640"/>
            <a:ext cx="930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3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458200" cy="609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523880"/>
            <a:ext cx="1066680" cy="4114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743200"/>
            <a:ext cx="907920" cy="2895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75393b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52388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752480"/>
            <a:ext cx="17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Capital de trabajo o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523880"/>
            <a:ext cx="6934320" cy="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523880"/>
            <a:ext cx="907920" cy="1219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7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1523880"/>
            <a:ext cx="457200" cy="1600200"/>
          </a:xfrm>
          <a:custGeom>
            <a:avLst/>
            <a:gdLst>
              <a:gd name="textAreaLeft" fmla="*/ 0 w 457200"/>
              <a:gd name="textAreaRight" fmla="*/ 164880 w 457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7640" y="321480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74320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09880"/>
            <a:ext cx="17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Capital de infra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6560" y="3124080"/>
            <a:ext cx="907920" cy="2514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6560" y="1523880"/>
            <a:ext cx="907920" cy="160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inanciamiento con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312408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038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inanciamiento con capital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7840" y="320040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idencia argentina en pequeñas y medianas empresas nos muestra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inancian principalmente con reinversión de sus propias utilidades y con crédito de proveedores, evidencia toda consistente con mercados de capitales poco desarrollados, lo que evidentemente dificulta lograr escalas de producción interesa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MA</cp:lastModifiedBy>
  <dcterms:modified xsi:type="dcterms:W3CDTF">2005-11-09T19:56:57Z</dcterms:modified>
  <cp:revision>7</cp:revision>
  <dc:subject/>
  <dc:title>Financiamiento de Pymes</dc:title>
</cp:coreProperties>
</file>