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11.jpeg" ContentType="image/jpeg"/>
  <Override PartName="/ppt/media/image8.png" ContentType="image/png"/>
  <Override PartName="/ppt/media/image7.wmf" ContentType="image/x-wmf"/>
  <Override PartName="/ppt/media/image6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21.png" ContentType="image/png"/>
  <Override PartName="/ppt/media/image16.gif" ContentType="image/gif"/>
  <Override PartName="/ppt/media/image2.jpeg" ContentType="image/jpeg"/>
  <Override PartName="/ppt/media/image20.png" ContentType="image/png"/>
  <Override PartName="/ppt/media/image15.gif" ContentType="image/gif"/>
  <Override PartName="/ppt/media/image3.jpeg" ContentType="image/jpeg"/>
  <Override PartName="/ppt/media/image14.gif" ContentType="image/gif"/>
  <Override PartName="/ppt/media/image1.jpeg" ContentType="image/jpeg"/>
  <Override PartName="/ppt/media/image2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4364-61F7-4A6E-A0A4-B1C7AAC9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9719-FC5B-4911-A8B2-86BAAA33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B6BC-6CC4-4CC0-A0F9-298DA0CB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9F07-E87F-489D-B0A5-87AE2C16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F808-6DA1-41A2-9E3B-ECEFBD92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213D-F088-4FD9-9B06-21CA5419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BAAD-F6C4-44D5-9380-15F131B1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F518-8841-4416-8AAF-2A409DFD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A90B-880D-457F-B6DD-8A396FF8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C7E4-8DBF-4269-B746-AD59F148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C91A-1E26-46C9-8164-8D4CA3B5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55D-5A65-4988-B9DB-6B028DE1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7639-7F81-41F8-9E80-B8540E5B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D3E9-23C2-4112-BCE8-BB0F55FF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D9CB-D2EC-4E5A-A093-D688B65D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694D-9FA4-4CEF-A4C1-D7AF9746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F175-8BFF-4F23-85C4-DC465388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BC08-0505-4022-9DD7-F6EE46AE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48D2-FAB5-496C-875D-6010B582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0D28-998C-4DEF-B36B-9EB44C20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7C7E-2194-48E5-A148-A948BC77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2475-B95E-464D-8502-2DDC7A9D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C820-26CC-45E9-B933-94DD90F2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7CDE-1E3B-43A4-AF01-B5426C1F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" name="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3" name="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2" name="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CC9D-B2C0-4AC3-A941-81474806BA42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80" name="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82" name="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83" name="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" name="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" name="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" name="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" name="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" name="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111" name="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5E1C-0B60-40A3-AF5B-D635E308FF33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agle.slate.msn.com/caglecards/main.asp?image=/news/PrivacyCartoons2/SlanePrivacyCartoonGIFS/1/retina-01.jpg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1143000"/>
            <a:ext cx="777384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_tradnl" sz="3600" spc="-1" strike="noStrike">
                <a:solidFill>
                  <a:srgbClr val="ffffcc"/>
                </a:solidFill>
                <a:latin typeface="Trebuchet MS"/>
              </a:rPr>
              <a:t>Dirección Nacional de Protección de Datos Personales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673280" y="371592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Trebuchet MS"/>
              </a:rPr>
              <a:t>Prof. Dr Juan Antonio Travies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Trebuchet MS"/>
              </a:rPr>
              <a:t>Buenos Aires, Noviembre de 2005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245F-E04E-43D6-A1A7-781F9EC74112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780000" y="2708280"/>
            <a:ext cx="304776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RGENTINA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1052640"/>
            <a:ext cx="1368360" cy="3168360"/>
          </a:xfrm>
          <a:prstGeom prst="rect">
            <a:avLst/>
          </a:prstGeom>
          <a:solidFill>
            <a:srgbClr val="00cccc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Derech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Human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80000" y="5013360"/>
            <a:ext cx="4103640" cy="1079640"/>
          </a:xfrm>
          <a:prstGeom prst="rect">
            <a:avLst/>
          </a:prstGeom>
          <a:solidFill>
            <a:srgbClr val="00cccc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Consum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29080" y="5373720"/>
            <a:ext cx="1150920" cy="360360"/>
          </a:xfrm>
          <a:prstGeom prst="leftArrow">
            <a:avLst>
              <a:gd name="adj1" fmla="val 50000"/>
              <a:gd name="adj2" fmla="val 79845"/>
            </a:avLst>
          </a:prstGeom>
          <a:solidFill>
            <a:srgbClr val="00cccc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76360" y="4221000"/>
            <a:ext cx="360360" cy="792360"/>
          </a:xfrm>
          <a:prstGeom prst="downArrow">
            <a:avLst>
              <a:gd name="adj1" fmla="val 50000"/>
              <a:gd name="adj2" fmla="val 54970"/>
            </a:avLst>
          </a:prstGeom>
          <a:solidFill>
            <a:srgbClr val="00cccc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5157720"/>
            <a:ext cx="172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50133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Protección de Datos Persona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00000" y="981000"/>
            <a:ext cx="7056720" cy="5184720"/>
          </a:xfrm>
          <a:prstGeom prst="rect">
            <a:avLst/>
          </a:prstGeom>
          <a:solidFill>
            <a:srgbClr val="00ffcc">
              <a:alpha val="20000"/>
            </a:srgbClr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FDEF-B6CA-448C-AF37-9DEDD7C5A09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53640"/>
            <a:ext cx="8785440" cy="1143000"/>
          </a:xfrm>
          <a:prstGeom prst="rect">
            <a:avLst/>
          </a:pr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525252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0000"/>
                </a:solidFill>
                <a:latin typeface="Trebuchet MS"/>
              </a:rPr>
              <a:t>Transferencia Internacion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2057400"/>
            <a:ext cx="4608720" cy="1894320"/>
          </a:xfrm>
          <a:prstGeom prst="rect">
            <a:avLst/>
          </a:prstGeom>
          <a:solidFill>
            <a:srgbClr val="00cc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Trebuchet MS"/>
              </a:rPr>
              <a:t>Requisitos de licitud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Trebuchet MS"/>
              </a:rPr>
              <a:t>Ordenamiento jurídico en materia de protección de dat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Trebuchet MS"/>
              </a:rPr>
              <a:t>Cláusulas contractual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Trebuchet MS"/>
              </a:rPr>
              <a:t>Sistemas de autoregula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6000" y="2470320"/>
            <a:ext cx="3168720" cy="1191240"/>
          </a:xfrm>
          <a:prstGeom prst="rect">
            <a:avLst/>
          </a:prstGeom>
          <a:solidFill>
            <a:srgbClr val="00cc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Trebuchet MS"/>
              </a:rPr>
              <a:t>Equiparables a la Normativa del país que da origen a la transferenc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03640" y="2494080"/>
            <a:ext cx="648000" cy="503280"/>
          </a:xfrm>
          <a:custGeom>
            <a:avLst/>
            <a:gdLst>
              <a:gd name="textAreaLeft" fmla="*/ 101160 w 648000"/>
              <a:gd name="textAreaRight" fmla="*/ 567000 w 64800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66">
                  <a:alpha val="80392"/>
                </a:srgbClr>
              </a:gs>
              <a:gs pos="100000">
                <a:srgbClr val="75002f">
                  <a:alpha val="80392"/>
                </a:srgbClr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78E3-DCFD-4BC0-9974-29C513AE385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Trebuchet MS"/>
              </a:rPr>
              <a:t>Aspectos relevantes de la Ley de Protección de Datos Nº 25.326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258920" y="2637000"/>
            <a:ext cx="29224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B877-375A-404C-B279-CE22C0FDF07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692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rebuchet MS"/>
              </a:rPr>
              <a:t>Informes Creditici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C906-1699-4E93-B15C-29CDC585835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828800" y="762120"/>
            <a:ext cx="5486400" cy="52578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-208440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0" y="0"/>
            <a:ext cx="9143280" cy="6857280"/>
            <a:chOff x="0" y="0"/>
            <a:chExt cx="9143280" cy="6857280"/>
          </a:xfrm>
        </p:grpSpPr>
        <p:pic>
          <p:nvPicPr>
            <p:cNvPr id="201" name="" descr="Cartoon image for proofing use only, unauthorised reproduction prohibited."/>
            <p:cNvPicPr/>
            <p:nvPr/>
          </p:nvPicPr>
          <p:blipFill>
            <a:blip r:embed="rId2"/>
            <a:stretch/>
          </p:blipFill>
          <p:spPr>
            <a:xfrm>
              <a:off x="295200" y="257040"/>
              <a:ext cx="8848080" cy="66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0" y="0"/>
              <a:ext cx="5161680" cy="1287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0" y="5589720"/>
            <a:ext cx="9144000" cy="13816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1" lang="es-AR" sz="2400" spc="-1" strike="noStrike">
                <a:solidFill>
                  <a:srgbClr val="eaeaea"/>
                </a:solidFill>
                <a:latin typeface="Comic Sans MS"/>
              </a:rPr>
              <a:t>Para mi trabajo he traído los informes crediticios de todos los docentes. Los bajé de la Internet.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4E6A-E685-468C-9CC3-7F5F89C222D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Trebuchet MS"/>
              </a:rPr>
              <a:t>Calificación de la información financier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rebuchet MS"/>
              </a:rPr>
              <a:t>Criterios para clasificar morosos (BC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752480" y="2209680"/>
            <a:ext cx="2819520" cy="1143000"/>
          </a:xfrm>
          <a:prstGeom prst="line">
            <a:avLst/>
          </a:prstGeom>
          <a:ln w="7632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3505320"/>
            <a:ext cx="2590920" cy="3408840"/>
          </a:xfrm>
          <a:prstGeom prst="rect">
            <a:avLst/>
          </a:prstGeom>
          <a:solidFill>
            <a:srgbClr val="00cccc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rebuchet MS"/>
              </a:rPr>
              <a:t>Cartera de Consum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rebuchet MS"/>
              </a:rPr>
              <a:t>Hasta $ 200.000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2209680"/>
            <a:ext cx="2286000" cy="1219320"/>
          </a:xfrm>
          <a:prstGeom prst="line">
            <a:avLst/>
          </a:prstGeom>
          <a:ln w="7632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72200" y="4267080"/>
            <a:ext cx="2666880" cy="1191240"/>
          </a:xfrm>
          <a:prstGeom prst="rect">
            <a:avLst/>
          </a:prstGeom>
          <a:solidFill>
            <a:srgbClr val="00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rebuchet MS"/>
              </a:rPr>
              <a:t>Cartera Comercia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9AE3-A557-44AA-A41F-DEB639EAD0E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Trebuchet MS"/>
              </a:rPr>
              <a:t>Contenido de un informe creditici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Trebuchet MS"/>
              </a:rPr>
              <a:t>Información Financiera (BCRA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Trebuchet MS"/>
              </a:rPr>
              <a:t>Información de Juicios Cámara Comerc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Trebuchet MS"/>
              </a:rPr>
              <a:t>Cheques rechazados y cuentacorrentistas inhabilitados (BCRA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Trebuchet MS"/>
              </a:rPr>
              <a:t>Información societaria (Boletin Oficial / IGJ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Trebuchet MS"/>
              </a:rPr>
              <a:t>Deudas informadas por el acreedor (Ej. Empresas de Servicio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2AE2-F3D2-4A38-BC01-211C8A3B959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1084320"/>
            <a:ext cx="2514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rebuchet MS"/>
              </a:rPr>
              <a:t>Informe crediticio erróne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rebuchet MS"/>
              </a:rPr>
              <a:t>Calificación como moroso 1-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1676520"/>
            <a:ext cx="12193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1235160"/>
            <a:ext cx="4343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rebuchet MS"/>
              </a:rPr>
              <a:t>Persona solicita suprimir, rectificar, anular, bloque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5105160" y="2057400"/>
            <a:ext cx="7596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3032280"/>
            <a:ext cx="1371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Nota al Banco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3429000"/>
            <a:ext cx="12189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0120" y="2438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281952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Banc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Corri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77320" y="396252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38880" y="50292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Informa al BCR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267080" y="5562720"/>
            <a:ext cx="28958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19520" y="4908600"/>
            <a:ext cx="144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Modifica Bases de Dat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280" y="3141720"/>
            <a:ext cx="0" cy="1295280"/>
          </a:xfrm>
          <a:prstGeom prst="line">
            <a:avLst/>
          </a:prstGeom>
          <a:ln w="7632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443700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rebuchet MS"/>
              </a:rPr>
              <a:t>Proyecto DNPDP hasta 1000 $ no se inform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2286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rebuchet MS"/>
              </a:rPr>
              <a:t>Corrección de un informe crediticio erróne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27432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Webdings"/>
                <a:ea typeface="Webdings"/>
              </a:rPr>
              <a:t>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257800" y="2033640"/>
          <a:ext cx="2340000" cy="404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57800" y="2033640"/>
                    <a:ext cx="234000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2124000" y="5229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1979640" y="1484280"/>
            <a:ext cx="604800" cy="60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DB31-1485-4331-8F6A-71279B71344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rebuchet MS"/>
              </a:rPr>
              <a:t>DATOS SENSIBL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AAD2-AA0E-4D8F-982D-8651C388856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564000" y="2130480"/>
            <a:ext cx="5329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rebuchet MS"/>
              </a:rPr>
              <a:t>Este es el comienzo de una acción conjunta para la Protección de los </a:t>
            </a:r>
            <a:br>
              <a:rPr sz="4400"/>
            </a:br>
            <a:r>
              <a:rPr b="1" lang="es-ES_tradnl" sz="4400" spc="-1" strike="noStrike">
                <a:solidFill>
                  <a:srgbClr val="ffffff"/>
                </a:solidFill>
                <a:latin typeface="Trebuchet MS"/>
              </a:rPr>
              <a:t>Datos Personal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20920" cy="35733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08000" y="6237360"/>
            <a:ext cx="36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cc"/>
                </a:solidFill>
                <a:latin typeface="Arial"/>
              </a:rPr>
              <a:t>Prof. Dr. Juan Antonio Travies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20894400">
            <a:off x="-25560" y="1080"/>
            <a:ext cx="2846520" cy="2492640"/>
          </a:xfrm>
          <a:prstGeom prst="cloudCallout">
            <a:avLst>
              <a:gd name="adj1" fmla="val 12578"/>
              <a:gd name="adj2" fmla="val 68064"/>
            </a:avLst>
          </a:prstGeom>
          <a:solidFill>
            <a:srgbClr val="0099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4000" y="549360"/>
            <a:ext cx="244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Trebuchet MS"/>
              </a:rPr>
              <a:t>¿Quién es esta mujer para meterse en   mi historia clínica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6600-AAE3-4EEB-A523-58DF20820420}" type="slidenum">
              <a:t>19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75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75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5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5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5790960"/>
            <a:ext cx="9144000" cy="1066680"/>
          </a:xfrm>
          <a:prstGeom prst="rect">
            <a:avLst/>
          </a:prstGeom>
          <a:solidFill>
            <a:srgbClr val="f19b75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rebuchet MS"/>
              </a:rPr>
              <a:t>LA AUTODETERMINACIÓN INFORMATIVA  COMO DERECHO HUMA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38B2-7AEF-43BE-8810-7E0E40814A9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GB" sz="4000" spc="-1" strike="noStrike">
                <a:solidFill>
                  <a:srgbClr val="ffffff"/>
                </a:solidFill>
                <a:latin typeface="Trebuchet MS"/>
              </a:rPr>
              <a:t>Datos Sensibles”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Trebuchet MS"/>
              </a:rPr>
              <a:t>Especialmente protegidos por la ley 25.326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496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Consecuencia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Nuevas políticas</a:t>
            </a: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(en laboratorios 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instituciones de la salu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770440" y="2394000"/>
            <a:ext cx="1565280" cy="11541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179280" y="5445000"/>
            <a:ext cx="1846440" cy="11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B229-C5D2-44DE-B89B-1099B6B47BCD}" type="slidenum">
              <a:t>20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56 0.07878 C 0.11441 0.08411 0.15798 0.08411 0.17326 0.08411 C 0.27031 0.08411 0.36961 0.00464000000000001 0.36927 -0.08225 C 0.36927 -0.03591 0.41909 0.00649 0.46614 0.00464 C 0.51545 0.00464 0.56284 -0.03962 0.56302 -0.0841 C 0.56302 -0.05815 0.58767 -0.03591 0.61284 -0.03591 C 0.63715 -0.03591 0.66232 -0.0563 0.66232 -0.08225 C 0.66232 -0.06557 0.67465 -0.0563 0.68698 -0.05815 C 0.69982 -0.05815 0.71163 -0.06927 0.71198 -0.08225 C 0.71198 -0.07298 0.71823 -0.06742 0.72395 -0.06742 C 0.72743 -0.06742 0.7368 -0.07298 0.7368 -0.0841 C 0.73645 -0.07669 0.7401 -0.07298 0.7434 -0.07298 C 0.7434 -0.07669 0.74965 -0.07669 0.74982 -0.0841 C 0.74965 -0.07669 0.74982 -0.0841 0.75295 -0.07669 C 0.75295 -0.0841 0.75607 -0.07669 0.7559 -0.0841 C 0.75607 -0.07669 0.7559 -0.0841 0.75607 -0.07669 C 0.7592 -0.07669 0.75937 -0.0841 0.7592 -0.07669 C 0.7625 -0.07669 0.7625 -0.0841 0.7625 -0.07669 C 0.76545 -0.07669 0.76545 -0.0841 0.76545 -0.07669 E">
                                      <p:cBhvr>
                                        <p:cTn id="4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rebuchet MS"/>
              </a:rPr>
              <a:t>La Ley protege especialmente a los DATOS SENSIBL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334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AQUELLOS QU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REVELAN ORIGEN RACIAL Y ETNI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OPINIONES POLITIC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CONVICCIONES RELIGIOSAS, FILOSOFICAS O MORALES, AFILIACIÓN SINDICAL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INFORMACION REFERENTE A LA SALUD O VIDA SEXU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7470720" y="1628640"/>
            <a:ext cx="1565280" cy="115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AFD4-8CF7-4AD6-A943-ADBF7B414B8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rebuchet MS"/>
              </a:rPr>
              <a:t>DATOS DE MARKETING Y PUBLICIDA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53C2-55A8-4821-83A8-209F5D1252B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rebuchet MS"/>
              </a:rPr>
              <a:t>La Ley 25.326 trata la PUBLICIDAD y el MARKETING (art.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2743200"/>
            <a:ext cx="525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rebuchet MS"/>
              </a:rPr>
              <a:t>REPARTO 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rebuchet MS"/>
              </a:rPr>
              <a:t>    </a:t>
            </a:r>
            <a:r>
              <a:rPr b="1" lang="es-ES" sz="2400" spc="-1" strike="noStrike">
                <a:solidFill>
                  <a:srgbClr val="eaeaea"/>
                </a:solidFill>
                <a:latin typeface="Trebuchet MS"/>
              </a:rPr>
              <a:t>DOCUMENT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99"/>
                </a:solidFill>
                <a:latin typeface="Trebuchet MS"/>
              </a:rPr>
              <a:t>PUBLICIDA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rebuchet MS"/>
              </a:rPr>
              <a:t>VENTA DIREC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99"/>
                </a:solidFill>
                <a:latin typeface="Trebuchet MS"/>
              </a:rPr>
              <a:t>RECOPILACION 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99"/>
                </a:solidFill>
                <a:latin typeface="Trebuchet MS"/>
              </a:rPr>
              <a:t>    </a:t>
            </a:r>
            <a:r>
              <a:rPr b="1" lang="es-ES" sz="2400" spc="-1" strike="noStrike">
                <a:solidFill>
                  <a:srgbClr val="ccff99"/>
                </a:solidFill>
                <a:latin typeface="Trebuchet MS"/>
              </a:rPr>
              <a:t>DOMICILI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92360" y="2422440"/>
            <a:ext cx="358920" cy="3527640"/>
          </a:xfrm>
          <a:custGeom>
            <a:avLst/>
            <a:gdLst>
              <a:gd name="textAreaLeft" fmla="*/ 0 w 358920"/>
              <a:gd name="textAreaRight" fmla="*/ 129600 w 358920"/>
              <a:gd name="textAreaTop" fmla="*/ 86040 h 3527640"/>
              <a:gd name="textAreaBottom" fmla="*/ 3441600 h 352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44"/>
                  <a:pt x="10800" y="1688"/>
                </a:cubicBezTo>
                <a:lnTo>
                  <a:pt x="10800" y="8996"/>
                </a:lnTo>
                <a:cubicBezTo>
                  <a:pt x="10800" y="9840"/>
                  <a:pt x="16200" y="10684"/>
                  <a:pt x="21600" y="10684"/>
                </a:cubicBezTo>
                <a:cubicBezTo>
                  <a:pt x="16200" y="10684"/>
                  <a:pt x="10800" y="11528"/>
                  <a:pt x="10800" y="12372"/>
                </a:cubicBezTo>
                <a:lnTo>
                  <a:pt x="10800" y="19912"/>
                </a:lnTo>
                <a:cubicBezTo>
                  <a:pt x="10800" y="20756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43280" y="2852640"/>
            <a:ext cx="4067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rebuchet MS"/>
              </a:rPr>
              <a:t>SE PUEDEN TRATAR DATOS PARA ESTABLECER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rebuchet MS"/>
              </a:rPr>
              <a:t>PERFILES CON FINES    PROMOCIONALES COMERCIALES O PUBLICITARI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rebuchet MS"/>
              </a:rPr>
              <a:t>HABITOS DE CONSUM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ED1E-A22A-4FEF-8E34-FF7794F4639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rebuchet MS"/>
              </a:rPr>
              <a:t>RETIRO O BLOQUE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rebuchet MS"/>
              </a:rPr>
              <a:t>TOT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rebuchet MS"/>
              </a:rPr>
              <a:t>PARCI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1871640" cy="6480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276720" y="2133720"/>
            <a:ext cx="1008000" cy="2735280"/>
          </a:xfrm>
          <a:custGeom>
            <a:avLst/>
            <a:gdLst>
              <a:gd name="textAreaLeft" fmla="*/ 0 w 1008000"/>
              <a:gd name="textAreaRight" fmla="*/ 363960 w 1008000"/>
              <a:gd name="textAreaTop" fmla="*/ 71280 h 2735280"/>
              <a:gd name="textAreaBottom" fmla="*/ 266400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530064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rebuchet MS"/>
              </a:rPr>
              <a:t>DEBE INDICARSE LA OPCIÓN AL INTERESA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4788000" y="2997360"/>
            <a:ext cx="172872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5148360" y="3933720"/>
            <a:ext cx="752400" cy="6764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932360" y="4797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rebuchet MS"/>
              </a:rPr>
              <a:t>OTR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262D-2036-4857-9337-0B37A11CDED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000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cc"/>
                </a:solidFill>
                <a:latin typeface="Trebuchet MS"/>
              </a:rPr>
              <a:t>REGISTRO NACIONAL DE BASES DE DATOS PRIVA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7AD9-A853-49B8-B053-F3F3DAA7308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56160" y="2705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Arial"/>
              </a:rPr>
              <a:t>Registro Nacional de Bases de Datos Privada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3528000"/>
            <a:ext cx="800100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eaeaea"/>
                </a:solidFill>
                <a:latin typeface="Arial"/>
              </a:rPr>
              <a:t>Registro obligatorio de bases de datos personales dispuesto por la Ley 25.326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eaeaea"/>
                </a:solidFill>
                <a:latin typeface="Arial"/>
              </a:rPr>
              <a:t>Personas físicas o de existencia ideal privadas que sean titulares de bases de datos personales o realicen tratamiento de información personal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96960" y="698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87680" y="851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51280" y="1628640"/>
            <a:ext cx="1368360" cy="1729080"/>
          </a:xfrm>
          <a:prstGeom prst="downArrow">
            <a:avLst>
              <a:gd name="adj1" fmla="val 50000"/>
              <a:gd name="adj2" fmla="val 31590"/>
            </a:avLst>
          </a:prstGeom>
          <a:solidFill>
            <a:srgbClr val="00cccc">
              <a:alpha val="49000"/>
            </a:srgbClr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1712880" cy="1668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47CC-5E1B-45E1-BA21-15622A378B8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843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4000"/>
              </a:spcBef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99"/>
                </a:solidFill>
                <a:latin typeface="Trebuchet MS"/>
              </a:rPr>
              <a:t>Registro de Bases de Dato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5280" y="1700280"/>
            <a:ext cx="8497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conocer y controlar a los registros, archivos, bases o bancos de dato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las personas podrán conocer qué tipo de información es la que maneja cada base de datos y quién es el responsable de la mism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acudir a dichos registros, archivos, bases o bancos de datos para corregir, suprimir o rectificar el asiento</a:t>
            </a:r>
            <a:r>
              <a:rPr b="1" lang="es-A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se asegura la efectiva tutela de los datos personales</a:t>
            </a:r>
            <a:r>
              <a:rPr b="1" lang="es-ES_tradnl" sz="2400" spc="-1" strike="noStrike">
                <a:solidFill>
                  <a:srgbClr val="0099cc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9720" y="5173560"/>
            <a:ext cx="877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rebuchet MS"/>
              </a:rPr>
              <a:t>se asegura la efectiva tutela de los datos personale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5400000">
            <a:off x="4320360" y="4545720"/>
            <a:ext cx="504720" cy="719280"/>
          </a:xfrm>
          <a:custGeom>
            <a:avLst/>
            <a:gdLst>
              <a:gd name="textAreaLeft" fmla="*/ 78840 w 504720"/>
              <a:gd name="textAreaRight" fmla="*/ 441720 w 504720"/>
              <a:gd name="textAreaTop" fmla="*/ 179640 h 719280"/>
              <a:gd name="textAreaBottom" fmla="*/ 539640 h 719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>
              <a:alpha val="54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 rot="5400000">
            <a:off x="4318920" y="1953360"/>
            <a:ext cx="504720" cy="719280"/>
          </a:xfrm>
          <a:custGeom>
            <a:avLst/>
            <a:gdLst>
              <a:gd name="textAreaLeft" fmla="*/ 78840 w 504720"/>
              <a:gd name="textAreaRight" fmla="*/ 441720 w 504720"/>
              <a:gd name="textAreaTop" fmla="*/ 179640 h 719280"/>
              <a:gd name="textAreaBottom" fmla="*/ 539640 h 719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>
              <a:alpha val="54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8360" y="2637000"/>
            <a:ext cx="8207280" cy="1191240"/>
          </a:xfrm>
          <a:prstGeom prst="rect">
            <a:avLst/>
          </a:prstGeom>
          <a:solidFill>
            <a:srgbClr val="00cccc">
              <a:alpha val="49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o administrativo del Director Nacional de Protección de Datos Personales que implementa a partir del 19/05/05 el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EGISTRO NACIONAL DE BASES DE DAT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b2b2b2">
                  <a:alpha val="40000"/>
                </a:srgbClr>
              </a:gs>
              <a:gs pos="100000">
                <a:srgbClr val="525252">
                  <a:alpha val="60392"/>
                </a:srgbClr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IMPLEMENTACION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8360" y="1557360"/>
            <a:ext cx="8207280" cy="459720"/>
          </a:xfrm>
          <a:prstGeom prst="rect">
            <a:avLst/>
          </a:prstGeom>
          <a:gradFill rotWithShape="0">
            <a:gsLst>
              <a:gs pos="0">
                <a:srgbClr val="00cccc">
                  <a:alpha val="44313"/>
                </a:srgbClr>
              </a:gs>
              <a:gs pos="100000">
                <a:srgbClr val="005e5e">
                  <a:alpha val="60392"/>
                </a:srgbClr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Disposición DNPDP Nº 2/0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21760" y="3917880"/>
            <a:ext cx="33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Aprueba 3 Anex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8000" y="4608360"/>
            <a:ext cx="2879640" cy="1191240"/>
          </a:xfrm>
          <a:prstGeom prst="rect">
            <a:avLst/>
          </a:prstGeom>
          <a:solidFill>
            <a:srgbClr val="00cccc">
              <a:alpha val="40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Anexo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ormulario de Inscripc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5076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32000" y="4608360"/>
            <a:ext cx="2880000" cy="1191240"/>
          </a:xfrm>
          <a:prstGeom prst="rect">
            <a:avLst/>
          </a:prstGeom>
          <a:solidFill>
            <a:srgbClr val="00cccc">
              <a:alpha val="40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Anexo 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structivo del formulari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56360" y="4608360"/>
            <a:ext cx="2879640" cy="1191240"/>
          </a:xfrm>
          <a:prstGeom prst="rect">
            <a:avLst/>
          </a:prstGeom>
          <a:solidFill>
            <a:srgbClr val="00cccc">
              <a:alpha val="40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Anexo 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ormas técnico registra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89BF-9390-42A6-9231-F92B98B7EB9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gradFill rotWithShape="0">
            <a:gsLst>
              <a:gs pos="0">
                <a:srgbClr val="b2b2b2">
                  <a:alpha val="60392"/>
                </a:srgbClr>
              </a:gs>
              <a:gs pos="100000">
                <a:srgbClr val="525252">
                  <a:alpha val="60392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rebuchet MS"/>
              </a:rPr>
              <a:t>Mecanismo de inscripc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35280" y="1268280"/>
            <a:ext cx="5327640" cy="916920"/>
          </a:xfrm>
          <a:prstGeom prst="rect">
            <a:avLst/>
          </a:prstGeom>
          <a:gradFill rotWithShape="0">
            <a:gsLst>
              <a:gs pos="0">
                <a:srgbClr val="00cccc">
                  <a:alpha val="37254"/>
                </a:srgbClr>
              </a:gs>
              <a:gs pos="100000">
                <a:srgbClr val="005e5e">
                  <a:alpha val="60392"/>
                </a:srgbClr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rocedimiento de inscripción y/o modificación para el Registro Nacional de Banco de Dat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35280" y="2781360"/>
            <a:ext cx="5329080" cy="368280"/>
          </a:xfrm>
          <a:prstGeom prst="rect">
            <a:avLst/>
          </a:prstGeom>
          <a:solidFill>
            <a:srgbClr val="00cccc">
              <a:alpha val="60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1- Carga de formulario en Interne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35280" y="4005360"/>
            <a:ext cx="5329080" cy="368280"/>
          </a:xfrm>
          <a:prstGeom prst="rect">
            <a:avLst/>
          </a:prstGeom>
          <a:solidFill>
            <a:srgbClr val="00cccc">
              <a:alpha val="60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2- Remisión de Nota con firma certificad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95640" y="1989000"/>
            <a:ext cx="1008000" cy="720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7072f">
                  <a:alpha val="80392"/>
                </a:srgbClr>
              </a:gs>
              <a:gs pos="100000">
                <a:srgbClr val="710315">
                  <a:alpha val="80392"/>
                </a:srgbClr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95640" y="3213000"/>
            <a:ext cx="1008000" cy="720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7072f">
                  <a:alpha val="80392"/>
                </a:srgbClr>
              </a:gs>
              <a:gs pos="100000">
                <a:srgbClr val="710315">
                  <a:alpha val="80392"/>
                </a:srgbClr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03640" y="3500280"/>
            <a:ext cx="4140360" cy="433440"/>
          </a:xfrm>
          <a:prstGeom prst="wedgeRectCallout">
            <a:avLst>
              <a:gd name="adj1" fmla="val -49541"/>
              <a:gd name="adj2" fmla="val -129120"/>
            </a:avLst>
          </a:prstGeom>
          <a:solidFill>
            <a:srgbClr val="99ccff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rebuchet MS"/>
              </a:rPr>
              <a:t>http://www.jus.gov.ar/datospersonal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35280" y="5229360"/>
            <a:ext cx="5329080" cy="368280"/>
          </a:xfrm>
          <a:prstGeom prst="rect">
            <a:avLst/>
          </a:prstGeom>
          <a:solidFill>
            <a:srgbClr val="00cccc">
              <a:alpha val="60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3- CERTIFICADO DE INSCRIPCI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95640" y="4437000"/>
            <a:ext cx="1008000" cy="720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7072f">
                  <a:alpha val="80392"/>
                </a:srgbClr>
              </a:gs>
              <a:gs pos="100000">
                <a:srgbClr val="710315">
                  <a:alpha val="80392"/>
                </a:srgbClr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85D3-5C28-41A8-A6B8-D1A1F1F6723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rebuchet MS"/>
              </a:rPr>
              <a:t>LA SOCIEDAD DE LA INFORMACIÓ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03CD-2D03-4CC4-99EC-8E5E7E014F0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gradFill rotWithShape="0">
            <a:gsLst>
              <a:gs pos="0">
                <a:srgbClr val="b2b2b2">
                  <a:alpha val="60392"/>
                </a:srgbClr>
              </a:gs>
              <a:gs pos="100000">
                <a:srgbClr val="525252">
                  <a:alpha val="60392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66cc"/>
                </a:solidFill>
                <a:latin typeface="Arial"/>
              </a:rPr>
              <a:t>Mecanismo de inscripc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1324080"/>
            <a:ext cx="8207280" cy="368280"/>
          </a:xfrm>
          <a:prstGeom prst="rect">
            <a:avLst/>
          </a:prstGeom>
          <a:solidFill>
            <a:srgbClr val="00cccc">
              <a:alpha val="60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CERTIFICADO DE INSCRIPCI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468440" y="2138400"/>
            <a:ext cx="6164280" cy="361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8602-6376-44A6-9791-6223B17D542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-360" y="2133720"/>
            <a:ext cx="8893080" cy="28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rebuchet MS"/>
              </a:rPr>
              <a:t>Proximamente se implementará el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rebuchet MS"/>
              </a:rPr>
              <a:t>Registro de Bases de Datos Pública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Trebuchet MS"/>
              </a:rPr>
              <a:t>La Ley 25.326 ordena garantizar la seguridad y confidencialidad de los datos - art. 9°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Trebuchet MS"/>
              </a:rPr>
              <a:t>El Decreto N° 1.558/01, en su artículo 29, establece entre las funciones asignadas a la Dirección Nacional, la de dictar normas y procedimientos  técnicos  relativos a las condiciones de seguridad de los datos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1F08-2560-4BA5-86D6-8DF36C63B9C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cc"/>
                </a:solidFill>
                <a:uFillTx/>
                <a:latin typeface="Trebuchet MS"/>
              </a:rPr>
              <a:t>Criterios Adoptados</a:t>
            </a:r>
            <a:r>
              <a:rPr b="0" lang="es-ES_tradnl" sz="4400" spc="-1" strike="noStrike">
                <a:solidFill>
                  <a:srgbClr val="ffffcc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rebuchet MS"/>
              </a:rPr>
              <a:t>Documento de Seguridad de Datos Persona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3 niveles de seguridad 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 algn="ctr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rebuchet MS"/>
              </a:rPr>
              <a:t>Básic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 algn="ctr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rebuchet MS"/>
              </a:rPr>
              <a:t>Medi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 algn="ctr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rebuchet MS"/>
              </a:rPr>
              <a:t>Crític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Trebuchet MS"/>
              </a:rPr>
              <a:t>A cada nivel le corresponden medidas  de segu-ridad específica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7BE-35D9-4322-B3BD-2690741AA57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192888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900000" y="30492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Argentina se está volviendo Digital, como toda Latinoamérica</a:t>
            </a:r>
            <a:r>
              <a:rPr b="1" i="1" lang="en-US" sz="3200" spc="-1" strike="noStrike">
                <a:solidFill>
                  <a:srgbClr val="0099cc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037C-DB18-4F88-9BAC-5EE7E0E67B9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1116000" y="692280"/>
            <a:ext cx="3168720" cy="18716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332000" y="3645000"/>
            <a:ext cx="6705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Argentina: sede de la 28º Conferencia Internacional sobre la Protección de los Datos Personales y sus Autoridades en el año 200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5219640" y="333360"/>
            <a:ext cx="2367000" cy="2793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64F3-9CE3-4F32-83B5-1016EFEC14D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900000" y="914400"/>
            <a:ext cx="7083360" cy="5538600"/>
            <a:chOff x="900000" y="914400"/>
            <a:chExt cx="7083360" cy="5538600"/>
          </a:xfrm>
        </p:grpSpPr>
        <p:pic>
          <p:nvPicPr>
            <p:cNvPr id="302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900000" y="914400"/>
              <a:ext cx="7083360" cy="55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6127200" y="1174680"/>
              <a:ext cx="1666440" cy="1389600"/>
            </a:xfrm>
            <a:custGeom>
              <a:avLst/>
              <a:gdLst/>
              <a:ahLst/>
              <a:rect l="l" t="t" r="r" b="b"/>
              <a:pathLst>
                <a:path w="1056" h="768">
                  <a:moveTo>
                    <a:pt x="144" y="48"/>
                  </a:moveTo>
                  <a:lnTo>
                    <a:pt x="624" y="0"/>
                  </a:lnTo>
                  <a:lnTo>
                    <a:pt x="960" y="48"/>
                  </a:lnTo>
                  <a:lnTo>
                    <a:pt x="1008" y="240"/>
                  </a:lnTo>
                  <a:lnTo>
                    <a:pt x="1056" y="384"/>
                  </a:lnTo>
                  <a:lnTo>
                    <a:pt x="1008" y="768"/>
                  </a:lnTo>
                  <a:lnTo>
                    <a:pt x="528" y="768"/>
                  </a:lnTo>
                  <a:lnTo>
                    <a:pt x="96" y="768"/>
                  </a:lnTo>
                  <a:lnTo>
                    <a:pt x="0" y="576"/>
                  </a:lnTo>
                  <a:lnTo>
                    <a:pt x="48" y="336"/>
                  </a:lnTo>
                  <a:lnTo>
                    <a:pt x="144" y="48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27200" y="1174680"/>
              <a:ext cx="16664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eaeaea"/>
                  </a:solidFill>
                  <a:latin typeface="Comic Sans MS"/>
                </a:rPr>
                <a:t>AHORA EXIGIMOS UN ESCANEO DE RETINA, ADEMÁS DEL P.I.N.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B770-D47D-4822-B41E-4FEDB374B373}" type="slidenum">
              <a:t>3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rebuchet MS"/>
              </a:rPr>
              <a:t>La Protección: una pared de fuego</a:t>
            </a: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95280" y="2285640"/>
            <a:ext cx="381024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515772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rebuchet MS"/>
              </a:rPr>
              <a:t>Acción conjunta de los tres pode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rebuchet MS"/>
              </a:rPr>
              <a:t>del Estado Argentin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58920" y="1844640"/>
            <a:ext cx="7275600" cy="3413160"/>
          </a:xfrm>
          <a:prstGeom prst="downArrowCallout">
            <a:avLst>
              <a:gd name="adj1" fmla="val 53296"/>
              <a:gd name="adj2" fmla="val 53291"/>
              <a:gd name="adj3" fmla="val 16667"/>
              <a:gd name="adj4" fmla="val 66667"/>
            </a:avLst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Trebuchet MS"/>
              </a:rPr>
              <a:t>Constitución Nacional Art. 4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Trebuchet MS"/>
              </a:rPr>
              <a:t>Ley Nº 25.32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Trebuchet MS"/>
              </a:rPr>
              <a:t>Decreto Reglamentario Nº 1558/200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Trebuchet MS"/>
              </a:rPr>
              <a:t>Jurisprudenc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Trebuchet MS"/>
              </a:rPr>
              <a:t>Disposicion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2266-E42C-493C-9D03-0126EE2BA1C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rebuchet MS"/>
              </a:rPr>
              <a:t>Los Principios y Derech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000" spc="-1" strike="noStrike">
                <a:solidFill>
                  <a:srgbClr val="ffffff"/>
                </a:solidFill>
                <a:latin typeface="Trebuchet MS"/>
              </a:rPr>
              <a:t>El responsable del tratamiento de los dato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000" spc="-1" strike="noStrike">
                <a:solidFill>
                  <a:srgbClr val="ffffff"/>
                </a:solidFill>
                <a:latin typeface="Trebuchet MS"/>
              </a:rPr>
              <a:t>El consentimiento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000" spc="-1" strike="noStrike">
                <a:solidFill>
                  <a:srgbClr val="ffffff"/>
                </a:solidFill>
                <a:latin typeface="Trebuchet MS"/>
              </a:rPr>
              <a:t>El trato leal y lícito - la finalidad. La protección de datos no se circunscribe a los datos bancarios y financiero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000" spc="-1" strike="noStrike">
                <a:solidFill>
                  <a:srgbClr val="ffffff"/>
                </a:solidFill>
                <a:latin typeface="Trebuchet MS"/>
              </a:rPr>
              <a:t>Datos pertinentes y exacto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000" spc="-1" strike="noStrike">
                <a:solidFill>
                  <a:srgbClr val="ffffff"/>
                </a:solidFill>
                <a:latin typeface="Trebuchet MS"/>
              </a:rPr>
              <a:t>Derecho a suprimir, rectificar o bloquear los datos incorrecto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000" spc="-1" strike="noStrike">
                <a:solidFill>
                  <a:srgbClr val="ffffff"/>
                </a:solidFill>
                <a:latin typeface="Trebuchet MS"/>
              </a:rPr>
              <a:t>Derechos de información y acceso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FF0E-1FD8-4627-8873-8A82398CD5D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16000" y="252360"/>
            <a:ext cx="8820000" cy="6272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404640"/>
            <a:ext cx="9144000" cy="9471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eaeaea"/>
                </a:solidFill>
                <a:latin typeface="Trebuchet MS"/>
              </a:rPr>
              <a:t>Panorama Mundial del Nivel de Protección de Dat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08360" y="5661000"/>
            <a:ext cx="5102280" cy="13107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aeaea"/>
                </a:solidFill>
                <a:latin typeface="Trebuchet MS"/>
              </a:rPr>
              <a:t>Azul – Leyes de protección adecuadas y completa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3300"/>
                </a:solidFill>
                <a:latin typeface="Trebuchet MS"/>
              </a:rPr>
              <a:t>Rojo – Esfuerzos pendientes por implementar ley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9900"/>
                </a:solidFill>
                <a:latin typeface="Trebuchet MS"/>
              </a:rPr>
              <a:t>Beige – Sin Le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1920" y="6553080"/>
            <a:ext cx="312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aeaea"/>
                </a:solidFill>
                <a:latin typeface="Arial"/>
              </a:rPr>
              <a:t>Fuente: Privacy International, 200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C00D-833C-4AB3-AA39-53226CC2D0B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rebuchet MS"/>
              </a:rPr>
              <a:t>UNION EUROPEA</a:t>
            </a:r>
            <a:br>
              <a:rPr sz="4000"/>
            </a:br>
            <a:r>
              <a:rPr b="1" i="1" lang="es-ES_tradnl" sz="4000" spc="-1" strike="noStrike">
                <a:solidFill>
                  <a:srgbClr val="ffffff"/>
                </a:solidFill>
                <a:latin typeface="Trebuchet MS"/>
              </a:rPr>
              <a:t> Adecuación de la ley 25.326 a la Directiva 95/46/C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01440" y="2855520"/>
            <a:ext cx="7545240" cy="23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rebuchet MS"/>
              </a:rPr>
              <a:t>¿Qué significa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i="1" lang="es-ES_tradnl" sz="3600" spc="-1" strike="noStrike">
                <a:solidFill>
                  <a:srgbClr val="ffffff"/>
                </a:solidFill>
                <a:latin typeface="Trebuchet MS"/>
              </a:rPr>
              <a:t>No hay restricciones al envío de datos desde la Unión Europea a Argentin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DDF2-594B-4AE0-AF7B-2A5CAADD620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rebuchet MS"/>
              </a:rPr>
              <a:t>EEUU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569440" cy="381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Sistema  “Safe Harbour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Aceptado por la 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Organo de Control: Federal Trade Comission en el marco de las relaciones de consu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5AC8-EC3A-4C15-A048-8727FFEA79D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0" y="0"/>
          <a:ext cx="9144000" cy="54770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47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 txBox="1"/>
          <p:nvPr/>
        </p:nvSpPr>
        <p:spPr>
          <a:xfrm>
            <a:off x="863640" y="339840"/>
            <a:ext cx="2771640" cy="857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nion Europea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istema Vertical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508720" y="333360"/>
            <a:ext cx="2590560" cy="857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stados Unidos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istema Horizontal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1547640" y="1700280"/>
            <a:ext cx="1511640" cy="3241440"/>
          </a:xfrm>
          <a:prstGeom prst="rect">
            <a:avLst/>
          </a:prstGeom>
          <a:solidFill>
            <a:srgbClr val="00ffcc">
              <a:alpha val="49000"/>
            </a:srgbClr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tecció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rech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uman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88000" y="3716280"/>
            <a:ext cx="4176720" cy="1225440"/>
          </a:xfrm>
          <a:prstGeom prst="rect">
            <a:avLst/>
          </a:prstGeom>
          <a:solidFill>
            <a:srgbClr val="00ffcc">
              <a:alpha val="49000"/>
            </a:srgbClr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afe Harbou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IDO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D98A-D031-4E80-818A-7A538FD9EB4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23:10:13Z</dcterms:created>
  <dc:creator>Mariano</dc:creator>
  <dc:description/>
  <dc:language>en-US</dc:language>
  <cp:lastModifiedBy>MINISTERIO DE JUSTICIA</cp:lastModifiedBy>
  <cp:lastPrinted>1904-01-01T00:00:00Z</cp:lastPrinted>
  <dcterms:modified xsi:type="dcterms:W3CDTF">2005-11-23T14:35:02Z</dcterms:modified>
  <cp:revision>101</cp:revision>
  <dc:subject/>
  <dc:title>Argentine Data Protection Commissioner</dc:title>
</cp:coreProperties>
</file>