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  <p:custShowLst>
    <p:custShow name="uno" id="0">
      <p:sldLst>
        <p:sld r:id="rId6"/>
      </p:sldLst>
    </p:custShow>
    <p:custShow name="dos" id="1">
      <p:sldLst>
        <p:sld r:id="rId7"/>
        <p:sld r:id="rId8"/>
        <p:sld r:id="rId9"/>
        <p:sld r:id="rId10"/>
        <p:sld r:id="rId11"/>
      </p:sldLst>
    </p:custShow>
    <p:custShow name="tres" id="2">
      <p:sldLst>
        <p:sld r:id="rId12"/>
        <p:sld r:id="rId13"/>
        <p:sld r:id="rId14"/>
      </p:sldLst>
    </p:custShow>
    <p:custShow name="cuatro" id="3">
      <p:sldLst>
        <p:sld r:id="rId15"/>
        <p:sld r:id="rId16"/>
      </p:sldLst>
    </p:custShow>
    <p:custShow name="cinco" id="4">
      <p:sldLst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0BB2-2946-4248-87F9-3E167201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D85C-AC4B-4CE0-BC72-64DF5D40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A220-7BCA-4489-8640-0311D872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98F-C2A7-4DE7-AF56-C324CD94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242D-BB20-47C8-8887-667DC89D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6792-16C4-475E-A07B-B9DB0B50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5CA2-764A-4F86-913A-F9A0BFF2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281B-C657-47BA-BBC4-4560D3FB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65F3-5B97-4F9A-B7D7-D9579681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E72C-0B81-475C-825E-88131CA2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F0E2-F0E4-451B-B4EE-346E3EAC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2563-CB3F-4EF2-AA60-EE6646FC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92A7-48D8-4808-B9F4-F9CD19C5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2F89-972E-410B-9380-227E37BC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F027-4566-426E-84EA-AB428408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3C43-5D6A-4CB5-9069-0E8D981C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689B-A938-4D3E-BD3E-922F529A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180C-024F-4A2E-B37B-82FC4069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AE8A-0787-4462-910F-E4DC8F2C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5B45-72F9-43B5-AA15-86E20293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41FA-B8B3-4C7F-838B-C9687138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6E2-D054-442E-9EC7-EB96CE9E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EC3-2C75-4FAA-AB7B-9C718B7A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309-24E6-493F-9D5E-2C2F892C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3A0B-0162-4AAE-8E91-DC0A4E0B2AC2}" type="slidenum">
              <a:rPr b="0" lang="es-A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6f0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CD7D-34EA-4E2D-9AAC-EEA8CCFF7241}" type="slidenum">
              <a:rPr b="0" lang="es-A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6699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C.P.C.E.C.A.B.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rotección de Datos Personales Ley 25.32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ilvia G. Igle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ccff"/>
                </a:solidFill>
                <a:latin typeface="Arial"/>
              </a:rPr>
              <a:t>siglesias@it-secbusiness.com.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andra Rubi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cccff"/>
                </a:solidFill>
                <a:latin typeface="Arial"/>
              </a:rPr>
              <a:t>srubio@it-secbusiness.com.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Responsabilidad Solidaria: </a:t>
            </a:r>
            <a:br>
              <a:rPr sz="2800"/>
            </a:b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esión de los Datos Personales</a:t>
            </a:r>
            <a:br>
              <a:rPr sz="5100"/>
            </a:br>
            <a:br>
              <a:rPr sz="51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l Consentimiento </a:t>
            </a:r>
            <a:r>
              <a:rPr b="1" lang="es-AR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es necesario cuando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Así lo disponga una l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Se obtengan de fuentes de acceso públ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Se recabe para el ejercicio de las funciones del Estado o en virtud de una obligación leg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Se traten de datos limitados a: Nombre, DNI, CUIT/CUIL, Ocupación, Fecha de Nacimiento y Domicil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Deriben de una relación contractual, científica o profesional y resulten necesarios para el cumplimiento de la mis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Responsabilidad Solidaria: </a:t>
            </a:r>
            <a:br>
              <a:rPr sz="2800"/>
            </a:b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Cesión de los Datos Pers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Se traten de operaciones que se realicen con entidades financieras y de las informaciones que reciban de sus clientes  (art. 39 Ley 21.52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 Cesión es entre dependencias de los órganos del Esta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Se trate de Datos Personales relativos a la Salud y sea necesario por razones de Salud Pública, en tanto se preserve la identidad de los Titulares de los Dat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Se hubiera aplicado un PROCEDIMIENTO DE DISOCIACIÓN de la información, de modo que los Titulares de los Datos NO sean identificab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enalidades</a:t>
            </a:r>
            <a:br>
              <a:rPr sz="2800"/>
            </a:b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ontempladas en el Código Penal: </a:t>
            </a:r>
            <a:br>
              <a:rPr sz="2800"/>
            </a:b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Prisión y antecente para Demanda Civil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rt. 117B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1 mes a 2 años al que insertara o hiciere insertar a sabiendas datos fal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6 meses a 3 años al que proporcionara a un tercero, a sabiendas, información fal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La escala se elevará en la mitad del mínimo y del máximo cuando el hecho derive en perjuicio de una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28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rt. 157B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1 mes a 2 años al que a sabiendas e ilegítimamente o violando sistemas de confidencialidad y seguridad  de datos, accediere de cualquier forma a un banco de datos pers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Revelare a otro información registrada en un banco de datos personales cuyo secreto estuviera obligado a preservar por disposición de una l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523880"/>
            <a:ext cx="951120" cy="534960"/>
          </a:xfrm>
          <a:prstGeom prst="rightArrow">
            <a:avLst>
              <a:gd name="adj1" fmla="val 50000"/>
              <a:gd name="adj2" fmla="val 44448"/>
            </a:avLst>
          </a:prstGeom>
          <a:gradFill rotWithShape="0">
            <a:gsLst>
              <a:gs pos="0">
                <a:srgbClr val="99ff66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1523880"/>
            <a:ext cx="950760" cy="534960"/>
          </a:xfrm>
          <a:prstGeom prst="rightArrow">
            <a:avLst>
              <a:gd name="adj1" fmla="val 50000"/>
              <a:gd name="adj2" fmla="val 44431"/>
            </a:avLst>
          </a:prstGeom>
          <a:gradFill rotWithShape="0">
            <a:gsLst>
              <a:gs pos="0">
                <a:srgbClr val="99ff66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enalidades</a:t>
            </a:r>
            <a:br>
              <a:rPr sz="2800"/>
            </a:b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Sanciones Aplicables por la DNP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62120" y="1752480"/>
          <a:ext cx="8381880" cy="4530960"/>
        </p:xfrm>
        <a:graphic>
          <a:graphicData uri="http://schemas.openxmlformats.org/drawingml/2006/table">
            <a:tbl>
              <a:tblPr/>
              <a:tblGrid>
                <a:gridCol w="2666880"/>
                <a:gridCol w="2743200"/>
                <a:gridCol w="2971800"/>
              </a:tblGrid>
              <a:tr h="453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raccion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80880" indent="-38088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80880" indent="-3808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80880" indent="-380880">
                        <a:spcBef>
                          <a:spcPts val="499"/>
                        </a:spcBef>
                        <a:buClr>
                          <a:srgbClr val="6699ff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ta 2   Apercibimiento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80880" indent="-380880">
                        <a:spcBef>
                          <a:spcPts val="499"/>
                        </a:spcBef>
                        <a:buClr>
                          <a:srgbClr val="6699ff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/o multa de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80880" indent="-3808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 1.000 a  3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raccion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80880" indent="-38088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80880" indent="-3808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80880" indent="-380880">
                        <a:spcBef>
                          <a:spcPts val="499"/>
                        </a:spcBef>
                        <a:buClr>
                          <a:srgbClr val="6699ff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ta 4 Apercibimient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80880" indent="-380880">
                        <a:spcBef>
                          <a:spcPts val="499"/>
                        </a:spcBef>
                        <a:buClr>
                          <a:srgbClr val="6699ff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spensión de 1 a 30 dí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80880" indent="-380880">
                        <a:spcBef>
                          <a:spcPts val="499"/>
                        </a:spcBef>
                        <a:buClr>
                          <a:srgbClr val="6699ff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/o multa de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80880" indent="-3808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 3.001 a  5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80880" indent="-3808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raccion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80880" indent="-38088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y Gra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80880" indent="-3808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80880" indent="-380880">
                        <a:spcBef>
                          <a:spcPts val="499"/>
                        </a:spcBef>
                        <a:buClr>
                          <a:srgbClr val="6699ff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ta 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80880" indent="-3808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cibimient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80880" indent="-380880">
                        <a:spcBef>
                          <a:spcPts val="499"/>
                        </a:spcBef>
                        <a:buClr>
                          <a:srgbClr val="6699ff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spensión de 31 a 365 dí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80880" indent="-380880">
                        <a:spcBef>
                          <a:spcPts val="499"/>
                        </a:spcBef>
                        <a:buClr>
                          <a:srgbClr val="6699ff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usura o          Cancelación del banco de dat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80880" indent="-380880">
                        <a:spcBef>
                          <a:spcPts val="499"/>
                        </a:spcBef>
                        <a:buClr>
                          <a:srgbClr val="6699ff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/o multa de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80880" indent="-3808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 50.001 a  10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Tipo de Empresas que deben inscribi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676520"/>
            <a:ext cx="950760" cy="534960"/>
          </a:xfrm>
          <a:prstGeom prst="rightArrow">
            <a:avLst>
              <a:gd name="adj1" fmla="val 50000"/>
              <a:gd name="adj2" fmla="val 44431"/>
            </a:avLst>
          </a:prstGeom>
          <a:gradFill rotWithShape="0">
            <a:gsLst>
              <a:gs pos="0">
                <a:srgbClr val="99ff66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657600"/>
            <a:ext cx="950760" cy="534960"/>
          </a:xfrm>
          <a:prstGeom prst="rightArrow">
            <a:avLst>
              <a:gd name="adj1" fmla="val 50000"/>
              <a:gd name="adj2" fmla="val 44431"/>
            </a:avLst>
          </a:prstGeom>
          <a:gradFill rotWithShape="0">
            <a:gsLst>
              <a:gs pos="0">
                <a:srgbClr val="99ff66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876920"/>
            <a:ext cx="950760" cy="533160"/>
          </a:xfrm>
          <a:prstGeom prst="rightArrow">
            <a:avLst>
              <a:gd name="adj1" fmla="val 50000"/>
              <a:gd name="adj2" fmla="val 44581"/>
            </a:avLst>
          </a:prstGeom>
          <a:gradFill rotWithShape="0">
            <a:gsLst>
              <a:gs pos="0">
                <a:srgbClr val="99ff66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666880"/>
            <a:ext cx="950760" cy="534960"/>
          </a:xfrm>
          <a:prstGeom prst="rightArrow">
            <a:avLst>
              <a:gd name="adj1" fmla="val 50000"/>
              <a:gd name="adj2" fmla="val 44431"/>
            </a:avLst>
          </a:prstGeom>
          <a:gradFill rotWithShape="0">
            <a:gsLst>
              <a:gs pos="0">
                <a:srgbClr val="99ff66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8195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or la liquidación y pago de sueldos: Banco, Anses, AFIP, Sindic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7524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as que comparten su bases por tercerización de tareas: instalaciones, service post venta, liquidación de suel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37339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as que tansfieren información por su operatoria con otras empresas: medicina laboral, selección de personal, encuestas de satisfacción, marketing de productos y servicios, call cen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4952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as que al tener más de una oficina transfieren la información por redes lógicas, bolsines, servicios de cadet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Muchas Gracias por su particip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nsultas a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ilvia Igles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iglesias@it-secbusiness.com.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66bc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ffffff"/>
                </a:solidFill>
                <a:latin typeface="Times New Roman"/>
              </a:rPr>
              <a:t>Temario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901"/>
              </a:spcBef>
              <a:spcAft>
                <a:spcPts val="901"/>
              </a:spcAft>
              <a:buClr>
                <a:srgbClr val="66ff33"/>
              </a:buClr>
              <a:buSzPct val="120000"/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9999ff"/>
                </a:solidFill>
                <a:uFillTx/>
                <a:latin typeface="Arial"/>
                <a:hlinkClick r:id="rId1" action="ppaction://hlinksldjump"/>
              </a:rPr>
              <a:t>Protección de Datos Personales_x000b_Ley 25.326: Obj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spcBef>
                <a:spcPts val="901"/>
              </a:spcBef>
              <a:spcAft>
                <a:spcPts val="901"/>
              </a:spcAft>
              <a:buClr>
                <a:srgbClr val="66ff33"/>
              </a:buClr>
              <a:buSzPct val="120000"/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Los Estudios  como sujetos obligados a inscribi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spcBef>
                <a:spcPts val="901"/>
              </a:spcBef>
              <a:spcAft>
                <a:spcPts val="901"/>
              </a:spcAft>
              <a:buClr>
                <a:srgbClr val="66ff33"/>
              </a:buClr>
              <a:buSzPct val="120000"/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Responsabilidad Solidaria: Cesión de los Datos Pers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spcBef>
                <a:spcPts val="901"/>
              </a:spcBef>
              <a:spcAft>
                <a:spcPts val="901"/>
              </a:spcAft>
              <a:buClr>
                <a:srgbClr val="66ff33"/>
              </a:buClr>
              <a:buSzPct val="120000"/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Penalidades </a:t>
            </a:r>
            <a:r>
              <a:rPr b="0" lang="es-MX" sz="24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Contempladas en el Código Penal: Prisión y antecente para Demanda Civ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spcBef>
                <a:spcPts val="901"/>
              </a:spcBef>
              <a:spcAft>
                <a:spcPts val="901"/>
              </a:spcAft>
              <a:buClr>
                <a:srgbClr val="66ff33"/>
              </a:buClr>
              <a:buSzPct val="120000"/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9999ff"/>
                </a:solidFill>
                <a:uFillTx/>
                <a:latin typeface="Arial"/>
                <a:hlinkClick r:id="rId6" action="ppaction://hlinksldjump"/>
              </a:rPr>
              <a:t>Tipo de Empresas que deben inscribi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6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rotección de Datos Personales</a:t>
            </a:r>
            <a:br>
              <a:rPr sz="2800"/>
            </a:b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Ley 25.326: Obj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66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Archivos, registros, bases o bancos de datos privados u otros medios de registro de datos destinados a dar informes, que se cedan, se compartan o transfieran a terceros, a título gratuito u oneroso o para el  tratamiento y/o procesamiento de los da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191120" y="4267080"/>
            <a:ext cx="4647960" cy="2362320"/>
          </a:xfrm>
          <a:prstGeom prst="flowChartOnlineStorage">
            <a:avLst/>
          </a:prstGeom>
          <a:gradFill rotWithShape="0">
            <a:gsLst>
              <a:gs pos="0">
                <a:srgbClr val="66ff33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752480"/>
            <a:ext cx="4648320" cy="2362320"/>
          </a:xfrm>
          <a:prstGeom prst="flowChartOnlineStorage">
            <a:avLst/>
          </a:prstGeom>
          <a:gradFill rotWithShape="0">
            <a:gsLst>
              <a:gs pos="0">
                <a:srgbClr val="66ff33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Los Estudios,</a:t>
            </a:r>
            <a:br>
              <a:rPr sz="2800"/>
            </a:b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mo sujetos obligados a inscribi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19360" y="457200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Bases Excluí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s que sean para uso </a:t>
            </a: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exclusivamente personal.</a:t>
            </a: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143000" y="1905120"/>
            <a:ext cx="3200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Bases Incluí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s que se obtienen por el  outsourcing de tar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Los Estudios,</a:t>
            </a:r>
            <a:br>
              <a:rPr sz="2800"/>
            </a:b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mo sujetos obligados a inscribi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 algn="ctr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jemplo de tareas terceriz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iquidación de Suel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Intermediación en el pago de haberes a través de Ban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valuación del Pers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Selección de Pers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Los Estudios,</a:t>
            </a:r>
            <a:br>
              <a:rPr sz="2800"/>
            </a:b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mo sujetos obligados a inscribi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jemplo de tareas terceriz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Bases para la circularización de deudores y provee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Gestión de cobranz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Seguimiento de moro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Impresión de factu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Los Estudios,</a:t>
            </a:r>
            <a:br>
              <a:rPr sz="2800"/>
            </a:b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mo sujetos obligados a inscribi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jemplo de tareas terceriz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Administración total o pa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Departamento de Auditoría Intern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iquidaciones de Ganacias de 4ta. Categoría y/o Bienes Personales al personal de la Empre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Los Estudios,</a:t>
            </a:r>
            <a:br>
              <a:rPr sz="2800"/>
            </a:b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mo sujetos obligados a inscribi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jemplo de tareas terceriz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Transcripción  a Libros Rubricados o no,  de datos de Empleados, Proveedores y/o Cl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Guarda de los Libros  Rubricados o no, del punto anter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Guarda de documentos físicos que contengan datos personales (facturas, recibos de haberes, legajos del personal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Guarda o backup de archivos lógicos que contengan datos de empleados, clientes, provedor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Responsabilidad Solidaria: </a:t>
            </a:r>
            <a:br>
              <a:rPr sz="2800"/>
            </a:b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esión de los Datos Personale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Se autoriza la Cesión de Datos Personale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ara cumplir con los fines directamente relacionados con interés legítimo del Cedente y del Cesionario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on el previo consentimiento del Titular de los Datos, otorgado una vez que se le hubiere informado sobre la finalidad de la Cesión e identificado al Cesionario o provisto los elementos que permitan hacer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L CESIONARIO QUEDA SUJETO A LAS MISMAS OBLIGACIONES LEGALES Y REGLAMENTARIAS DEL CEDENTE Y AMBOS RESPONDERÁN SOLIDARIA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6:43:37Z</dcterms:created>
  <dc:creator>IT For Secures Business</dc:creator>
  <dc:description/>
  <dc:language>en-US</dc:language>
  <cp:lastModifiedBy>ALEJANDRO CUCCHETTI</cp:lastModifiedBy>
  <dcterms:modified xsi:type="dcterms:W3CDTF">2005-11-23T15:11:44Z</dcterms:modified>
  <cp:revision>55</cp:revision>
  <dc:subject/>
  <dc:title>Ley 25.32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pietario">
    <vt:lpwstr>Iglesias, Rubio &amp; Asoc.</vt:lpwstr>
  </property>
  <property fmtid="{D5CDD505-2E9C-101B-9397-08002B2CF9AE}" pid="3" name="Proyecto">
    <vt:lpwstr>Ley 25326</vt:lpwstr>
  </property>
</Properties>
</file>