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366E-2803-49E0-84B8-26D61D5E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65F8-B77A-47AC-86AB-9DCDA119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77B9-E2F0-4EC7-93D4-F2EACF3B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B306-5548-4FC9-A611-B050484A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356D-AC21-4EBD-AF49-2ED16507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9319-40CF-4853-86CA-B4C1EDEB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E74A-BA43-4688-82AC-9661F593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1213-5A30-4B77-8DC6-2D367C5E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3611-4F74-43E0-B767-D6055AB2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69F1-9B18-429E-8DEE-020045E9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ADDA-0C54-4AAA-A6F6-FD85466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CAFD-F3A8-4F67-8B3B-32B41209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5FD6-AD28-42D8-B2E1-74DE85FD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EF7E-D46F-4CBD-8932-B11B03A1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247C-9754-4EA6-99C6-7AB8AF15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DDCD-A86F-4D88-B92A-B911E31D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001D-719D-4063-8551-62CD302D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5147-ED6A-4D39-83E2-D2CE2D04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D39B-8DBF-42FA-ABE8-9F3E1639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23F7-8095-4B32-A128-63981639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FE15-621A-4A6B-90F9-5473CF24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14CB-9A6A-45CE-A293-B3C39B7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E497-481A-4228-A84A-60C3057B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BEA8-0627-4614-AAEF-17F07A33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E881-9D8E-4440-BD68-6F68975CE69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880400" y="5757840"/>
            <a:ext cx="101268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16120" y="1822320"/>
            <a:ext cx="7427880" cy="2729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149480"/>
            <a:ext cx="2867040" cy="3401640"/>
            <a:chOff x="0" y="1149480"/>
            <a:chExt cx="2867040" cy="3401640"/>
          </a:xfrm>
        </p:grpSpPr>
        <p:sp>
          <p:nvSpPr>
            <p:cNvPr id="55" name=""/>
            <p:cNvSpPr/>
            <p:nvPr/>
          </p:nvSpPr>
          <p:spPr>
            <a:xfrm>
              <a:off x="573120" y="3860640"/>
              <a:ext cx="576360" cy="6904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1821600"/>
              <a:ext cx="574560" cy="6926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1320" y="1149480"/>
              <a:ext cx="585720" cy="684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1560" y="3860640"/>
              <a:ext cx="583920" cy="690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1320" y="1821600"/>
              <a:ext cx="585720" cy="692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504160"/>
              <a:ext cx="583920" cy="682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04160"/>
              <a:ext cx="582480" cy="6822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16120" y="2504160"/>
              <a:ext cx="574560" cy="682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3120" y="3176280"/>
              <a:ext cx="576360" cy="694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1560" y="3176280"/>
              <a:ext cx="583920" cy="694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C65F-BF9C-4959-9555-6A216C6EFA2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rbisimages.com/search/ReadyToBuyEvents/InfoPageImageOnClick.asp?ID=14098613&amp;SearchHistoryID=1&amp;Image=http://adams.corbisimages.com/Thumbs%5C640x480%5C14%5C09%5C86%5CRF242890.JPEG&amp;info=Conference+Table+Image+100,+photographer++Ca.+2000&amp;id=IOB005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8296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DOS ANORMALES DE FINALIZACIÓN DE PROCESO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ÁLCULO DE LA BASE REGULATORIA DE HONORAR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59320" y="333360"/>
            <a:ext cx="4757760" cy="118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5081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tor: D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io Rozen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dor: Dr. Daniel Iacob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Signing a Legal Document&#13;&#10; Ca. 2000&#13;&#10;"/>
          <p:cNvPicPr/>
          <p:nvPr/>
        </p:nvPicPr>
        <p:blipFill>
          <a:blip r:embed="rId2"/>
          <a:srcRect l="0" t="0" r="0" b="6253"/>
          <a:stretch/>
        </p:blipFill>
        <p:spPr>
          <a:xfrm>
            <a:off x="6659640" y="4827600"/>
            <a:ext cx="2111400" cy="1663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3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- Desist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5480" y="2196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Desistimiento del Proceso (art.3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Desistimiento del Derecho (art.30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st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1068480"/>
            <a:ext cx="205128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 Transacció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art. 308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95480" y="2196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Homolog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st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51640" y="2171880"/>
            <a:ext cx="3247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- Conciliació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art. 309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95480" y="2196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as (art.7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Image Preview"/>
          <p:cNvPicPr/>
          <p:nvPr/>
        </p:nvPicPr>
        <p:blipFill>
          <a:blip r:embed="rId1"/>
          <a:stretch/>
        </p:blipFill>
        <p:spPr>
          <a:xfrm>
            <a:off x="5851440" y="2389320"/>
            <a:ext cx="23209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- Perención de la Instancia (art.310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95480" y="2196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incipio disposi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roceso ordinario en primera inst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roceso sumario en primera inst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roceso ejecu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ncid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 cám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ntimación prev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Quienes pueden pedir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fectos de la caducidad (art.31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11- Liquidación de la Base Regulato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96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se Regulatoria - Concep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spera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 rechaza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timación a instar a la prosecución de la ca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Que se haga efectivo el apercibimiento: cadu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timación al cálculo de la base regula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Que se haga efectivo el apercibimiento: que el cálculo lo efectúe el perito con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álculo de la base regula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 apruebe la base regula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olicitud de regulación de honor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659640" y="2060640"/>
            <a:ext cx="20113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chas gracias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90960" y="4273560"/>
            <a:ext cx="1373040" cy="1603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2160" y="4797360"/>
            <a:ext cx="1743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ceso Típico - Etap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tegración de la Lit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tapa de Prue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tapa de Sen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la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sist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ransa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ncili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erención de la Insta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550"/>
              </a:spcBef>
              <a:buClr>
                <a:srgbClr val="00007d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iquidación de la Base Regula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9239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 Proceso Típico - Eta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6676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ción de la 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02240" y="2060640"/>
            <a:ext cx="2337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 Integración de la 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076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ificación a la dema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estación con recon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cedimiento en fuero del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tación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tación en garant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27640" y="2057400"/>
            <a:ext cx="2590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 Etapa de Prue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tos de apertura a 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yectos de sen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signación del pe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nference Table&#13;&#10; Image 100, photographer &#13;&#10; Ca. 2000&#13;&#10;">
            <a:hlinkClick r:id="rId1"/>
          </p:cNvPr>
          <p:cNvPicPr/>
          <p:nvPr/>
        </p:nvPicPr>
        <p:blipFill>
          <a:blip r:embed="rId2"/>
          <a:srcRect l="0" t="0" r="0" b="9880"/>
          <a:stretch/>
        </p:blipFill>
        <p:spPr>
          <a:xfrm>
            <a:off x="5940360" y="2725560"/>
            <a:ext cx="3024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 Etapa de Sen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eg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utos para sen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validación de nu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n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ueba y Hec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eredicto y Sen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mara – Conocimiento p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rte Suprema – Conocimiento limi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69040" y="1916280"/>
            <a:ext cx="2249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- Costas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art. 68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96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 perdid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el orden cau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és en 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icia necesaria - mé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posición a 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encimiento parcial y mutuo (art. 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50% a la parte no condenada en costas (art. 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443640" y="2205000"/>
            <a:ext cx="22226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24433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DOS ANORMALES DE FINALIZACIÓN DE PROCESOS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Signing a Legal Document&#13;&#10; Ca. 2000&#13;&#10;"/>
          <p:cNvPicPr/>
          <p:nvPr/>
        </p:nvPicPr>
        <p:blipFill>
          <a:blip r:embed="rId1"/>
          <a:srcRect l="0" t="0" r="0" b="6253"/>
          <a:stretch/>
        </p:blipFill>
        <p:spPr>
          <a:xfrm>
            <a:off x="539640" y="4941720"/>
            <a:ext cx="2111400" cy="166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880400" y="5757840"/>
            <a:ext cx="1012680" cy="839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3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- Alla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95480" y="2196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st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Liberación de cost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86480" y="1336680"/>
            <a:ext cx="294624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7:44:36Z</dcterms:created>
  <dc:creator>Cristiani Shimomura</dc:creator>
  <dc:description/>
  <dc:language>en-US</dc:language>
  <cp:lastModifiedBy>Thelma Karen Stretcu</cp:lastModifiedBy>
  <dcterms:modified xsi:type="dcterms:W3CDTF">2005-11-14T13:53:44Z</dcterms:modified>
  <cp:revision>20</cp:revision>
  <dc:subject/>
  <dc:title>MODOS ANORMALES DE FINALIZACIÓN DE PROCESOS  CÁLCULO DE LA BASE REGULATORIA DE HONORARIOS</dc:title>
</cp:coreProperties>
</file>