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2F61-F291-4A53-BF83-6EC26636E6F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s intereses y sectores económicos que prefiere un inversor difieren y se complementan con los de los demás, aumentando las posibilidades de obtener información relev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a miembro tiene un círculo de relaciones comerciales propio que se suma a los de sus pa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o todos los empresarios participan de cada ronda. Se divide el trabajo entre personas confiables por su capacidad y honest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demás aparecen las posibilidades de coinversión y apalancamiento de los recursos financieros y la capacidad de gestión y asesora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FD5-D6E5-4CBC-A45D-34F08EEE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F8D2-A7B4-45D4-8BFD-EDDBA23E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036-733A-48CC-918C-F5C8617A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726-BB68-4E62-BD71-6FECABEA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8C6E-024F-46CE-841C-0F573A53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5E6-4245-4C52-8979-93B0F31A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D56-49FA-4445-8F11-C0A1D950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6D66-ACC3-4C4A-A808-CCF51070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865F-FD21-492D-83B5-51E9D47B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77C-FAF2-4C81-9E24-9AB42EBB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FAE-F866-41DD-95E3-F3367243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D118-0839-4425-81A0-A945F08E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0416-910A-4AFE-9257-7C9C14177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41440" y="1700280"/>
            <a:ext cx="791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o financiar y desarroll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egocios en las econom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gi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1480" y="4437000"/>
            <a:ext cx="73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Un nuevo conjunto de instr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nto los fondos como las redes descansan sobre tres “pat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17480" y="2924280"/>
            <a:ext cx="7888320" cy="3021120"/>
            <a:chOff x="717480" y="2924280"/>
            <a:chExt cx="7888320" cy="3021120"/>
          </a:xfrm>
        </p:grpSpPr>
        <p:sp>
          <p:nvSpPr>
            <p:cNvPr id="235" name=""/>
            <p:cNvSpPr/>
            <p:nvPr/>
          </p:nvSpPr>
          <p:spPr>
            <a:xfrm>
              <a:off x="2556000" y="5227920"/>
              <a:ext cx="3765600" cy="717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1517b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51517b"/>
                  </a:solidFill>
                  <a:latin typeface="Arial"/>
                </a:rPr>
                <a:t>Flujo de Proyec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6680" y="3103560"/>
              <a:ext cx="1971720" cy="125604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5400000">
              <a:off x="4124520" y="4537800"/>
              <a:ext cx="536400" cy="538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8252400">
              <a:off x="3047400" y="4179600"/>
              <a:ext cx="538200" cy="536760"/>
            </a:xfrm>
            <a:prstGeom prst="rightArrow">
              <a:avLst>
                <a:gd name="adj1" fmla="val 50000"/>
                <a:gd name="adj2" fmla="val 250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3546600">
              <a:off x="5199120" y="4179240"/>
              <a:ext cx="536760" cy="538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86320" y="3462480"/>
              <a:ext cx="1612800" cy="53820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on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7480" y="2924280"/>
              <a:ext cx="1612800" cy="717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1517b"/>
                  </a:solidFill>
                  <a:latin typeface="Arial"/>
                </a:rPr>
                <a:t>Equip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51517b"/>
                  </a:solidFill>
                  <a:latin typeface="Arial"/>
                </a:rPr>
                <a:t>geren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4800" y="2924280"/>
              <a:ext cx="2151000" cy="717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1517b"/>
                  </a:solidFill>
                  <a:latin typeface="Arial"/>
                </a:rPr>
                <a:t>Recursos financier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509920" y="3283200"/>
              <a:ext cx="896760" cy="179280"/>
            </a:xfrm>
            <a:custGeom>
              <a:avLst/>
              <a:gdLst>
                <a:gd name="textAreaLeft" fmla="*/ 156960 w 896760"/>
                <a:gd name="textAreaRight" fmla="*/ 650160 w 896760"/>
                <a:gd name="textAreaTop" fmla="*/ 23760 h 179280"/>
                <a:gd name="textAreaBottom" fmla="*/ 15552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378400" y="3283200"/>
              <a:ext cx="897120" cy="179280"/>
            </a:xfrm>
            <a:custGeom>
              <a:avLst/>
              <a:gdLst>
                <a:gd name="textAreaLeft" fmla="*/ 157320 w 897120"/>
                <a:gd name="textAreaRight" fmla="*/ 650880 w 897120"/>
                <a:gd name="textAreaTop" fmla="*/ 23760 h 179280"/>
                <a:gd name="textAreaBottom" fmla="*/ 15552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desarrolladoras de negocios vinculan capacidades locales con oportunidades de nego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58960" y="3422520"/>
            <a:ext cx="7078680" cy="3003840"/>
            <a:chOff x="858960" y="3422520"/>
            <a:chExt cx="7078680" cy="3003840"/>
          </a:xfrm>
        </p:grpSpPr>
        <p:sp>
          <p:nvSpPr>
            <p:cNvPr id="247" name=""/>
            <p:cNvSpPr/>
            <p:nvPr/>
          </p:nvSpPr>
          <p:spPr>
            <a:xfrm>
              <a:off x="858960" y="4067280"/>
              <a:ext cx="1930320" cy="1716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1517b"/>
                  </a:solidFill>
                  <a:latin typeface="Arial"/>
                </a:rPr>
                <a:t>Activ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1517b"/>
                  </a:solidFill>
                  <a:latin typeface="Arial"/>
                </a:rPr>
                <a:t>-Habilida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1517b"/>
                  </a:solidFill>
                  <a:latin typeface="Arial"/>
                </a:rPr>
                <a:t>-Conocimien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1517b"/>
                  </a:solidFill>
                  <a:latin typeface="Arial"/>
                </a:rPr>
                <a:t>-Pertenencia a re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2760" y="4067280"/>
              <a:ext cx="2144880" cy="1716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1517b"/>
                  </a:solidFill>
                  <a:latin typeface="Arial"/>
                </a:rPr>
                <a:t>Oportunidades de negoc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1517b"/>
                  </a:solidFill>
                  <a:latin typeface="Arial"/>
                </a:rPr>
                <a:t>-Merc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1517b"/>
                  </a:solidFill>
                  <a:latin typeface="Arial"/>
                </a:rPr>
                <a:t>-Necesida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1517b"/>
                  </a:solidFill>
                  <a:latin typeface="Arial"/>
                </a:rPr>
                <a:t>-Tende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03480" y="3852720"/>
              <a:ext cx="2575080" cy="257364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19640" y="4435560"/>
              <a:ext cx="1715760" cy="65880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60520" y="3422520"/>
              <a:ext cx="1930320" cy="430200"/>
            </a:xfrm>
            <a:custGeom>
              <a:avLst/>
              <a:gdLst>
                <a:gd name="textAreaLeft" fmla="*/ 337680 w 1930320"/>
                <a:gd name="textAreaRight" fmla="*/ 1399680 w 1930320"/>
                <a:gd name="textAreaTop" fmla="*/ 57600 h 430200"/>
                <a:gd name="textAreaBottom" fmla="*/ 372600 h 43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290120" y="3422520"/>
              <a:ext cx="1930680" cy="430200"/>
            </a:xfrm>
            <a:custGeom>
              <a:avLst/>
              <a:gdLst>
                <a:gd name="textAreaLeft" fmla="*/ 337320 w 1930680"/>
                <a:gd name="textAreaRight" fmla="*/ 1399320 w 1930680"/>
                <a:gd name="textAreaTop" fmla="*/ 57600 h 430200"/>
                <a:gd name="textAreaBottom" fmla="*/ 372600 h 43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16000" y="765000"/>
            <a:ext cx="669600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173960" y="1928880"/>
            <a:ext cx="6668280" cy="3874320"/>
            <a:chOff x="1173960" y="1928880"/>
            <a:chExt cx="6668280" cy="3874320"/>
          </a:xfrm>
        </p:grpSpPr>
        <p:grpSp>
          <p:nvGrpSpPr>
            <p:cNvPr id="255" name=""/>
            <p:cNvGrpSpPr/>
            <p:nvPr/>
          </p:nvGrpSpPr>
          <p:grpSpPr>
            <a:xfrm>
              <a:off x="2908440" y="1928880"/>
              <a:ext cx="3294360" cy="3101760"/>
              <a:chOff x="2908440" y="1928880"/>
              <a:chExt cx="3294360" cy="310176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3757320" y="1928880"/>
                <a:ext cx="1266480" cy="866520"/>
                <a:chOff x="3757320" y="1928880"/>
                <a:chExt cx="1266480" cy="8665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757320" y="1928880"/>
                  <a:ext cx="1266480" cy="866520"/>
                </a:xfrm>
                <a:custGeom>
                  <a:avLst/>
                  <a:gdLst/>
                  <a:ahLst/>
                  <a:rect l="l" t="t" r="r" b="b"/>
                  <a:pathLst>
                    <a:path w="9074" h="6213">
                      <a:moveTo>
                        <a:pt x="5747" y="4349"/>
                      </a:moveTo>
                      <a:cubicBezTo>
                        <a:pt x="5457" y="4298"/>
                        <a:pt x="5164" y="4272"/>
                        <a:pt x="4870" y="4272"/>
                      </a:cubicBezTo>
                      <a:cubicBezTo>
                        <a:pt x="3682" y="4272"/>
                        <a:pt x="2533" y="4690"/>
                        <a:pt x="1623" y="5453"/>
                      </a:cubicBezTo>
                      <a:lnTo>
                        <a:pt x="0" y="3520"/>
                      </a:lnTo>
                      <a:cubicBezTo>
                        <a:pt x="1364" y="2375"/>
                        <a:pt x="3088" y="1748"/>
                        <a:pt x="4870" y="1749"/>
                      </a:cubicBezTo>
                      <a:cubicBezTo>
                        <a:pt x="5310" y="1749"/>
                        <a:pt x="5751" y="1787"/>
                        <a:pt x="6185" y="1864"/>
                      </a:cubicBezTo>
                      <a:lnTo>
                        <a:pt x="6514" y="0"/>
                      </a:lnTo>
                      <a:lnTo>
                        <a:pt x="9074" y="3653"/>
                      </a:lnTo>
                      <a:lnTo>
                        <a:pt x="5418" y="6213"/>
                      </a:lnTo>
                      <a:lnTo>
                        <a:pt x="5747" y="4349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757320" y="1928880"/>
                  <a:ext cx="1266480" cy="866520"/>
                </a:xfrm>
                <a:custGeom>
                  <a:avLst/>
                  <a:gdLst/>
                  <a:ahLst/>
                  <a:rect l="l" t="t" r="r" b="b"/>
                  <a:pathLst>
                    <a:path w="9074" h="6213">
                      <a:moveTo>
                        <a:pt x="5747" y="4349"/>
                      </a:moveTo>
                      <a:cubicBezTo>
                        <a:pt x="5457" y="4298"/>
                        <a:pt x="5164" y="4272"/>
                        <a:pt x="4870" y="4272"/>
                      </a:cubicBezTo>
                      <a:cubicBezTo>
                        <a:pt x="3682" y="4272"/>
                        <a:pt x="2533" y="4690"/>
                        <a:pt x="1623" y="5453"/>
                      </a:cubicBezTo>
                      <a:lnTo>
                        <a:pt x="0" y="3520"/>
                      </a:lnTo>
                      <a:cubicBezTo>
                        <a:pt x="1364" y="2375"/>
                        <a:pt x="3088" y="1748"/>
                        <a:pt x="4870" y="1749"/>
                      </a:cubicBezTo>
                      <a:cubicBezTo>
                        <a:pt x="5310" y="1749"/>
                        <a:pt x="5751" y="1787"/>
                        <a:pt x="6185" y="1864"/>
                      </a:cubicBezTo>
                      <a:lnTo>
                        <a:pt x="6514" y="0"/>
                      </a:lnTo>
                      <a:lnTo>
                        <a:pt x="9074" y="3653"/>
                      </a:lnTo>
                      <a:lnTo>
                        <a:pt x="5418" y="6213"/>
                      </a:lnTo>
                      <a:lnTo>
                        <a:pt x="5747" y="4349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064120" y="3546360"/>
                <a:ext cx="745560" cy="1085760"/>
                <a:chOff x="5064120" y="3546360"/>
                <a:chExt cx="745560" cy="108576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5064120" y="3546360"/>
                  <a:ext cx="745560" cy="1085760"/>
                </a:xfrm>
                <a:custGeom>
                  <a:avLst/>
                  <a:gdLst/>
                  <a:ahLst/>
                  <a:rect l="l" t="t" r="r" b="b"/>
                  <a:pathLst>
                    <a:path w="2675" h="3893">
                      <a:moveTo>
                        <a:pt x="726" y="2279"/>
                      </a:moveTo>
                      <a:cubicBezTo>
                        <a:pt x="820" y="2166"/>
                        <a:pt x="904" y="2046"/>
                        <a:pt x="978" y="1919"/>
                      </a:cubicBezTo>
                      <a:cubicBezTo>
                        <a:pt x="1275" y="1405"/>
                        <a:pt x="1381" y="803"/>
                        <a:pt x="1277" y="218"/>
                      </a:cubicBezTo>
                      <a:lnTo>
                        <a:pt x="2521" y="0"/>
                      </a:lnTo>
                      <a:cubicBezTo>
                        <a:pt x="2675" y="876"/>
                        <a:pt x="2516" y="1779"/>
                        <a:pt x="2071" y="2550"/>
                      </a:cubicBezTo>
                      <a:cubicBezTo>
                        <a:pt x="1961" y="2741"/>
                        <a:pt x="1835" y="2922"/>
                        <a:pt x="1693" y="3090"/>
                      </a:cubicBezTo>
                      <a:lnTo>
                        <a:pt x="2418" y="3699"/>
                      </a:lnTo>
                      <a:lnTo>
                        <a:pt x="195" y="3893"/>
                      </a:lnTo>
                      <a:lnTo>
                        <a:pt x="0" y="1670"/>
                      </a:lnTo>
                      <a:lnTo>
                        <a:pt x="726" y="2279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064120" y="3546360"/>
                  <a:ext cx="745560" cy="1085760"/>
                </a:xfrm>
                <a:custGeom>
                  <a:avLst/>
                  <a:gdLst/>
                  <a:ahLst/>
                  <a:rect l="l" t="t" r="r" b="b"/>
                  <a:pathLst>
                    <a:path w="2675" h="3893">
                      <a:moveTo>
                        <a:pt x="726" y="2279"/>
                      </a:moveTo>
                      <a:cubicBezTo>
                        <a:pt x="820" y="2166"/>
                        <a:pt x="904" y="2046"/>
                        <a:pt x="978" y="1919"/>
                      </a:cubicBezTo>
                      <a:cubicBezTo>
                        <a:pt x="1275" y="1405"/>
                        <a:pt x="1381" y="803"/>
                        <a:pt x="1277" y="218"/>
                      </a:cubicBezTo>
                      <a:lnTo>
                        <a:pt x="2521" y="0"/>
                      </a:lnTo>
                      <a:cubicBezTo>
                        <a:pt x="2675" y="876"/>
                        <a:pt x="2516" y="1779"/>
                        <a:pt x="2071" y="2550"/>
                      </a:cubicBezTo>
                      <a:cubicBezTo>
                        <a:pt x="1961" y="2741"/>
                        <a:pt x="1835" y="2922"/>
                        <a:pt x="1693" y="3090"/>
                      </a:cubicBezTo>
                      <a:lnTo>
                        <a:pt x="2418" y="3699"/>
                      </a:lnTo>
                      <a:lnTo>
                        <a:pt x="195" y="3893"/>
                      </a:lnTo>
                      <a:lnTo>
                        <a:pt x="0" y="1670"/>
                      </a:lnTo>
                      <a:lnTo>
                        <a:pt x="726" y="2279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2908440" y="3616200"/>
                <a:ext cx="999720" cy="1104840"/>
                <a:chOff x="2908440" y="3616200"/>
                <a:chExt cx="999720" cy="11048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2908440" y="3616200"/>
                  <a:ext cx="999720" cy="1104840"/>
                </a:xfrm>
                <a:custGeom>
                  <a:avLst/>
                  <a:gdLst/>
                  <a:ahLst/>
                  <a:rect l="l" t="t" r="r" b="b"/>
                  <a:pathLst>
                    <a:path w="7169" h="7921">
                      <a:moveTo>
                        <a:pt x="4152" y="2532"/>
                      </a:moveTo>
                      <a:cubicBezTo>
                        <a:pt x="4252" y="2808"/>
                        <a:pt x="4377" y="3075"/>
                        <a:pt x="4524" y="3329"/>
                      </a:cubicBezTo>
                      <a:cubicBezTo>
                        <a:pt x="5117" y="4357"/>
                        <a:pt x="6054" y="5143"/>
                        <a:pt x="7169" y="5549"/>
                      </a:cubicBezTo>
                      <a:lnTo>
                        <a:pt x="6305" y="7921"/>
                      </a:lnTo>
                      <a:cubicBezTo>
                        <a:pt x="4632" y="7312"/>
                        <a:pt x="3227" y="6134"/>
                        <a:pt x="2337" y="4591"/>
                      </a:cubicBezTo>
                      <a:cubicBezTo>
                        <a:pt x="2117" y="4210"/>
                        <a:pt x="1930" y="3810"/>
                        <a:pt x="1779" y="3396"/>
                      </a:cubicBezTo>
                      <a:lnTo>
                        <a:pt x="0" y="4043"/>
                      </a:lnTo>
                      <a:lnTo>
                        <a:pt x="1886" y="0"/>
                      </a:lnTo>
                      <a:lnTo>
                        <a:pt x="5931" y="1884"/>
                      </a:lnTo>
                      <a:lnTo>
                        <a:pt x="4152" y="253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908440" y="3616200"/>
                  <a:ext cx="999720" cy="1104840"/>
                </a:xfrm>
                <a:custGeom>
                  <a:avLst/>
                  <a:gdLst/>
                  <a:ahLst/>
                  <a:rect l="l" t="t" r="r" b="b"/>
                  <a:pathLst>
                    <a:path w="7169" h="7921">
                      <a:moveTo>
                        <a:pt x="4152" y="2532"/>
                      </a:moveTo>
                      <a:cubicBezTo>
                        <a:pt x="4252" y="2808"/>
                        <a:pt x="4377" y="3075"/>
                        <a:pt x="4524" y="3329"/>
                      </a:cubicBezTo>
                      <a:cubicBezTo>
                        <a:pt x="5117" y="4357"/>
                        <a:pt x="6054" y="5143"/>
                        <a:pt x="7169" y="5549"/>
                      </a:cubicBezTo>
                      <a:lnTo>
                        <a:pt x="6305" y="7921"/>
                      </a:lnTo>
                      <a:cubicBezTo>
                        <a:pt x="4632" y="7312"/>
                        <a:pt x="3227" y="6134"/>
                        <a:pt x="2337" y="4591"/>
                      </a:cubicBezTo>
                      <a:cubicBezTo>
                        <a:pt x="2117" y="4210"/>
                        <a:pt x="1930" y="3810"/>
                        <a:pt x="1779" y="3396"/>
                      </a:cubicBezTo>
                      <a:lnTo>
                        <a:pt x="0" y="4043"/>
                      </a:lnTo>
                      <a:lnTo>
                        <a:pt x="1886" y="0"/>
                      </a:lnTo>
                      <a:lnTo>
                        <a:pt x="5931" y="1884"/>
                      </a:lnTo>
                      <a:lnTo>
                        <a:pt x="4152" y="2532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4665960" y="2690640"/>
                <a:ext cx="1536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esarrolladoras de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043960" y="2892240"/>
                <a:ext cx="786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Negocios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04640" y="3092400"/>
                <a:ext cx="1061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omunitario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138200" y="4430520"/>
                <a:ext cx="595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Red de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14440" y="463068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Á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235040" y="463068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300" spc="-1" strike="noStrike">
                    <a:solidFill>
                      <a:srgbClr val="000000"/>
                    </a:solidFill>
                    <a:latin typeface="Arial"/>
                  </a:rPr>
                  <a:t>nge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17960" y="48322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Inversor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918520" y="2690640"/>
                <a:ext cx="102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Fondo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Local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944800" y="2894040"/>
                <a:ext cx="768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300" spc="-1" strike="noStrike">
                    <a:solidFill>
                      <a:srgbClr val="000000"/>
                    </a:solidFill>
                    <a:latin typeface="Arial"/>
                  </a:rPr>
                  <a:t>de Invers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27440" y="289404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ó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828960" y="289404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05640" y="3095640"/>
                <a:ext cx="851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Productiv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200760" y="5230800"/>
              <a:ext cx="350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nancian proyectos de las desarrolladoras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13360" y="5410080"/>
              <a:ext cx="90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Coinviert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96360" y="5410080"/>
              <a:ext cx="2893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 el fondo o toman proyectos qu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9040" y="5589720"/>
              <a:ext cx="142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l fondo descart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73960" y="1952640"/>
              <a:ext cx="196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vierte en proyectos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77200" y="2131920"/>
              <a:ext cx="160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s desarrolladoras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78640" y="2313000"/>
              <a:ext cx="1410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enen escala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81520" y="2490840"/>
              <a:ext cx="715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ver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03320" y="2492280"/>
              <a:ext cx="93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yor a l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76480" y="2670120"/>
              <a:ext cx="169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 y cuenta con un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76840" y="2847960"/>
              <a:ext cx="1364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ff profesional.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3600" y="3060720"/>
              <a:ext cx="1628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n independiente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11800" y="3238560"/>
              <a:ext cx="1473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l fondo y la red.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13600" y="3419640"/>
              <a:ext cx="1244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tructuran l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13960" y="3598920"/>
              <a:ext cx="118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gocios y lo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14680" y="3776760"/>
              <a:ext cx="99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sentan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15400" y="3956040"/>
              <a:ext cx="106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financiad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15400" y="4133880"/>
              <a:ext cx="95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tencia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15040" y="4314960"/>
              <a:ext cx="96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ternativ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971640" y="260280"/>
            <a:ext cx="685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os tres instrumentos se refuerzan mutu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 capital de riesgo explica en gran parte el crecimiento y la vitalidad de la economía americ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4920" y="3330720"/>
            <a:ext cx="35384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croso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e Home De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et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716360" y="3860640"/>
          <a:ext cx="4038840" cy="27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860640"/>
                    <a:ext cx="4038840" cy="27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economía regional podría beneficiarse con este sistema de organización econó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1125360"/>
            <a:ext cx="8055720" cy="5160960"/>
            <a:chOff x="0" y="1125360"/>
            <a:chExt cx="8055720" cy="5160960"/>
          </a:xfrm>
        </p:grpSpPr>
        <p:graphicFrame>
          <p:nvGraphicFramePr>
            <p:cNvPr id="57" name=""/>
            <p:cNvGraphicFramePr/>
            <p:nvPr/>
          </p:nvGraphicFramePr>
          <p:xfrm>
            <a:off x="0" y="2349360"/>
            <a:ext cx="5904000" cy="3936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2349360"/>
                      <a:ext cx="5904000" cy="393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"/>
            <p:cNvSpPr/>
            <p:nvPr/>
          </p:nvSpPr>
          <p:spPr>
            <a:xfrm>
              <a:off x="792720" y="307008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49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585440" y="2494080"/>
              <a:ext cx="8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30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1295280" y="3070080"/>
              <a:ext cx="36036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32360" y="2349360"/>
              <a:ext cx="287280" cy="352908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91800 h 3529080"/>
                <a:gd name="textAreaBottom" fmla="*/ 3437280 h 352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5"/>
                  </a:lnTo>
                  <a:cubicBezTo>
                    <a:pt x="10800" y="9905"/>
                    <a:pt x="16200" y="10805"/>
                    <a:pt x="21600" y="10805"/>
                  </a:cubicBezTo>
                  <a:cubicBezTo>
                    <a:pt x="16200" y="10805"/>
                    <a:pt x="10800" y="11705"/>
                    <a:pt x="10800" y="12605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37440" y="34304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7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7416720" y="1125360"/>
              <a:ext cx="576360" cy="4969080"/>
              <a:chOff x="7416720" y="1125360"/>
              <a:chExt cx="576360" cy="4969080"/>
            </a:xfrm>
          </p:grpSpPr>
          <p:sp>
            <p:nvSpPr>
              <p:cNvPr id="65" name=""/>
              <p:cNvSpPr/>
              <p:nvPr/>
            </p:nvSpPr>
            <p:spPr>
              <a:xfrm>
                <a:off x="7416720" y="1125360"/>
                <a:ext cx="576360" cy="4969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416720" y="1125360"/>
                <a:ext cx="576360" cy="6480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16720" y="1773360"/>
                <a:ext cx="576360" cy="201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7490520" y="127008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335640" y="1701360"/>
              <a:ext cx="863640" cy="22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19240" y="263844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19240" y="487044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7159680" y="6216480"/>
            <a:ext cx="19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invers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 en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188200" y="2184480"/>
            <a:ext cx="7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174160" y="47768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APTANDO y ADOPTANDO los instrumentos de las economías más avanza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55640" y="2421000"/>
            <a:ext cx="7127280" cy="4425480"/>
            <a:chOff x="755640" y="2421000"/>
            <a:chExt cx="7127280" cy="4425480"/>
          </a:xfrm>
        </p:grpSpPr>
        <p:sp>
          <p:nvSpPr>
            <p:cNvPr id="77" name=""/>
            <p:cNvSpPr/>
            <p:nvPr/>
          </p:nvSpPr>
          <p:spPr>
            <a:xfrm>
              <a:off x="755640" y="2421000"/>
              <a:ext cx="7127280" cy="43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3120" y="2599560"/>
              <a:ext cx="14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85280" y="298512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2663280" y="3436920"/>
              <a:ext cx="3407400" cy="2737080"/>
              <a:chOff x="2663280" y="3436920"/>
              <a:chExt cx="3407400" cy="273708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3566880" y="3436920"/>
                <a:ext cx="1347840" cy="756360"/>
                <a:chOff x="3566880" y="3436920"/>
                <a:chExt cx="1347840" cy="7563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3566880" y="3436920"/>
                  <a:ext cx="1347840" cy="756360"/>
                </a:xfrm>
                <a:custGeom>
                  <a:avLst/>
                  <a:gdLst/>
                  <a:ahLst/>
                  <a:rect l="l" t="t" r="r" b="b"/>
                  <a:pathLst>
                    <a:path w="9074" h="6213">
                      <a:moveTo>
                        <a:pt x="5747" y="4349"/>
                      </a:moveTo>
                      <a:cubicBezTo>
                        <a:pt x="5457" y="4298"/>
                        <a:pt x="5164" y="4272"/>
                        <a:pt x="4870" y="4272"/>
                      </a:cubicBezTo>
                      <a:cubicBezTo>
                        <a:pt x="3682" y="4272"/>
                        <a:pt x="2533" y="4690"/>
                        <a:pt x="1623" y="5453"/>
                      </a:cubicBezTo>
                      <a:lnTo>
                        <a:pt x="0" y="3520"/>
                      </a:lnTo>
                      <a:cubicBezTo>
                        <a:pt x="1364" y="2375"/>
                        <a:pt x="3088" y="1748"/>
                        <a:pt x="4870" y="1749"/>
                      </a:cubicBezTo>
                      <a:cubicBezTo>
                        <a:pt x="5310" y="1749"/>
                        <a:pt x="5751" y="1787"/>
                        <a:pt x="6185" y="1864"/>
                      </a:cubicBezTo>
                      <a:lnTo>
                        <a:pt x="6514" y="0"/>
                      </a:lnTo>
                      <a:lnTo>
                        <a:pt x="9074" y="3653"/>
                      </a:lnTo>
                      <a:lnTo>
                        <a:pt x="5418" y="6213"/>
                      </a:lnTo>
                      <a:lnTo>
                        <a:pt x="5747" y="4349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566880" y="3436920"/>
                  <a:ext cx="1347840" cy="756360"/>
                </a:xfrm>
                <a:custGeom>
                  <a:avLst/>
                  <a:gdLst/>
                  <a:ahLst/>
                  <a:rect l="l" t="t" r="r" b="b"/>
                  <a:pathLst>
                    <a:path w="9074" h="6213">
                      <a:moveTo>
                        <a:pt x="5747" y="4349"/>
                      </a:moveTo>
                      <a:cubicBezTo>
                        <a:pt x="5457" y="4298"/>
                        <a:pt x="5164" y="4272"/>
                        <a:pt x="4870" y="4272"/>
                      </a:cubicBezTo>
                      <a:cubicBezTo>
                        <a:pt x="3682" y="4272"/>
                        <a:pt x="2533" y="4690"/>
                        <a:pt x="1623" y="5453"/>
                      </a:cubicBezTo>
                      <a:lnTo>
                        <a:pt x="0" y="3520"/>
                      </a:lnTo>
                      <a:cubicBezTo>
                        <a:pt x="1364" y="2375"/>
                        <a:pt x="3088" y="1748"/>
                        <a:pt x="4870" y="1749"/>
                      </a:cubicBezTo>
                      <a:cubicBezTo>
                        <a:pt x="5310" y="1749"/>
                        <a:pt x="5751" y="1787"/>
                        <a:pt x="6185" y="1864"/>
                      </a:cubicBezTo>
                      <a:lnTo>
                        <a:pt x="6514" y="0"/>
                      </a:lnTo>
                      <a:lnTo>
                        <a:pt x="9074" y="3653"/>
                      </a:lnTo>
                      <a:lnTo>
                        <a:pt x="5418" y="6213"/>
                      </a:lnTo>
                      <a:lnTo>
                        <a:pt x="5747" y="4349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4957920" y="4848840"/>
                <a:ext cx="793440" cy="947880"/>
                <a:chOff x="4957920" y="4848840"/>
                <a:chExt cx="793440" cy="9478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4957920" y="4848840"/>
                  <a:ext cx="793440" cy="947880"/>
                </a:xfrm>
                <a:custGeom>
                  <a:avLst/>
                  <a:gdLst/>
                  <a:ahLst/>
                  <a:rect l="l" t="t" r="r" b="b"/>
                  <a:pathLst>
                    <a:path w="2675" h="3893">
                      <a:moveTo>
                        <a:pt x="726" y="2279"/>
                      </a:moveTo>
                      <a:cubicBezTo>
                        <a:pt x="820" y="2166"/>
                        <a:pt x="904" y="2046"/>
                        <a:pt x="978" y="1919"/>
                      </a:cubicBezTo>
                      <a:cubicBezTo>
                        <a:pt x="1275" y="1405"/>
                        <a:pt x="1381" y="803"/>
                        <a:pt x="1277" y="218"/>
                      </a:cubicBezTo>
                      <a:lnTo>
                        <a:pt x="2521" y="0"/>
                      </a:lnTo>
                      <a:cubicBezTo>
                        <a:pt x="2675" y="876"/>
                        <a:pt x="2516" y="1779"/>
                        <a:pt x="2071" y="2550"/>
                      </a:cubicBezTo>
                      <a:cubicBezTo>
                        <a:pt x="1961" y="2741"/>
                        <a:pt x="1835" y="2922"/>
                        <a:pt x="1693" y="3090"/>
                      </a:cubicBezTo>
                      <a:lnTo>
                        <a:pt x="2418" y="3699"/>
                      </a:lnTo>
                      <a:lnTo>
                        <a:pt x="195" y="3893"/>
                      </a:lnTo>
                      <a:lnTo>
                        <a:pt x="0" y="1670"/>
                      </a:lnTo>
                      <a:lnTo>
                        <a:pt x="726" y="2279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957920" y="4848840"/>
                  <a:ext cx="793440" cy="947880"/>
                </a:xfrm>
                <a:custGeom>
                  <a:avLst/>
                  <a:gdLst/>
                  <a:ahLst/>
                  <a:rect l="l" t="t" r="r" b="b"/>
                  <a:pathLst>
                    <a:path w="2675" h="3893">
                      <a:moveTo>
                        <a:pt x="726" y="2279"/>
                      </a:moveTo>
                      <a:cubicBezTo>
                        <a:pt x="820" y="2166"/>
                        <a:pt x="904" y="2046"/>
                        <a:pt x="978" y="1919"/>
                      </a:cubicBezTo>
                      <a:cubicBezTo>
                        <a:pt x="1275" y="1405"/>
                        <a:pt x="1381" y="803"/>
                        <a:pt x="1277" y="218"/>
                      </a:cubicBezTo>
                      <a:lnTo>
                        <a:pt x="2521" y="0"/>
                      </a:lnTo>
                      <a:cubicBezTo>
                        <a:pt x="2675" y="876"/>
                        <a:pt x="2516" y="1779"/>
                        <a:pt x="2071" y="2550"/>
                      </a:cubicBezTo>
                      <a:cubicBezTo>
                        <a:pt x="1961" y="2741"/>
                        <a:pt x="1835" y="2922"/>
                        <a:pt x="1693" y="3090"/>
                      </a:cubicBezTo>
                      <a:lnTo>
                        <a:pt x="2418" y="3699"/>
                      </a:lnTo>
                      <a:lnTo>
                        <a:pt x="195" y="3893"/>
                      </a:lnTo>
                      <a:lnTo>
                        <a:pt x="0" y="1670"/>
                      </a:lnTo>
                      <a:lnTo>
                        <a:pt x="726" y="2279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2663280" y="4909680"/>
                <a:ext cx="1063800" cy="964440"/>
                <a:chOff x="2663280" y="4909680"/>
                <a:chExt cx="1063800" cy="9644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2663280" y="4909680"/>
                  <a:ext cx="1063800" cy="964440"/>
                </a:xfrm>
                <a:custGeom>
                  <a:avLst/>
                  <a:gdLst/>
                  <a:ahLst/>
                  <a:rect l="l" t="t" r="r" b="b"/>
                  <a:pathLst>
                    <a:path w="7169" h="7921">
                      <a:moveTo>
                        <a:pt x="4152" y="2532"/>
                      </a:moveTo>
                      <a:cubicBezTo>
                        <a:pt x="4252" y="2808"/>
                        <a:pt x="4377" y="3075"/>
                        <a:pt x="4524" y="3329"/>
                      </a:cubicBezTo>
                      <a:cubicBezTo>
                        <a:pt x="5117" y="4357"/>
                        <a:pt x="6054" y="5143"/>
                        <a:pt x="7169" y="5549"/>
                      </a:cubicBezTo>
                      <a:lnTo>
                        <a:pt x="6305" y="7921"/>
                      </a:lnTo>
                      <a:cubicBezTo>
                        <a:pt x="4632" y="7312"/>
                        <a:pt x="3227" y="6134"/>
                        <a:pt x="2337" y="4591"/>
                      </a:cubicBezTo>
                      <a:cubicBezTo>
                        <a:pt x="2117" y="4210"/>
                        <a:pt x="1930" y="3810"/>
                        <a:pt x="1779" y="3396"/>
                      </a:cubicBezTo>
                      <a:lnTo>
                        <a:pt x="0" y="4043"/>
                      </a:lnTo>
                      <a:lnTo>
                        <a:pt x="1886" y="0"/>
                      </a:lnTo>
                      <a:lnTo>
                        <a:pt x="5931" y="1884"/>
                      </a:lnTo>
                      <a:lnTo>
                        <a:pt x="4152" y="253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663280" y="4909680"/>
                  <a:ext cx="1063800" cy="964440"/>
                </a:xfrm>
                <a:custGeom>
                  <a:avLst/>
                  <a:gdLst/>
                  <a:ahLst/>
                  <a:rect l="l" t="t" r="r" b="b"/>
                  <a:pathLst>
                    <a:path w="7169" h="7921">
                      <a:moveTo>
                        <a:pt x="4152" y="2532"/>
                      </a:moveTo>
                      <a:cubicBezTo>
                        <a:pt x="4252" y="2808"/>
                        <a:pt x="4377" y="3075"/>
                        <a:pt x="4524" y="3329"/>
                      </a:cubicBezTo>
                      <a:cubicBezTo>
                        <a:pt x="5117" y="4357"/>
                        <a:pt x="6054" y="5143"/>
                        <a:pt x="7169" y="5549"/>
                      </a:cubicBezTo>
                      <a:lnTo>
                        <a:pt x="6305" y="7921"/>
                      </a:lnTo>
                      <a:cubicBezTo>
                        <a:pt x="4632" y="7312"/>
                        <a:pt x="3227" y="6134"/>
                        <a:pt x="2337" y="4591"/>
                      </a:cubicBezTo>
                      <a:cubicBezTo>
                        <a:pt x="2117" y="4210"/>
                        <a:pt x="1930" y="3810"/>
                        <a:pt x="1779" y="3396"/>
                      </a:cubicBezTo>
                      <a:lnTo>
                        <a:pt x="0" y="4043"/>
                      </a:lnTo>
                      <a:lnTo>
                        <a:pt x="1886" y="0"/>
                      </a:lnTo>
                      <a:lnTo>
                        <a:pt x="5931" y="1884"/>
                      </a:lnTo>
                      <a:lnTo>
                        <a:pt x="4152" y="2532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>
                <a:off x="4533840" y="4101840"/>
                <a:ext cx="1536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esarrolladoras de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936680" y="4279320"/>
                <a:ext cx="786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Negocios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787640" y="4453920"/>
                <a:ext cx="1061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omunitario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72240" y="5623560"/>
                <a:ext cx="595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Red de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47400" y="57967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Á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073760" y="579672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300" spc="-1" strike="noStrike">
                    <a:solidFill>
                      <a:srgbClr val="000000"/>
                    </a:solidFill>
                    <a:latin typeface="Arial"/>
                  </a:rPr>
                  <a:t>nge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47680" y="597564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Inversor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673720" y="4101840"/>
                <a:ext cx="102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Fondo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Local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701800" y="4279320"/>
                <a:ext cx="768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300" spc="-1" strike="noStrike">
                    <a:solidFill>
                      <a:srgbClr val="000000"/>
                    </a:solidFill>
                    <a:latin typeface="Arial"/>
                  </a:rPr>
                  <a:t>de Invers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536640" y="427932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ó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643200" y="427932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768040" y="4455360"/>
                <a:ext cx="851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Productiv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90880" y="6319800"/>
              <a:ext cx="180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90880" y="6475320"/>
              <a:ext cx="180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36160" y="6475320"/>
              <a:ext cx="180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90880" y="6633360"/>
              <a:ext cx="18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8360" y="3454920"/>
              <a:ext cx="144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6920" y="36129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28360" y="3772440"/>
              <a:ext cx="144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8360" y="3923640"/>
              <a:ext cx="144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98760" y="3931560"/>
              <a:ext cx="14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8360" y="4084200"/>
              <a:ext cx="144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28360" y="4239360"/>
              <a:ext cx="144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88040" y="4426560"/>
              <a:ext cx="18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88040" y="4578840"/>
              <a:ext cx="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88040" y="4739760"/>
              <a:ext cx="18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88040" y="4896360"/>
              <a:ext cx="18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88040" y="5051520"/>
              <a:ext cx="180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88040" y="5211000"/>
              <a:ext cx="18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88040" y="5362200"/>
              <a:ext cx="180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88040" y="5521680"/>
              <a:ext cx="180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fondos de capital de riesgo aportan mucho más que diner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404440" y="2409840"/>
            <a:ext cx="4482720" cy="3972960"/>
            <a:chOff x="2404440" y="2409840"/>
            <a:chExt cx="4482720" cy="3972960"/>
          </a:xfrm>
        </p:grpSpPr>
        <p:sp>
          <p:nvSpPr>
            <p:cNvPr id="123" name="_s6150"/>
            <p:cNvSpPr/>
            <p:nvPr/>
          </p:nvSpPr>
          <p:spPr>
            <a:xfrm flipH="1" flipV="1">
              <a:off x="3750840" y="3828240"/>
              <a:ext cx="446040" cy="32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6151"/>
            <p:cNvSpPr/>
            <p:nvPr/>
          </p:nvSpPr>
          <p:spPr>
            <a:xfrm>
              <a:off x="2733480" y="2993760"/>
              <a:ext cx="1143720" cy="103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6152"/>
            <p:cNvSpPr/>
            <p:nvPr/>
          </p:nvSpPr>
          <p:spPr>
            <a:xfrm flipH="1">
              <a:off x="3530160" y="4589280"/>
              <a:ext cx="557280" cy="11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6153"/>
            <p:cNvSpPr/>
            <p:nvPr/>
          </p:nvSpPr>
          <p:spPr>
            <a:xfrm>
              <a:off x="2404440" y="4302000"/>
              <a:ext cx="1143720" cy="103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cnologí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6154"/>
            <p:cNvSpPr/>
            <p:nvPr/>
          </p:nvSpPr>
          <p:spPr>
            <a:xfrm flipH="1">
              <a:off x="4148640" y="4938480"/>
              <a:ext cx="249840" cy="46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6155"/>
            <p:cNvSpPr/>
            <p:nvPr/>
          </p:nvSpPr>
          <p:spPr>
            <a:xfrm>
              <a:off x="3332520" y="5350680"/>
              <a:ext cx="1143000" cy="1032120"/>
            </a:xfrm>
            <a:prstGeom prst="ellipse">
              <a:avLst/>
            </a:prstGeom>
            <a:solidFill>
              <a:srgbClr val="00ff00">
                <a:alpha val="9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lien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6156"/>
            <p:cNvSpPr/>
            <p:nvPr/>
          </p:nvSpPr>
          <p:spPr>
            <a:xfrm>
              <a:off x="4894920" y="4937040"/>
              <a:ext cx="246240" cy="46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6157"/>
            <p:cNvSpPr/>
            <p:nvPr/>
          </p:nvSpPr>
          <p:spPr>
            <a:xfrm>
              <a:off x="4817520" y="5349240"/>
              <a:ext cx="1143720" cy="103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fesion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6158"/>
            <p:cNvSpPr/>
            <p:nvPr/>
          </p:nvSpPr>
          <p:spPr>
            <a:xfrm>
              <a:off x="5202360" y="4586040"/>
              <a:ext cx="557280" cy="11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6159"/>
            <p:cNvSpPr/>
            <p:nvPr/>
          </p:nvSpPr>
          <p:spPr>
            <a:xfrm>
              <a:off x="5743440" y="4300560"/>
              <a:ext cx="1143720" cy="103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veedor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6160"/>
            <p:cNvSpPr/>
            <p:nvPr/>
          </p:nvSpPr>
          <p:spPr>
            <a:xfrm flipV="1">
              <a:off x="5090760" y="3829680"/>
              <a:ext cx="447480" cy="32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6161"/>
            <p:cNvSpPr/>
            <p:nvPr/>
          </p:nvSpPr>
          <p:spPr>
            <a:xfrm>
              <a:off x="5412960" y="2992320"/>
              <a:ext cx="1143000" cy="103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6162"/>
            <p:cNvSpPr/>
            <p:nvPr/>
          </p:nvSpPr>
          <p:spPr>
            <a:xfrm flipV="1">
              <a:off x="4645080" y="3441600"/>
              <a:ext cx="0" cy="51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6163"/>
            <p:cNvSpPr/>
            <p:nvPr/>
          </p:nvSpPr>
          <p:spPr>
            <a:xfrm>
              <a:off x="4073400" y="2409840"/>
              <a:ext cx="1143000" cy="103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ocio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stratégic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6164"/>
            <p:cNvSpPr/>
            <p:nvPr/>
          </p:nvSpPr>
          <p:spPr>
            <a:xfrm>
              <a:off x="4073400" y="3957840"/>
              <a:ext cx="1143000" cy="10321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Inversor 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FLC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 una etapa temprana de desar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6520" y="1700280"/>
            <a:ext cx="8467920" cy="4818960"/>
            <a:chOff x="326520" y="1700280"/>
            <a:chExt cx="8467920" cy="4818960"/>
          </a:xfrm>
        </p:grpSpPr>
        <p:sp>
          <p:nvSpPr>
            <p:cNvPr id="140" name=""/>
            <p:cNvSpPr/>
            <p:nvPr/>
          </p:nvSpPr>
          <p:spPr>
            <a:xfrm>
              <a:off x="1511280" y="1700280"/>
              <a:ext cx="7272360" cy="4103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6360" y="177300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9440" y="551628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95680" y="191736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undador, amigos 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amil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30160" y="263664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Inversores Ange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53440" y="3357360"/>
              <a:ext cx="261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pitalistas de Ries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53440" y="3933720"/>
              <a:ext cx="185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rporacion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 Financie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98160" y="4581360"/>
              <a:ext cx="164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rcados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75600" y="5373360"/>
              <a:ext cx="23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ncos comerci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82920" y="1844640"/>
              <a:ext cx="2808360" cy="6472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80000" y="2492280"/>
              <a:ext cx="3528720" cy="7203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75640" y="3933720"/>
              <a:ext cx="2808000" cy="6472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0360" y="4581360"/>
              <a:ext cx="2087640" cy="6472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83280" y="5229000"/>
              <a:ext cx="2808360" cy="5760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75280" y="3213000"/>
              <a:ext cx="3529080" cy="7203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6520" y="3213000"/>
              <a:ext cx="1105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ivel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esg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umid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 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ver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58160" y="5805360"/>
              <a:ext cx="90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pit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mil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25800" y="587664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tart - 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86160" y="5876640"/>
              <a:ext cx="134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ci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mpr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47240" y="5876640"/>
              <a:ext cx="144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mpre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tablec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fondo y su sociedad gerente son dos entes distintos pero relacion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2565360"/>
            <a:ext cx="2232000" cy="20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7640" y="2565360"/>
            <a:ext cx="2232000" cy="20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59280" y="2852640"/>
            <a:ext cx="2665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058920" y="4365720"/>
            <a:ext cx="2665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34034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45080" y="314172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ociedadG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3640" y="2492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íneas estraté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39988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s de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3640" y="2852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nor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4365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es de 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s  Redes de Inversores son complementarias de los Fondos de Inver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687400" y="2016360"/>
            <a:ext cx="3632400" cy="3718080"/>
            <a:chOff x="2687400" y="2016360"/>
            <a:chExt cx="3632400" cy="3718080"/>
          </a:xfrm>
        </p:grpSpPr>
        <p:sp>
          <p:nvSpPr>
            <p:cNvPr id="173" name="_s16389"/>
            <p:cNvSpPr/>
            <p:nvPr/>
          </p:nvSpPr>
          <p:spPr>
            <a:xfrm flipH="1">
              <a:off x="3628440" y="4286520"/>
              <a:ext cx="436680" cy="2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6390"/>
            <p:cNvSpPr/>
            <p:nvPr/>
          </p:nvSpPr>
          <p:spPr>
            <a:xfrm>
              <a:off x="2687400" y="4287960"/>
              <a:ext cx="1009800" cy="10098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Áng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ver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6391"/>
            <p:cNvSpPr/>
            <p:nvPr/>
          </p:nvSpPr>
          <p:spPr>
            <a:xfrm>
              <a:off x="4940280" y="4287960"/>
              <a:ext cx="436320" cy="2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6392"/>
            <p:cNvSpPr/>
            <p:nvPr/>
          </p:nvSpPr>
          <p:spPr>
            <a:xfrm>
              <a:off x="5310000" y="4286520"/>
              <a:ext cx="1009800" cy="100944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Áng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ver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6393"/>
            <p:cNvSpPr/>
            <p:nvPr/>
          </p:nvSpPr>
          <p:spPr>
            <a:xfrm flipV="1">
              <a:off x="4503600" y="302616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6394"/>
            <p:cNvSpPr/>
            <p:nvPr/>
          </p:nvSpPr>
          <p:spPr>
            <a:xfrm>
              <a:off x="3998880" y="2016360"/>
              <a:ext cx="1009440" cy="100980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Áng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ver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16395"/>
            <p:cNvSpPr/>
            <p:nvPr/>
          </p:nvSpPr>
          <p:spPr>
            <a:xfrm>
              <a:off x="3998880" y="3530880"/>
              <a:ext cx="1009440" cy="100944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.I.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63640" y="537408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59280" y="5301000"/>
              <a:ext cx="360360" cy="3603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63640" y="2924280"/>
              <a:ext cx="360360" cy="3603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48000" y="2853000"/>
              <a:ext cx="360360" cy="3603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92720" y="2060640"/>
              <a:ext cx="360360" cy="3603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6360" y="2205360"/>
              <a:ext cx="360360" cy="3603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843280" y="522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3860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7964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0360" y="551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51640" y="5589720"/>
            <a:ext cx="360360" cy="360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6720" y="5229360"/>
            <a:ext cx="360360" cy="360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4437000"/>
            <a:ext cx="360360" cy="360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72360" y="3789360"/>
            <a:ext cx="360360" cy="360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80000" y="1557360"/>
            <a:ext cx="360360" cy="36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59280" y="1557360"/>
            <a:ext cx="360360" cy="36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92360" y="5229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916360" y="52293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4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14972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219640" y="5157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530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27640" y="5084640"/>
            <a:ext cx="289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0072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32360" y="2781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924000" y="2852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3528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67280" y="1916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787640" y="1916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003640" y="2276640"/>
            <a:ext cx="28908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156360" y="4149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 Redes multiplican los contactos, información y capacidad de análisis de los invers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24280"/>
            <a:ext cx="1366920" cy="1008000"/>
          </a:xfrm>
          <a:prstGeom prst="rect">
            <a:avLst/>
          </a:prstGeom>
          <a:solidFill>
            <a:srgbClr val="ffcc99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e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1640" y="2924280"/>
            <a:ext cx="1366920" cy="1008000"/>
          </a:xfrm>
          <a:prstGeom prst="rect">
            <a:avLst/>
          </a:prstGeom>
          <a:solidFill>
            <a:srgbClr val="ffcc99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u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l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51640" y="2924280"/>
            <a:ext cx="1366920" cy="1008000"/>
          </a:xfrm>
          <a:prstGeom prst="rect">
            <a:avLst/>
          </a:prstGeom>
          <a:solidFill>
            <a:srgbClr val="ffcc99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n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76720" y="2924280"/>
            <a:ext cx="1366920" cy="1008000"/>
          </a:xfrm>
          <a:prstGeom prst="rect">
            <a:avLst/>
          </a:prstGeom>
          <a:solidFill>
            <a:srgbClr val="ffcc99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ru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lig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47640" y="2565360"/>
            <a:ext cx="1729080" cy="289080"/>
          </a:xfrm>
          <a:custGeom>
            <a:avLst/>
            <a:gdLst>
              <a:gd name="textAreaLeft" fmla="*/ 302400 w 1729080"/>
              <a:gd name="textAreaRight" fmla="*/ 1253520 w 172908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2565360"/>
            <a:ext cx="1728720" cy="28908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27640" y="2565360"/>
            <a:ext cx="1729080" cy="289080"/>
          </a:xfrm>
          <a:custGeom>
            <a:avLst/>
            <a:gdLst>
              <a:gd name="textAreaLeft" fmla="*/ 302400 w 1729080"/>
              <a:gd name="textAreaRight" fmla="*/ 1253520 w 172908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35280" y="3429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40360" y="3429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342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95960" y="22766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ob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75600" y="22766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ob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99240" y="22766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ob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16000" y="39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39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0" y="39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72360" y="39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6880" y="4724280"/>
            <a:ext cx="157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j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os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ar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45800" y="4653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22520" y="4653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70520" y="4581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6:49:27Z</dcterms:created>
  <dc:creator>ER</dc:creator>
  <dc:description/>
  <dc:language>en-US</dc:language>
  <cp:lastModifiedBy>C.P.C.E.C.A.B.A.</cp:lastModifiedBy>
  <dcterms:modified xsi:type="dcterms:W3CDTF">2006-02-02T15:20:30Z</dcterms:modified>
  <cp:revision>18</cp:revision>
  <dc:subject/>
  <dc:title>El capital de riesgo explica en gran parte el crecimiento y la vitalidad de la economía america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57607024</vt:r8>
  </property>
</Properties>
</file>