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4416-1DA3-4DCB-95F2-A4C5E543E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9A81-0600-4E80-BC5F-78A21C8AD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9F79-A3D8-4522-AC94-42A6CF9A9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8707-C66B-4B37-8E11-F11741D15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2A3B-5157-4803-AE5F-9752A7A9A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DBFC-BF3F-4B4C-9F91-AC416FB7C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FA62-D76E-4A73-AE24-BF89B7FF9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2AF8-9A26-4206-842C-AB9E77D81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8584-7422-44CB-AFF6-97816A9E1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8A21-9649-40A4-B7CC-45D5479F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1C92-D06D-4E6A-9B70-A8C32BCA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E367-AB30-41BD-AED0-7D04AFF6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405B8-2157-4AAA-88BC-071A947E609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 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 EQUIPO D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BAJ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ERO PEQUEÑO DE PERSO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BILIDADES COMPLEMENTAR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ROMET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TIVO COM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EAS DISCUTIDAS Y ACORD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ICADORES DE DESEMPEÑ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OPTAN E INTERCAMBIAN R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TUAMENTE RESPONS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3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3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NTA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ERG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IV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V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RENDIZA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O Y CAMB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MPEN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PAL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Times New Roman"/>
              </a:rPr>
              <a:t>Ideas de la pelícu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7920" y="35053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2700000">
            <a:off x="2581920" y="2979000"/>
            <a:ext cx="13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8000000">
            <a:off x="2871000" y="3520800"/>
            <a:ext cx="21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s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9000000">
            <a:off x="2607120" y="558684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gual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3600000">
            <a:off x="4250880" y="29862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7400000">
            <a:off x="3855600" y="483156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3000000">
            <a:off x="5284080" y="3706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160" y="38862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er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19320" y="2133720"/>
            <a:ext cx="30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16200000">
            <a:off x="424440" y="3256560"/>
            <a:ext cx="220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blar para conoce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7680240" y="293472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prejuz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9200000">
            <a:off x="6505920" y="239364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er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029200" y="5375160"/>
            <a:ext cx="32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erentes Percepcio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7T19:37:32Z</dcterms:created>
  <dc:creator>Leonardo</dc:creator>
  <dc:description/>
  <dc:language>en-US</dc:language>
  <cp:lastModifiedBy>g1293sw</cp:lastModifiedBy>
  <dcterms:modified xsi:type="dcterms:W3CDTF">2005-11-29T21:13:43Z</dcterms:modified>
  <cp:revision>4</cp:revision>
  <dc:subject/>
  <dc:title>QUE ES</dc:title>
</cp:coreProperties>
</file>