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19720" y="3843360"/>
            <a:ext cx="2924280" cy="2333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195720" y="3881520"/>
            <a:ext cx="2923920" cy="2333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62080" y="3843360"/>
            <a:ext cx="2923920" cy="2333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1347840"/>
            <a:ext cx="2924280" cy="2333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3100320" y="1233360"/>
            <a:ext cx="2924280" cy="23338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6219720" y="1157400"/>
            <a:ext cx="2924280" cy="2333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4880" y="761760"/>
            <a:ext cx="7772400" cy="489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PRESAS DE FAMIL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CARLOS KAPLU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CTUBRE D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OMBA" descr=""/>
          <p:cNvPicPr/>
          <p:nvPr/>
        </p:nvPicPr>
        <p:blipFill>
          <a:blip r:embed="rId1"/>
          <a:stretch/>
        </p:blipFill>
        <p:spPr>
          <a:xfrm>
            <a:off x="7032600" y="860400"/>
            <a:ext cx="1306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33640" y="1695600"/>
            <a:ext cx="3067200" cy="32004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2838600"/>
            <a:ext cx="3048120" cy="3181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2960" y="3048120"/>
            <a:ext cx="3105000" cy="3295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13560" y="54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66960" y="0"/>
            <a:ext cx="554364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l modelo de los “tres círculo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os roles que se cumple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33920"/>
            <a:ext cx="1467000" cy="70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4438800"/>
            <a:ext cx="1428840" cy="628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5440" y="1523880"/>
            <a:ext cx="20574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rop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3960" y="1949400"/>
            <a:ext cx="60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38480" y="3200400"/>
            <a:ext cx="190512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ide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f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4610160"/>
            <a:ext cx="190512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inve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648320"/>
            <a:ext cx="19051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lev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676520"/>
            <a:ext cx="1905120" cy="1218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imiz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/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7480" y="609480"/>
            <a:ext cx="7642080" cy="89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L CICLO DE LA EMPRESA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95480"/>
            <a:ext cx="304560" cy="290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4440" y="5067360"/>
            <a:ext cx="552240" cy="409680"/>
          </a:xfrm>
          <a:prstGeom prst="leftArrow">
            <a:avLst>
              <a:gd name="adj1" fmla="val 50000"/>
              <a:gd name="adj2" fmla="val 33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5099000">
            <a:off x="6374520" y="2248200"/>
            <a:ext cx="2085840" cy="1611360"/>
          </a:xfrm>
          <a:custGeom>
            <a:avLst/>
            <a:gdLst>
              <a:gd name="textAreaLeft" fmla="*/ 365040 w 2085840"/>
              <a:gd name="textAreaRight" fmla="*/ 1512360 w 2085840"/>
              <a:gd name="textAreaTop" fmla="*/ 215640 h 1611360"/>
              <a:gd name="textAreaBottom" fmla="*/ 139572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186200">
            <a:off x="4827240" y="4741560"/>
            <a:ext cx="1830240" cy="1050840"/>
          </a:xfrm>
          <a:custGeom>
            <a:avLst/>
            <a:gdLst>
              <a:gd name="textAreaLeft" fmla="*/ 320040 w 1830240"/>
              <a:gd name="textAreaRight" fmla="*/ 1326960 w 1830240"/>
              <a:gd name="textAreaTop" fmla="*/ 140760 h 1050840"/>
              <a:gd name="textAreaBottom" fmla="*/ 910080 h 10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9362400">
            <a:off x="2971440" y="4781160"/>
            <a:ext cx="1962000" cy="1047960"/>
          </a:xfrm>
          <a:custGeom>
            <a:avLst/>
            <a:gdLst>
              <a:gd name="textAreaLeft" fmla="*/ 343080 w 1962000"/>
              <a:gd name="textAreaRight" fmla="*/ 1422360 w 1962000"/>
              <a:gd name="textAreaTop" fmla="*/ 140400 h 1047960"/>
              <a:gd name="textAreaBottom" fmla="*/ 9075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5640" y="380880"/>
            <a:ext cx="7089840" cy="1389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L CICL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MPRESA DE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24200"/>
            <a:ext cx="2286000" cy="628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sc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790800"/>
            <a:ext cx="2438280" cy="781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r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857680"/>
            <a:ext cx="2362320" cy="66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181480"/>
            <a:ext cx="243828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aciona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 Bancos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tidades Financi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5181480"/>
            <a:ext cx="1923840" cy="1086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brir 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tercer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eptar 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5181480"/>
            <a:ext cx="228600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invert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as ut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mor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 divide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981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276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48006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4419720"/>
            <a:ext cx="1371600" cy="91440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7228961"/>
                <a:lnTo>
                  <a:pt x="5321" y="1493"/>
                </a:lnTo>
                <a:arcTo wR="10800" hR="10800" stAng="-7228961" swAng="722896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495680"/>
            <a:ext cx="838080" cy="609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224620"/>
                <a:lnTo>
                  <a:pt x="9078" y="20900"/>
                </a:lnTo>
                <a:lnTo>
                  <a:pt x="0" y="17280"/>
                </a:lnTo>
                <a:lnTo>
                  <a:pt x="9078" y="12260"/>
                </a:lnTo>
                <a:lnTo>
                  <a:pt x="9078" y="14420"/>
                </a:lnTo>
                <a:arcTo wR="21600" hR="7560" stAng="2224620" swAng="-186718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LOS DISPARADORE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TEMAS DEL PRIMER NIV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EREMOS SEGUIR SIENDO SOCI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SER PARIENT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QUIERE DECIR QUERER O SERVIR COMO SOCIO!!!!!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EL PODER LO DAN LOS VOTOS Y LOS VOTOS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 EMPRESA ES (O PUEDE SER) REN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447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LOS DISPARADORE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81080"/>
            <a:ext cx="70106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Verdana"/>
              </a:rPr>
              <a:t>TEMAS DEL SEGUN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OPOSICION ENTR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 REINVERSION Y DISTRIBUCION DE DIVIDEN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DISPUTA POR LAS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 REMUNERACIONES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 E INDEFINICION D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ROLES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A EMPRESA COMO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OBLIGADO EMPLEADOR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447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LOS DISPARADORE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EMAS DE TERCER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FUSION ENT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FAMILIA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Verdana"/>
              </a:rPr>
              <a:t>EMPRESA DE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OLES (FAMILIA VS. EMPR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USO DEL EFECTIVO Y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447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LOS DISPARADORES INTERN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OBJETIVOS DIFERENCIALES O ENCONTRADOS (PARA QUÉ TENGO LA EMPRES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OS “FUEGOS” ADICIONALES: PRESION IMPOSITIVA - IMPUESTOS PERSONALES POR TENENCIAS EMPRESARIAS,  NECESIDAD DE CONTAR CON CAPITAL LÍ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447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VALIDEZ DEL ENFOQUE INTERDISCIPLI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ECUACION DEL KNOW HOW DEL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OXIMO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1447920" cy="286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685800" y="1981080"/>
          <a:ext cx="7162920" cy="342900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1:26:51Z</dcterms:created>
  <dc:creator>Carlos Kaplun</dc:creator>
  <dc:description/>
  <dc:language>en-US</dc:language>
  <cp:lastModifiedBy>C.P.C.E.C.A.B.A.</cp:lastModifiedBy>
  <cp:lastPrinted>2000-12-10T14:55:48Z</cp:lastPrinted>
  <dcterms:modified xsi:type="dcterms:W3CDTF">2005-10-28T17:59:42Z</dcterms:modified>
  <cp:revision>12</cp:revision>
  <dc:subject/>
  <dc:title>LA EMPRESA FAMILIAR</dc:title>
</cp:coreProperties>
</file>