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578-D92C-4A73-98E6-5E3A7FE5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079-E023-4816-A2E2-13583D0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B8E-6025-4D51-B199-7449693C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B1E-A75F-48B7-AEDD-F400FF31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FFA-99FC-4558-9C64-C6B11AD9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06D-AFD7-452E-B033-1DB99190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C47-3AB1-422B-B9F9-2988E747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CD3-111A-4DFC-A746-E6AFE84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F99-1BF0-4697-9835-B7F22E1A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FF8-3CB7-4707-8840-BC71B3BB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314-5248-4096-83AB-C48CAFA0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A73-DCB6-4DAD-AC20-53905FD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AF44-9419-41B0-8A58-9257731C8971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-27000"/>
            <a:ext cx="9144000" cy="11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952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68280"/>
            <a:ext cx="9144000" cy="13114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Para qué le sirve la capacita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una empre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14400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resentado en el Consejo Profesional de Ciencias Económicas de la Ciudad Autónoma de Buenos Aires (C.P.C.E.C.A.B.A.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Fecha: 31 de octubre de 20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utor de la presentación: Pablo Daniel Wagn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ómo beneficia a las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5080" y="1773360"/>
            <a:ext cx="6480000" cy="431964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jor uso de las herramientas a su dispos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jor uso de los conocimientos téc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jores relaciones interpersonales con los dem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embr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es habilidades y capa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seguridad y confianza al realizar su t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satisfacción de su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ómo beneficia a los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5080" y="1844640"/>
            <a:ext cx="6480000" cy="431964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jor desempeño de los sectores de vent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ción, administ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or eficiencia de los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ción de la cantidad y gravedad de las fall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jores relaciones con clientes, proveedore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os terceros con los cuales la organiz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ú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ómo beneficia al desarrollo organiz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5080" y="1773360"/>
            <a:ext cx="6480000" cy="431964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conocimiento se activa en la organización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ctivo intangible o capital intele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ado que desarrollar un conocimiento cuesta tiempo, el haberlo desarrollado se transforma en una ventaja competi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s una variable que permite mostrar una imagen empresa de calidad en su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 través de una mejor performance en las relaciones con el cliente y otros terceros, permite un mejor posicionamiento en el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2637000"/>
            <a:ext cx="8353440" cy="8539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2637000"/>
            <a:ext cx="8353440" cy="8539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roceso de Capaci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2700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Capaci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2347920"/>
            <a:ext cx="2160360" cy="149868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stablecimien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l nivel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cesar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8000" y="2347920"/>
            <a:ext cx="2232360" cy="1498680"/>
          </a:xfrm>
          <a:custGeom>
            <a:avLst/>
            <a:gdLst>
              <a:gd name="textAreaLeft" fmla="*/ 0 w 2232360"/>
              <a:gd name="textAreaRight" fmla="*/ 2232720 w 22323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elevamien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 nivel 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xpectativa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347920"/>
            <a:ext cx="2232000" cy="14986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ción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recha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21440" y="2347920"/>
            <a:ext cx="2232000" cy="14986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rmado d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plan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2347920"/>
            <a:ext cx="2232000" cy="14986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valuación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apacitación 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oma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cisi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8604000" cy="1152360"/>
          </a:xfrm>
          <a:custGeom>
            <a:avLst/>
            <a:gdLst>
              <a:gd name="textAreaLeft" fmla="*/ 0 w 8604000"/>
              <a:gd name="textAreaRight" fmla="*/ 8604360 w 86040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4" y="0"/>
                </a:lnTo>
                <a:lnTo>
                  <a:pt x="21600" y="10800"/>
                </a:lnTo>
                <a:lnTo>
                  <a:pt x="2058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ctualización y documen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ablecimiento del nive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 capacitación neces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2577960"/>
            <a:ext cx="2160720" cy="14986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stablecimien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l nivel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ecesar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292640"/>
            <a:ext cx="1570320" cy="34596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ivel gen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4754520"/>
            <a:ext cx="1570320" cy="3445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r ár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5214960"/>
            <a:ext cx="1570320" cy="34596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r pues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9280" y="1413000"/>
            <a:ext cx="1749600" cy="298440"/>
            <a:chOff x="179280" y="1413000"/>
            <a:chExt cx="1749600" cy="298440"/>
          </a:xfrm>
        </p:grpSpPr>
        <p:sp>
          <p:nvSpPr>
            <p:cNvPr id="58" name=""/>
            <p:cNvSpPr/>
            <p:nvPr/>
          </p:nvSpPr>
          <p:spPr>
            <a:xfrm>
              <a:off x="179280" y="1413000"/>
              <a:ext cx="430200" cy="2984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53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4040" y="1413000"/>
              <a:ext cx="444240" cy="298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541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8428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924360" y="1557360"/>
            <a:ext cx="3600360" cy="479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dentificar los niveles generales de capa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n base al nivel general, establecer los niveles de capacitación por á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Sobre la base de los niveles requeridos por área, establecer los niveles de cada 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os niveles de capacitación incluyen conocimientos técnicos, generales de la empresa y valores actitudi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vamiento de niveles 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vas de capac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2577960"/>
            <a:ext cx="2160720" cy="14986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elevamiento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iveles 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xpectativas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79280" y="1413000"/>
            <a:ext cx="1749600" cy="298440"/>
            <a:chOff x="179280" y="1413000"/>
            <a:chExt cx="1749600" cy="298440"/>
          </a:xfrm>
        </p:grpSpPr>
        <p:sp>
          <p:nvSpPr>
            <p:cNvPr id="67" name=""/>
            <p:cNvSpPr/>
            <p:nvPr/>
          </p:nvSpPr>
          <p:spPr>
            <a:xfrm>
              <a:off x="179280" y="1413000"/>
              <a:ext cx="430200" cy="2984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3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4040" y="1413000"/>
              <a:ext cx="444240" cy="298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541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8428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924360" y="1557360"/>
            <a:ext cx="3600360" cy="479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r los niveles de capacitación de cada uno de los pue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uchar los temas en los que cada una de las personas deseen ser capacit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r que expectativas de capacitación son funcionales a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uchar las problemáticas comentadas y tomarlas como base para nuevas alternativas de capacitación y resolución de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ción de brecha de capaci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577960"/>
            <a:ext cx="2160720" cy="14986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ción de brech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 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9280" y="1413000"/>
            <a:ext cx="1749600" cy="298440"/>
            <a:chOff x="179280" y="1413000"/>
            <a:chExt cx="1749600" cy="298440"/>
          </a:xfrm>
        </p:grpSpPr>
        <p:sp>
          <p:nvSpPr>
            <p:cNvPr id="76" name=""/>
            <p:cNvSpPr/>
            <p:nvPr/>
          </p:nvSpPr>
          <p:spPr>
            <a:xfrm>
              <a:off x="179280" y="1413000"/>
              <a:ext cx="430200" cy="2984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3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4040" y="1413000"/>
              <a:ext cx="444240" cy="298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541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8428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924360" y="1557360"/>
            <a:ext cx="3600360" cy="479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r la diferencia entre el nivel de capacitación deseado y el real de los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r la brecha por cada área y por cada 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ecer orden de riesgo por cada una de las diferencias determin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ecer prioridades de capacitación, para corregir en primer lugar los problemas que son más ur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ado del Plan de Capaci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2577960"/>
            <a:ext cx="2160720" cy="14986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rmado del Pla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 Capaci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9280" y="1413000"/>
            <a:ext cx="1749600" cy="298440"/>
            <a:chOff x="179280" y="1413000"/>
            <a:chExt cx="1749600" cy="298440"/>
          </a:xfrm>
        </p:grpSpPr>
        <p:sp>
          <p:nvSpPr>
            <p:cNvPr id="85" name=""/>
            <p:cNvSpPr/>
            <p:nvPr/>
          </p:nvSpPr>
          <p:spPr>
            <a:xfrm>
              <a:off x="179280" y="1413000"/>
              <a:ext cx="430200" cy="2984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53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4040" y="1413000"/>
              <a:ext cx="444240" cy="298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541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8428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924360" y="2062080"/>
            <a:ext cx="3600360" cy="38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mado general del plan de capa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alle del plan: instancias de capacitación (cursos, talleres, conferencias), horari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r y consensuar con las áreas el plan de capa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ñar métodos para incrementar y distribuir 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ción de la capacitació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toma de deci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2577960"/>
            <a:ext cx="2160720" cy="149868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Evaluación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apacitación 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oma de decisi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9280" y="1413000"/>
            <a:ext cx="1749600" cy="298440"/>
            <a:chOff x="179280" y="1413000"/>
            <a:chExt cx="1749600" cy="298440"/>
          </a:xfrm>
        </p:grpSpPr>
        <p:sp>
          <p:nvSpPr>
            <p:cNvPr id="94" name=""/>
            <p:cNvSpPr/>
            <p:nvPr/>
          </p:nvSpPr>
          <p:spPr>
            <a:xfrm>
              <a:off x="179280" y="1413000"/>
              <a:ext cx="430200" cy="2984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3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4040" y="1413000"/>
              <a:ext cx="444240" cy="2984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5416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4280" y="1413000"/>
              <a:ext cx="444600" cy="298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0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4360" y="2062080"/>
            <a:ext cx="3600360" cy="38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ción del entendimiento del personal y su satisfacción por la capacitación recib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ción del efecto que tuvo la capacitación sobre la forma de trabajo, si hubo mejoras o disminuyó la cantidad de err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a de decisiones corre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492280"/>
            <a:ext cx="8353440" cy="8542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cios para la 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809880"/>
            <a:ext cx="4032000" cy="4939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erson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4889520"/>
            <a:ext cx="4030560" cy="49356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7440" y="5959440"/>
            <a:ext cx="4030560" cy="4939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sarrollo organiza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4:32:51Z</dcterms:created>
  <dc:creator>Pablo Wagner</dc:creator>
  <dc:description/>
  <dc:language>en-US</dc:language>
  <cp:lastModifiedBy>C.P.C.E.C.A.B.A.</cp:lastModifiedBy>
  <dcterms:modified xsi:type="dcterms:W3CDTF">2005-10-31T15:24:57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252855</vt:r8>
  </property>
  <property fmtid="{D5CDD505-2E9C-101B-9397-08002B2CF9AE}" pid="3" name="_AuthorEmail">
    <vt:lpwstr>pwagner@cponline.org.ar</vt:lpwstr>
  </property>
  <property fmtid="{D5CDD505-2E9C-101B-9397-08002B2CF9AE}" pid="4" name="_AuthorEmailDisplayName">
    <vt:lpwstr>Pablo D. Wagner</vt:lpwstr>
  </property>
  <property fmtid="{D5CDD505-2E9C-101B-9397-08002B2CF9AE}" pid="5" name="_EmailSubject">
    <vt:lpwstr>Ultima Versión</vt:lpwstr>
  </property>
</Properties>
</file>