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978-380D-4F47-B927-99A3EE41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9B5-5692-48F5-8102-6804CD95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9FD-B742-481F-BE04-308011D1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276-01AE-44F1-9948-B4573EAA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7C7F-8124-475A-BCEC-A648CE69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0EA2-239C-484D-9F74-0CA4CCFE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2CC0-DB60-4CD4-A7EE-0C893F3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BDA-9627-4F13-929E-F4E093B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D2EA-8DC5-49F1-978A-00ACA7C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906F-2E95-4A44-BDA0-D6581B8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2245-6C89-43C1-B29D-AB920371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5B5-03B5-444A-8F48-B803272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A696-2388-48A0-8A90-EB4761C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09E7-EE09-42A4-AFB7-CBC337D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0B8E-C693-4CF4-93FF-D14C8599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42A-FC34-4CEC-9899-EAD9BBDA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6581-9F7F-4995-A727-8C6BB247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715-A0CD-4152-98F4-A1BDD122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147-2FB6-432E-9839-FF180800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7B2-9549-4020-8B95-477E8C4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BFA-3380-4EDB-85B5-6052150A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2F4-118A-48F7-B020-48387FC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D01-DCAA-4C3A-8F40-CC63B211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177-D1F0-44B6-80FA-1A0D84B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E77F-1901-49B2-8CA0-0449F2B53D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595-C595-490E-9658-EF633367432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761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33"/>
                </a:solidFill>
                <a:latin typeface="Arial"/>
              </a:rPr>
              <a:t>¿Para qué sirve la capacitación a una empres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31 de Octubre de 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5715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Dra. Mirta Userp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33"/>
                </a:solidFill>
                <a:latin typeface="Arial"/>
              </a:rPr>
              <a:t>Nuevos desafíos del Siglo XX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066680"/>
            <a:ext cx="3733560" cy="121932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Guiar a quienes capa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971800"/>
            <a:ext cx="4038480" cy="236232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ominar la didáctica, situaciones de aprendizaje y materiales digitales con el apoyo de las NTIC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657600"/>
            <a:ext cx="3429000" cy="144792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struir un Aprendizaje gen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4038840" cy="205740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isminuir el tiempo de capacitación en aulas e incrementarlo en los puestos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1600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362320"/>
            <a:ext cx="457200" cy="533160"/>
          </a:xfrm>
          <a:prstGeom prst="upDownArrow">
            <a:avLst>
              <a:gd name="adj1" fmla="val 50000"/>
              <a:gd name="adj2" fmla="val 2321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124080"/>
            <a:ext cx="457200" cy="533520"/>
          </a:xfrm>
          <a:prstGeom prst="upDownArrow">
            <a:avLst>
              <a:gd name="adj1" fmla="val 50000"/>
              <a:gd name="adj2" fmla="val 2323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5562720"/>
            <a:ext cx="4496040" cy="129528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Impulsar el aprendizaje a partir de la acción y la reflexión ligado a la pr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548640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54100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n síntesis 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981080"/>
            <a:ext cx="2133720" cy="1067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e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Te 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200400"/>
            <a:ext cx="2133720" cy="1066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Te mu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267080"/>
            <a:ext cx="2133720" cy="10670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Prob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5334120"/>
            <a:ext cx="2133360" cy="1066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Times New Roman"/>
              </a:rPr>
              <a:t>Te corr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27672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548640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34340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El rol del capacit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Rol integrador. Los saberes específ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El profesionalismo del capacit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Nuevos desafíos del siglo XX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l rol del capacita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El capacitador 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 agente interpret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 agente facilit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n agente multiplic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E01561_" descr=""/>
          <p:cNvPicPr/>
          <p:nvPr/>
        </p:nvPicPr>
        <p:blipFill>
          <a:blip r:embed="rId1"/>
          <a:stretch/>
        </p:blipFill>
        <p:spPr>
          <a:xfrm>
            <a:off x="4560840" y="327672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l rol del capacita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ipos de roles perceptibles en el sistema de capaci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2286000"/>
            <a:ext cx="228600" cy="4267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201760"/>
            <a:ext cx="50292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El Director de capacit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El administr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El diseñador de programas y recursos educativ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El coordinador de situaciones de aprendiza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600" spc="-1" strike="noStrike">
                <a:solidFill>
                  <a:srgbClr val="000000"/>
                </a:solidFill>
                <a:latin typeface="Times New Roman"/>
              </a:rPr>
              <a:t>El asesor o consultor en cuestiones de capacit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886200"/>
            <a:ext cx="1981440" cy="9144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l rol del capacita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ipos de roles perceptibles en el sistema de capaci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286000"/>
            <a:ext cx="228600" cy="4267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743200"/>
            <a:ext cx="5029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experto en 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modelo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valid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agente de cambio  (Influ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886200"/>
            <a:ext cx="1981440" cy="914400"/>
          </a:xfrm>
          <a:prstGeom prst="rect">
            <a:avLst/>
          </a:prstGeom>
          <a:solidFill>
            <a:srgbClr val="ff99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uxili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l rol del capacita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5867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ner en cuenta la conexión en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1828800"/>
            <a:ext cx="2666880" cy="25146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ecesidades de la empresa y actividades de capacitación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343400"/>
            <a:ext cx="2743200" cy="220968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Formación y for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343400"/>
            <a:ext cx="2666880" cy="220968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asaje a la acción de lo aprendido en la 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828800"/>
            <a:ext cx="2743200" cy="25146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tención de la oferta educativa y las nuevas re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33"/>
                </a:solidFill>
                <a:latin typeface="Arial"/>
              </a:rPr>
              <a:t>Rol integrador.</a:t>
            </a:r>
            <a:br>
              <a:rPr sz="4400"/>
            </a:br>
            <a:r>
              <a:rPr b="0" lang="es-AR" sz="4400" spc="-1" strike="noStrike">
                <a:solidFill>
                  <a:srgbClr val="ff0033"/>
                </a:solidFill>
                <a:latin typeface="Arial"/>
              </a:rPr>
              <a:t>Los saberes específ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estos en acción sobre la re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981080"/>
          <a:ext cx="8763120" cy="4243680"/>
        </p:xfrm>
        <a:graphic>
          <a:graphicData uri="http://schemas.openxmlformats.org/drawingml/2006/table">
            <a:tbl>
              <a:tblPr/>
              <a:tblGrid>
                <a:gridCol w="2050920"/>
                <a:gridCol w="2446560"/>
                <a:gridCol w="2603520"/>
                <a:gridCol w="166212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eptu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ent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tudina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cionado con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r Sab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r Hac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r S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ocimientosDatos, Concep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bilidades, Destrezas, Procedimi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tud, Postura personal, Forma de ver las cos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2320" y="304920"/>
            <a:ext cx="8761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l profesionalismo del capacita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520" y="25909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ndam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 ser construido para incrementar las potencialidades del profes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ita de “Soportes válid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28240"/>
            <a:ext cx="868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El profesionalismo del capacita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Un grado de calidad superior de la competencia: El Profesionalismo” </a:t>
            </a: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(Le Boterf y otros “Cómo gestionar la calidad de la formación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5146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De manera general, se reconocerá a un profesional por (entre otra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2080" y="4537080"/>
            <a:ext cx="51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200400"/>
            <a:ext cx="6095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 transferir conocimientos, capacidades y comportamiento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 modelizar las experiencias profesionales que ha te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a saber anticipar antes de reacccio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 organizarse y organiz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 explicar y conven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0988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809880"/>
            <a:ext cx="2133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 </a:t>
            </a:r>
            <a:r>
              <a:rPr b="1" lang="es-AR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Su capa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048120"/>
            <a:ext cx="304920" cy="3429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181480"/>
            <a:ext cx="2286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A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nza que inspira a los demás y que tiene en sí m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0:03:02Z</dcterms:created>
  <dc:creator>Administrador</dc:creator>
  <dc:description/>
  <dc:language>en-US</dc:language>
  <cp:lastModifiedBy>C.P.C.E.C.A.B.A.</cp:lastModifiedBy>
  <dcterms:modified xsi:type="dcterms:W3CDTF">2005-10-31T15:28:34Z</dcterms:modified>
  <cp:revision>15</cp:revision>
  <dc:subject/>
  <dc:title>¿Para qué sirve la capacitación a una empresa?</dc:title>
</cp:coreProperties>
</file>