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441-AE68-4998-B25A-6AF1338A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E63-B9FD-4837-AE45-C2A74AEC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745-50C3-4D89-91E4-5FDD8B8C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E63-A2E1-40DA-8506-87D51B06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AD74-4AAD-4146-831F-3CACCD92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ADA-FD4E-437F-90E1-4B73EE81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CCAC-0262-4B89-9A2B-183A07B0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B047-31A4-4A9D-8AE9-715B2763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1983-644E-41CC-9269-4490FB29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8719-2664-4C72-A793-A60AF4BA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7306-1F48-44AC-8DEC-E1F32076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38A-6333-422C-BB9D-FACA913B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48ED-7AD5-4F5A-B876-4035C6F7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E2C1-C590-408E-8489-716391E8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A1A3-C8FA-4656-89FE-89F0DE81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50DA-56D4-4BCB-896F-C662B1E7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CADA-8081-4F60-80B8-16F96988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79F7-14AA-4305-84A9-BDB33F66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EF78-E75A-4626-9E14-5A7221DF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8A18-9655-49A8-8133-D23F3A60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B8C3-86C3-4325-A76F-68381FD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8375-A512-4519-B59E-2C56F719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862-5D7D-4FF3-B91E-0B3B72D0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3D39-1DE3-4079-818A-CC4DF4C7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4E05-1275-437D-981D-B349ABA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0405-B78D-46BC-BA18-0FEBD0E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5924-1851-4F05-8E13-425BB75D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A8D3-324E-4AF6-BB7A-64129D80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EC1E-4CD5-4574-9C0A-20551B8E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FDD3D-D885-4935-9873-DA7EB2D9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442F-AD41-4115-80DD-4DF33404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3AF6-58A7-4ACB-BBFC-85C29CD4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EF44-1749-4927-8440-4C7912DE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707-AB6A-4F7E-BCBA-908FE8B3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3558-EADE-41AD-9D08-C81EF254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3634-7E3B-414F-9A6A-D7918DD9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8460-A40E-49EF-8BCB-C185B6EF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FE83-8BBC-4E66-A636-752EDA7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5A96-32E3-4FDF-BDCA-A16BFF9F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3AC7-AB59-4056-8D89-7192210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259C-DF59-44B2-8D80-9A2D3752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653D-2FBD-41FC-A3F9-AE420E9E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6C3D-B2EA-4F11-8598-53A99739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88B-672C-4A9F-AE5B-DE69176A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A7A-2BED-4BAC-8370-2B2BCDFA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7B3-D948-4DFF-A657-4EBA2891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6A5-83E7-4541-B5DF-6C32C9F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A84-C725-488C-905D-4521F959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4AA5-C7F9-4E6B-B84E-A334D9D75E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0459-CFB4-48E1-928F-E2FE28442F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8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8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1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BA65-9368-4011-8252-DED3CA7F96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6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B18-95B5-4953-95D4-C24A23A9AA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4360" y="1738440"/>
            <a:ext cx="777240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ccecff"/>
                </a:solidFill>
                <a:latin typeface="Arial"/>
              </a:rPr>
              <a:t>Ley 25246 y Res.3/04 U.I.F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LIGACIONES PARA LOS PROFESIONALES EN CIENCIAS ECONÓMI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7885080" y="33336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Dr. José Luis Serpa - CPCECABA - 07/11/05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ahoma"/>
              </a:rPr>
              <a:t>NUEVAS OBLIGACIONES LEGALES PARA AUDITORES Y SINDICOS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tener información sobre sus potenciales clientes. ” Conozca a su client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r a la UIF sobre hechos u operaciones sospechos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tenerse de informar sobre las actuaciones que se estén realizando en cumplimiento de la Ley, salvo defensa en jui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José Luis Serpa - CPCECABA - 07/11/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tinuació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…………………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Conservar durante 5 años posteriores a la finalización de la relación entre el profesional y el cliente la documentación relativa al conocimiento del mismo, los papeles de trabajo de la auditoría y los documentos referidos a las investigaciones realizadas en materia de lavado de ac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José Luis Serpa - CPCECABA - 07/11/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querimientos adicionales Res.3/04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los clientes incluidos en el art. 20 de la Ley se debe evaluar el cumplimiento de las normas de la UIF y emitir un informe sobre los procedimientos de control in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mas referidas a la Organización interna de los estudios contables. Procedimientos de Control Interno y Capacitación y entrenamiento  de los profes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José Luis Serpa - CPCECABA - 07/11/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ahoma"/>
              </a:rPr>
              <a:t>PRINCIPALES OBJECIONES A  LA REGLAMENTACIÓN DE LA U.I.F. Res.3/04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ta de objetividad en la Guía de Transacciones Inusuales o sospechos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tas ajenas a la incumbencia profes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tas vinculadas a relaciones comerciales inexist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er de informar versus deber de investig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tenerse de informar sobre las denuncias de operaciones sospechosas versus Dictamen del Audi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José Luis Serpa - CPCECABA - 07/11/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ituaciones Curiosas y/o Conflictiv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Ley 25.246 no incluye a los abogados entre los obligados a inform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resiones con alto grado de subjetividad y que no necesariamente deberían ser evaluadas por el auditor o el síndico: “Cambio repentino en el estilo de vida”, “personas políticamente expuestas”, “transacciones que no guarden relación con la actividad declarada y perfil del cliente”, “indicios razonables para sospechar la existencia de fondos vinculados con el terrorismo”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tuaciones que obligan al profesional e emitir un juicio de valor sobre actos que hacen a la gestión de la Sociedad, teniendo que recurrir, según el caso a peritos independientes de otras especialid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lemas de incumbencia profesional al tener que realizar evaluación de proyectos de inversión, teniendo que recurrir a los servicios de un 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José Luis Serpa - CPCECABA - 07/11/05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ituaciones Curiosas y/o Conflictivas Continuación………………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ciales clientes Vs. Actos que solo se pueden verificar una vez realizada la tarea profes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dez del Informe de Auditoría cuando se ha detectado una operación sospechosa, se ha denunciado, existe incertidumbre sobre su evolución y crea una contingencia que puede llegar a invalidar los Estados Cont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José Luis Serpa - CPCECABA - 07/11/05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31:31Z</dcterms:created>
  <dc:creator>Jose L Serpa</dc:creator>
  <dc:description/>
  <dc:language>en-US</dc:language>
  <cp:lastModifiedBy>CONT</cp:lastModifiedBy>
  <dcterms:modified xsi:type="dcterms:W3CDTF">2005-11-09T19:27:01Z</dcterms:modified>
  <cp:revision>12</cp:revision>
  <dc:subject/>
  <dc:title>Ley 25246 y Res.3/04 U.I.F.</dc:title>
</cp:coreProperties>
</file>