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1200" y="24624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0440" y="0"/>
            <a:ext cx="1857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EY Gothic Cond Demi"/>
              </a:rPr>
              <a:t>Module 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4320" y="8950680"/>
            <a:ext cx="846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EY Gothic Cond Dem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EY Gothic Cond Demi"/>
              </a:rPr>
              <a:t>AGL 2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74720" y="8950680"/>
            <a:ext cx="1620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EY Gothic Cond Demi"/>
              </a:rPr>
              <a:t>AABS Global Lear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8996400"/>
            <a:ext cx="7617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D5271B-BFD2-4106-86E4-68554C357A2B}" type="slidenum">
              <a:rPr b="0" lang="es-AR" sz="1100" spc="-1" strike="noStrike">
                <a:solidFill>
                  <a:srgbClr val="000000"/>
                </a:solidFill>
                <a:latin typeface="EY Gothic Cond Dem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0" y="69768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60320"/>
            <a:ext cx="548604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 importante hablar sobre qué pasó con esos reportes de operaciones sospechosas ya recibidos (si sabemo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icar qué tipo de operaciones reportó el sector financ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 importante hablar sobre qué pasó con esos reportes de operaciones sospechosas ya recibidos (si sabemo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icar qué tipo de operaciones reportó el sector financ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 importante hablar sobre qué pasó con esos reportes de operaciones sospechosas ya recibidos (si sabemo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icar qué tipo de operaciones reportó el sector financ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CB697-D063-4444-A977-08D4BDFC64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868968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8240" y="3525480"/>
            <a:ext cx="868968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52138-43F7-4C5E-882B-A233412C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424044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1080" y="990720"/>
            <a:ext cx="424044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8240" y="3525480"/>
            <a:ext cx="424044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1080" y="3525480"/>
            <a:ext cx="424044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C7166-C05A-47ED-BDF1-7B172D27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279792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76560" y="990720"/>
            <a:ext cx="279792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4520" y="990720"/>
            <a:ext cx="279792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8240" y="3525480"/>
            <a:ext cx="279792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76560" y="3525480"/>
            <a:ext cx="279792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4520" y="3525480"/>
            <a:ext cx="279792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11AD7-6A73-4861-8DE2-9EF5F2F6ED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8240" y="990720"/>
            <a:ext cx="8689680" cy="48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8689680" cy="4852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4240440" cy="4852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91080" y="990720"/>
            <a:ext cx="4240440" cy="4852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4080" y="366840"/>
            <a:ext cx="89136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424044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1080" y="990720"/>
            <a:ext cx="4240440" cy="4852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8240" y="3525480"/>
            <a:ext cx="424044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8240" y="990720"/>
            <a:ext cx="8689680" cy="48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96B50-1EC7-4566-A4DA-927B3B50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4240440" cy="4852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1080" y="990720"/>
            <a:ext cx="424044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91080" y="3525480"/>
            <a:ext cx="424044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424044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1080" y="990720"/>
            <a:ext cx="424044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8240" y="3525480"/>
            <a:ext cx="868968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868968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8240" y="3525480"/>
            <a:ext cx="868968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424044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1080" y="990720"/>
            <a:ext cx="424044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8240" y="3525480"/>
            <a:ext cx="424044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91080" y="3525480"/>
            <a:ext cx="424044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279792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76560" y="990720"/>
            <a:ext cx="279792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4520" y="990720"/>
            <a:ext cx="279792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8240" y="3525480"/>
            <a:ext cx="279792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076560" y="3525480"/>
            <a:ext cx="279792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4520" y="3525480"/>
            <a:ext cx="279792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8689680" cy="4852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E2453-DCFC-4164-8A99-3877253B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4240440" cy="4852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1080" y="990720"/>
            <a:ext cx="4240440" cy="4852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BC931-39F5-4B1D-95C8-3E2FC999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51012-27A3-4733-8046-4D3C6B42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4080" y="366840"/>
            <a:ext cx="89136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B7816-7A4F-45AE-865B-303AEE21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424044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1080" y="990720"/>
            <a:ext cx="4240440" cy="4852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8240" y="3525480"/>
            <a:ext cx="424044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A0260-CA5A-4481-8609-1FB69877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4240440" cy="4852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1080" y="990720"/>
            <a:ext cx="424044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1080" y="3525480"/>
            <a:ext cx="424044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80BAB-CD00-4C46-8EA3-8CD5D713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424044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1080" y="990720"/>
            <a:ext cx="424044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8240" y="3525480"/>
            <a:ext cx="8689680" cy="23144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1AD63-D130-4A5C-A768-ECA29891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8400" cy="69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8240" y="990720"/>
            <a:ext cx="8689680" cy="4852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1912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743040" indent="-10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197000" indent="-17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484280" indent="-17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1484280" indent="-17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1484280" indent="-17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0" y="6075360"/>
            <a:ext cx="914256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541680" y="605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6AD8-34BD-401C-B75E-73406111DFD6}" type="slidenum">
              <a:rPr b="1" lang="es-AR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290520" indent="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633240"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02384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4" marL="131112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5" marL="1311120">
              <a:spcBef>
                <a:spcPts val="4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6" marL="1311120">
              <a:spcBef>
                <a:spcPts val="4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211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onsejo Profesional d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iencias Económicas de la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iudad Autónoma de Buenos Aire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6705000" y="5956200"/>
            <a:ext cx="1739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Julio 11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9158400" cy="2298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4216320"/>
            <a:ext cx="914256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ifras a Nivel Mundia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3960" y="1171080"/>
            <a:ext cx="8677080" cy="39625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marL="262080" indent="-22392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Según cálculos de FMI, el lavado de dinero representa entre US$ 600 y US$ 1.500 billones al año, equivalente al 5% del PBI Mundial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62080" indent="-22392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El lavado de dinero es la 3° “industria”, después del mercado de cambios y el petróleo, según USA Today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62080" indent="-22392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El GAFI y la ONU estiman que el mercado de drogas generará US$ 200 billones en Europa y EEUU en el 2005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62080" indent="-22392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El mercado de tráfico de personas y la inmigración ilegal genera US$ 10 billones por año. (GAFI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46035-1954-431D-B040-627C8E3E10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ifras a Nivel Mundial (Cont.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918" t="3213" r="1484" b="2069"/>
          <a:stretch/>
        </p:blipFill>
        <p:spPr>
          <a:xfrm>
            <a:off x="1116000" y="1592280"/>
            <a:ext cx="6723000" cy="4038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03320" y="1179360"/>
            <a:ext cx="749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4972"/>
                </a:solidFill>
                <a:latin typeface="ZapfHumnst BT"/>
              </a:rPr>
              <a:t>Comercio de Drogas frente a otras actividades productivas (nivel mayori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24000" y="5587920"/>
            <a:ext cx="52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4972"/>
                </a:solidFill>
                <a:latin typeface="ZapfHumnst BT"/>
              </a:rPr>
              <a:t>Fuente: Informe Mundial sobre Drogas de la ONU –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0C906-BF64-4B82-9EA0-EDC89498505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ifras a Nivel Mundial (Cont.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77840" y="1208160"/>
          <a:ext cx="679464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208160"/>
                    <a:ext cx="679464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224000" y="5587920"/>
            <a:ext cx="52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4972"/>
                </a:solidFill>
                <a:latin typeface="ZapfHumnst BT"/>
              </a:rPr>
              <a:t>Fuente: Informe Mundial sobre Drogas de la ONU –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D6D88-11DD-4988-818F-CE55A441D32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ifras a Nivel Mundial (Cont.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766" t="3136" r="1766" b="3068"/>
          <a:stretch/>
        </p:blipFill>
        <p:spPr>
          <a:xfrm>
            <a:off x="639720" y="1522440"/>
            <a:ext cx="7637400" cy="4335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24000" y="5816520"/>
            <a:ext cx="52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4972"/>
                </a:solidFill>
                <a:latin typeface="ZapfHumnst BT"/>
              </a:rPr>
              <a:t>Fuente: Informe Mundial sobre Drogas de la ONU –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3320" y="1179360"/>
            <a:ext cx="749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a4972"/>
                </a:solidFill>
                <a:latin typeface="ZapfHumnst BT"/>
              </a:rPr>
              <a:t>Distribución del Comercio de Drogas por región (nivel ret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012FA-33CE-46F1-927C-1369E214459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158920" y="20318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52480" y="4691160"/>
            <a:ext cx="2624040" cy="10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ULAR LIC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OBJE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5080" y="1249200"/>
            <a:ext cx="2624400" cy="84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RIGEN ILÍC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64040" y="2228760"/>
            <a:ext cx="4927680" cy="1486080"/>
          </a:xfrm>
          <a:prstGeom prst="wedgeRoundRectCallout">
            <a:avLst>
              <a:gd name="adj1" fmla="val -67333"/>
              <a:gd name="adj2" fmla="val -2606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tapas en el Proceso de Lavado de Diner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41" name=""/>
          <p:cNvCxnSpPr/>
          <p:nvPr/>
        </p:nvCxnSpPr>
        <p:spPr>
          <a:xfrm>
            <a:off x="2161800" y="2860560"/>
            <a:ext cx="1080" cy="324720"/>
          </a:xfrm>
          <a:prstGeom prst="straightConnector1">
            <a:avLst/>
          </a:prstGeom>
          <a:ln w="0">
            <a:noFill/>
          </a:ln>
        </p:spPr>
      </p:cxnSp>
      <p:sp>
        <p:nvSpPr>
          <p:cNvPr id="142" name=""/>
          <p:cNvSpPr/>
          <p:nvPr/>
        </p:nvSpPr>
        <p:spPr>
          <a:xfrm>
            <a:off x="3597120" y="2444760"/>
            <a:ext cx="5527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513720" indent="-226080">
              <a:lnSpc>
                <a:spcPct val="80000"/>
              </a:lnSpc>
              <a:spcBef>
                <a:spcPts val="451"/>
              </a:spcBef>
              <a:buClr>
                <a:srgbClr val="3a497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a4972"/>
                </a:solidFill>
                <a:latin typeface="Arial Narrow"/>
              </a:rPr>
              <a:t>Obje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108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TRANSFORMACIÓN DEL DINERO EN </a:t>
            </a:r>
            <a:r>
              <a:rPr b="0" lang="es-ES_tradnl" sz="1800" spc="-1" strike="noStrike">
                <a:solidFill>
                  <a:srgbClr val="ff3300"/>
                </a:solidFill>
                <a:latin typeface="Arial Narrow"/>
              </a:rPr>
              <a:t>EFE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108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DISTANCIAR LOS FONDOS DEL DELITO DE 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58920" y="278136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58920" y="347976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58920" y="4089240"/>
            <a:ext cx="0" cy="584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58920" y="4114800"/>
            <a:ext cx="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42200" y="236232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° COLO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4440" y="299736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° DECA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14840" y="370836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° INTEG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1BB3F-91CF-46EE-A802-BB528F3D8C0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tapas en el Proceso de Lavado de Diner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3610080" y="3086280"/>
            <a:ext cx="57816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19120" indent="-228600">
              <a:lnSpc>
                <a:spcPct val="80000"/>
              </a:lnSpc>
              <a:spcBef>
                <a:spcPts val="451"/>
              </a:spcBef>
              <a:buClr>
                <a:srgbClr val="3a497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a4972"/>
                </a:solidFill>
                <a:latin typeface="Arial Narrow"/>
              </a:rPr>
              <a:t>Obje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10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DISFRAZAR o DISIM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10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ELIMINAR RASTROS y CORTAR CADE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10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DE EVID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58920" y="20318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58920" y="276228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58920" y="347976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58920" y="4114800"/>
            <a:ext cx="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83120" y="2921040"/>
            <a:ext cx="4927680" cy="1447920"/>
          </a:xfrm>
          <a:prstGeom prst="wedgeRoundRectCallout">
            <a:avLst>
              <a:gd name="adj1" fmla="val -64754"/>
              <a:gd name="adj2" fmla="val -2894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52480" y="4691160"/>
            <a:ext cx="2624040" cy="10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ULAR LIC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OBJE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65080" y="1249200"/>
            <a:ext cx="2624400" cy="84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RIGEN ILÍC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200" y="236232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° COLO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02600" y="299736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° DECA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14840" y="370836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° INTEG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43C44-3C77-48FF-BDAA-9616419D425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tapas en el Proceso de Lavado de Diner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3755880" y="3720960"/>
            <a:ext cx="5451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19120" indent="-228600">
              <a:lnSpc>
                <a:spcPct val="80000"/>
              </a:lnSpc>
              <a:spcBef>
                <a:spcPts val="451"/>
              </a:spcBef>
              <a:buClr>
                <a:srgbClr val="3a497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a4972"/>
                </a:solidFill>
                <a:latin typeface="Arial Narrow"/>
              </a:rPr>
              <a:t>Obje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10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INGRESAR AL CIRCUITO ECONOMICO 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10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OCULTAR ORIGEN Y DAR APARIENCIA 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58920" y="20318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58920" y="289548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58920" y="346068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58920" y="4076640"/>
            <a:ext cx="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59080" y="3575160"/>
            <a:ext cx="4927680" cy="1218960"/>
          </a:xfrm>
          <a:prstGeom prst="wedgeRoundRectCallout">
            <a:avLst>
              <a:gd name="adj1" fmla="val -67333"/>
              <a:gd name="adj2" fmla="val -208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52480" y="4691160"/>
            <a:ext cx="2624040" cy="10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ULAR LIC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OBJE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5080" y="1249200"/>
            <a:ext cx="2624400" cy="84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RIGEN ILÍC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0920" y="236232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° COLO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21680" y="307332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° DECA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33920" y="370836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° INTEG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7D72F-AC82-4174-AD39-6A99D4EC150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4920" y="279360"/>
            <a:ext cx="885996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Metodologías Usual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1120" y="1160640"/>
            <a:ext cx="2679840" cy="43351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a4972"/>
                </a:solidFill>
                <a:latin typeface="Arial Narrow"/>
              </a:rPr>
              <a:t>COLOCAC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Múltiples depósito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Método de los “Pitufos”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Contrabando de dinero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Soborno / Extorsió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Utilización de “prestanombres”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Utilización de plazas permisiva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"/>
          <p:cNvSpPr/>
          <p:nvPr/>
        </p:nvSpPr>
        <p:spPr>
          <a:xfrm>
            <a:off x="2706840" y="1160640"/>
            <a:ext cx="3450960" cy="53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a4972"/>
                </a:solidFill>
                <a:latin typeface="Arial Narrow"/>
              </a:rPr>
              <a:t>DECA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Realización de operaciones sin lógica apa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Canje a billetes de alta denominación y diferentes mone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Utilización de diferentes plazas financi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Utilización de instrumentos financieros complejos y rápida ro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ctivos de fácil dispon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Dinero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22800" y="1160640"/>
            <a:ext cx="298944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a4972"/>
                </a:solidFill>
                <a:latin typeface="Arial Narrow"/>
              </a:rPr>
              <a:t>INTEG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utoprést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Sobre y </a:t>
            </a: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Subfact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Facturación ficti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Sociedades fach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Inversión en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Inversiones para facilitar el circuito produ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Empresas de transporte, química, movimiento de efectivo, correo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66D8E-1785-4D69-9AA8-622C9EA3288E}" type="slidenum">
              <a:t>17</a:t>
            </a:fld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ctores Utilizado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"/>
          <p:cNvSpPr/>
          <p:nvPr/>
        </p:nvSpPr>
        <p:spPr>
          <a:xfrm>
            <a:off x="190440" y="1577880"/>
            <a:ext cx="8763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3a49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da8d5"/>
                </a:solidFill>
                <a:latin typeface="ZapfHumnst BT"/>
              </a:rPr>
              <a:t>BANCARIO y CAMBI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buClr>
                <a:srgbClr val="3a49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buClr>
                <a:srgbClr val="3a49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da8d5"/>
                </a:solidFill>
                <a:latin typeface="ZapfHumnst BT"/>
              </a:rPr>
              <a:t>MERCADO DE CAPI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buClr>
                <a:srgbClr val="3a49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buClr>
                <a:srgbClr val="3a49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da8d5"/>
                </a:solidFill>
                <a:latin typeface="ZapfHumnst BT"/>
              </a:rPr>
              <a:t>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buClr>
                <a:srgbClr val="3a49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buClr>
                <a:srgbClr val="3a49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da8d5"/>
                </a:solidFill>
                <a:latin typeface="ZapfHumnst BT"/>
              </a:rPr>
              <a:t>INMOBILI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buClr>
                <a:srgbClr val="3a49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buClr>
                <a:srgbClr val="3a49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da8d5"/>
                </a:solidFill>
                <a:latin typeface="ZapfHumnst BT"/>
              </a:rPr>
              <a:t>JUE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buClr>
                <a:srgbClr val="3a49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buClr>
                <a:srgbClr val="3a49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da8d5"/>
                </a:solidFill>
                <a:latin typeface="ZapfHumnst BT"/>
              </a:rPr>
              <a:t>ACTIVIDADES COMERCIALES E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F0001-934B-4AE8-9530-08D35E8EA08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4080" y="271440"/>
            <a:ext cx="8913600" cy="80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portes de Operaciones Sospechosa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cibidos por la UIF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2360" y="1162080"/>
            <a:ext cx="4268880" cy="4852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601"/>
              </a:spcBef>
              <a:buClr>
                <a:srgbClr val="995e3f"/>
              </a:buClr>
              <a:buFont typeface="Arial Narrow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Total a Abril de 2005: 968 Repor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5960" indent="-165960">
              <a:lnSpc>
                <a:spcPct val="90000"/>
              </a:lnSpc>
              <a:spcBef>
                <a:spcPts val="601"/>
              </a:spcBef>
              <a:buClr>
                <a:srgbClr val="995e3f"/>
              </a:buClr>
              <a:buFont typeface="Arial Narrow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Reportes por tipo de sujetos obligado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5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5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5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5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5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5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5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5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165960" indent="-165960">
              <a:lnSpc>
                <a:spcPct val="90000"/>
              </a:lnSpc>
              <a:spcBef>
                <a:spcPts val="400"/>
              </a:spcBef>
              <a:buClr>
                <a:srgbClr val="995e3f"/>
              </a:buClr>
              <a:buFont typeface="Arial Narrow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i="1" lang="es-ES_tradnl" sz="1600" spc="-1" strike="noStrike">
                <a:solidFill>
                  <a:srgbClr val="3a4972"/>
                </a:solidFill>
                <a:latin typeface="Arial Narrow"/>
              </a:rPr>
              <a:t>Fuente: Unidad de Información Financiera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"/>
          <p:cNvSpPr/>
          <p:nvPr/>
        </p:nvSpPr>
        <p:spPr>
          <a:xfrm>
            <a:off x="12600" y="12600"/>
            <a:ext cx="127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1080" indent="-181080">
              <a:buClr>
                <a:srgbClr val="000000"/>
              </a:buClr>
              <a:buSzPct val="90000"/>
              <a:buFont typeface="Arial"/>
              <a:buChar char="•"/>
              <a:tabLst>
                <a:tab algn="l" pos="35244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09760" y="2662200"/>
          <a:ext cx="3941640" cy="2957400"/>
        </p:xfrm>
        <a:graphic>
          <a:graphicData uri="http://schemas.openxmlformats.org/drawingml/2006/table">
            <a:tbl>
              <a:tblPr/>
              <a:tblGrid>
                <a:gridCol w="2792160"/>
                <a:gridCol w="1149480"/>
              </a:tblGrid>
              <a:tr h="329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352440"/>
                          <a:tab algn="l" pos="722160"/>
                          <a:tab algn="l" pos="1074600"/>
                          <a:tab algn="l" pos="1427040"/>
                          <a:tab algn="l" pos="17002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1" lang="en-US" sz="2400" spc="-1" strike="noStrike">
                          <a:solidFill>
                            <a:srgbClr val="3a4972"/>
                          </a:solidFill>
                          <a:latin typeface="Arial Narrow"/>
                        </a:rPr>
                        <a:t>Tipo de Su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352440"/>
                          <a:tab algn="l" pos="722160"/>
                          <a:tab algn="l" pos="1074600"/>
                          <a:tab algn="l" pos="1427040"/>
                          <a:tab algn="l" pos="17002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1" lang="en-US" sz="2400" spc="-1" strike="noStrike">
                          <a:solidFill>
                            <a:srgbClr val="3a4972"/>
                          </a:solidFill>
                          <a:latin typeface="Arial Narrow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352440"/>
                          <a:tab algn="l" pos="722160"/>
                          <a:tab algn="l" pos="1074600"/>
                          <a:tab algn="l" pos="1427040"/>
                          <a:tab algn="l" pos="17002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ctor Financi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352440"/>
                          <a:tab algn="l" pos="722160"/>
                          <a:tab algn="l" pos="1074600"/>
                          <a:tab algn="l" pos="1427040"/>
                          <a:tab algn="l" pos="17002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,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9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352440"/>
                          <a:tab algn="l" pos="722160"/>
                          <a:tab algn="l" pos="1074600"/>
                          <a:tab algn="l" pos="1427040"/>
                          <a:tab algn="l" pos="17002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misores de Fon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352440"/>
                          <a:tab algn="l" pos="722160"/>
                          <a:tab algn="l" pos="1074600"/>
                          <a:tab algn="l" pos="1427040"/>
                          <a:tab algn="l" pos="17002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,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352440"/>
                          <a:tab algn="l" pos="722160"/>
                          <a:tab algn="l" pos="1074600"/>
                          <a:tab algn="l" pos="1427040"/>
                          <a:tab algn="l" pos="17002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F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352440"/>
                          <a:tab algn="l" pos="722160"/>
                          <a:tab algn="l" pos="1074600"/>
                          <a:tab algn="l" pos="1427040"/>
                          <a:tab algn="l" pos="17002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352440"/>
                          <a:tab algn="l" pos="722160"/>
                          <a:tab algn="l" pos="1074600"/>
                          <a:tab algn="l" pos="1427040"/>
                          <a:tab algn="l" pos="17002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ctor Asegur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352440"/>
                          <a:tab algn="l" pos="722160"/>
                          <a:tab algn="l" pos="1074600"/>
                          <a:tab algn="l" pos="1427040"/>
                          <a:tab algn="l" pos="17002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352440"/>
                          <a:tab algn="l" pos="722160"/>
                          <a:tab algn="l" pos="1074600"/>
                          <a:tab algn="l" pos="1427040"/>
                          <a:tab algn="l" pos="17002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C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352440"/>
                          <a:tab algn="l" pos="722160"/>
                          <a:tab algn="l" pos="1074600"/>
                          <a:tab algn="l" pos="1427040"/>
                          <a:tab algn="l" pos="17002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352440"/>
                          <a:tab algn="l" pos="722160"/>
                          <a:tab algn="l" pos="1074600"/>
                          <a:tab algn="l" pos="1427040"/>
                          <a:tab algn="l" pos="17002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scrib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352440"/>
                          <a:tab algn="l" pos="722160"/>
                          <a:tab algn="l" pos="1074600"/>
                          <a:tab algn="l" pos="1427040"/>
                          <a:tab algn="l" pos="17002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352440"/>
                          <a:tab algn="l" pos="722160"/>
                          <a:tab algn="l" pos="1074600"/>
                          <a:tab algn="l" pos="1427040"/>
                          <a:tab algn="l" pos="17002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N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352440"/>
                          <a:tab algn="l" pos="722160"/>
                          <a:tab algn="l" pos="1074600"/>
                          <a:tab algn="l" pos="1427040"/>
                          <a:tab algn="l" pos="17002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352440"/>
                          <a:tab algn="l" pos="722160"/>
                          <a:tab algn="l" pos="1074600"/>
                          <a:tab algn="l" pos="1427040"/>
                          <a:tab algn="l" pos="17002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tros suje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352440"/>
                          <a:tab algn="l" pos="722160"/>
                          <a:tab algn="l" pos="1074600"/>
                          <a:tab algn="l" pos="1427040"/>
                          <a:tab algn="l" pos="1700280"/>
                          <a:tab algn="l" pos="2085840"/>
                          <a:tab algn="l" pos="2781360"/>
                          <a:tab algn="l" pos="3476520"/>
                          <a:tab algn="l" pos="4172040"/>
                          <a:tab algn="l" pos="4867200"/>
                          <a:tab algn="l" pos="5562720"/>
                          <a:tab algn="l" pos="6257880"/>
                          <a:tab algn="l" pos="6953400"/>
                          <a:tab algn="l" pos="7648560"/>
                          <a:tab algn="l" pos="8344080"/>
                          <a:tab algn="l" pos="9039240"/>
                          <a:tab algn="l" pos="9734400"/>
                          <a:tab algn="l" pos="104299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64C3A-7267-4CB3-8BF5-9853639A328D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04440" y="321120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AR" sz="4000" spc="-1" strike="noStrike">
                <a:solidFill>
                  <a:srgbClr val="000000"/>
                </a:solidFill>
                <a:latin typeface="Arial Narrow"/>
              </a:rPr>
              <a:t>Nueva norma profesional </a:t>
            </a:r>
            <a:br>
              <a:rPr sz="4000"/>
            </a:br>
            <a:r>
              <a:rPr b="1" lang="es-AR" sz="3600" spc="-1" strike="noStrike">
                <a:solidFill>
                  <a:srgbClr val="000000"/>
                </a:solidFill>
                <a:latin typeface="Arial Narrow"/>
              </a:rPr>
              <a:t>(Resolución C.D. N° 40/2005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"/>
          <p:cNvSpPr/>
          <p:nvPr/>
        </p:nvSpPr>
        <p:spPr>
          <a:xfrm>
            <a:off x="189000" y="306360"/>
            <a:ext cx="8955000" cy="23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ctuación del contador público como auditor externo y síndico ante el lavado de activos de origen delic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5492880"/>
            <a:ext cx="9158400" cy="1365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097400" y="481968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Julio 11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80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portes de Operaciones Sospechosa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cibidos por la UIF (Cont.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12600" y="12600"/>
            <a:ext cx="127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1080" indent="-181080">
              <a:buClr>
                <a:srgbClr val="000000"/>
              </a:buClr>
              <a:buSzPct val="90000"/>
              <a:buFont typeface="Arial"/>
              <a:buChar char="•"/>
              <a:tabLst>
                <a:tab algn="l" pos="35244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963" t="2185" r="1570" b="2143"/>
          <a:stretch/>
        </p:blipFill>
        <p:spPr>
          <a:xfrm>
            <a:off x="496800" y="1384200"/>
            <a:ext cx="7934400" cy="4138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04800" y="5587920"/>
            <a:ext cx="396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4972"/>
                </a:solidFill>
                <a:latin typeface="ZapfHumnst BT"/>
              </a:rPr>
              <a:t>Fuente: Unidad de Información Financiera – 31/12/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B0A5B-70B7-4F4D-B81A-B7E8051D70B7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4080" y="194760"/>
            <a:ext cx="89136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portes de Operaciones Sospechosa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cibidos por la UIF (Cont.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"/>
          <p:cNvSpPr/>
          <p:nvPr/>
        </p:nvSpPr>
        <p:spPr>
          <a:xfrm>
            <a:off x="12600" y="12600"/>
            <a:ext cx="127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1080" indent="-181080">
              <a:buClr>
                <a:srgbClr val="000000"/>
              </a:buClr>
              <a:buSzPct val="90000"/>
              <a:buFont typeface="Arial"/>
              <a:buChar char="•"/>
              <a:tabLst>
                <a:tab algn="l" pos="35244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716" t="2317" r="1090" b="1444"/>
          <a:stretch/>
        </p:blipFill>
        <p:spPr>
          <a:xfrm>
            <a:off x="587520" y="1014480"/>
            <a:ext cx="7753320" cy="4419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915840" y="5629320"/>
            <a:ext cx="66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4972"/>
                </a:solidFill>
                <a:latin typeface="ZapfHumnst BT"/>
              </a:rPr>
              <a:t>Fuente: "Evaluación del Progreso de Control de Drogas 2003-2004" emitido por la Comisión Interamericana para el Control del Abuso de Drogas (CICAD) de la O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9489C-5390-413A-88CF-9C6D7ED76399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incipales Centros OFF-SHOR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04880" y="1058760"/>
            <a:ext cx="7716960" cy="45594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314880" y="1200240"/>
            <a:ext cx="876240" cy="357120"/>
          </a:xfrm>
          <a:prstGeom prst="rect">
            <a:avLst/>
          </a:prstGeom>
          <a:solidFill>
            <a:srgbClr val="2635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EUROP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14880" y="1571760"/>
            <a:ext cx="876240" cy="19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Andor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Camp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Chip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Gibralt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Irlanda (Dubli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Isla de 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Jers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Liechtenst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Luxembur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Madei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Ma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Móna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Sa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Sui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7640" y="2552760"/>
            <a:ext cx="876240" cy="357120"/>
          </a:xfrm>
          <a:prstGeom prst="rect">
            <a:avLst/>
          </a:prstGeom>
          <a:solidFill>
            <a:srgbClr val="2635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EL CARIB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640" y="2924280"/>
            <a:ext cx="876240" cy="27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Angui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Antigu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Antill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Neerlandes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Arub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Baham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Barba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Bel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Bernu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Islas Caimá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Islas Turcos y Caic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Islas Vírg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Británi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Panam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San Cristobal y Nie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Santa Lucí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San Vicente y las Granadin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57760" y="3581280"/>
            <a:ext cx="876240" cy="357480"/>
          </a:xfrm>
          <a:prstGeom prst="rect">
            <a:avLst/>
          </a:prstGeom>
          <a:solidFill>
            <a:srgbClr val="2635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ASIA - PACIFIC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ORIENTE MEDI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57760" y="3952800"/>
            <a:ext cx="876240" cy="199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Bahr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Duba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Hong Kong R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Islas C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Islas Mars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Labu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Líba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Maca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Marian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Nau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Ni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Singap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Vanuat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Sam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48040" y="4172040"/>
            <a:ext cx="876240" cy="357120"/>
          </a:xfrm>
          <a:prstGeom prst="rect">
            <a:avLst/>
          </a:prstGeom>
          <a:solidFill>
            <a:srgbClr val="2635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AFRICA 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OCEANO INDIC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48040" y="4543560"/>
            <a:ext cx="87624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Mauric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Times New Roman"/>
              </a:rPr>
              <a:t>Seyche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286760" y="3233880"/>
            <a:ext cx="185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s fronteras y denominaciones empleadas en el presente mapa no gozan necesariamente de la aprobación o aceptación oficial de las Naciones Unida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691240"/>
            <a:ext cx="552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ZapfHumnst BT"/>
              </a:rPr>
              <a:t>Fuente: Refugios “Financieros, Secretos Bancarios y Blanqueo de Dinero” - N° 8 de la Serie Técnica del PNUFID - Oficina de las Naciones Unidas de Fiscalización de Drogas y Prevención del Delito - NACIONES UNIDAS, New York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C971F-32C5-4EEF-A763-9D0EE519449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onsecuencia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8689680" cy="4852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marL="176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a4972"/>
                </a:solidFill>
                <a:latin typeface="Arial Narrow"/>
              </a:rPr>
              <a:t>ECONÓMICO - FINANCIER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a4972"/>
                </a:solidFill>
                <a:latin typeface="Arial Narrow"/>
              </a:rPr>
              <a:t>SOCIO - POLÍTIC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3122640" y="4630680"/>
            <a:ext cx="2960640" cy="10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a4972"/>
                </a:solidFill>
                <a:latin typeface="Arial"/>
              </a:rPr>
              <a:t>LAVADO DE DI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920" y="4049640"/>
            <a:ext cx="1942920" cy="67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ráfico de seres ú órganos huma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991200" y="4049640"/>
            <a:ext cx="1943280" cy="67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litos contra la Administración Púb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48520" y="2982960"/>
            <a:ext cx="1942920" cy="67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ráfico de Ar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14520" y="2195640"/>
            <a:ext cx="1943280" cy="67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arcotráf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31760" y="2970360"/>
            <a:ext cx="1943280" cy="67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error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07" idx="2"/>
            <a:endCxn id="206" idx="1"/>
          </p:cNvCxnSpPr>
          <p:nvPr/>
        </p:nvCxnSpPr>
        <p:spPr>
          <a:xfrm>
            <a:off x="1249200" y="4722480"/>
            <a:ext cx="1874160" cy="421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11" idx="2"/>
            <a:endCxn id="206" idx="1"/>
          </p:cNvCxnSpPr>
          <p:nvPr/>
        </p:nvCxnSpPr>
        <p:spPr>
          <a:xfrm>
            <a:off x="2003040" y="3643200"/>
            <a:ext cx="1119960" cy="150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4" name=""/>
          <p:cNvCxnSpPr>
            <a:stCxn id="210" idx="2"/>
            <a:endCxn id="206" idx="0"/>
          </p:cNvCxnSpPr>
          <p:nvPr/>
        </p:nvCxnSpPr>
        <p:spPr>
          <a:xfrm>
            <a:off x="3386160" y="2868120"/>
            <a:ext cx="1218240" cy="176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09" idx="2"/>
            <a:endCxn id="206" idx="3"/>
          </p:cNvCxnSpPr>
          <p:nvPr/>
        </p:nvCxnSpPr>
        <p:spPr>
          <a:xfrm flipH="1">
            <a:off x="6082560" y="3656160"/>
            <a:ext cx="1137240" cy="1488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" name=""/>
          <p:cNvCxnSpPr>
            <a:stCxn id="208" idx="2"/>
            <a:endCxn id="206" idx="3"/>
          </p:cNvCxnSpPr>
          <p:nvPr/>
        </p:nvCxnSpPr>
        <p:spPr>
          <a:xfrm flipH="1">
            <a:off x="6082560" y="4722480"/>
            <a:ext cx="1880280" cy="421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4788000" y="2208240"/>
            <a:ext cx="1942920" cy="67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cuestro Extors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"/>
          <p:cNvCxnSpPr>
            <a:stCxn id="217" idx="2"/>
            <a:endCxn id="206" idx="0"/>
          </p:cNvCxnSpPr>
          <p:nvPr/>
        </p:nvCxnSpPr>
        <p:spPr>
          <a:xfrm flipH="1">
            <a:off x="4603320" y="2881080"/>
            <a:ext cx="1156320" cy="1749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87F3B-DF2A-4622-B438-7587DEC01D3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4920" y="433440"/>
            <a:ext cx="8859960" cy="7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Antecedentes Normativo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1400" y="1587240"/>
            <a:ext cx="8869320" cy="43354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ey 25.246 – Modificación Código Penal (5/2000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ey 25.815 - Modificación Código Penal y Ley 22.415 (11/2003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reto PEN 169/2001 – Reglamentación Ley 25.246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solución UIF 3/2004 – Profesionales Matriculad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T 7 y 15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forme Técnico del CPCECABA – Comisión Especial Ad Hoc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189C4-618D-426A-A288-383ED0C4CF8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757520" y="1655640"/>
            <a:ext cx="554652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Aceptación y retención de clien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43680" y="4172040"/>
            <a:ext cx="400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9158400" cy="2298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incipio Básic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80720" y="2601720"/>
            <a:ext cx="8690040" cy="585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marL="176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onozca a su client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5F0D7-0DEE-4000-8A37-0BC44751A222}" type="slidenum">
              <a:t>26</a:t>
            </a:fld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ncepto de client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8240" y="1542600"/>
            <a:ext cx="8689680" cy="335772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marL="176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Personas físicas o jurídicas</a:t>
            </a: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con las que se desarrolla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una vez, ocasionalment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o de manera habitual</a:t>
            </a: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negocios con los sujetos obligad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Auditoría y Sindicatur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444AE-F2CF-4521-9931-4BA816B079DE}" type="slidenum">
              <a:t>27</a:t>
            </a:fld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foqu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8240" y="1314000"/>
            <a:ext cx="8689680" cy="4853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marL="262080" indent="-26208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siderar riesgo vinculado con el tipo de cliente y activida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62080" indent="-26208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cedimientos mínimos en oportunidad de decidir aceptar o continuar la tare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62080" indent="-26208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apeles de trabajo de la aceptació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DB1D7-C81A-4CA4-9C08-1290E5D675E2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cedimientos mínimo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8689680" cy="4852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stancias de inscripció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ómina de directores y accionist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álisis de relación actividad vs. situación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tactos auditor / síndico anterio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visión listado de terrorist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hequeo Res. 7/03 de IGJ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poderad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52F16-29FC-4687-BA63-870552675E28}" type="slidenum">
              <a:t>29</a:t>
            </a:fld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743200" y="1830240"/>
            <a:ext cx="3371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Introdu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43680" y="4172040"/>
            <a:ext cx="400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216320"/>
            <a:ext cx="914256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9158400" cy="2298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cionistas, Directores y Apoderado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8689680" cy="4852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marL="262080" indent="-26208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rupo de Contr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62080" indent="-26208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olicitar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12880" indent="-371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cripciones – Documentos / Domicili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12880" indent="-371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stado de terrorista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12880" indent="-371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formes comercia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12880" indent="-371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s 3/07 de IGJ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6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CFD53-71C5-41B1-BC58-504CE6B1927F}" type="slidenum">
              <a:t>30</a:t>
            </a:fld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sos especial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8689680" cy="4852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deicomisos y otras estructuras financier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esentaciones por otros profesional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entes internacional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entes recurren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imer año de aplicació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tros procedimientos según criterio profesiona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D4F3D-D14B-4F9E-84EB-622796801401}" type="slidenum">
              <a:t>31</a:t>
            </a:fld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 Narrow"/>
              </a:rPr>
              <a:t>Carta Acuerdo de Auditorí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8689680" cy="4852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clui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00000" indent="-357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lización de tareas adicionale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4928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ctar operaciones sospechosa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4928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visar cumplimiento normas UIF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0000" indent="-357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ber de informar a la UIF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0000" indent="-357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ber de no informar al cliente y tercero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0000" indent="-357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onocimientos obligaciones de informar para sujetos obligado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2F994-88CC-4106-95DB-1702158B150A}" type="slidenum">
              <a:t>32</a:t>
            </a:fld>
          </a:p>
        </p:txBody>
      </p: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rta a la Direcció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8240" y="990360"/>
            <a:ext cx="8689680" cy="21970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Párrafo sobre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1912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Conocimiento de operaciones sospechosa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1912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Suministró toda la informació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1912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Existencia de políticas propias sobre Lde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1912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Cumplimiento de normas UIF (sujetos obligado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540A1-A16B-4151-B26C-AB53A72EB0B6}" type="slidenum">
              <a:t>33</a:t>
            </a:fld>
          </a:p>
        </p:txBody>
      </p:sp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6720" y="1625760"/>
            <a:ext cx="62582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olíticas y procedimientos inter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43680" y="4172040"/>
            <a:ext cx="400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9158400" cy="2298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7680" y="317160"/>
            <a:ext cx="7162560" cy="68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300" spc="-1" strike="noStrike">
                <a:solidFill>
                  <a:srgbClr val="000000"/>
                </a:solidFill>
                <a:latin typeface="Arial Narrow"/>
              </a:rPr>
              <a:t>Contenido</a:t>
            </a:r>
            <a:br>
              <a:rPr sz="3300"/>
            </a:br>
            <a:br>
              <a:rPr sz="3300"/>
            </a:b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54040" y="1028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120000"/>
              </a:lnSpc>
              <a:spcBef>
                <a:spcPts val="901"/>
              </a:spcBef>
              <a:buClr>
                <a:srgbClr val="995e3f"/>
              </a:buClr>
              <a:buFont typeface="Arial Narrow"/>
              <a:buAutoNum type="arabicPeriod" startAt="2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Procedimientos de control interno y capacitació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120000"/>
              </a:lnSpc>
              <a:spcBef>
                <a:spcPts val="901"/>
              </a:spcBef>
              <a:buClr>
                <a:srgbClr val="995e3f"/>
              </a:buClr>
              <a:buFont typeface="Arial Narrow"/>
              <a:buAutoNum type="arabicPeriod" startAt="2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Bases de dato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120000"/>
              </a:lnSpc>
              <a:spcBef>
                <a:spcPts val="901"/>
              </a:spcBef>
              <a:buClr>
                <a:srgbClr val="995e3f"/>
              </a:buClr>
              <a:buFont typeface="Arial Narrow"/>
              <a:buAutoNum type="arabicPeriod" startAt="2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Conservación de documentació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F0355-6C96-4E03-B012-AFE2F6F602F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498920" y="917640"/>
            <a:ext cx="3954600" cy="679320"/>
          </a:xfrm>
          <a:prstGeom prst="rect">
            <a:avLst/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Sujetos no obligados a inform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4360" y="917640"/>
            <a:ext cx="3606480" cy="679320"/>
          </a:xfrm>
          <a:prstGeom prst="rect">
            <a:avLst/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Sujetos obligados a inform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2560" y="1941480"/>
            <a:ext cx="7739280" cy="3192480"/>
          </a:xfrm>
          <a:prstGeom prst="rect">
            <a:avLst/>
          </a:prstGeom>
          <a:solidFill>
            <a:srgbClr val="ffcc99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>
              <a:lnSpc>
                <a:spcPct val="7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5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Adoptar una política por escri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536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Verdana"/>
              </a:rPr>
              <a:t>Fijar pautas de Control Interno que permitan monitorear el cumplimiento de la normativa de la UIF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536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Verdana"/>
              </a:rPr>
              <a:t>Manifestación firmada de cada integrante que participe en los equipos de trabajo sobre el conocimiento de las políticas intern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4080" y="301680"/>
            <a:ext cx="937872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. </a:t>
            </a:r>
            <a:r>
              <a:rPr b="1" lang="es-ES_tradnl" sz="33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cedimientos de control interno y capacitación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12800" y="1657800"/>
            <a:ext cx="7632720" cy="173160"/>
          </a:xfrm>
          <a:prstGeom prst="triangle">
            <a:avLst>
              <a:gd name="adj" fmla="val 50139"/>
            </a:avLst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0" bIns="-61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5CBA5-92AF-4004-826F-E4B08113A7C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117880" y="860400"/>
            <a:ext cx="3954240" cy="679320"/>
          </a:xfrm>
          <a:prstGeom prst="rect">
            <a:avLst/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Sujetos no obligados a inform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4080" y="301680"/>
            <a:ext cx="937872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. </a:t>
            </a:r>
            <a:r>
              <a:rPr b="1" lang="es-ES_tradnl" sz="33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cedimientos de control interno y capacitación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"/>
          <p:cNvSpPr/>
          <p:nvPr/>
        </p:nvSpPr>
        <p:spPr>
          <a:xfrm>
            <a:off x="2154240" y="1909800"/>
            <a:ext cx="4065480" cy="3970440"/>
          </a:xfrm>
          <a:prstGeom prst="rect">
            <a:avLst/>
          </a:prstGeom>
          <a:solidFill>
            <a:srgbClr val="ffcc99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>
              <a:lnSpc>
                <a:spcPct val="100000"/>
              </a:lnSpc>
              <a:spcBef>
                <a:spcPts val="1536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Verdana"/>
              </a:rPr>
              <a:t>Evaluar los riesgos asociados con el desarrollo de la auditoría o sindicatur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536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Verdana"/>
              </a:rPr>
              <a:t>Diseñar, implementar y monitorear normas internas en esta mater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536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Verdana"/>
              </a:rPr>
              <a:t>Documentar las decisiones adoptadas por los profesionales</a:t>
            </a: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066760" y="1693440"/>
            <a:ext cx="4048200" cy="171360"/>
          </a:xfrm>
          <a:prstGeom prst="triangle">
            <a:avLst>
              <a:gd name="adj" fmla="val 50139"/>
            </a:avLst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560" bIns="-61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8AD66-2D84-4997-8AB0-B3334C6FB29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23960" y="2298600"/>
            <a:ext cx="7738920" cy="3575160"/>
          </a:xfrm>
          <a:prstGeom prst="rect">
            <a:avLst/>
          </a:prstGeom>
          <a:solidFill>
            <a:srgbClr val="ffcc99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>
              <a:lnSpc>
                <a:spcPct val="100000"/>
              </a:lnSpc>
              <a:spcBef>
                <a:spcPts val="1536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Diseño y mantenimiento de registros: identificación de los clientes y de sus directores y apoderad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536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Los pasos a seguir en el caso de detectarse operaciones inusuales o sospechosas que deban ser reportadas a la UIF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536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El responsable final de resolver y emitir el reporte a la UIF es el profesional que firma el informe del auditor o síndic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6960" y="1290600"/>
            <a:ext cx="7772400" cy="927000"/>
          </a:xfrm>
          <a:prstGeom prst="rect">
            <a:avLst/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¿Qué deben contener las políticas y los procedimien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9400" y="339480"/>
            <a:ext cx="877572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. </a:t>
            </a:r>
            <a:r>
              <a:rPr b="1" lang="es-ES_tradnl" sz="33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cedimientos de control interno y capacitación (Cont.)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FA651-E6E0-4BA8-B759-2C6ABA888A8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2298600"/>
            <a:ext cx="7738920" cy="3699000"/>
          </a:xfrm>
          <a:prstGeom prst="rect">
            <a:avLst/>
          </a:prstGeom>
          <a:solidFill>
            <a:srgbClr val="ffcc99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Un  plan de capacitación a su personal sobre la normativa vigente en la mate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Monitoreo y supervisión del cumplimiento de las políticas y procedimientos establec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960" y="1366920"/>
            <a:ext cx="7772400" cy="852480"/>
          </a:xfrm>
          <a:prstGeom prst="rect">
            <a:avLst/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¿Qué deben contener las políticas y los procedimien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9400" y="396720"/>
            <a:ext cx="8775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. </a:t>
            </a:r>
            <a:r>
              <a:rPr b="1" lang="es-ES_tradnl" sz="33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cedimientos de control interno y capacitación (Cont.)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"/>
          <p:cNvSpPr/>
          <p:nvPr/>
        </p:nvSpPr>
        <p:spPr>
          <a:xfrm>
            <a:off x="1000080" y="3608280"/>
            <a:ext cx="7161120" cy="952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lvl="2" marL="91440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Adecuadamente document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Profesionales a título personal: documentar la capacitación recib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BACDC-5372-47D0-BF4E-B0DEB01B8B3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bjetivo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163440" y="1054080"/>
            <a:ext cx="884232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46080" bIns="46080" anchor="t">
            <a:noAutofit/>
          </a:bodyPr>
          <a:p>
            <a:pPr marL="723960" indent="-723960">
              <a:lnSpc>
                <a:spcPct val="100000"/>
              </a:lnSpc>
              <a:buClr>
                <a:srgbClr val="0000ff"/>
              </a:buClr>
              <a:buFont typeface="Marlett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ner en conocimiento de los profesionales los lineamientos básicos de la n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00000"/>
              </a:lnSpc>
              <a:buClr>
                <a:srgbClr val="0000ff"/>
              </a:buClr>
              <a:buFont typeface="Marlett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bir la estructura de la n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00000"/>
              </a:lnSpc>
              <a:buClr>
                <a:srgbClr val="0000ff"/>
              </a:buClr>
              <a:buFont typeface="Marlett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arrollar las principales cuestiones relacionadas con las nuevas responsabilidades de auditores y sínd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70000"/>
              </a:lnSpc>
              <a:buClr>
                <a:srgbClr val="0000ff"/>
              </a:buClr>
              <a:buFont typeface="Marlett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fectuar un resumen final de las cuestiones má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70000"/>
              </a:lnSpc>
              <a:buClr>
                <a:srgbClr val="0000ff"/>
              </a:buClr>
              <a:buFont typeface="Marlett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7680" y="952560"/>
            <a:ext cx="8896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DA53B-54A6-4808-9C00-ADFCF208075F}" type="slidenum">
              <a:t>4</a:t>
            </a:fld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816440" y="2978280"/>
            <a:ext cx="3559320" cy="2928960"/>
          </a:xfrm>
          <a:prstGeom prst="rect">
            <a:avLst/>
          </a:prstGeom>
          <a:solidFill>
            <a:srgbClr val="ffcc99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>
              <a:spcBef>
                <a:spcPts val="17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100" spc="-1" strike="noStrike">
                <a:solidFill>
                  <a:srgbClr val="000000"/>
                </a:solidFill>
                <a:latin typeface="Arial"/>
              </a:rPr>
              <a:t>Los registros deberán incluir, como mínimo, el nombre del cliente de la firma profesional y los datos de la oper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080" y="366480"/>
            <a:ext cx="8913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</a:rPr>
              <a:t>2. Base de datos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"/>
          <p:cNvSpPr/>
          <p:nvPr/>
        </p:nvSpPr>
        <p:spPr>
          <a:xfrm>
            <a:off x="4749840" y="1679400"/>
            <a:ext cx="3606840" cy="897120"/>
          </a:xfrm>
          <a:prstGeom prst="rect">
            <a:avLst/>
          </a:prstGeom>
          <a:solidFill>
            <a:srgbClr val="969696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Las operaciones seleccionadas en la muest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2280" y="1679400"/>
            <a:ext cx="3606840" cy="897120"/>
          </a:xfrm>
          <a:prstGeom prst="rect">
            <a:avLst/>
          </a:prstGeom>
          <a:solidFill>
            <a:srgbClr val="969696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La Identificación de los clie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9440" y="2978280"/>
            <a:ext cx="3733560" cy="30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>
              <a:spcBef>
                <a:spcPts val="17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100" spc="-1" strike="noStrike">
                <a:solidFill>
                  <a:srgbClr val="000000"/>
                </a:solidFill>
                <a:latin typeface="Arial"/>
              </a:rPr>
              <a:t>Los registros deberán incluir información que permita la evaluación de los clientes y de sus accionistas, socios y directores o equivale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4120" y="839880"/>
            <a:ext cx="7821720" cy="745920"/>
          </a:xfrm>
          <a:prstGeom prst="rect">
            <a:avLst/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Los profesionales deberán elaborar y mantener registros c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69960" y="2636640"/>
            <a:ext cx="3612960" cy="258480"/>
          </a:xfrm>
          <a:prstGeom prst="triangle">
            <a:avLst>
              <a:gd name="adj" fmla="val 50139"/>
            </a:avLst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757760" y="2636640"/>
            <a:ext cx="3629160" cy="272880"/>
          </a:xfrm>
          <a:prstGeom prst="triangle">
            <a:avLst>
              <a:gd name="adj" fmla="val 50139"/>
            </a:avLst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6853-D6B7-4EA2-B8FB-43E715E4BB9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914400"/>
            <a:ext cx="883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5640" y="2592360"/>
            <a:ext cx="7548480" cy="3259080"/>
          </a:xfrm>
          <a:prstGeom prst="rect">
            <a:avLst/>
          </a:prstGeom>
          <a:solidFill>
            <a:srgbClr val="ffcc99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planilla con datos personales de accionistas, directores,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constancias de comprobación de domicilios informados por el cliente (Ej: fotocopias de impuestos);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informes comerciales (cliente, accionistas, socios y funcionarios del cl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741240" y="2361240"/>
            <a:ext cx="7547040" cy="144360"/>
          </a:xfrm>
          <a:prstGeom prst="triangle">
            <a:avLst>
              <a:gd name="adj" fmla="val 50139"/>
            </a:avLst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0560" bIns="-70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4080" y="366480"/>
            <a:ext cx="8913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</a:rPr>
              <a:t>3. Conservación de documentación (Cont.)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"/>
          <p:cNvSpPr/>
          <p:nvPr/>
        </p:nvSpPr>
        <p:spPr>
          <a:xfrm>
            <a:off x="695160" y="1793880"/>
            <a:ext cx="7605720" cy="469800"/>
          </a:xfrm>
          <a:prstGeom prst="rect">
            <a:avLst/>
          </a:prstGeom>
          <a:solidFill>
            <a:srgbClr val="969696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¿Qué documentación debe conservars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6320" y="1036800"/>
            <a:ext cx="7554960" cy="577800"/>
          </a:xfrm>
          <a:prstGeom prst="rect">
            <a:avLst/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Respecto a identificación de los clie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77D47-0B8A-4451-867C-C3D2A5EA192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755640" y="2567160"/>
            <a:ext cx="7548480" cy="3379680"/>
          </a:xfrm>
          <a:prstGeom prst="rect">
            <a:avLst/>
          </a:prstGeom>
          <a:solidFill>
            <a:srgbClr val="ffcc99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laneamiento de los procedimientos a aplicar para la detección de operaciones inusuales o sospechosas (Sujetos no obligados a informa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cedimientos específicos a aplicar en la evaluación del control interno (sujetos obligados a informa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98400" y="2333160"/>
            <a:ext cx="7547040" cy="144720"/>
          </a:xfrm>
          <a:prstGeom prst="triangle">
            <a:avLst>
              <a:gd name="adj" fmla="val 50139"/>
            </a:avLst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0560" bIns="-70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4080" y="366480"/>
            <a:ext cx="8913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</a:rPr>
              <a:t>3. Conservación de documentación (Cont.)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"/>
          <p:cNvSpPr/>
          <p:nvPr/>
        </p:nvSpPr>
        <p:spPr>
          <a:xfrm>
            <a:off x="735120" y="952560"/>
            <a:ext cx="7554960" cy="577800"/>
          </a:xfrm>
          <a:prstGeom prst="rect">
            <a:avLst/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Respecto de los procedimientos apli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5160" y="1693800"/>
            <a:ext cx="7605720" cy="469800"/>
          </a:xfrm>
          <a:prstGeom prst="rect">
            <a:avLst/>
          </a:prstGeom>
          <a:solidFill>
            <a:srgbClr val="969696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¿Qué documentación debe conservars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92E96-DF4F-4C51-8127-5F97C413F41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914400"/>
            <a:ext cx="883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3040" y="2270160"/>
            <a:ext cx="7548480" cy="3514680"/>
          </a:xfrm>
          <a:prstGeom prst="rect">
            <a:avLst/>
          </a:prstGeom>
          <a:solidFill>
            <a:srgbClr val="ffcc99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conclusiones obtenid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copia de la información remitida a la UIF, si existiese; 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seguimiento de las observaciones detect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98400" y="2104560"/>
            <a:ext cx="7547040" cy="144720"/>
          </a:xfrm>
          <a:prstGeom prst="triangle">
            <a:avLst>
              <a:gd name="adj" fmla="val 50139"/>
            </a:avLst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0560" bIns="-70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4080" y="366480"/>
            <a:ext cx="8913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</a:rPr>
              <a:t>3. Conservación de documentación (Cont.)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"/>
          <p:cNvSpPr/>
          <p:nvPr/>
        </p:nvSpPr>
        <p:spPr>
          <a:xfrm>
            <a:off x="735120" y="838080"/>
            <a:ext cx="7554960" cy="577800"/>
          </a:xfrm>
          <a:prstGeom prst="rect">
            <a:avLst/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Respecto de los procedimientos apli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5160" y="1522440"/>
            <a:ext cx="7605720" cy="469800"/>
          </a:xfrm>
          <a:prstGeom prst="rect">
            <a:avLst/>
          </a:prstGeom>
          <a:solidFill>
            <a:srgbClr val="969696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¿Qué documentación debe conservars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797F7-AE65-4408-9FD4-D65A5F38F20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566720" y="1625760"/>
            <a:ext cx="62582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Deber de inform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43680" y="4172040"/>
            <a:ext cx="400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05000" y="5956200"/>
            <a:ext cx="24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Noviembre 15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9158400" cy="2298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ber de informar – Oportunidad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"/>
          <p:cNvSpPr/>
          <p:nvPr/>
        </p:nvSpPr>
        <p:spPr>
          <a:xfrm>
            <a:off x="230040" y="971640"/>
            <a:ext cx="2679840" cy="893520"/>
          </a:xfrm>
          <a:prstGeom prst="rect">
            <a:avLst/>
          </a:prstGeom>
          <a:gradFill rotWithShape="0">
            <a:gsLst>
              <a:gs pos="0">
                <a:srgbClr val="657e7e"/>
              </a:gs>
              <a:gs pos="50000">
                <a:srgbClr val="ccffff"/>
              </a:gs>
              <a:gs pos="100000">
                <a:srgbClr val="657e7e"/>
              </a:gs>
            </a:gsLst>
            <a:lin ang="13500000"/>
          </a:gra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 3/04 (U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00400" y="1173240"/>
            <a:ext cx="576360" cy="523800"/>
          </a:xfrm>
          <a:prstGeom prst="rightArrow">
            <a:avLst>
              <a:gd name="adj1" fmla="val 50000"/>
              <a:gd name="adj2" fmla="val 27519"/>
            </a:avLst>
          </a:prstGeom>
          <a:gradFill rotWithShape="0">
            <a:gsLst>
              <a:gs pos="0">
                <a:srgbClr val="657e7e"/>
              </a:gs>
              <a:gs pos="100000">
                <a:srgbClr val="cc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23080" y="1152360"/>
            <a:ext cx="407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Deber de informar dentro de 48 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82760" y="1925640"/>
            <a:ext cx="2873520" cy="1120680"/>
          </a:xfrm>
          <a:prstGeom prst="ellipse">
            <a:avLst/>
          </a:prstGeom>
          <a:gradFill rotWithShape="0">
            <a:gsLst>
              <a:gs pos="0">
                <a:srgbClr val="657e7e"/>
              </a:gs>
              <a:gs pos="50000">
                <a:srgbClr val="cdffff"/>
              </a:gs>
              <a:gs pos="100000">
                <a:srgbClr val="657e7e"/>
              </a:gs>
            </a:gsLst>
            <a:lin ang="135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rma Profe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397240" y="2789280"/>
            <a:ext cx="1116000" cy="436680"/>
          </a:xfrm>
          <a:custGeom>
            <a:avLst/>
            <a:gdLst/>
            <a:ahLst/>
            <a:rect l="l" t="t" r="r" b="b"/>
            <a:pathLst>
              <a:path w="703" h="275">
                <a:moveTo>
                  <a:pt x="702" y="82"/>
                </a:moveTo>
                <a:lnTo>
                  <a:pt x="324" y="218"/>
                </a:lnTo>
                <a:lnTo>
                  <a:pt x="475" y="262"/>
                </a:lnTo>
                <a:lnTo>
                  <a:pt x="30" y="274"/>
                </a:lnTo>
                <a:lnTo>
                  <a:pt x="0" y="57"/>
                </a:lnTo>
                <a:lnTo>
                  <a:pt x="136" y="129"/>
                </a:lnTo>
                <a:lnTo>
                  <a:pt x="429" y="0"/>
                </a:lnTo>
                <a:lnTo>
                  <a:pt x="692" y="7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667480" y="2895480"/>
            <a:ext cx="1174680" cy="347760"/>
          </a:xfrm>
          <a:custGeom>
            <a:avLst/>
            <a:gdLst/>
            <a:ahLst/>
            <a:rect l="l" t="t" r="r" b="b"/>
            <a:pathLst>
              <a:path w="740" h="219">
                <a:moveTo>
                  <a:pt x="0" y="94"/>
                </a:moveTo>
                <a:lnTo>
                  <a:pt x="390" y="167"/>
                </a:lnTo>
                <a:lnTo>
                  <a:pt x="229" y="218"/>
                </a:lnTo>
                <a:lnTo>
                  <a:pt x="695" y="183"/>
                </a:lnTo>
                <a:lnTo>
                  <a:pt x="739" y="3"/>
                </a:lnTo>
                <a:lnTo>
                  <a:pt x="592" y="75"/>
                </a:lnTo>
                <a:lnTo>
                  <a:pt x="292" y="0"/>
                </a:lnTo>
                <a:lnTo>
                  <a:pt x="10" y="91"/>
                </a:lnTo>
              </a:path>
            </a:pathLst>
          </a:cu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3680" y="3371760"/>
            <a:ext cx="2679480" cy="893880"/>
          </a:xfrm>
          <a:prstGeom prst="rect">
            <a:avLst/>
          </a:prstGeom>
          <a:gradFill rotWithShape="0">
            <a:gsLst>
              <a:gs pos="0">
                <a:srgbClr val="657e7e"/>
              </a:gs>
              <a:gs pos="50000">
                <a:srgbClr val="ccffff"/>
              </a:gs>
              <a:gs pos="100000">
                <a:srgbClr val="657e7e"/>
              </a:gs>
            </a:gsLst>
            <a:lin ang="13500000"/>
          </a:gra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jetos oblig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97480" y="3371760"/>
            <a:ext cx="2927520" cy="893880"/>
          </a:xfrm>
          <a:prstGeom prst="rect">
            <a:avLst/>
          </a:prstGeom>
          <a:gradFill rotWithShape="0">
            <a:gsLst>
              <a:gs pos="0">
                <a:srgbClr val="657e7e"/>
              </a:gs>
              <a:gs pos="50000">
                <a:srgbClr val="ccffff"/>
              </a:gs>
              <a:gs pos="100000">
                <a:srgbClr val="657e7e"/>
              </a:gs>
            </a:gsLst>
            <a:lin ang="13500000"/>
          </a:gra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jetos no oblig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9960" y="4379760"/>
            <a:ext cx="3781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Emisión de informe anual como parte del proceso de auditoría de los 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72280" y="4303800"/>
            <a:ext cx="377172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00"/>
                </a:solidFill>
                <a:uFillTx/>
                <a:latin typeface="Arial Narrow"/>
              </a:rPr>
              <a:t>Regla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Una vez que el proceso de auditoría se haya comple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61FEB-6880-4314-B00D-F05A7479E931}" type="slidenum">
              <a:t>45</a:t>
            </a:fld>
          </a:p>
        </p:txBody>
      </p:sp>
    </p:spTree>
  </p:cSld>
  <p:transition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ber de informar - Síndic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8689680" cy="4852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marL="476280" indent="-476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Narrow"/>
              </a:rPr>
              <a:t>Sólo alcanza al trabajo de auditoría de los estados contable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76280" indent="-476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Narrow"/>
              </a:rPr>
              <a:t>Las revisiones trimestrales no están alcanzada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76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76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Narrow"/>
              </a:rPr>
              <a:t>Fundamento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1143000" indent="-476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Narrow"/>
              </a:rPr>
              <a:t>Compatibilidad con funciones de auditor externo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1143000" indent="-476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Narrow"/>
              </a:rPr>
              <a:t>Distinto alcance de las revisiones trimestrales respecto de la auditoría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1143000" indent="-476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Narrow"/>
              </a:rPr>
              <a:t>La exclusión de servicios profesionales distintos de auditoría que establece la R 3/04 (UIF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76280" indent="-476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Narrow"/>
              </a:rPr>
              <a:t>Posibilidad de basarse en la tarea del auditor (RT 15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6A85F-3D89-4BC7-90BB-3483A9367607}" type="slidenum">
              <a:t>46</a:t>
            </a:fld>
          </a:p>
        </p:txBody>
      </p:sp>
    </p:spTree>
  </p:cSld>
  <p:transition>
    <p:zoom dir="in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566720" y="1625760"/>
            <a:ext cx="62582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rograma de trabaj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sujetos no obligad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43680" y="4172040"/>
            <a:ext cx="400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9158400" cy="2298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Sujetos no obligados – Premisas adoptadas en la elaboración del programa de trabajo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8689680" cy="4852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marL="17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Los procedimientos sugeridos en el Anexo B.2 han sido desarrollados en “el marco de las tareas de auditoría externa y sindicatura” conforme a la R 3/04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Dichos procedimientos, incluidos en un programa global de prevención de lavado de activos, tendrán por objeto identificar si existen las transacciones detalladas en el Anexo II de la R 3/04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En consonancia con la RT 7, la existencia de un buen sistema de control interno para este objetivo específico determina la naturaleza, alcance y oportunidad de estas prueb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23180-A578-46B7-AD5C-2A18949F08E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 Narrow"/>
              </a:rPr>
              <a:t>Principios básico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8689680" cy="4852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Principio de economicidad del control teniendo en cuenta el criterio de significatividad o relevanci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Revisión selectiva, basada en la significatividad y en el riesgo de lo que se va a examina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546E5-CBD2-4EAA-98A7-C62E43CF14A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structur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438120" y="952560"/>
            <a:ext cx="8229600" cy="51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9480" indent="-609480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Narrow"/>
              </a:rPr>
              <a:t>Considerandos y Resolu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Narrow"/>
              </a:rPr>
              <a:t>Introdu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Narrow"/>
              </a:rPr>
              <a:t>Cuestiones cl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Narrow"/>
              </a:rPr>
              <a:t>Aceptación y retención de cli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Narrow"/>
              </a:rPr>
              <a:t>Procedimientos de control interno y capaci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Narrow"/>
              </a:rPr>
              <a:t>Infor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Narrow"/>
              </a:rPr>
              <a:t>Procedimientos a aplicar en sujetos obligados a informar y en no oblig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Narrow"/>
              </a:rPr>
              <a:t>Impacto en los informes sobre estados cont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E0E60-31D3-45E0-9E12-A38563A53E21}" type="slidenum">
              <a:t>5</a:t>
            </a:fld>
          </a:p>
        </p:txBody>
      </p:sp>
    </p:spTree>
  </p:cSld>
  <p:transition>
    <p:zoom dir="in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Programa de trabajo – sujetos no obligados</a:t>
            </a:r>
            <a:br>
              <a:rPr sz="2800"/>
            </a:b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Consideraciones especial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8689680" cy="4852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marL="17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Se sugieren procedimientos específicos para transacciones incluidas en el anexo II del la R 3/04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Muestreo de las transaccion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Oportunidad de la aplicación de las prueb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Preparación y conservación de los papeles de trabaj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9BEE2-5F75-4BCB-8517-BBB53D24FCD4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Programa de trabajo – sujetos no obligados</a:t>
            </a:r>
            <a:br>
              <a:rPr sz="2800"/>
            </a:b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Sugerencia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8689680" cy="4852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marL="17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Necesidad de que el equipo de trabajo mantenga una mentalidad inquisitiva y permanezca alerta a la posibilidad de que se produzcan este tipo de tipo de transaccion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Relación con la auditoría externa y los resultados de la revisión analític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Compartir información dentro del equipo de trabaj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Considerar influencias externas e internas a la entidad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Efectuar indagaciones al personal del cliente complementadas, de corresponder, con búsqueda de otras evidenci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7CE1A-5A1A-4279-A87C-69291BC18E1D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Programa de trabajo – sujetos no obligados</a:t>
            </a:r>
            <a:br>
              <a:rPr sz="2800"/>
            </a:b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Sugerencia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8689680" cy="4852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marL="17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Evaluar la existencia de saldos/transacciones proclives a riesgos de lavado de diner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Complementar examen,  de corresponder, con entrevistas con personal clave y análisis de la normativa específica de la operaciones evaluad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EE806-2B08-4217-9DF2-D7C4F50D5B12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190600" y="1844640"/>
            <a:ext cx="6258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Infor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3680" y="4172040"/>
            <a:ext cx="400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9158400" cy="2298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914400"/>
            <a:ext cx="883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4080" y="366480"/>
            <a:ext cx="8913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</a:rPr>
              <a:t>Informes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"/>
          <p:cNvSpPr/>
          <p:nvPr/>
        </p:nvSpPr>
        <p:spPr>
          <a:xfrm>
            <a:off x="4710240" y="973080"/>
            <a:ext cx="3606840" cy="2347920"/>
          </a:xfrm>
          <a:prstGeom prst="rect">
            <a:avLst/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Informe especial sobre el Reporte de operaciones inusuales o sospechosas de la U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49160" y="973080"/>
            <a:ext cx="3606840" cy="2347920"/>
          </a:xfrm>
          <a:prstGeom prst="rect">
            <a:avLst/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Informe especial sobr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a existencia y funcionamiento de los procedimientos de control in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2560" y="5254560"/>
            <a:ext cx="7621560" cy="749520"/>
          </a:xfrm>
          <a:prstGeom prst="rect">
            <a:avLst/>
          </a:prstGeom>
          <a:solidFill>
            <a:srgbClr val="ffcc99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1960">
              <a:lnSpc>
                <a:spcPct val="100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Verdana"/>
              </a:rPr>
              <a:t>Deben prepararse de acuerdo con las normas aplicables a informes especiales previstas en la RT 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27200" y="4989960"/>
            <a:ext cx="7546680" cy="174600"/>
          </a:xfrm>
          <a:prstGeom prst="triangle">
            <a:avLst>
              <a:gd name="adj" fmla="val 50139"/>
            </a:avLst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0480" bIns="-60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70040" y="3498840"/>
            <a:ext cx="7538760" cy="665280"/>
          </a:xfrm>
          <a:prstGeom prst="rect">
            <a:avLst/>
          </a:prstGeom>
          <a:solidFill>
            <a:srgbClr val="969696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Sujetos obligados a inform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57760" y="4254480"/>
            <a:ext cx="3533760" cy="665280"/>
          </a:xfrm>
          <a:prstGeom prst="rect">
            <a:avLst/>
          </a:prstGeom>
          <a:solidFill>
            <a:srgbClr val="969696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Sujetos no obligados a inform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D0D4C-4E29-4320-8B00-39416CDC5B6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914400"/>
            <a:ext cx="883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4080" y="366480"/>
            <a:ext cx="8913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</a:rPr>
              <a:t>Informes (Cont.)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"/>
          <p:cNvSpPr/>
          <p:nvPr/>
        </p:nvSpPr>
        <p:spPr>
          <a:xfrm>
            <a:off x="749160" y="2071800"/>
            <a:ext cx="7567920" cy="911160"/>
          </a:xfrm>
          <a:prstGeom prst="rect">
            <a:avLst/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Informe especial sobre el Reporte de operaciones inusuales o sospechosas de la U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57080" y="3741840"/>
            <a:ext cx="7562880" cy="2246040"/>
          </a:xfrm>
          <a:prstGeom prst="rect">
            <a:avLst/>
          </a:prstGeom>
          <a:solidFill>
            <a:srgbClr val="ffcc99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>
              <a:lnSpc>
                <a:spcPct val="100000"/>
              </a:lnSpc>
              <a:spcBef>
                <a:spcPts val="1536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Verdana"/>
              </a:rPr>
              <a:t>Definir claramente la responsabilidad asumida respecto a la información reportada a la UIF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536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Verdana"/>
              </a:rPr>
              <a:t>Adjuntar al Informe Especial toda la documentación respaldatoria de la operación reportad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536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Verdana"/>
              </a:rPr>
              <a:t>Adjuntar al Informe Especial los formularios requeridos por la Resolución 3/04 de la UIF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41760" y="987480"/>
            <a:ext cx="3780000" cy="752400"/>
          </a:xfrm>
          <a:prstGeom prst="rect">
            <a:avLst/>
          </a:prstGeom>
          <a:solidFill>
            <a:srgbClr val="969696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Sujetos no obligados a inform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7200" y="987480"/>
            <a:ext cx="3446280" cy="752400"/>
          </a:xfrm>
          <a:prstGeom prst="rect">
            <a:avLst/>
          </a:prstGeom>
          <a:solidFill>
            <a:srgbClr val="969696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Sujetos obligados a inform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96960" y="1807920"/>
            <a:ext cx="3511440" cy="171360"/>
          </a:xfrm>
          <a:prstGeom prst="triangle">
            <a:avLst>
              <a:gd name="adj" fmla="val 50139"/>
            </a:avLst>
          </a:prstGeom>
          <a:solidFill>
            <a:srgbClr val="969696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560" bIns="-61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572000" y="1807920"/>
            <a:ext cx="3745080" cy="171360"/>
          </a:xfrm>
          <a:prstGeom prst="triangle">
            <a:avLst>
              <a:gd name="adj" fmla="val 50139"/>
            </a:avLst>
          </a:prstGeom>
          <a:solidFill>
            <a:srgbClr val="969696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560" bIns="-61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0960" y="3162240"/>
            <a:ext cx="7567560" cy="416160"/>
          </a:xfrm>
          <a:prstGeom prst="rect">
            <a:avLst/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Lineamientos generales del inf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96BED-45C7-4AE6-B20D-6E1F70F5AC4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4080" y="366480"/>
            <a:ext cx="8913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</a:rPr>
              <a:t>Informes (Cont.)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"/>
          <p:cNvSpPr/>
          <p:nvPr/>
        </p:nvSpPr>
        <p:spPr>
          <a:xfrm>
            <a:off x="741240" y="3476520"/>
            <a:ext cx="7634520" cy="2644920"/>
          </a:xfrm>
          <a:prstGeom prst="rect">
            <a:avLst/>
          </a:prstGeom>
          <a:solidFill>
            <a:srgbClr val="ffcc99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>
              <a:lnSpc>
                <a:spcPct val="100000"/>
              </a:lnSpc>
              <a:spcBef>
                <a:spcPts val="1536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Verdana"/>
              </a:rPr>
              <a:t>Referenciar a las operaciones inusuales o sospechosas identificadas en la auditoría de los EC, incluidas en el “Reporte de operación sospechosa (ROS6)”, adjunto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536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Verdana"/>
              </a:rPr>
              <a:t>Referenciar a nuestro informe de auditoría sobre los Estados Contab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536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Verdana"/>
              </a:rPr>
              <a:t>Aclarar que el alcance profesional </a:t>
            </a: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AR" sz="1900" spc="-1" strike="noStrike">
                <a:solidFill>
                  <a:srgbClr val="000000"/>
                </a:solidFill>
                <a:latin typeface="Verdana"/>
              </a:rPr>
              <a:t>fue realizado de acuerdo con esta norm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49160" y="1957320"/>
            <a:ext cx="7567920" cy="911160"/>
          </a:xfrm>
          <a:prstGeom prst="rect">
            <a:avLst/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Informe especial sobre el Reporte de operaciones inusuales o sospechosas de la U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41760" y="835200"/>
            <a:ext cx="3780000" cy="798480"/>
          </a:xfrm>
          <a:prstGeom prst="rect">
            <a:avLst/>
          </a:prstGeom>
          <a:solidFill>
            <a:srgbClr val="969696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Sujetos no obligados a inform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27200" y="835200"/>
            <a:ext cx="3446280" cy="798480"/>
          </a:xfrm>
          <a:prstGeom prst="rect">
            <a:avLst/>
          </a:prstGeom>
          <a:solidFill>
            <a:srgbClr val="969696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Sujetos obligados a inform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96960" y="1693440"/>
            <a:ext cx="3511440" cy="171360"/>
          </a:xfrm>
          <a:prstGeom prst="triangle">
            <a:avLst>
              <a:gd name="adj" fmla="val 50139"/>
            </a:avLst>
          </a:prstGeom>
          <a:solidFill>
            <a:srgbClr val="969696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560" bIns="-61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572000" y="1693440"/>
            <a:ext cx="3745080" cy="171360"/>
          </a:xfrm>
          <a:prstGeom prst="triangle">
            <a:avLst>
              <a:gd name="adj" fmla="val 50139"/>
            </a:avLst>
          </a:prstGeom>
          <a:solidFill>
            <a:srgbClr val="969696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560" bIns="-61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5000" y="2909880"/>
            <a:ext cx="7567920" cy="441360"/>
          </a:xfrm>
          <a:prstGeom prst="rect">
            <a:avLst/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Modelo suger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6AFA7-AEF4-49F0-8D11-82F2D6F0157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914400"/>
            <a:ext cx="883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4080" y="366480"/>
            <a:ext cx="8913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</a:rPr>
              <a:t>Informes (Cont.)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"/>
          <p:cNvSpPr/>
          <p:nvPr/>
        </p:nvSpPr>
        <p:spPr>
          <a:xfrm>
            <a:off x="669960" y="3556080"/>
            <a:ext cx="7737480" cy="2549520"/>
          </a:xfrm>
          <a:prstGeom prst="rect">
            <a:avLst/>
          </a:prstGeom>
          <a:solidFill>
            <a:srgbClr val="ffcc99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>
              <a:lnSpc>
                <a:spcPct val="100000"/>
              </a:lnSpc>
              <a:spcBef>
                <a:spcPts val="1536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Verdana"/>
              </a:rPr>
              <a:t>Alcance de la auditoría de EC, considerando el CI con el único propósito de planear nuestra auditoría y determinar la naturaleza, oportunidad y alcance de los procedimient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536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Verdana"/>
              </a:rPr>
              <a:t>Párrafo aclaratorio sobre legitimidad de registros contables extracontables, papeles de trabajo y de detalle, y documentación que nos fuera provista por el clien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49160" y="1957320"/>
            <a:ext cx="7567920" cy="911160"/>
          </a:xfrm>
          <a:prstGeom prst="rect">
            <a:avLst/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Informe especial sobre el Reporte de operaciones inusuales o sospechosas de la U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541760" y="873000"/>
            <a:ext cx="3780000" cy="752760"/>
          </a:xfrm>
          <a:prstGeom prst="rect">
            <a:avLst/>
          </a:prstGeom>
          <a:solidFill>
            <a:srgbClr val="969696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Sujetos no obligados a inform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7200" y="873000"/>
            <a:ext cx="3446280" cy="752760"/>
          </a:xfrm>
          <a:prstGeom prst="rect">
            <a:avLst/>
          </a:prstGeom>
          <a:solidFill>
            <a:srgbClr val="969696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Sujetos obligados a inform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172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696960" y="1693440"/>
            <a:ext cx="3511440" cy="171360"/>
          </a:xfrm>
          <a:prstGeom prst="triangle">
            <a:avLst>
              <a:gd name="adj" fmla="val 50139"/>
            </a:avLst>
          </a:prstGeom>
          <a:solidFill>
            <a:srgbClr val="969696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560" bIns="-61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4572000" y="1693440"/>
            <a:ext cx="3745080" cy="171360"/>
          </a:xfrm>
          <a:prstGeom prst="triangle">
            <a:avLst>
              <a:gd name="adj" fmla="val 50139"/>
            </a:avLst>
          </a:prstGeom>
          <a:solidFill>
            <a:srgbClr val="969696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560" bIns="-61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0960" y="3005280"/>
            <a:ext cx="7567560" cy="415800"/>
          </a:xfrm>
          <a:prstGeom prst="rect">
            <a:avLst/>
          </a:prstGeom>
          <a:solidFill>
            <a:srgbClr val="9f9fbf"/>
          </a:solidFill>
          <a:ln w="93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noAutofit/>
          </a:bodyPr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Modelo suger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50D84-7AE1-43D4-A52F-B8ACDBBB71D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Narrow"/>
              </a:rPr>
              <a:t>Impacto sobre Informe de Auditorí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114200"/>
            <a:ext cx="8291520" cy="3429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 fontScale="99000"/>
          </a:bodyPr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Informe de Auditoría / Sindic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04600" indent="-36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Existencia de afirmaciones incorrecta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4600" indent="-36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Significativida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Informe de control intern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04600" indent="-36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Existencia de limitaciones al alcance por problemas de falta de contro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Efecto de operación sospechosa en EEC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Sugerencia de asistencia lega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C4589-897F-48E4-877A-3C9417EDBF29}" type="slidenum">
              <a:t>58</a:t>
            </a:fld>
          </a:p>
        </p:txBody>
      </p:sp>
    </p:spTree>
  </p:cSld>
  <p:transition>
    <p:zoom dir="in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2190600" y="1844640"/>
            <a:ext cx="6258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Resumen fi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143680" y="4172040"/>
            <a:ext cx="400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9158400" cy="2298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structur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723960" y="2082960"/>
            <a:ext cx="735120" cy="447480"/>
          </a:xfrm>
          <a:prstGeom prst="rightArrow">
            <a:avLst>
              <a:gd name="adj1" fmla="val 50000"/>
              <a:gd name="adj2" fmla="val 41085"/>
            </a:avLst>
          </a:prstGeom>
          <a:gradFill rotWithShape="0">
            <a:gsLst>
              <a:gs pos="0">
                <a:srgbClr val="657e7e"/>
              </a:gs>
              <a:gs pos="50000">
                <a:srgbClr val="ccffff"/>
              </a:gs>
              <a:gs pos="100000">
                <a:srgbClr val="657e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4880" y="2997360"/>
            <a:ext cx="735120" cy="447480"/>
          </a:xfrm>
          <a:prstGeom prst="rightArrow">
            <a:avLst>
              <a:gd name="adj1" fmla="val 50000"/>
              <a:gd name="adj2" fmla="val 41085"/>
            </a:avLst>
          </a:prstGeom>
          <a:gradFill rotWithShape="0">
            <a:gsLst>
              <a:gs pos="0">
                <a:srgbClr val="657e7e"/>
              </a:gs>
              <a:gs pos="50000">
                <a:srgbClr val="ccffff"/>
              </a:gs>
              <a:gs pos="100000">
                <a:srgbClr val="657e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70200" y="1941480"/>
            <a:ext cx="677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tribuciones de los Consejos para dictar normas profes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51120" y="2874960"/>
            <a:ext cx="691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cesidad de fijar un marco profesional sobre bases objetivas y límites cla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17760" y="4570560"/>
            <a:ext cx="580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jercicios iniciados a partir del 22 de Junio de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7040" y="4516560"/>
            <a:ext cx="2854440" cy="987480"/>
          </a:xfrm>
          <a:custGeom>
            <a:avLst/>
            <a:gdLst>
              <a:gd name="textAreaLeft" fmla="*/ 0 w 2854440"/>
              <a:gd name="textAreaRight" fmla="*/ 2854800 w 2854440"/>
              <a:gd name="textAreaTop" fmla="*/ 0 h 987480"/>
              <a:gd name="textAreaBottom" fmla="*/ 987840 h 98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c4b4b"/>
              </a:gs>
              <a:gs pos="50000">
                <a:srgbClr val="ccffff"/>
              </a:gs>
              <a:gs pos="100000">
                <a:srgbClr val="3c4b4b"/>
              </a:gs>
            </a:gsLst>
            <a:lin ang="13500000"/>
          </a:gra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i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6040" y="507960"/>
            <a:ext cx="3883320" cy="1368360"/>
          </a:xfrm>
          <a:prstGeom prst="ellipse">
            <a:avLst/>
          </a:prstGeom>
          <a:gradFill rotWithShape="0">
            <a:gsLst>
              <a:gs pos="0">
                <a:srgbClr val="657e7e"/>
              </a:gs>
              <a:gs pos="50000">
                <a:srgbClr val="cdffff"/>
              </a:gs>
              <a:gs pos="100000">
                <a:srgbClr val="657e7e"/>
              </a:gs>
            </a:gsLst>
            <a:lin ang="135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Narrow"/>
              </a:rPr>
              <a:t>Considerandos y Resolu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5C43C-F586-415C-86FF-923DE54DEC30}" type="slidenum">
              <a:t>6</a:t>
            </a:fld>
          </a:p>
        </p:txBody>
      </p:sp>
    </p:spTree>
  </p:cSld>
  <p:transition>
    <p:zoom dir="in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sumen fina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-360" y="1123560"/>
            <a:ext cx="8690040" cy="4853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marL="476280" indent="-476280">
              <a:lnSpc>
                <a:spcPct val="90000"/>
              </a:lnSpc>
              <a:spcBef>
                <a:spcPts val="649"/>
              </a:spcBef>
              <a:buClr>
                <a:srgbClr val="995e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Aplicación de la norma profesional en forma prospectiva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76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76280" indent="-476280">
              <a:lnSpc>
                <a:spcPct val="90000"/>
              </a:lnSpc>
              <a:spcBef>
                <a:spcPts val="649"/>
              </a:spcBef>
              <a:buClr>
                <a:srgbClr val="995e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Necesidad de realizar procedimientos a los efectos de identificar adecuadamente a los cliente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76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76280" indent="-476280">
              <a:lnSpc>
                <a:spcPct val="90000"/>
              </a:lnSpc>
              <a:spcBef>
                <a:spcPts val="649"/>
              </a:spcBef>
              <a:buClr>
                <a:srgbClr val="995e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onsideración de las nuevas responsabilidades en las cartas acuerdo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76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76280" indent="-476280">
              <a:lnSpc>
                <a:spcPct val="90000"/>
              </a:lnSpc>
              <a:spcBef>
                <a:spcPts val="649"/>
              </a:spcBef>
              <a:buClr>
                <a:srgbClr val="995e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nclusión de manifestaciones adicionales en las cartas de la Dirección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F1A22-26A2-4F1C-A20F-9B47344E7C98}" type="slidenum">
              <a:t>60</a:t>
            </a:fld>
          </a:p>
        </p:txBody>
      </p:sp>
    </p:spTree>
  </p:cSld>
  <p:transition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sumen final (cont.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-360" y="1123560"/>
            <a:ext cx="8690040" cy="4853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 fontScale="99000"/>
          </a:bodyPr>
          <a:p>
            <a:pPr marL="471240" indent="-471240">
              <a:lnSpc>
                <a:spcPct val="80000"/>
              </a:lnSpc>
              <a:spcBef>
                <a:spcPts val="649"/>
              </a:spcBef>
              <a:buClr>
                <a:srgbClr val="995e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Narrow"/>
              </a:rPr>
              <a:t>Necesidad de diseñar e implementar políticas  y procedimientos de control interno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712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71240" indent="-471240">
              <a:lnSpc>
                <a:spcPct val="80000"/>
              </a:lnSpc>
              <a:spcBef>
                <a:spcPts val="649"/>
              </a:spcBef>
              <a:buClr>
                <a:srgbClr val="995e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Narrow"/>
              </a:rPr>
              <a:t>Obligación de capacitación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712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71240" indent="-471240">
              <a:lnSpc>
                <a:spcPct val="80000"/>
              </a:lnSpc>
              <a:spcBef>
                <a:spcPts val="649"/>
              </a:spcBef>
              <a:buClr>
                <a:srgbClr val="995e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Narrow"/>
              </a:rPr>
              <a:t>Procedimientos en base a muestras determinadas en el marco de la auditoría de los estados contable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712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71240" indent="-471240">
              <a:lnSpc>
                <a:spcPct val="80000"/>
              </a:lnSpc>
              <a:spcBef>
                <a:spcPts val="649"/>
              </a:spcBef>
              <a:buClr>
                <a:srgbClr val="995e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Narrow"/>
              </a:rPr>
              <a:t>En los sujetos obligados el profesional se limita a la revisión del control interno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712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71240" indent="-471240">
              <a:lnSpc>
                <a:spcPct val="80000"/>
              </a:lnSpc>
              <a:spcBef>
                <a:spcPts val="649"/>
              </a:spcBef>
              <a:buClr>
                <a:srgbClr val="995e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Narrow"/>
              </a:rPr>
              <a:t>Comunicación al sujeto obligado de las observaciones que surjan de la revisión del control interno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24B25-B4C6-46FC-B034-2EB694E4CA29}" type="slidenum">
              <a:t>61</a:t>
            </a:fld>
          </a:p>
        </p:txBody>
      </p:sp>
    </p:spTree>
  </p:cSld>
  <p:transition>
    <p:zoom dir="in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sumen final (cont.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1123560"/>
            <a:ext cx="9144000" cy="4853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marL="476280" indent="-476280">
              <a:lnSpc>
                <a:spcPct val="100000"/>
              </a:lnSpc>
              <a:spcBef>
                <a:spcPts val="2438"/>
              </a:spcBef>
              <a:buClr>
                <a:srgbClr val="995e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Narrow"/>
              </a:rPr>
              <a:t>En sujetos no obligados que cuenten con políticas y procedimientos para detectar operaciones sospechosa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1143000" indent="-476280">
              <a:lnSpc>
                <a:spcPct val="100000"/>
              </a:lnSpc>
              <a:spcBef>
                <a:spcPts val="2438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Narrow"/>
              </a:rPr>
              <a:t>se aplicará en primera instancia un enfoque de revisión de control interno para determinar el alcance de la pruebas específica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76280" indent="-476280">
              <a:lnSpc>
                <a:spcPct val="100000"/>
              </a:lnSpc>
              <a:spcBef>
                <a:spcPts val="2438"/>
              </a:spcBef>
              <a:buClr>
                <a:srgbClr val="995e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Narrow"/>
              </a:rPr>
              <a:t>El informe anual sobre control interno del sujeto obligado debe emitirse juntamente con el informe de auditoría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76280" indent="-476280">
              <a:lnSpc>
                <a:spcPct val="100000"/>
              </a:lnSpc>
              <a:spcBef>
                <a:spcPts val="2438"/>
              </a:spcBef>
              <a:buClr>
                <a:srgbClr val="995e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Narrow"/>
              </a:rPr>
              <a:t>Como regla general una operación sospechosa deberá informarse cuando se haya completado el proceso de auditoría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307FC-0EA8-46B4-9189-9DBDB356A38E}" type="slidenum">
              <a:t>62</a:t>
            </a:fld>
          </a:p>
        </p:txBody>
      </p:sp>
    </p:spTree>
  </p:cSld>
  <p:transition>
    <p:zoom dir="in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egunta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01600" y="1447920"/>
            <a:ext cx="6213600" cy="37670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marL="476280" indent="0" algn="ctr">
              <a:lnSpc>
                <a:spcPct val="90000"/>
              </a:lnSpc>
              <a:spcBef>
                <a:spcPts val="6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Webdings"/>
                <a:ea typeface="Webdings"/>
              </a:rPr>
              <a:t></a:t>
            </a:r>
            <a:endParaRPr b="0" lang="en-US" sz="25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1E5E1-D151-4C12-9303-236488FB4984}" type="slidenum">
              <a:t>63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uestiones Clav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8240" y="990720"/>
            <a:ext cx="8689680" cy="48528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Etapas del proceso de lavad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Profesionales alcanzad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Deber de informar cualquier hecho u operación sospechosa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Identificación de clien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Caracterización de hechos u operaciones sospechos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Deber de abstenerse de informa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Incorporación de un Programa Global Antilavad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995e3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Narrow"/>
              </a:rPr>
              <a:t>Responsabilidades del profesiona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475C7-ABDC-4243-A831-A06D4D182BF4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43040" y="1430280"/>
            <a:ext cx="76960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Introducción a la problemática del lavado de din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3680" y="4172040"/>
            <a:ext cx="400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216320"/>
            <a:ext cx="914256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9158400" cy="2298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4080" y="366840"/>
            <a:ext cx="89136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Definició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3960" y="1518840"/>
            <a:ext cx="8677080" cy="472428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i="1" lang="es-ES_tradnl" sz="3600" spc="-1" strike="noStrike">
                <a:solidFill>
                  <a:srgbClr val="000000"/>
                </a:solidFill>
                <a:latin typeface="Arial Narrow"/>
              </a:rPr>
              <a:t>Es el proceso por el cual los activos de origen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Arial Narrow"/>
              </a:rPr>
              <a:t>delictivo se integran al sistema legal co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s-ES_tradnl" sz="3600" spc="-1" strike="noStrike">
                <a:solidFill>
                  <a:srgbClr val="000000"/>
                </a:solidFill>
                <a:latin typeface="Arial Narrow"/>
              </a:rPr>
              <a:t>apariencia de ser obtenidos de forma lícita”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8422A-22CE-430C-A12B-7D43A8FDA9D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Ernst &amp; Young LLP</dc:creator>
  <dc:description/>
  <dc:language>en-US</dc:language>
  <cp:lastModifiedBy>CONT</cp:lastModifiedBy>
  <cp:lastPrinted>2000-10-02T20:46:26Z</cp:lastPrinted>
  <dcterms:modified xsi:type="dcterms:W3CDTF">2005-11-07T20:18:16Z</dcterms:modified>
  <cp:revision>1188</cp:revision>
  <dc:subject/>
  <dc:title>Program Intro</dc:title>
</cp:coreProperties>
</file>