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30D-5B48-4053-B371-CFC335F5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3C7-13D5-4734-9E90-E75DD46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24-D907-4C50-A126-C6240545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85E-8987-40C0-A10E-EA7113A1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D72-BA20-48A1-9995-39732276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1FD-2674-460A-B355-36D4121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066-9D97-4001-BD47-F9846D2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FD1-B219-4C1A-B8ED-BA91661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22B-80CA-4BEF-B641-309AEA9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E6B-F719-4FDE-839B-7919AC8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4BE-A8B6-46AF-8033-92FDEA5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E32-CFF8-440A-849C-3BE3D55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FEE-9487-42CF-BDC2-0891CEE2FA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19520"/>
            <a:ext cx="830592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 BASE E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bjetivas:  Condiciones personales del su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EXENC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as:    Actividades desarrol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4582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RMATIVA APLICABLE AL REGIMEN DE EXENCIONES SUBJETIVAS A ENTIDADES SIN FINES DE LUCRO EN EL AMBITO DE LA CIUDAD AUTONOMA DE BUENOS 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03848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457200"/>
            <a:ext cx="845820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nscripción en el régimen de tasa cero en el ISIB - Resolución 713/DGR/2.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dades con antecedentes de solicitudes de exención en la DGR a partir de 1998 (Anexo II Res.713/DGR/2.004) Sólo deben present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    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ción ju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   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reditación de personería del decla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    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cripción en el IS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dades sin antecedentes de solicitudes de exención en la DGR a partir de 1998 (Anexo III Res.713/DGR/2.004) deben presentar además de lo establecido para el Anexo I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   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cripción en la AFIP-DGI y eventuales modif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cado de habilitación ante el GCABA (en caso de correspon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contables de los últimos 3 ejercicios, certificados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an de acción trienal (sólo para fundaciones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reditar la condición de exento en el Impuesto a las Gan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atuto social y sus modif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  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cado de personería jurídica de IGJ, actualizad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   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talle de las actividades realizadas en cumplimiento de su objeto social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último ejercicio, con carácter de declaración ju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9051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1337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3623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80988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03848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3434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8006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055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3341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5627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0"/>
            <a:ext cx="876312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. Limitaciones a las exenciones generales subjetivas y a la desgravación del régimen de tasa 0 % en el IS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tículo 41: Si desarrollan actividades extrañas a su naturaleza y fines, no pueden gozar de la exención en el ISIB por esos ingreso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entidades destinadas a la educación con planes de enseñanza oficialmente reconocidos (inciso 3° del artículo 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fundaciones, asociaciones, entidades de beneficencia, de bien público,  asistencia social, científicas, artísticas, culturales y deportivas, todas sin fines de lucro (inciso 1º del artículo 60 de la Ley Tarifaria – régimen de alícuota 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Hospitales de comunidades, en caso de obtener la exención general del art. 40, la misma no comprende al ISIB dado que están gravados expresamente con la alícuota del 1,1% en la Ley Tari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asociaciones gremiales y representativas de profesiones universitarias (inciso 7° del artículo 3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stas últimas además por poseer una exención general de todos los tributos tampoco pueden gozar de la exención en las contribuciones inmobiliarias o en el impuesto de patentes que correspondan a inmuebles o vehículos afectados total o parcialmente a las actividades ajenas a su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ción en materia de ABL, Contribución Territorial y Pavimentos y Ac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universidades privadas y las instituciones de enseñanza terciaria de carácter privado no están alcanzadas por ninguna exención en las contribuciones inmobiliari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Artículo 142. En el ISIB, no serán de aplicación las exenciones subjetivas cuándo las entidades exentas desarrollen actividades a las que la Ley Tarifaria fija alícuotas superiores a la tasa general del 3%.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572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838080"/>
            <a:ext cx="83059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ey Tarifaria, Art. 60 Inc. 1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conformidad con lo dispuesto por el Código Fiscal, establécese la tasa del cero por ciento (0%) para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i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ingresos provenientes de las operaciones realizadas por las fundaciones, las asociaciones, entidades o comisiones de beneficencia, de bien público, asistencia social, científicas, artísticas, culturales y deportivas -todas estas sin fines de lucro- siempre que los ingresos obtenidos sean destinados exclusivamente al objeto previsto en sus estatutos sociales, acta de constitución o documento similar y en ningún caso se distribuyan directa o indirectamente entre los socios. En estos casos se debe contar con personería jurídica o el reconocimiento o autorización por autoridad competente según correspo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74600"/>
            <a:ext cx="86868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3333cc"/>
                </a:solidFill>
                <a:latin typeface="Arial"/>
                <a:ea typeface="Arial"/>
              </a:rPr>
              <a:t>Reglamentación del actual Art.60 Inciso 1º Ley Tarifar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consideran como asociaciones, entidades o comisiones de beneficencia a todas aquellas que revisten las calidades previstas para las instituciones de beneficencia conforme la reglamentación del artículo 39, inciso 2 del Código Fiscal t.o. 2003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consideran como asociaciones, entidades o comisiones de bien público o de asistencia social a todas aquellas que revisten las calidades previstas para las instituciones de solidaridad social conforme la reglamentación del artículo 39 inciso 2° del Código Fiscal (t.o. 200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consideran como asociaciones, entidades o comisiones científicas a todas aquellas que revisten las calidades previstas para las instituciones científicas conforme la reglamentación del artículo 39, inciso 4 del Código Fiscal (t.o. 2003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consideran como asociaciones, entidades o comisiones artísticas a todas aquellas que propendan al desarrollo de las artes como representaciones materiales o perceptivas del pensamiento y del quehacer humano. La denominación no incluye a las que meramente se propongan o efectúen el estudio o divulgación de conocimientos artístic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consideran como asociaciones, entidades o comisiones culturales a todas aquellas que tengan por objeto conservar y proteger el conjunto de elementos materiales e inmateriales tales como lengua, ciencias, técnicas, instituciones, tradiciones, símbolos, modelos de comportamiento socialmente transmitidos y asimilados que caracterizan a las distintas etnias en las que se agrupan los hombr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304920"/>
            <a:ext cx="7696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0000"/>
                </a:solidFill>
                <a:latin typeface="Arial"/>
                <a:ea typeface="Arial"/>
              </a:rPr>
              <a:t>II. El régimen de exenciones en la ciudad de Buenos 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Normativa Aplicable: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ódigo Fiscal de la C.A.B.A.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pítulo VI de la parte general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enciones generales, (Art. 34 y 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(Exención que comprende a todos los tributos establecidos en el Código Fis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ódigo Fiscal de la C.A.B.A. (Art.14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.3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ey Tarifaria de la C.A.B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égimen de alícuota 0% en el I.S.I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(Comprende sólo al Impuesto Sobre los Ingresos Brutos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00200"/>
            <a:ext cx="88390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III. Las exenciones generales subjetiv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rt.34                    vigencia perman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Arial"/>
              </a:rPr>
              <a:t>E.G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rt.40                    por 5 años (renova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1952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97180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80988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89154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Exenciones a entidades sin fines de lucro de carácter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rt. 34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án exentos del pago de los tributos establecidos por el presente Código con la limitación dispuesta por el artículo 142 y con excepción de aquellos que respondan a servicios especiales efectivamente prestados, ..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Las asociaciones vecinales y las asociaciones o cooperadoras de ayuda a la acción hospitalaria, reconocidas por el Gobierno de la Ciudad Autónoma de Buenos Ai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Las asociaciones mutualistas constituidas de conformidad con la legislación vigente, con excepción de las operaciones realizadas en materia de seguros las que están sujetas al Impuesto sobre los Ingresos Bru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Las cooperadoras escolares reconocidas por autoridad compet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... las asociaciones sin fines de lucro representativas de profesiones universita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El Patronato de la Inf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El Patronato de Lepro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Asociación para la Lucha contra la Parálisis Infantil (ALP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La Cruz Roja Argent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lubes que no estén federados a las respectivas ligas profesionales y cumplan fun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sociales en su radio de infl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La exención alcanza a los clubes federados siempre que no posean deportistas que perciban retribución por la actividad desarrollada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85800"/>
            <a:ext cx="861048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Exención para entidades sin fines de lucro por 5 años – sujetas a  fiscalización prev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0 – Exención para asociaciones civiles y fundaciones que acrediten el cumplimiento de 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ines para los cuales fueron creadas:</a:t>
            </a:r>
            <a:r>
              <a:rPr b="1" i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stán exentas del pago de los tributos establecidos en el presente Código con la limitación dispuesta por los artículos 41 y 142 y con excepción de aquellos que respondan a servicios y servicios especiales efectivamente prestados, las siguientes entidades, siempre que acrediten  el cumplimiento de los fines de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bibliotecas populares, reconocidas por la Comisión Protectora de Bibliotecas Populares Ley Nacional N°  4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2.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instituciones de beneficencia o solidaridad so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3.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asociaciones protectoras de anim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4.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Las entidades culturales o científicas que no persiguen fines de luc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xención se renueva por períodos de cinco (5) años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, pero queda sin efecto de producirs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modificación de las normas bajo las cuales se acuerda o de las condiciones que le sirv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fund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exención y la renovación se disponen por resolución de la Dirección General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295280"/>
            <a:ext cx="861048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glamentación incisos 2º y 4º del artículo 40 del C.F. Decreto 2.033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ondiciones que deben reunir las entidades para ser consideradas de beneficencia o solidaridad social o cultural o científica respectivament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Reglamentación del inciso 2º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Se considera institución d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beneficencia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a toda aquella que tiene por objeto y lleva a cabo la tarea d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suplir directamente carencias o de atender también en forma directa emergencias de terceros no miembros,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las que aunque puedan revestir carácter individual merecen ser consideradas como un problema social. Sus prestaciones deben tener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carácter totalmente gratuito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y ser llevadas a cabo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en todo o en parte en el ámbito de la Ciudad Autónoma de Buenos Aires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Se considera institución d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solidaridad social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a toda aquella que tiene por objeto y lleva a cabo la tarea d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suplir directamente carencias o de atender también en forma directa emergencias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de sus integrantes o terceros, las qu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aunque puedan revestir carácter individual merecen ser consideradas como un problema social, </a:t>
            </a:r>
            <a:r>
              <a:rPr b="1" i="1" lang="es-ES" sz="1400" spc="-1" strike="noStrike">
                <a:solidFill>
                  <a:srgbClr val="3333cc"/>
                </a:solidFill>
                <a:latin typeface="Arial"/>
                <a:ea typeface="Arial"/>
              </a:rPr>
              <a:t>debiendo llevar a cabo su tarea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en todo o en parte, en el ámbito de la Ciudad Autónoma de Buenos Ai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295280"/>
            <a:ext cx="86104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lamentación del inciso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Se considera institución científica a toda aquella que tiene por objeto y lleva a cab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 modo preponderante tareas de investigación con el objeto de incorporar nuevos conocimientos a cualquier rama de la cienci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La denominación no incluye a las que meramente se proponen o realizan el estudio o divulgación de conocimientos científico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Se consider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ón cultur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 toda aquella que tiene po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bjeto conservar y proteger el conjunto de elementos materiales e inmateriales tales como lengua, ciencias, técnicas, instituciones, tradiciones, símbolos, modelos de comportamiento socialmente transmitidos y asimilados que caracterizan a las distintas etnia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en las que se agrupan los homb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se considera institución cultur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 los efectos de la exención de este inciso a aquellas entidades cuy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 preponderante sea la de docencia, la de impartir instrucción correspondiente a planes de enseñanza oficial y/o no oficial y a la actividad educativa en gener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 entiende como preponderante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 los efectos de la calificación de los párrafos precedente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ando más de la mitad de los egresos efectuados están destinados a la actividad cultural o científ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dichos egresos deben ser considerados en el último ejercicio fiscal anterior al pedido de exen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quisitos y plazo para gestionar la exención general subjetiva del Art.40 o su renovación (Art.42 del C.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00200"/>
            <a:ext cx="853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entidades deben acompañ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cado de personería jurídica en los casos que corresponda, autorizado y expedido por autoridad compet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ejemplar de los estatutos y de la última memoria y balance ge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entación debe realizarse dentro del primer trimestre del año para que ella produzca efectos por todo el período fiscal. La exención es resuelta por la Dirección Ge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 de requerirse tardíamente, el beneficio entra en vigor a partir del mes siguiente al de la fecha de solicitud, debiendo ingresarse los tributos en proporción al tiempo transcurrido.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990720"/>
            <a:ext cx="84582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. El régimen de alícuota cero por ciento en el ISIB para entidades sin fines de luc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desgravación establecida en la Ley Tarifaria, no una exención. La publicación en la página web no implica reconocimiento por parte de la DGR. Debe declarar base impon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autodeclarativo, y por lo tanto condicionado en su validez a la ulterior fiscalización de la D.G.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cumple con los requisitos formales de tiempo y modo de presentación, se publica en la página web institucional de la DGR y puede gozar de la tasa 0% partir del 1º de Enero de 2.004.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133720"/>
            <a:ext cx="1295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3526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267080"/>
            <a:ext cx="1218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3:50:04Z</dcterms:created>
  <dc:creator>rentas</dc:creator>
  <dc:description/>
  <dc:language>en-US</dc:language>
  <cp:lastModifiedBy>C.P.C.E.C.A.B.A.</cp:lastModifiedBy>
  <dcterms:modified xsi:type="dcterms:W3CDTF">2005-10-28T17:58:59Z</dcterms:modified>
  <cp:revision>16</cp:revision>
  <dc:subject/>
  <dc:title>Presentación de PowerPoint</dc:title>
</cp:coreProperties>
</file>