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1EB-E3E8-4672-87B1-B67FAF18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189-6A73-43AC-BBA0-AFFB69B3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876-DC19-4EC6-B50E-FCD8854E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0EE-8C66-4C7D-AD88-6F236F8B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F3A-AED8-4267-984A-0B1F2E36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FAC-7545-48C2-80F7-1DCA91CD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7BE-BDF4-4451-B91A-A054708D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9E7-00AB-4FB1-9FBC-D43482D8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8BE-A8B8-45DA-A970-34E9917B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B02-882C-4738-87DB-D70A36A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5F7-9765-463D-AFB5-6F3D8F6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F03-0AC7-46B8-8450-4298AE2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B441-3920-4F3D-9B8B-6B76B6BA6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1219320"/>
          <a:ext cx="795024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9502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981080" y="762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Asociaciones Civiles y 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905120" y="609480"/>
          <a:ext cx="613404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609480"/>
                    <a:ext cx="6134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62120" y="1676520"/>
            <a:ext cx="723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Sujetos comprendi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Art. 180 -primer párrafo-, sujetos al reconocimiento de autoridad compe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590920"/>
            <a:ext cx="723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Tipo de Oper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Actividades comerciales y/o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352680"/>
            <a:ext cx="72388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Límite Objetivo por monto de ingresos anu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Cuando no supere anualmente el monto que fija la ley impositiva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Ley 13.297 (para el año 2005) art. 18: </a:t>
            </a: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$ 180.000, en su conjunto.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495680"/>
            <a:ext cx="7924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Modo de cómputo de 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No se computan los provenientes del cobro de cuotas o aportes sociales y ot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4952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contribuciones voluntarias que perciban de sus asociados, benefactores y/o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676520" y="990720"/>
          <a:ext cx="5981760" cy="42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90720"/>
                    <a:ext cx="598176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33520" y="380880"/>
          <a:ext cx="7772400" cy="974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7772400" cy="9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219320" y="685800"/>
          <a:ext cx="6629400" cy="547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662940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57200" y="457200"/>
          <a:ext cx="840744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40744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85800" y="533520"/>
          <a:ext cx="777240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77724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1371600"/>
          <a:ext cx="8318520" cy="372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1852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143000" y="304920"/>
          <a:ext cx="6743880" cy="722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6743880" cy="72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066680" y="152280"/>
          <a:ext cx="624852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280"/>
                    <a:ext cx="624852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990720" y="304920"/>
          <a:ext cx="708660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08660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66680" y="1066680"/>
          <a:ext cx="7391520" cy="40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39152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66680" y="762120"/>
          <a:ext cx="716292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1629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765440" y="1219320"/>
          <a:ext cx="5600520" cy="290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219320"/>
                    <a:ext cx="5600520" cy="29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765440" y="457200"/>
          <a:ext cx="5892840" cy="58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457200"/>
                    <a:ext cx="589284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765440" y="725400"/>
          <a:ext cx="5613120" cy="54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725400"/>
                    <a:ext cx="561312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765440" y="231840"/>
          <a:ext cx="5613120" cy="639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31840"/>
                    <a:ext cx="5613120" cy="63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371600" y="1066680"/>
          <a:ext cx="6388200" cy="45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638820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066680" y="2057400"/>
          <a:ext cx="7836120" cy="193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83612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219320" y="990720"/>
          <a:ext cx="6718320" cy="46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183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52480" y="685800"/>
          <a:ext cx="55245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85800"/>
                    <a:ext cx="55245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752480" y="380880"/>
            <a:ext cx="7010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Verdana"/>
              </a:rPr>
              <a:t>Normas involucradas en part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65440" y="730080"/>
          <a:ext cx="5613120" cy="53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730080"/>
                    <a:ext cx="561312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676520" y="762120"/>
          <a:ext cx="6083280" cy="52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6083280" cy="52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90720" y="533520"/>
          <a:ext cx="6870600" cy="56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870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00200" y="914400"/>
          <a:ext cx="613404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61340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388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Exenciones al Impuesto sobre los Ingresos Br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c4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65440" y="3355920"/>
          <a:ext cx="5613120" cy="14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3355920"/>
                    <a:ext cx="5613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765440" y="3355920"/>
          <a:ext cx="5613120" cy="146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3355920"/>
                    <a:ext cx="5613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701720" y="304920"/>
          <a:ext cx="6756480" cy="6083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01720" y="304920"/>
                    <a:ext cx="675648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419720" y="49528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Por operaciones reali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334120"/>
            <a:ext cx="601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1.- </a:t>
            </a: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Siempre que los ingresos obtenidos sean destinados exclusivamente  al objeto de sus estatutos sociales, acta constitutiva o documento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7913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ahoma"/>
              </a:rPr>
              <a:t>2.- No distribuyan suma alguna de su producido entre asociados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8:00:57Z</dcterms:created>
  <dc:creator>cap</dc:creator>
  <dc:description/>
  <dc:language>en-US</dc:language>
  <cp:lastModifiedBy>C.P.C.E.C.A.B.A.</cp:lastModifiedBy>
  <dcterms:modified xsi:type="dcterms:W3CDTF">2005-10-28T17:58:38Z</dcterms:modified>
  <cp:revision>23</cp:revision>
  <dc:subject/>
  <dc:title>Sin título de diapositiva</dc:title>
</cp:coreProperties>
</file>