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702-B862-4373-B9B7-0B1FD065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3BD-F2F2-462B-9909-D7BCDAFD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BFF-AAF2-4E67-A1B9-C395DA6F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23A-622F-4678-B6ED-0945533D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E1B3-9A45-493C-9A5F-39D8F3C0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1E1-D2AB-4648-AB2A-708A8C9B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AFD6-CE0C-45B6-8946-05EF1DF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F2C0-8966-432A-920A-BCE373CC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0D17-3AF0-4D6A-9F7C-3F403EF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9D5D-AB45-4DBB-9ED9-AB8F3BC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B2A-738A-4A26-87F9-AC8FFD5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954-F3F8-4038-B2DC-37E5A36A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EC88-02A8-45FF-B0F9-9BFC126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40BA-40A4-4C66-BC0F-C35B510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AC85-9C27-43F5-93C1-CA61F4AB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8F77-2FDB-4E81-8357-CE99B704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7A9-CEB1-482F-8017-B3A6A005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AF0-2E62-4D25-9691-6C2DCE7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6CD-42A8-4871-88C2-C691660B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F67-4165-484B-942F-30A70D4B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84A-DBB5-403C-BF52-CB2923F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FEB-D1A9-4868-A5EA-A14104E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C60-833C-4B54-A63C-2E89B8D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E4D-5052-4DF9-9264-7B0F2C8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BF7E-47DE-47A8-AD8E-201957C95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D25-3913-4AFC-AABD-94FDDD8B1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93640" y="914400"/>
            <a:ext cx="816948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Asociaciones y Fundaciones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8001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100" spc="-1" strike="noStrike">
                <a:solidFill>
                  <a:srgbClr val="cc99ff"/>
                </a:solidFill>
                <a:latin typeface="Times New Roman"/>
              </a:rPr>
              <a:t>Su tratamiento en el </a:t>
            </a:r>
            <a:endParaRPr b="0" lang="en-US" sz="41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100" spc="-1" strike="noStrike">
                <a:solidFill>
                  <a:srgbClr val="cc99ff"/>
                </a:solidFill>
                <a:latin typeface="Times New Roman"/>
              </a:rPr>
              <a:t>Impuesto al Valor Agregado</a:t>
            </a:r>
            <a:endParaRPr b="0" lang="en-US" sz="41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ff"/>
                </a:solidFill>
                <a:latin typeface="Times New Roman"/>
              </a:rPr>
              <a:t>C.P.C.E.C.A.B.A.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ff"/>
                </a:solidFill>
                <a:latin typeface="Times New Roman"/>
              </a:rPr>
              <a:t>Octubr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5943600"/>
            <a:ext cx="2062080" cy="549360"/>
            <a:chOff x="457200" y="5943600"/>
            <a:chExt cx="2062080" cy="549360"/>
          </a:xfrm>
        </p:grpSpPr>
        <p:sp>
          <p:nvSpPr>
            <p:cNvPr id="86" name=""/>
            <p:cNvSpPr/>
            <p:nvPr/>
          </p:nvSpPr>
          <p:spPr>
            <a:xfrm>
              <a:off x="457200" y="5943600"/>
              <a:ext cx="539640" cy="549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9360" y="6035760"/>
              <a:ext cx="36504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9720" y="6126120"/>
              <a:ext cx="182520" cy="182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96920" y="5943600"/>
              <a:ext cx="14223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360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baseline="-25000">
                  <a:solidFill>
                    <a:srgbClr val="ccecff"/>
                  </a:solidFill>
                  <a:latin typeface="Times New Roman"/>
                </a:rPr>
                <a:t> 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EÑA,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REYTE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&amp;   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SOCIADO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9080" y="594360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9080" y="645804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15B-7993-49AD-B9AA-CE711948E487}" type="slidenum">
              <a:t>1</a:t>
            </a:fld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2514600"/>
            <a:ext cx="2057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Comic Sans MS"/>
              </a:rPr>
              <a:t>Impuesto a las Gananci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09680"/>
            <a:ext cx="426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Black"/>
              </a:rPr>
              <a:t>BIEN COMÚ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9540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Black"/>
              </a:rPr>
              <a:t>BENEFICIARI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9540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Black"/>
              </a:rPr>
              <a:t>PROPÓSITO DE LUCR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9540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954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Black"/>
              </a:rPr>
              <a:t>DESARROLLO DE ACT. EMPRESARI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66"/>
                </a:solidFill>
                <a:latin typeface="Garamond"/>
              </a:rPr>
              <a:t>A</a:t>
            </a:r>
            <a:r>
              <a:rPr b="1" lang="es-ES_tradnl" sz="3200" spc="-1" strike="noStrike">
                <a:solidFill>
                  <a:srgbClr val="66ff66"/>
                </a:solidFill>
                <a:latin typeface="Garamond"/>
              </a:rPr>
              <a:t>SOCIACIONES Y </a:t>
            </a:r>
            <a:r>
              <a:rPr b="1" lang="es-ES_tradnl" sz="4400" spc="-1" strike="noStrike">
                <a:solidFill>
                  <a:srgbClr val="66ff66"/>
                </a:solidFill>
                <a:latin typeface="Garamond"/>
              </a:rPr>
              <a:t>F</a:t>
            </a:r>
            <a:r>
              <a:rPr b="1" lang="es-ES_tradnl" sz="3200" spc="-1" strike="noStrike">
                <a:solidFill>
                  <a:srgbClr val="66ff66"/>
                </a:solidFill>
                <a:latin typeface="Garamond"/>
              </a:rPr>
              <a:t>UNDACIONES </a:t>
            </a:r>
            <a:r>
              <a:rPr b="0" lang="es-ES_tradnl" sz="3600" spc="-1" strike="noStrike">
                <a:solidFill>
                  <a:srgbClr val="66ff66"/>
                </a:solidFill>
                <a:latin typeface="Tahoma"/>
              </a:rPr>
              <a:t>Tratamiento Fiscal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228600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2666880"/>
            <a:ext cx="2057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Comic Sans MS"/>
              </a:rPr>
              <a:t>Otros Impuest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2362320"/>
            <a:ext cx="304920" cy="3429000"/>
          </a:xfrm>
          <a:custGeom>
            <a:avLst/>
            <a:gdLst>
              <a:gd name="textAreaLeft" fmla="*/ 0 w 304920"/>
              <a:gd name="textAreaRight" fmla="*/ 11016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34F-EED8-4CE0-AC95-71B167E8C8C4}" type="slidenum">
              <a:t>2</a:t>
            </a:fld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" y="2514600"/>
            <a:ext cx="3200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Comic Sans MS"/>
              </a:rPr>
              <a:t>Obje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Comic Sans MS"/>
              </a:rPr>
              <a:t>Ley, artículo 1º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71440" y="2209680"/>
            <a:ext cx="5791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a) ventas de cosas mueb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99"/>
                </a:solidFill>
                <a:latin typeface="Tahoma"/>
              </a:rPr>
              <a:t>b) obras, locaciones y prestaciones de servicios  incluidos en el artículo 3º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c) importaciones definitiva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690120" indent="-2786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) prestaciones del artículo 3º e) realizadas en el exterior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66"/>
                </a:solidFill>
                <a:latin typeface="Garamond"/>
              </a:rPr>
              <a:t>I</a:t>
            </a:r>
            <a:r>
              <a:rPr b="1" lang="es-ES_tradnl" sz="3200" spc="-1" strike="noStrike">
                <a:solidFill>
                  <a:srgbClr val="66ff66"/>
                </a:solidFill>
                <a:latin typeface="Garamond"/>
              </a:rPr>
              <a:t>MPUESTO</a:t>
            </a:r>
            <a:r>
              <a:rPr b="1" lang="es-ES_tradnl" sz="3600" spc="-1" strike="noStrike">
                <a:solidFill>
                  <a:srgbClr val="66ff66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66ff66"/>
                </a:solidFill>
                <a:latin typeface="Garamond"/>
              </a:rPr>
              <a:t>AL</a:t>
            </a:r>
            <a:r>
              <a:rPr b="1" lang="es-ES_tradnl" sz="3600" spc="-1" strike="noStrike">
                <a:solidFill>
                  <a:srgbClr val="66ff66"/>
                </a:solidFill>
                <a:latin typeface="Garamond"/>
              </a:rPr>
              <a:t> </a:t>
            </a:r>
            <a:r>
              <a:rPr b="1" lang="es-ES_tradnl" sz="4400" spc="-1" strike="noStrike">
                <a:solidFill>
                  <a:srgbClr val="66ff66"/>
                </a:solidFill>
                <a:latin typeface="Garamond"/>
              </a:rPr>
              <a:t>V</a:t>
            </a:r>
            <a:r>
              <a:rPr b="1" lang="es-ES_tradnl" sz="3200" spc="-1" strike="noStrike">
                <a:solidFill>
                  <a:srgbClr val="66ff66"/>
                </a:solidFill>
                <a:latin typeface="Garamond"/>
              </a:rPr>
              <a:t>ALOR</a:t>
            </a:r>
            <a:r>
              <a:rPr b="1" lang="es-ES_tradnl" sz="3600" spc="-1" strike="noStrike">
                <a:solidFill>
                  <a:srgbClr val="66ff66"/>
                </a:solidFill>
                <a:latin typeface="Garamond"/>
              </a:rPr>
              <a:t> </a:t>
            </a:r>
            <a:r>
              <a:rPr b="1" lang="es-ES_tradnl" sz="4400" spc="-1" strike="noStrike">
                <a:solidFill>
                  <a:srgbClr val="66ff66"/>
                </a:solidFill>
                <a:latin typeface="Garamond"/>
              </a:rPr>
              <a:t>A</a:t>
            </a:r>
            <a:r>
              <a:rPr b="1" lang="es-ES_tradnl" sz="3200" spc="-1" strike="noStrike">
                <a:solidFill>
                  <a:srgbClr val="66ff66"/>
                </a:solidFill>
                <a:latin typeface="Garamond"/>
              </a:rPr>
              <a:t>GREGADO</a:t>
            </a:r>
            <a:r>
              <a:rPr b="0" lang="es-ES_tradnl" sz="4000" spc="-1" strike="noStrike">
                <a:solidFill>
                  <a:srgbClr val="66ff66"/>
                </a:solidFill>
                <a:latin typeface="Tahoma"/>
              </a:rPr>
              <a:t> </a:t>
            </a:r>
            <a:br>
              <a:rPr sz="4000"/>
            </a:br>
            <a:r>
              <a:rPr b="0" lang="es-ES_tradnl" sz="3600" spc="-1" strike="noStrike">
                <a:solidFill>
                  <a:srgbClr val="66ff66"/>
                </a:solidFill>
                <a:latin typeface="Tahoma"/>
              </a:rPr>
              <a:t>Funcionamient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28600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294-29B6-4727-9CC9-FEF9778CD549}" type="slidenum">
              <a:t>3</a:t>
            </a:fld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3880"/>
            <a:ext cx="3200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99"/>
                </a:solidFill>
                <a:latin typeface="Comic Sans MS"/>
              </a:rPr>
              <a:t>Obras,locaciones y prestaciones de servicio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Comic Sans MS"/>
              </a:rPr>
              <a:t>Ley, artículo 3º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914400"/>
            <a:ext cx="5638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a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s/ inmueble ajen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b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s/ inmueble propi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c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fabricación de cosa mueble por encarg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d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obtención de bienes de la naturalez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47840" indent="-36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99"/>
                </a:solidFill>
                <a:latin typeface="Tahoma"/>
              </a:rPr>
              <a:t>e) locaciones y prestaciones de servicio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914400"/>
            <a:ext cx="380880" cy="4800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86D-3FB2-4E2E-ACC1-6774A4DC49F4}" type="slidenum">
              <a:t>4</a:t>
            </a:fld>
          </a:p>
        </p:txBody>
      </p:sp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143000"/>
            <a:ext cx="3048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99"/>
                </a:solidFill>
                <a:latin typeface="Comic Sans MS"/>
              </a:rPr>
              <a:t>Locaciones y prestaciones de servici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Comic Sans MS"/>
              </a:rPr>
              <a:t>Ley, artículo 3º, inc. </a:t>
            </a:r>
            <a:r>
              <a:rPr b="1" i="1" lang="es-ES_tradnl" sz="2800" spc="-1" strike="noStrike">
                <a:solidFill>
                  <a:srgbClr val="ccecff"/>
                </a:solidFill>
                <a:latin typeface="Comic Sans MS"/>
              </a:rPr>
              <a:t>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304920"/>
            <a:ext cx="6095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1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bares 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2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hoteles 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7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locación de cosas muebl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9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reparación, mantenimiento y  limpieza de bienes muebl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13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piscinas y gimnasio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16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garajes y playas de estacionamient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18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inmuebles para conferencias,  reuniones, fiestas y similar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20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involucradas en el precio de acceso a lugares de entretenimientos y diversió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074240" indent="-62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99"/>
                </a:solidFill>
                <a:latin typeface="Tahoma"/>
              </a:rPr>
              <a:t>21.  las restant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04920"/>
            <a:ext cx="533160" cy="64008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273-4CBF-4656-8F0F-8EDE618806A6}" type="slidenum">
              <a:t>5</a:t>
            </a:fld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676520"/>
            <a:ext cx="3276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Comic Sans MS"/>
              </a:rPr>
              <a:t>Exencion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Comic Sans MS"/>
              </a:rPr>
              <a:t>Ley, artículo 7º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3352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a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libr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33520"/>
            <a:ext cx="380880" cy="5486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1828800"/>
            <a:ext cx="54864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agua, pan y leche, cuando el comprador  sea un consumidor final, el Estado, ..., una entidad comprendida en el artículo 20º incs.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e), f), g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y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m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de la ley del impuesto a las gananci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reventa por farmacias y droguerías de medicam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3341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99"/>
                </a:solidFill>
                <a:latin typeface="Tahoma"/>
              </a:rPr>
              <a:t>h) las comprendidas en el artículo 3º, inc. e), punto 21. que se indican a continuación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1828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f 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768-F0AA-495C-848B-1521F61651CE}" type="slidenum">
              <a:t>6</a:t>
            </a:fld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04920"/>
            <a:ext cx="85345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33160" indent="-5331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3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establecimientos educacional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5.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servicios relativos al cult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99"/>
                </a:solidFill>
                <a:latin typeface="Tahoma"/>
              </a:rPr>
              <a:t>6.  servicios prestados por ... entidades comprendidas en los incs. f), g) y m) del artículo 20º de la ley del I.G. ... cuando tales servicios </a:t>
            </a:r>
            <a:r>
              <a:rPr b="1" i="1" lang="es-ES_tradnl" sz="2400" spc="-1" strike="noStrike">
                <a:solidFill>
                  <a:srgbClr val="66ff99"/>
                </a:solidFill>
                <a:latin typeface="Tahoma"/>
              </a:rPr>
              <a:t>se relacionen en forma directa con sus fines específicos</a:t>
            </a:r>
            <a:r>
              <a:rPr b="1" lang="es-ES_tradnl" sz="2400" spc="-1" strike="noStrike">
                <a:solidFill>
                  <a:srgbClr val="66ff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7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servicios médicos abonados a obras sociales y </a:t>
            </a:r>
            <a:r>
              <a:rPr b="1" i="1" lang="es-ES_tradnl" sz="2400" spc="-1" strike="noStrike">
                <a:solidFill>
                  <a:srgbClr val="ccecff"/>
                </a:solidFill>
                <a:latin typeface="Tahoma"/>
              </a:rPr>
              <a:t>no será de aplicación la exención del artículo 7º, h) 6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8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servicios funerarios en cuotas por cooperativ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25.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servicios  de  establecimientos   geriátricos abonados a obras social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533160" indent="-53316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AF1-D37E-49C4-BD3E-9FD173B4F3A6}" type="slidenum">
              <a:t>7</a:t>
            </a:fld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50000">
              <a:srgbClr val="714b25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819520"/>
            <a:ext cx="1676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Comic Sans MS"/>
              </a:rPr>
              <a:t>Excepto servicios d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762120"/>
            <a:ext cx="380880" cy="5486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4778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asistencia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85596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espectáculos y reuniones de carácter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251000"/>
            <a:ext cx="2133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anitar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édic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aramédic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733840"/>
            <a:ext cx="2438280" cy="36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rtístic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ientífic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ultur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usic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 can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 danz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ircen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portiv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inematográfic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eatr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cecff"/>
                </a:solidFill>
                <a:uFillTx/>
                <a:latin typeface="Comic Sans MS"/>
              </a:rPr>
              <a:t>Excepto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990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ras sociales a sus afiliados obligatori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590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olegios y Consejos Profesion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870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ajas de Previsión Social para Profesion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865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omprendidos en el art.2° de la ley 24.80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6172200"/>
            <a:ext cx="12952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12193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52280" cy="3581640"/>
          </a:xfrm>
          <a:custGeom>
            <a:avLst/>
            <a:gdLst>
              <a:gd name="textAreaLeft" fmla="*/ 97200 w 152280"/>
              <a:gd name="textAreaRight" fmla="*/ 152640 w 1522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609480"/>
            <a:ext cx="0" cy="5181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0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33"/>
                </a:solidFill>
                <a:latin typeface="Times New Roman"/>
              </a:rPr>
              <a:t>Art. 7°. 1. (Leyes 25.063 y 25920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E4C-7FC7-401E-9A62-794BAAFB176F}" type="slidenum">
              <a:t>8</a:t>
            </a:fld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9T19:38:10Z</dcterms:created>
  <dc:creator>Miriam Andreassi</dc:creator>
  <dc:description/>
  <dc:language>en-US</dc:language>
  <cp:lastModifiedBy>C.P.C.E.C.A.B.A.</cp:lastModifiedBy>
  <cp:lastPrinted>2000-09-20T16:17:15Z</cp:lastPrinted>
  <dcterms:modified xsi:type="dcterms:W3CDTF">2005-10-28T17:58:08Z</dcterms:modified>
  <cp:revision>51</cp:revision>
  <dc:subject/>
  <dc:title>Impuesto a las Ganancias</dc:title>
</cp:coreProperties>
</file>