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F6CA-671E-450B-8217-7C8514F2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FC57-0EB7-4F64-ADCA-67BCE9C1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A0AC-3D81-4B70-9D3B-7FAB1F69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E9F-7262-4FBE-982E-CD0EE470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88C-AC6B-4907-8DD4-0E6D4D5E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F36-0E0D-4A7C-81C7-E45FDC36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74F9-F14A-4C29-8E65-65067A77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316-2284-4B90-B3F9-78C0BAFA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88A9-741E-4710-8ED0-C0B3BE80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7DA9-34F8-4BA0-B3D9-0A2A1962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E29-C46C-4104-818D-D508E895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234B-EFCF-4432-80DA-8FA01C12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04B6-0E56-43F0-ACCA-C80F5BF69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85920" y="620640"/>
            <a:ext cx="733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Liderando proyectos para el camb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19000" y="1700280"/>
            <a:ext cx="19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osito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5320" y="2133720"/>
            <a:ext cx="4291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ra. L.A. Graciela E. Di Lon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r. CP. Daniel G. Gut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4880" y="3716280"/>
            <a:ext cx="4992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ordinad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r. CP. Gustavo J. García Has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07360" y="5229360"/>
            <a:ext cx="1090800" cy="1003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4880" y="4724280"/>
            <a:ext cx="413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laborad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r. CP. Roberto O. Brigul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02E-CBA9-4A76-AED1-76BA3C4C53CF}" type="slidenum">
              <a:t>1</a:t>
            </a:fld>
          </a:p>
        </p:txBody>
      </p:sp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0" repeatCount="5000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413000"/>
            <a:ext cx="5899320" cy="4459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3645000"/>
            <a:ext cx="586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75120" y="14130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33400" y="304920"/>
            <a:ext cx="69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ENSIBILIDAD A L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38600" y="907920"/>
            <a:ext cx="15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Déb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2240" y="907920"/>
            <a:ext cx="13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Ag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68440" y="220500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utocr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78560" y="220500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í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11480" y="4365720"/>
            <a:ext cx="23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issez F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10200" y="4365720"/>
            <a:ext cx="21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ocr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973800" y="4667760"/>
            <a:ext cx="1297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éb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936720" y="2109600"/>
            <a:ext cx="129672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g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-1372320" y="3234240"/>
            <a:ext cx="48974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IBILIDAD A LOS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73320" y="6308640"/>
            <a:ext cx="7359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Liderando proyectos para 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556480" y="5229360"/>
            <a:ext cx="1095480" cy="1003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5C6-F16E-4080-B541-229C863189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7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201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701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201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701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201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701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201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701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6024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Bookman Old Style"/>
              </a:rPr>
              <a:t>LIDERANDO PROYECTOS PARA 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040" y="404640"/>
            <a:ext cx="78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odología para la presentación de proy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2040" y="907920"/>
            <a:ext cx="23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760" y="1484280"/>
            <a:ext cx="17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Po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57360" y="1557360"/>
            <a:ext cx="2146320" cy="228600"/>
          </a:xfrm>
          <a:custGeom>
            <a:avLst/>
            <a:gdLst>
              <a:gd name="textAreaLeft" fmla="*/ 335160 w 2146320"/>
              <a:gd name="textAreaRight" fmla="*/ 1878120 w 21463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57360" y="2276640"/>
            <a:ext cx="2146320" cy="228600"/>
          </a:xfrm>
          <a:custGeom>
            <a:avLst/>
            <a:gdLst>
              <a:gd name="textAreaLeft" fmla="*/ 335160 w 2146320"/>
              <a:gd name="textAreaRight" fmla="*/ 1878120 w 21463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46520" y="3429000"/>
            <a:ext cx="2146320" cy="228600"/>
          </a:xfrm>
          <a:custGeom>
            <a:avLst/>
            <a:gdLst>
              <a:gd name="textAreaLeft" fmla="*/ 335160 w 2146320"/>
              <a:gd name="textAreaRight" fmla="*/ 1878120 w 21463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89360" y="4038480"/>
            <a:ext cx="2146320" cy="228600"/>
          </a:xfrm>
          <a:custGeom>
            <a:avLst/>
            <a:gdLst>
              <a:gd name="textAreaLeft" fmla="*/ 335160 w 2146320"/>
              <a:gd name="textAreaRight" fmla="*/ 1878120 w 21463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67160" y="5486400"/>
            <a:ext cx="2146320" cy="228600"/>
          </a:xfrm>
          <a:custGeom>
            <a:avLst/>
            <a:gdLst>
              <a:gd name="textAreaLeft" fmla="*/ 335160 w 2146320"/>
              <a:gd name="textAreaRight" fmla="*/ 1878120 w 21463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4800600"/>
            <a:ext cx="2146320" cy="228600"/>
          </a:xfrm>
          <a:custGeom>
            <a:avLst/>
            <a:gdLst>
              <a:gd name="textAreaLeft" fmla="*/ 335160 w 2146320"/>
              <a:gd name="textAreaRight" fmla="*/ 1878120 w 21463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84720" y="6248520"/>
            <a:ext cx="2145960" cy="228600"/>
          </a:xfrm>
          <a:custGeom>
            <a:avLst/>
            <a:gdLst>
              <a:gd name="textAreaLeft" fmla="*/ 335160 w 2145960"/>
              <a:gd name="textAreaRight" fmla="*/ 1877760 w 21459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4130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nd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8760" y="2133720"/>
            <a:ext cx="20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Para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2133720"/>
            <a:ext cx="25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in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8760" y="32846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Para quie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18120" y="321300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Beneficiarios directos e in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360" y="391176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Con quie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00560" y="3809880"/>
            <a:ext cx="437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sponsables y estructura administ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360" y="4648320"/>
            <a:ext cx="18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18120" y="4724280"/>
            <a:ext cx="42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Modalidad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334120"/>
            <a:ext cx="30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En cuánto tiemp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78360" y="5334120"/>
            <a:ext cx="24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ron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5360" y="609588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En qué contex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30680" y="5943600"/>
            <a:ext cx="43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actores externos que deben existir para asegurar el éx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19000" y="2565360"/>
            <a:ext cx="12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8760" y="2708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Con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12880" y="2852640"/>
            <a:ext cx="2146320" cy="228600"/>
          </a:xfrm>
          <a:custGeom>
            <a:avLst/>
            <a:gdLst>
              <a:gd name="textAreaLeft" fmla="*/ 335160 w 2146320"/>
              <a:gd name="textAreaRight" fmla="*/ 1878120 w 21463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30640" y="271296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462880" y="0"/>
            <a:ext cx="1092240" cy="1003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7465-B536-4F4D-8ED0-4CB38E113F52}" type="slidenum">
              <a:t>3</a:t>
            </a:fld>
          </a:p>
        </p:txBody>
      </p:sp>
    </p:spTree>
  </p:cSld>
  <p:transition spd="med"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6000"/>
                            </p:stCondLst>
                            <p:childTnLst>
                              <p:par>
                                <p:cTn id="9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8675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1175"/>
                            </p:stCondLst>
                            <p:childTnLst>
                              <p:par>
                                <p:cTn id="10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3675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175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6675"/>
                            </p:stCondLst>
                            <p:childTnLst>
                              <p:par>
                                <p:cTn id="11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9175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675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1175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1675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2174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3675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4175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675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7175"/>
                            </p:stCondLst>
                            <p:childTnLst>
                              <p:par>
                                <p:cTn id="15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9675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1175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2675"/>
                            </p:stCondLst>
                            <p:childTnLst>
                              <p:par>
                                <p:cTn id="16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175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6675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8175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675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2175"/>
                            </p:stCondLst>
                            <p:childTnLst>
                              <p:par>
                                <p:cTn id="19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3675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6175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ambio Plane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1981080"/>
            <a:ext cx="58611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Detectar la necesidad de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2895480"/>
            <a:ext cx="5861160" cy="457200"/>
          </a:xfrm>
          <a:prstGeom prst="roundRect">
            <a:avLst>
              <a:gd name="adj" fmla="val 49106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Determinar la dis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3809880"/>
            <a:ext cx="58611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Establecer una estrateg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4724280"/>
            <a:ext cx="58611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Considerar las implic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7360" y="5229360"/>
            <a:ext cx="1090800" cy="100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E27-DB3A-4693-9AA6-4A757D73D9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150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1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150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1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9" dur="2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20" dur="2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21" dur="2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ón del camb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241600">
            <a:off x="1168200" y="2309400"/>
            <a:ext cx="742284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aeaf4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27400" y="1447920"/>
            <a:ext cx="1390680" cy="1274760"/>
          </a:xfrm>
          <a:prstGeom prst="ellipse">
            <a:avLst/>
          </a:prstGeom>
          <a:gradFill rotWithShape="0">
            <a:gsLst>
              <a:gs pos="0">
                <a:srgbClr val="c0e5e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2971800"/>
            <a:ext cx="1390680" cy="1274760"/>
          </a:xfrm>
          <a:prstGeom prst="ellipse">
            <a:avLst/>
          </a:prstGeom>
          <a:gradFill rotWithShape="0">
            <a:gsLst>
              <a:gs pos="0">
                <a:srgbClr val="e5f2f3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59080" y="4668840"/>
            <a:ext cx="1390680" cy="1274760"/>
          </a:xfrm>
          <a:prstGeom prst="ellipse">
            <a:avLst/>
          </a:prstGeom>
          <a:gradFill rotWithShape="0">
            <a:gsLst>
              <a:gs pos="0">
                <a:srgbClr val="cccce5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65800" y="4038480"/>
            <a:ext cx="1390680" cy="1274760"/>
          </a:xfrm>
          <a:prstGeom prst="ellipse">
            <a:avLst/>
          </a:prstGeom>
          <a:solidFill>
            <a:srgbClr val="333399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46880" y="1676520"/>
            <a:ext cx="1314360" cy="1274760"/>
          </a:xfrm>
          <a:prstGeom prst="ellipse">
            <a:avLst/>
          </a:prstGeom>
          <a:gradFill rotWithShape="0">
            <a:gsLst>
              <a:gs pos="0">
                <a:srgbClr val="e5f1c0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9160" y="35002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Diagnó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72040" y="1916280"/>
            <a:ext cx="17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ces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73520" y="213372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21240" y="450864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Cambio de f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26480" y="508464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Cambio de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14840" y="3433680"/>
            <a:ext cx="2806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ep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79840" y="1735200"/>
            <a:ext cx="1942920" cy="16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653040" y="129528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mbio plane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07360" y="5229360"/>
            <a:ext cx="1090800" cy="100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E11-0FB8-43B5-9898-E64FD1D078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5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8" dur="5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9" dur="5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r la dis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26040" y="2666880"/>
            <a:ext cx="3054600" cy="2895840"/>
          </a:xfrm>
          <a:custGeom>
            <a:avLst/>
            <a:gdLst>
              <a:gd name="textAreaLeft" fmla="*/ 0 w 3054600"/>
              <a:gd name="textAreaRight" fmla="*/ 3054960 w 30546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7160" y="2666880"/>
            <a:ext cx="3219480" cy="2895840"/>
          </a:xfrm>
          <a:custGeom>
            <a:avLst/>
            <a:gdLst>
              <a:gd name="textAreaLeft" fmla="*/ 0 w 3219480"/>
              <a:gd name="textAreaRight" fmla="*/ 3219840 w 32194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7920" y="2666880"/>
            <a:ext cx="3219480" cy="2895840"/>
          </a:xfrm>
          <a:custGeom>
            <a:avLst/>
            <a:gdLst>
              <a:gd name="textAreaLeft" fmla="*/ 0 w 3219480"/>
              <a:gd name="textAreaRight" fmla="*/ 3219840 w 32194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52640" y="1844640"/>
            <a:ext cx="22287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68760" y="1828800"/>
            <a:ext cx="22287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u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02440" y="1844640"/>
            <a:ext cx="22287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79800" y="1341360"/>
            <a:ext cx="33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Resis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462880" y="5589720"/>
            <a:ext cx="1092240" cy="1003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54280" y="3573360"/>
            <a:ext cx="19508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abot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ndi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xcu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Quej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1840" y="3716280"/>
            <a:ext cx="1714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amar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Normas y reg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10120" y="3808440"/>
            <a:ext cx="19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59600" y="3645000"/>
            <a:ext cx="140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26A-9A34-4437-A7EF-B042BC1259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0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53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6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5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61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62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65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66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nov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70240" y="4178160"/>
            <a:ext cx="6026040" cy="132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929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0601600">
            <a:off x="1584000" y="2064960"/>
            <a:ext cx="624204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17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20601600">
            <a:off x="1644120" y="1902960"/>
            <a:ext cx="602784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01600">
            <a:off x="1514880" y="1953000"/>
            <a:ext cx="622728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0601600">
            <a:off x="1550880" y="1922760"/>
            <a:ext cx="617220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rot="20602200">
            <a:off x="1566360" y="1868400"/>
            <a:ext cx="6232680" cy="28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601600">
            <a:off x="1542960" y="1919160"/>
            <a:ext cx="615708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rot="20602200">
            <a:off x="1524960" y="1875600"/>
            <a:ext cx="6174360" cy="282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0601600">
            <a:off x="4883040" y="3223800"/>
            <a:ext cx="132264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0601600">
            <a:off x="4767120" y="2971440"/>
            <a:ext cx="277668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00" y="1185120"/>
            <a:ext cx="7436880" cy="4494240"/>
            <a:chOff x="615600" y="1185120"/>
            <a:chExt cx="7436880" cy="4494240"/>
          </a:xfrm>
        </p:grpSpPr>
        <p:sp>
          <p:nvSpPr>
            <p:cNvPr id="139" name=""/>
            <p:cNvSpPr/>
            <p:nvPr/>
          </p:nvSpPr>
          <p:spPr>
            <a:xfrm rot="20712600">
              <a:off x="859320" y="2025000"/>
              <a:ext cx="6948720" cy="281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712600">
              <a:off x="4534560" y="3192480"/>
              <a:ext cx="1492560" cy="153684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712600">
              <a:off x="6026040" y="3360960"/>
              <a:ext cx="1711080" cy="97920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143360" y="882000"/>
            <a:ext cx="7460280" cy="5023440"/>
            <a:chOff x="1143360" y="882000"/>
            <a:chExt cx="7460280" cy="5023440"/>
          </a:xfrm>
        </p:grpSpPr>
        <p:sp>
          <p:nvSpPr>
            <p:cNvPr id="143" name=""/>
            <p:cNvSpPr/>
            <p:nvPr/>
          </p:nvSpPr>
          <p:spPr>
            <a:xfrm rot="20601600">
              <a:off x="6580080" y="3263760"/>
              <a:ext cx="16851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17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539200">
              <a:off x="1450800" y="1848240"/>
              <a:ext cx="6844680" cy="30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601600">
              <a:off x="5153760" y="3093840"/>
              <a:ext cx="1443240" cy="168876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ae8dd3"/>
                </a:gs>
                <a:gs pos="100000">
                  <a:srgbClr val="5007a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rot="20601600">
            <a:off x="3227040" y="2617920"/>
            <a:ext cx="2921040" cy="1339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17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0601600">
            <a:off x="3309480" y="2852640"/>
            <a:ext cx="2843280" cy="10987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2a2a2a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62560" y="243828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ngr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6480" y="19810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or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49880" y="27432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olesc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1680" y="40384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74560" y="42670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6640" y="34290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dela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307360" y="5229360"/>
            <a:ext cx="1090800" cy="100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B3E-4497-47EE-A74D-DAC42796AB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3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4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75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150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83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7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88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150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150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6" dur="250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7" dur="250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8" dur="250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942840" y="4103640"/>
            <a:ext cx="1638360" cy="1511280"/>
            <a:chOff x="942840" y="4103640"/>
            <a:chExt cx="1638360" cy="1511280"/>
          </a:xfrm>
        </p:grpSpPr>
        <p:sp>
          <p:nvSpPr>
            <p:cNvPr id="156" name=""/>
            <p:cNvSpPr/>
            <p:nvPr/>
          </p:nvSpPr>
          <p:spPr>
            <a:xfrm>
              <a:off x="942840" y="4103640"/>
              <a:ext cx="1638360" cy="151128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42840" y="4103640"/>
              <a:ext cx="1638360" cy="151128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50120" y="4202280"/>
              <a:ext cx="1423440" cy="131328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50120" y="4202280"/>
              <a:ext cx="1423440" cy="131328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21400" y="4268160"/>
              <a:ext cx="1281240" cy="118188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85800" y="2327400"/>
            <a:ext cx="6239160" cy="215892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000000"/>
              </a:gs>
              <a:gs pos="100000">
                <a:srgbClr val="a9a9a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61080" y="4051440"/>
            <a:ext cx="1638000" cy="1511280"/>
            <a:chOff x="4861080" y="4051440"/>
            <a:chExt cx="1638000" cy="1511280"/>
          </a:xfrm>
        </p:grpSpPr>
        <p:sp>
          <p:nvSpPr>
            <p:cNvPr id="164" name=""/>
            <p:cNvSpPr/>
            <p:nvPr/>
          </p:nvSpPr>
          <p:spPr>
            <a:xfrm>
              <a:off x="4861080" y="4051440"/>
              <a:ext cx="163800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be0e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61080" y="4051440"/>
              <a:ext cx="1638000" cy="15112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d7ece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68360" y="4150080"/>
              <a:ext cx="1423080" cy="1313280"/>
            </a:xfrm>
            <a:prstGeom prst="ellipse">
              <a:avLst/>
            </a:prstGeom>
            <a:gradFill rotWithShape="0">
              <a:gsLst>
                <a:gs pos="0">
                  <a:srgbClr val="64787a"/>
                </a:gs>
                <a:gs pos="50000">
                  <a:srgbClr val="bbe0e3"/>
                </a:gs>
                <a:gs pos="100000">
                  <a:srgbClr val="64787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68360" y="4150080"/>
              <a:ext cx="1423080" cy="1313280"/>
            </a:xfrm>
            <a:prstGeom prst="ellipse">
              <a:avLst/>
            </a:prstGeom>
            <a:gradFill rotWithShape="0">
              <a:gsLst>
                <a:gs pos="0">
                  <a:srgbClr val="5a6c6d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39280" y="4215960"/>
              <a:ext cx="1281240" cy="118188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889680" y="4051440"/>
            <a:ext cx="1638360" cy="1511280"/>
            <a:chOff x="6889680" y="4051440"/>
            <a:chExt cx="1638360" cy="1511280"/>
          </a:xfrm>
        </p:grpSpPr>
        <p:sp>
          <p:nvSpPr>
            <p:cNvPr id="170" name=""/>
            <p:cNvSpPr/>
            <p:nvPr/>
          </p:nvSpPr>
          <p:spPr>
            <a:xfrm>
              <a:off x="6889680" y="4051440"/>
              <a:ext cx="163836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c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89680" y="4051440"/>
              <a:ext cx="1638360" cy="151128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badc5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96960" y="4150080"/>
              <a:ext cx="1423440" cy="1313280"/>
            </a:xfrm>
            <a:prstGeom prst="ellipse">
              <a:avLst/>
            </a:prstGeom>
            <a:gradFill rotWithShape="0">
              <a:gsLst>
                <a:gs pos="0">
                  <a:srgbClr val="526d00"/>
                </a:gs>
                <a:gs pos="50000">
                  <a:srgbClr val="99cc00"/>
                </a:gs>
                <a:gs pos="100000">
                  <a:srgbClr val="526d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96960" y="4150080"/>
              <a:ext cx="1423440" cy="1313280"/>
            </a:xfrm>
            <a:prstGeom prst="ellipse">
              <a:avLst/>
            </a:prstGeom>
            <a:gradFill rotWithShape="0">
              <a:gsLst>
                <a:gs pos="0">
                  <a:srgbClr val="4a620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68240" y="4215960"/>
              <a:ext cx="1281240" cy="1181880"/>
            </a:xfrm>
            <a:prstGeom prst="ellipse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11320" y="4051440"/>
            <a:ext cx="1640160" cy="1511280"/>
            <a:chOff x="2911320" y="4051440"/>
            <a:chExt cx="1640160" cy="1511280"/>
          </a:xfrm>
        </p:grpSpPr>
        <p:sp>
          <p:nvSpPr>
            <p:cNvPr id="176" name=""/>
            <p:cNvSpPr/>
            <p:nvPr/>
          </p:nvSpPr>
          <p:spPr>
            <a:xfrm>
              <a:off x="2911320" y="4051440"/>
              <a:ext cx="164016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99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11320" y="4051440"/>
              <a:ext cx="1640160" cy="1511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4cb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18960" y="4150080"/>
              <a:ext cx="1424880" cy="1313280"/>
            </a:xfrm>
            <a:prstGeom prst="ellipse">
              <a:avLst/>
            </a:prstGeom>
            <a:gradFill rotWithShape="0">
              <a:gsLst>
                <a:gs pos="0">
                  <a:srgbClr val="005252"/>
                </a:gs>
                <a:gs pos="50000">
                  <a:srgbClr val="009999"/>
                </a:gs>
                <a:gs pos="100000">
                  <a:srgbClr val="0052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18960" y="4150080"/>
              <a:ext cx="1424880" cy="1313280"/>
            </a:xfrm>
            <a:prstGeom prst="ellipse">
              <a:avLst/>
            </a:prstGeom>
            <a:gradFill rotWithShape="0">
              <a:gsLst>
                <a:gs pos="0">
                  <a:srgbClr val="004a4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89880" y="4215960"/>
              <a:ext cx="1282680" cy="11818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066760" y="1700280"/>
            <a:ext cx="5283360" cy="45720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55400" y="46753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4480" y="46753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ncep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60600" y="4675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er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5320" y="4660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462880" y="5589720"/>
            <a:ext cx="1092240" cy="100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B7D0-18CF-4CB7-8EFA-D5AF4F06CF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150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150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150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150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150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9" dur="250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20" dur="250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21" dur="250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1500" autoRev="1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1:02:48Z</dcterms:created>
  <dc:creator>M01</dc:creator>
  <dc:description/>
  <dc:language>en-US</dc:language>
  <cp:lastModifiedBy>Thelma Karen Stretcu</cp:lastModifiedBy>
  <dcterms:modified xsi:type="dcterms:W3CDTF">2005-09-13T16:51:36Z</dcterms:modified>
  <cp:revision>15</cp:revision>
  <dc:subject/>
  <dc:title>Diapositiva 1</dc:title>
</cp:coreProperties>
</file>