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E338-B1D3-40E3-9D56-43FC9216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622-E16C-48FB-891C-373DFB24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120-1DE6-4510-9DD5-2E5A0D964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E17-9FBA-4462-B8B1-1A9E0C77F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768B-B373-4AC8-8DE0-C07B4868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A064-F406-435B-8253-7CBADD4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88B3-8E5F-4F67-8E79-A6D94429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DF50-47E6-4A82-86C1-3E10234E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F7CC-8993-4023-90EC-08A5FEEC8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B229-624C-4749-8063-E336CC8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AA17-85C3-40A6-B9CC-71A8D9D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F81-F757-41F2-A605-312EA83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9F8C-4D27-4EAE-BB59-9AC1174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2831-6C6C-4716-85F2-BE9FE681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E15B-4D48-45A4-8806-29638120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BBEDE-C4A6-47E0-BB2E-2C368ED0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1E11-43B1-4893-A1E5-BE62771D2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70D-809B-4B16-98E4-BFC8B3AC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272E-F7E7-46C8-8A74-00408A60D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8F5D-5E05-4501-BDF2-2F488848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3E41-A291-41DE-97D6-EF48B1BF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772-2491-466D-8054-572E3A17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128E-7A79-4A83-8EB5-2087F37C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88E-BDB3-48F1-BA6A-5E8FD69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FE22-682A-42B4-878B-C61213E69189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532F-6E78-49CB-860F-A3918897612A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219320" y="457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ocimiento y organizació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¿Cómo aprenden los adultos en el trabajo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762120"/>
            <a:ext cx="6934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3623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Consejo Profesional de Ciencias Económicas de la Ciudad Autónoma de Buenos Ai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3352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Verdana"/>
              </a:rPr>
              <a:t>22 de Agosto de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4572000"/>
            <a:ext cx="403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Dra. Mirta N. Userp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muserpater@cponline.org.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racterísticas del Aprendizaje en los adulto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141720"/>
            <a:ext cx="2016360" cy="1224000"/>
          </a:xfrm>
          <a:prstGeom prst="flowChartMagneticDisk">
            <a:avLst/>
          </a:prstGeom>
          <a:solidFill>
            <a:srgbClr val="33cc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aracteríst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48000" y="1413000"/>
            <a:ext cx="2303640" cy="1079280"/>
          </a:xfrm>
          <a:prstGeom prst="rect">
            <a:avLst/>
          </a:prstGeom>
          <a:solidFill>
            <a:srgbClr val="33cc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 orienta hacia aprendizajes úti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5640" y="3213000"/>
            <a:ext cx="1943280" cy="720720"/>
          </a:xfrm>
          <a:prstGeom prst="rect">
            <a:avLst/>
          </a:prstGeom>
          <a:solidFill>
            <a:srgbClr val="33cc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 volunt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2781360"/>
            <a:ext cx="2016360" cy="2089080"/>
          </a:xfrm>
          <a:prstGeom prst="rect">
            <a:avLst/>
          </a:prstGeom>
          <a:solidFill>
            <a:srgbClr val="33cc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disposición para aprender, depende de las condiciones creadas para el aprendiza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68360" y="4869000"/>
            <a:ext cx="1872000" cy="1512720"/>
          </a:xfrm>
          <a:prstGeom prst="rect">
            <a:avLst/>
          </a:prstGeom>
          <a:solidFill>
            <a:srgbClr val="33cc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él se depositan tensiones y expectati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43280" y="5084640"/>
            <a:ext cx="1873440" cy="1297080"/>
          </a:xfrm>
          <a:prstGeom prst="rect">
            <a:avLst/>
          </a:prstGeom>
          <a:solidFill>
            <a:srgbClr val="33cc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ce de las necesidades e intereses perso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16360" y="335772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651640" y="3429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2565360"/>
            <a:ext cx="287280" cy="358920"/>
          </a:xfrm>
          <a:prstGeom prst="upArrow">
            <a:avLst>
              <a:gd name="adj1" fmla="val 50000"/>
              <a:gd name="adj2" fmla="val 31234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4292640"/>
            <a:ext cx="358560" cy="504720"/>
          </a:xfrm>
          <a:prstGeom prst="downArrow">
            <a:avLst>
              <a:gd name="adj1" fmla="val 50000"/>
              <a:gd name="adj2" fmla="val 35191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48360" y="4437000"/>
            <a:ext cx="360360" cy="432000"/>
          </a:xfrm>
          <a:prstGeom prst="downArrow">
            <a:avLst>
              <a:gd name="adj1" fmla="val 50000"/>
              <a:gd name="adj2" fmla="val 29970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250" autoRev="1" fill="hold"/>
                                        <p:tgtEl>
                                          <p:spTgt spid="2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250" autoRev="1" fill="hold"/>
                                        <p:tgtEl>
                                          <p:spTgt spid="2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9" dur="250" autoRev="1" fill="hold"/>
                                        <p:tgtEl>
                                          <p:spTgt spid="2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¿Qué requiere un adulto para aprender?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68360" y="1700280"/>
            <a:ext cx="2089440" cy="115236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a motiv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4000" y="2781360"/>
            <a:ext cx="2447640" cy="129708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rticip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148360" y="1628640"/>
            <a:ext cx="2376360" cy="122400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arrollo del compromi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59640" y="3213000"/>
            <a:ext cx="2160360" cy="115272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sibilidad de apl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4724280"/>
            <a:ext cx="2160360" cy="100980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exión con la real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26920" y="4797360"/>
            <a:ext cx="2160720" cy="107964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ción perman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03640" y="5300640"/>
            <a:ext cx="2592360" cy="1008000"/>
          </a:xfrm>
          <a:prstGeom prst="ellipse">
            <a:avLst/>
          </a:prstGeom>
          <a:solidFill>
            <a:srgbClr val="99ccff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ación de su Experi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40720" y="2205000"/>
            <a:ext cx="287280" cy="863640"/>
          </a:xfrm>
          <a:custGeom>
            <a:avLst/>
            <a:gdLst>
              <a:gd name="textAreaLeft" fmla="*/ 38520 w 287280"/>
              <a:gd name="textAreaRight" fmla="*/ 248760 w 28728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3540000">
            <a:off x="1582920" y="1953360"/>
            <a:ext cx="216000" cy="718920"/>
          </a:xfrm>
          <a:custGeom>
            <a:avLst/>
            <a:gdLst>
              <a:gd name="textAreaLeft" fmla="*/ 28800 w 216000"/>
              <a:gd name="textAreaRight" fmla="*/ 187200 w 216000"/>
              <a:gd name="textAreaTop" fmla="*/ 125640 h 718920"/>
              <a:gd name="textAreaBottom" fmla="*/ 521280 h 71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060640"/>
            <a:ext cx="720720" cy="216000"/>
          </a:xfrm>
          <a:prstGeom prst="leftRightArrow">
            <a:avLst>
              <a:gd name="adj1" fmla="val 50000"/>
              <a:gd name="adj2" fmla="val 66424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5805360"/>
            <a:ext cx="865080" cy="144720"/>
          </a:xfrm>
          <a:custGeom>
            <a:avLst/>
            <a:gdLst>
              <a:gd name="textAreaLeft" fmla="*/ 151200 w 865080"/>
              <a:gd name="textAreaRight" fmla="*/ 627120 w 865080"/>
              <a:gd name="textAreaTop" fmla="*/ 19080 h 144720"/>
              <a:gd name="textAreaBottom" fmla="*/ 12564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459640" y="4365720"/>
            <a:ext cx="216000" cy="863640"/>
          </a:xfrm>
          <a:custGeom>
            <a:avLst/>
            <a:gdLst>
              <a:gd name="textAreaLeft" fmla="*/ 28800 w 216000"/>
              <a:gd name="textAreaRight" fmla="*/ 187200 w 21600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4149720"/>
            <a:ext cx="287280" cy="792000"/>
          </a:xfrm>
          <a:custGeom>
            <a:avLst/>
            <a:gdLst>
              <a:gd name="textAreaLeft" fmla="*/ 38520 w 287280"/>
              <a:gd name="textAreaRight" fmla="*/ 248760 w 287280"/>
              <a:gd name="textAreaTop" fmla="*/ 138600 h 792000"/>
              <a:gd name="textAreaBottom" fmla="*/ 5742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84360" y="5877000"/>
            <a:ext cx="792360" cy="216000"/>
          </a:xfrm>
          <a:custGeom>
            <a:avLst/>
            <a:gdLst>
              <a:gd name="textAreaLeft" fmla="*/ 138600 w 792360"/>
              <a:gd name="textAreaRight" fmla="*/ 574560 w 792360"/>
              <a:gd name="textAreaTop" fmla="*/ 28800 h 216000"/>
              <a:gd name="textAreaBottom" fmla="*/ 1872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684600" y="295272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ndiciones para integrar la capacitación a las prácticas Normales de la organización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Que el personal sea capacitabl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Que la responsabilidad primaria sea inseparable de la figura del superviso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Que se adecúe a las necesidades real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Que sea continua, gradual y evolutiv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Que sea participativ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Asegurand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Capacitación como proceso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Detección de necesidad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Planificación y desarroll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Evaluación de resultado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Cuyo objetivo final se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Verdana"/>
              </a:rPr>
              <a:t>Concretar una acción formativ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 rot="5460000">
            <a:off x="4248000" y="3105000"/>
            <a:ext cx="1150920" cy="9352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620043"/>
              </a:gs>
              <a:gs pos="100000">
                <a:srgbClr val="d60093"/>
              </a:gs>
            </a:gsLst>
            <a:lin ang="215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5460000">
            <a:off x="4319280" y="4616640"/>
            <a:ext cx="1150920" cy="93492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gradFill rotWithShape="0">
            <a:gsLst>
              <a:gs pos="0">
                <a:srgbClr val="630044"/>
              </a:gs>
              <a:gs pos="100000">
                <a:srgbClr val="ffcccc"/>
              </a:gs>
            </a:gsLst>
            <a:lin ang="2154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2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3" dur="500"/>
                                        <p:tgtEl>
                                          <p:spTgt spid="2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22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l Profesional de la Capacitació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40000" y="1773360"/>
            <a:ext cx="4753080" cy="1152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505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3789360"/>
            <a:ext cx="216072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ep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64000" y="3716280"/>
            <a:ext cx="216036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cediment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3789360"/>
            <a:ext cx="2160720" cy="72072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tudin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51280" y="2133720"/>
            <a:ext cx="141912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aber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411280" y="3068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gradFill rotWithShape="0">
            <a:gsLst>
              <a:gs pos="0">
                <a:srgbClr val="ffcc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00720" y="2997360"/>
            <a:ext cx="288720" cy="576000"/>
          </a:xfrm>
          <a:prstGeom prst="downArrow">
            <a:avLst>
              <a:gd name="adj1" fmla="val 50000"/>
              <a:gd name="adj2" fmla="val 49875"/>
            </a:avLst>
          </a:prstGeom>
          <a:gradFill rotWithShape="0">
            <a:gsLst>
              <a:gs pos="0">
                <a:srgbClr val="ffcc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72360" y="2997360"/>
            <a:ext cx="288720" cy="576000"/>
          </a:xfrm>
          <a:prstGeom prst="downArrow">
            <a:avLst>
              <a:gd name="adj1" fmla="val 50000"/>
              <a:gd name="adj2" fmla="val 49875"/>
            </a:avLst>
          </a:prstGeom>
          <a:gradFill rotWithShape="0">
            <a:gsLst>
              <a:gs pos="0">
                <a:srgbClr val="ffcc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0000" y="472428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gradFill rotWithShape="0">
            <a:gsLst>
              <a:gs pos="0">
                <a:srgbClr val="ffcc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465300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ffcc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59640" y="465300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gradFill rotWithShape="0">
            <a:gsLst>
              <a:gs pos="0">
                <a:srgbClr val="ffcccc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58920" y="5445000"/>
            <a:ext cx="2016000" cy="863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ber “Sab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5300640"/>
            <a:ext cx="1779480" cy="9349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ber “Hac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5373720"/>
            <a:ext cx="1656000" cy="8636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ab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Ser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164360" y="1700280"/>
            <a:ext cx="197964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2000" fill="hold"/>
                                        <p:tgtEl>
                                          <p:spTgt spid="23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QUÉ ES LA CAPACITACION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DELIMITACION DEL CAMPO DE LA CAPACITAC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SENCIA DEL APRENDIZAJ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LA ADULTEZ COMO ETAPA DEL DESARROLLO HUMAN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¿QUÉ REQUIERE UN ADULTO PARA APRENDER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INTEGRAR LA CAPACITACION A LAS PRACTICAS NORMALES DE LA ORGANIZAC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Verdana"/>
              </a:rPr>
              <a:t>EL PROFESIONAL DE LA CAPACITACION. SABERES ESPECIFIC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¿Qué es la Capacitació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 un recurso dinamizador de las organizacione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be ser útil a los objetivos de la organiza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be permitir el crecimiento personal de aquellos que forman parte de las organizaciones como forma de facilitar el desarrollo de la mism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 toda actividad que se realiza dentro de una organización para mejorar los conocimientos y habilidades del personal, procurando un cambio positivo en sus actitudes y conduc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 de la Capacita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erfeccionar al empleado en sus ocupaciones actual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sarrollar plenamente su potencial para posibilitarle prestar un mejor servicio a su entorno laboral, familiar y comunitari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1844640"/>
            <a:ext cx="792360" cy="936720"/>
          </a:xfrm>
          <a:prstGeom prst="downArrow">
            <a:avLst>
              <a:gd name="adj1" fmla="val 50000"/>
              <a:gd name="adj2" fmla="val 29555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067280" y="3284640"/>
            <a:ext cx="720720" cy="1081080"/>
          </a:xfrm>
          <a:prstGeom prst="downArrow">
            <a:avLst>
              <a:gd name="adj1" fmla="val 50000"/>
              <a:gd name="adj2" fmla="val 37500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¿Qué implica Capacitar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Verdana"/>
              </a:rPr>
              <a:t>Que lo que se enseñe responda a una necesidad de la organizació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Verdana"/>
              </a:rPr>
              <a:t>Que lo que se enseñe sea aprendi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Verdana"/>
              </a:rPr>
              <a:t>Que lo aprendido sea trasladado a la tare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Verdana"/>
              </a:rPr>
              <a:t>Que lo trasladado a la tarea se sostenga en el tiempo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AMPO DE LA CAPACITACION”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Sistemas de educación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ormal-(sistemático, en instituciones específicas con titulació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o formal-(en otro tipo de instituciones, con plazos más cortos, con certificació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formal-(programas de televisión, una muestra cultural, una película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CAMPO DE LA CAPACITACION”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oy desde las ciencias de la educación,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se incorporan dos conceptos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para comenzar a delimitar el campo de la capacita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educación de adultos y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a noción de educació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manen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788000" y="1484280"/>
            <a:ext cx="3313080" cy="2094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26920" y="4941720"/>
            <a:ext cx="748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Escuela-Oficinas-Plantas industriales-Bibliotecas-cines-teatros-etc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Hoy es un proceso continuo que aborda la formación inicial y perman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Esencia misma del Aprendizaj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Se aprende cuando uno se detiene a pensar”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Jean Piag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1476360" y="1557360"/>
            <a:ext cx="720720" cy="647640"/>
          </a:xfrm>
          <a:custGeom>
            <a:avLst/>
            <a:gdLst>
              <a:gd name="textAreaLeft" fmla="*/ 96480 w 720720"/>
              <a:gd name="textAreaRight" fmla="*/ 624240 w 720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1844640"/>
            <a:ext cx="647640" cy="863640"/>
          </a:xfrm>
          <a:custGeom>
            <a:avLst/>
            <a:gdLst>
              <a:gd name="textAreaLeft" fmla="*/ 86760 w 647640"/>
              <a:gd name="textAreaRight" fmla="*/ 560880 w 647640"/>
              <a:gd name="textAreaTop" fmla="*/ 151200 h 863640"/>
              <a:gd name="textAreaBottom" fmla="*/ 6264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2209680"/>
            <a:ext cx="37908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Un cambio Continuo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64000" y="2637000"/>
            <a:ext cx="499104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na Evolución Permanen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62120" y="4038480"/>
            <a:ext cx="6905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Un Inacabado recorrido hacia adelant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3213000"/>
            <a:ext cx="865080" cy="720720"/>
          </a:xfrm>
          <a:custGeom>
            <a:avLst/>
            <a:gdLst>
              <a:gd name="textAreaLeft" fmla="*/ 115920 w 865080"/>
              <a:gd name="textAreaRight" fmla="*/ 749160 w 86508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La Adultez como Etapa del Desarrollo Humano</a:t>
            </a:r>
            <a:br>
              <a:rPr sz="3600"/>
            </a:b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050920" y="1628640"/>
            <a:ext cx="489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Personalización de la muer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Incremento de la interior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ambio en la percepción del tiemp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stabiliza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Progres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Regres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cumula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Adaptación Cultur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ucesión de conflict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Jerarquización de las necesidad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fensa del “yo”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Evolución de la pareja masculinidad/femene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565360"/>
            <a:ext cx="1822320" cy="934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mbios Ideológ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3933720"/>
            <a:ext cx="1440000" cy="86364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mbios Polí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5373720"/>
            <a:ext cx="1584360" cy="792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mbio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1819080" cy="86364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mbios económ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789360"/>
            <a:ext cx="1655640" cy="934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mbios Científ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77080" y="5157720"/>
            <a:ext cx="1800360" cy="9352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ambios Filosóf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1:20:48Z</dcterms:created>
  <dc:creator>Angel</dc:creator>
  <dc:description/>
  <dc:language>en-US</dc:language>
  <cp:lastModifiedBy>C.P.C.E.C.A.B.A.</cp:lastModifiedBy>
  <dcterms:modified xsi:type="dcterms:W3CDTF">2005-09-12T13:24:41Z</dcterms:modified>
  <cp:revision>14</cp:revision>
  <dc:subject/>
  <dc:title>CONFERENCIA</dc:title>
</cp:coreProperties>
</file>