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D70A-4661-46E3-862A-04AACD33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31E4-2E9C-413F-8FA1-D498096B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78E-97C4-41C6-A5C4-EBF83584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90C-305C-4388-81C9-F4C64335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79E6-9597-445E-BD4E-E1F34E78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6237-F854-4A97-ADB5-070BD7AF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9DA8C-438A-4856-BF56-45BFDE38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30A7-1310-498E-A7EA-1B44F5FD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78CD-8C5B-48D5-BE33-8780EE1A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2C91-883B-4557-83E2-7F5EBD17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2E6A-FA01-4FFA-B371-07285158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9C6F-7007-43C9-93F4-7AD73871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F9FF-A2DF-4807-AAB1-1778ACCB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6182-50A9-410A-B8EB-2D6E7A2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F814B-428A-45F4-B92C-68BE599D6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AD13-2EEB-4853-855D-2AB51EC4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D033-5EA8-4748-A198-6563F737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ED9-99B3-43B6-8651-0BC8C74A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FE1-9FA4-413B-8A46-2279A41E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958-7EAE-482C-AE21-47F69D76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C4B7-7DDF-4E11-AB9F-CAB99155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A94-1742-4DA4-9087-459381C1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827A-49A8-44AE-887D-25FE1B79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99C-5CC0-41F6-A2F9-40F5F6A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D364-E516-4466-8FA9-4FF19505B38F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8938-EFF7-4413-A16B-24944189936C}" type="slidenum">
              <a:rPr b="0" lang="en-US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cc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_tradnl" sz="3600" spc="-1" strike="noStrike">
                <a:solidFill>
                  <a:srgbClr val="ff0000"/>
                </a:solidFill>
                <a:latin typeface="Verdana"/>
              </a:rPr>
              <a:t>Conocimiento y Organización</a:t>
            </a:r>
            <a:br>
              <a:rPr sz="3600"/>
            </a:br>
            <a:r>
              <a:rPr b="0" lang="es-ES_tradnl" sz="3200" spc="-1" strike="noStrike">
                <a:solidFill>
                  <a:srgbClr val="ff0000"/>
                </a:solidFill>
                <a:latin typeface="Verdana"/>
              </a:rPr>
              <a:t>Cómo aprenden los adultos en su trabajo</a:t>
            </a: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0000cc"/>
                </a:solidFill>
                <a:latin typeface="Verdana"/>
              </a:rPr>
              <a:t>Consejo Profesional de Ciencias Económicas de la Ciudad Autónoma de Buenos Aires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cc"/>
                </a:solidFill>
                <a:latin typeface="Verdana"/>
              </a:rPr>
              <a:t>Buenos Aires, 22 de agosto de 2005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Verdana"/>
              </a:rPr>
              <a:t>gore@udesa.edu.ar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843B-6FAA-4A9F-90BD-2C46417255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dc0081"/>
                </a:solidFill>
                <a:latin typeface="Verdana"/>
              </a:rPr>
              <a:t>Teoría, acción y resultados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95640" y="2708280"/>
            <a:ext cx="1447920" cy="175248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Acció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2743200"/>
            <a:ext cx="2279880" cy="1752480"/>
          </a:xfrm>
          <a:prstGeom prst="rect">
            <a:avLst/>
          </a:prstGeom>
          <a:solidFill>
            <a:srgbClr val="cc9900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62720" y="3657600"/>
            <a:ext cx="761760" cy="0"/>
          </a:xfrm>
          <a:prstGeom prst="line">
            <a:avLst/>
          </a:prstGeom>
          <a:ln w="76320">
            <a:solidFill>
              <a:srgbClr val="7b00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3429000"/>
            <a:ext cx="22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Resultado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4572000"/>
            <a:ext cx="0" cy="685800"/>
          </a:xfrm>
          <a:prstGeom prst="line">
            <a:avLst/>
          </a:prstGeom>
          <a:ln w="57240">
            <a:solidFill>
              <a:srgbClr val="7b00e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876560" y="5257800"/>
            <a:ext cx="2361960" cy="0"/>
          </a:xfrm>
          <a:prstGeom prst="line">
            <a:avLst/>
          </a:prstGeom>
          <a:ln w="76320">
            <a:solidFill>
              <a:srgbClr val="7b00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76920" y="4572000"/>
            <a:ext cx="0" cy="685800"/>
          </a:xfrm>
          <a:prstGeom prst="line">
            <a:avLst/>
          </a:prstGeom>
          <a:ln w="57240">
            <a:solidFill>
              <a:srgbClr val="7b00e4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8120" y="3657600"/>
            <a:ext cx="761760" cy="0"/>
          </a:xfrm>
          <a:prstGeom prst="line">
            <a:avLst/>
          </a:prstGeom>
          <a:ln w="76320">
            <a:solidFill>
              <a:srgbClr val="7b00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476360" y="2708280"/>
            <a:ext cx="1447920" cy="1752480"/>
            <a:chOff x="1476360" y="2708280"/>
            <a:chExt cx="1447920" cy="1752480"/>
          </a:xfrm>
        </p:grpSpPr>
        <p:sp>
          <p:nvSpPr>
            <p:cNvPr id="187" name=""/>
            <p:cNvSpPr/>
            <p:nvPr/>
          </p:nvSpPr>
          <p:spPr>
            <a:xfrm>
              <a:off x="1476360" y="2708280"/>
              <a:ext cx="1447920" cy="1752480"/>
            </a:xfrm>
            <a:prstGeom prst="rect">
              <a:avLst/>
            </a:prstGeom>
            <a:solidFill>
              <a:srgbClr val="cc9900"/>
            </a:solidFill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23880" y="3241800"/>
              <a:ext cx="119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cc"/>
                  </a:solidFill>
                  <a:latin typeface="Verdana"/>
                </a:rPr>
                <a:t>Te</a:t>
              </a:r>
              <a:r>
                <a:rPr b="1" lang="es-ES_tradnl" sz="2400" spc="-1" strike="noStrike">
                  <a:solidFill>
                    <a:srgbClr val="0000cc"/>
                  </a:solidFill>
                  <a:latin typeface="Arial"/>
                </a:rPr>
                <a:t>oría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33360" y="2209680"/>
            <a:ext cx="5105520" cy="457200"/>
            <a:chOff x="2133360" y="2209680"/>
            <a:chExt cx="5105520" cy="457200"/>
          </a:xfrm>
        </p:grpSpPr>
        <p:sp>
          <p:nvSpPr>
            <p:cNvPr id="190" name=""/>
            <p:cNvSpPr/>
            <p:nvPr/>
          </p:nvSpPr>
          <p:spPr>
            <a:xfrm flipV="1">
              <a:off x="7238880" y="2209680"/>
              <a:ext cx="0" cy="457200"/>
            </a:xfrm>
            <a:prstGeom prst="line">
              <a:avLst/>
            </a:prstGeom>
            <a:ln w="57240">
              <a:solidFill>
                <a:srgbClr val="7b00e4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133360" y="2209680"/>
              <a:ext cx="5105160" cy="0"/>
            </a:xfrm>
            <a:prstGeom prst="line">
              <a:avLst/>
            </a:prstGeom>
            <a:ln w="5724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33720" y="2209680"/>
              <a:ext cx="0" cy="381240"/>
            </a:xfrm>
            <a:prstGeom prst="line">
              <a:avLst/>
            </a:prstGeom>
            <a:ln w="57240">
              <a:solidFill>
                <a:srgbClr val="7b00e4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21E-63C8-42E4-BB79-D15F548526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cc"/>
                </a:solidFill>
                <a:latin typeface="Verdana"/>
              </a:rPr>
              <a:t>Recorrid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Qué cosa es el conocimient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Diferencias entre conocimiento e información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Qué cosa es la organización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Cómo las organizaciones generan, transfieren, retienen y destruyen conocimiento.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Aprender en el trabajo y reflexionar en la acción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Cómo ayudar a los adultos a aprender en su trabaj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E659-C1B5-4A5B-9911-91D1F80998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2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20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Verdana"/>
              </a:rPr>
              <a:t>Desarrollo de carrera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1989000"/>
            <a:ext cx="6264360" cy="360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Verdana"/>
              </a:rPr>
              <a:t>Humano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71640" y="3284280"/>
            <a:ext cx="5040360" cy="23050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35280" y="2060640"/>
            <a:ext cx="0" cy="3600360"/>
          </a:xfrm>
          <a:prstGeom prst="line">
            <a:avLst/>
          </a:prstGeom>
          <a:ln w="572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867280" y="2060640"/>
            <a:ext cx="0" cy="3600360"/>
          </a:xfrm>
          <a:prstGeom prst="line">
            <a:avLst/>
          </a:prstGeom>
          <a:ln w="5724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2480" y="48718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Verdana"/>
              </a:rPr>
              <a:t>Conceptual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41320" y="227664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0000"/>
                </a:solidFill>
                <a:latin typeface="Verdana"/>
              </a:rPr>
              <a:t>Técnico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619280" y="1989000"/>
            <a:ext cx="5113440" cy="36007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670-0A14-43E7-9CE2-44E7230838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Verdana"/>
              </a:rPr>
              <a:t>Sobre el aprender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Verdana"/>
              </a:rPr>
              <a:t>Conocimiento disciplinar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Verdana"/>
              </a:rPr>
              <a:t>Reflexión en la acción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Verdana"/>
              </a:rPr>
              <a:t>Reflexión sobre la reflexión en la acción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3D24-6159-4402-AC43-8A15FB033C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ff0000"/>
                </a:solidFill>
                <a:latin typeface="Verdana"/>
              </a:rPr>
              <a:t>El conocimiento es situado y se ubica en islas de conocimiento</a:t>
            </a:r>
            <a:br>
              <a:rPr sz="4000"/>
            </a:br>
            <a:endParaRPr b="0" lang="en-US" sz="3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133720"/>
            <a:ext cx="3240000" cy="3240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708280"/>
            <a:ext cx="3168720" cy="720720"/>
          </a:xfrm>
          <a:prstGeom prst="ellipse">
            <a:avLst/>
          </a:prstGeom>
          <a:solidFill>
            <a:srgbClr val="66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92360" y="2997360"/>
            <a:ext cx="3168720" cy="72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3645000"/>
            <a:ext cx="3168720" cy="72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19280" y="4076640"/>
            <a:ext cx="3168720" cy="7207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9640" y="4653000"/>
            <a:ext cx="3168360" cy="72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2421000"/>
            <a:ext cx="3600720" cy="360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795-1EAF-4344-8633-FDBF78D4BF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5943600" y="1981080"/>
            <a:ext cx="2971800" cy="609840"/>
          </a:xfrm>
          <a:prstGeom prst="ellipse">
            <a:avLst/>
          </a:prstGeom>
          <a:solidFill>
            <a:srgbClr val="b6e8bd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Verdana"/>
              </a:rPr>
              <a:t>Trabajando con las islas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43280" y="2133720"/>
            <a:ext cx="3240000" cy="32400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708280"/>
            <a:ext cx="3168720" cy="7207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92360" y="2997360"/>
            <a:ext cx="3168720" cy="72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3645000"/>
            <a:ext cx="3168720" cy="72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19280" y="4076640"/>
            <a:ext cx="3168720" cy="720720"/>
          </a:xfrm>
          <a:prstGeom prst="ellipse">
            <a:avLst/>
          </a:prstGeom>
          <a:solidFill>
            <a:srgbClr val="cc00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419640" y="4653000"/>
            <a:ext cx="3168360" cy="72072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2421000"/>
            <a:ext cx="3600720" cy="360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29000" y="2438280"/>
            <a:ext cx="3809880" cy="2667240"/>
            <a:chOff x="3429000" y="2438280"/>
            <a:chExt cx="3809880" cy="2667240"/>
          </a:xfrm>
        </p:grpSpPr>
        <p:sp>
          <p:nvSpPr>
            <p:cNvPr id="223" name=""/>
            <p:cNvSpPr/>
            <p:nvPr/>
          </p:nvSpPr>
          <p:spPr>
            <a:xfrm>
              <a:off x="3657600" y="4495680"/>
              <a:ext cx="304920" cy="6098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9000" y="2590920"/>
              <a:ext cx="304920" cy="6094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00600" y="2438280"/>
              <a:ext cx="304920" cy="6098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14800" y="3276720"/>
              <a:ext cx="304920" cy="6094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05520" y="3200400"/>
              <a:ext cx="304560" cy="6094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934320" y="2438280"/>
              <a:ext cx="304560" cy="6098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133720" y="2286000"/>
            <a:ext cx="6400440" cy="2743200"/>
            <a:chOff x="2133720" y="2286000"/>
            <a:chExt cx="6400440" cy="2743200"/>
          </a:xfrm>
        </p:grpSpPr>
        <p:sp>
          <p:nvSpPr>
            <p:cNvPr id="230" name=""/>
            <p:cNvSpPr/>
            <p:nvPr/>
          </p:nvSpPr>
          <p:spPr>
            <a:xfrm>
              <a:off x="4114800" y="5029200"/>
              <a:ext cx="60948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5181480" y="4952880"/>
              <a:ext cx="91440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33720" y="4419720"/>
              <a:ext cx="68580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352320" y="4419720"/>
              <a:ext cx="68580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48320" y="4038480"/>
              <a:ext cx="68580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5714640" y="4038480"/>
              <a:ext cx="76212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62320" y="3352680"/>
              <a:ext cx="76176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505320" y="3352680"/>
              <a:ext cx="45720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00800" y="2286000"/>
              <a:ext cx="76212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848360" y="2286000"/>
              <a:ext cx="68580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34120" y="3048120"/>
              <a:ext cx="53316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095880" y="3048120"/>
              <a:ext cx="60984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8B05-801A-4F16-8332-F490E44E5B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Times New Roman"/>
              </a:rPr>
              <a:t>Culturas de Zeus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63640" y="2349360"/>
            <a:ext cx="685800" cy="83844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514600" y="2285640"/>
            <a:ext cx="914400" cy="7621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752120" y="3124080"/>
            <a:ext cx="762120" cy="7621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200400"/>
            <a:ext cx="609480" cy="7621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3124080"/>
            <a:ext cx="121932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1979640" y="3141720"/>
            <a:ext cx="457200" cy="763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2971800"/>
            <a:ext cx="2286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743200" y="2895480"/>
            <a:ext cx="152280" cy="2286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666520" y="3124080"/>
            <a:ext cx="304920" cy="3049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429000"/>
            <a:ext cx="304920" cy="15228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38280" y="3200400"/>
            <a:ext cx="228600" cy="106668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2590920" y="3733560"/>
            <a:ext cx="304560" cy="759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68360" y="2997360"/>
            <a:ext cx="381240" cy="304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514600" y="2895480"/>
            <a:ext cx="0" cy="763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484360" y="2636640"/>
            <a:ext cx="152640" cy="431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2286000" y="3276720"/>
            <a:ext cx="76320" cy="304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84360" y="3213000"/>
            <a:ext cx="304920" cy="2286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2411280" y="2060640"/>
            <a:ext cx="152640" cy="9144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57400" y="2666880"/>
            <a:ext cx="4572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1676520" y="3124080"/>
            <a:ext cx="380880" cy="7632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981080" y="2666880"/>
            <a:ext cx="76320" cy="4572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3200400"/>
            <a:ext cx="228600" cy="2286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556000" y="3284280"/>
            <a:ext cx="152280" cy="15228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057400" y="3581280"/>
            <a:ext cx="533520" cy="22860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 flipV="1">
            <a:off x="1752120" y="3200400"/>
            <a:ext cx="381240" cy="38088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8120" y="2590920"/>
            <a:ext cx="228600" cy="53316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2895120" y="3124080"/>
            <a:ext cx="381240" cy="60984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2514600" y="2438280"/>
            <a:ext cx="533520" cy="15264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80000" y="1628640"/>
            <a:ext cx="4876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Zeus es el poder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El poder se logra estando cerca de Zeu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Ideales para puesta en marcha o situaciones de privilegio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Arial"/>
              </a:rPr>
              <a:t>Los límites de la organización son los de Zeus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1619280" y="2349360"/>
            <a:ext cx="216000" cy="7207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908000" y="2276640"/>
            <a:ext cx="648000" cy="727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556000" y="2276640"/>
            <a:ext cx="720720" cy="14436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2492280"/>
            <a:ext cx="215640" cy="6494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058920" y="3141720"/>
            <a:ext cx="433080" cy="79200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556000" y="3933720"/>
            <a:ext cx="503280" cy="1429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1908000" y="3715920"/>
            <a:ext cx="648000" cy="2890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1402920" y="3141720"/>
            <a:ext cx="8650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1547280" y="3141720"/>
            <a:ext cx="360360" cy="57456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979640" y="2491920"/>
            <a:ext cx="504720" cy="730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1763640" y="2565360"/>
            <a:ext cx="216000" cy="647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484360" y="2637000"/>
            <a:ext cx="216000" cy="215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68360" y="3429000"/>
            <a:ext cx="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2124000" y="2852640"/>
            <a:ext cx="216000" cy="1447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556000" y="2997000"/>
            <a:ext cx="431640" cy="14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486160" y="3136320"/>
            <a:ext cx="428760" cy="154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81440" y="2992320"/>
            <a:ext cx="428400" cy="154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CC5-9D69-4717-B948-FC3CC6CC0DC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Times New Roman"/>
              </a:rPr>
              <a:t>Culturas de Apolo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3200400"/>
            <a:ext cx="0" cy="175248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3200400"/>
            <a:ext cx="0" cy="175248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733920" y="3200400"/>
            <a:ext cx="0" cy="175248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520" y="4952880"/>
            <a:ext cx="373356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105520"/>
            <a:ext cx="388620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59760" y="1765440"/>
            <a:ext cx="426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Se representan con el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Templo de Apolo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Es el dios del orden y la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armonía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Son organizaciones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Basadas en reglas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y normas.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Pueden hacer bien todo lo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Verdana"/>
              </a:rPr>
              <a:t>que sea previsible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133720"/>
            <a:ext cx="3504960" cy="1143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3276720"/>
            <a:ext cx="3808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3276720"/>
            <a:ext cx="38124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19520" y="3276720"/>
            <a:ext cx="38088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3276720"/>
            <a:ext cx="381240" cy="167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DEA7-D4C8-4CF8-A9FB-26D5D0E8EC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Times New Roman"/>
              </a:rPr>
              <a:t>Culturas de Atenea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6520" y="2209680"/>
            <a:ext cx="469800" cy="2743200"/>
          </a:xfrm>
          <a:custGeom>
            <a:avLst/>
            <a:gdLst/>
            <a:ahLst/>
            <a:rect l="l" t="t" r="r" b="b"/>
            <a:pathLst>
              <a:path w="296" h="1728">
                <a:moveTo>
                  <a:pt x="0" y="0"/>
                </a:moveTo>
                <a:cubicBezTo>
                  <a:pt x="140" y="440"/>
                  <a:pt x="280" y="880"/>
                  <a:pt x="288" y="1152"/>
                </a:cubicBezTo>
                <a:cubicBezTo>
                  <a:pt x="296" y="1424"/>
                  <a:pt x="96" y="1536"/>
                  <a:pt x="48" y="1632"/>
                </a:cubicBezTo>
                <a:cubicBezTo>
                  <a:pt x="0" y="1728"/>
                  <a:pt x="0" y="1728"/>
                  <a:pt x="0" y="1728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57320" y="2163600"/>
            <a:ext cx="642960" cy="2857680"/>
          </a:xfrm>
          <a:custGeom>
            <a:avLst/>
            <a:gdLst/>
            <a:ahLst/>
            <a:rect l="l" t="t" r="r" b="b"/>
            <a:pathLst>
              <a:path w="405" h="1800">
                <a:moveTo>
                  <a:pt x="81" y="0"/>
                </a:moveTo>
                <a:cubicBezTo>
                  <a:pt x="118" y="112"/>
                  <a:pt x="89" y="73"/>
                  <a:pt x="146" y="129"/>
                </a:cubicBezTo>
                <a:cubicBezTo>
                  <a:pt x="192" y="270"/>
                  <a:pt x="235" y="409"/>
                  <a:pt x="275" y="551"/>
                </a:cubicBezTo>
                <a:cubicBezTo>
                  <a:pt x="301" y="643"/>
                  <a:pt x="320" y="732"/>
                  <a:pt x="373" y="811"/>
                </a:cubicBezTo>
                <a:cubicBezTo>
                  <a:pt x="382" y="849"/>
                  <a:pt x="405" y="885"/>
                  <a:pt x="405" y="924"/>
                </a:cubicBezTo>
                <a:cubicBezTo>
                  <a:pt x="405" y="1073"/>
                  <a:pt x="405" y="1252"/>
                  <a:pt x="291" y="1362"/>
                </a:cubicBezTo>
                <a:cubicBezTo>
                  <a:pt x="254" y="1474"/>
                  <a:pt x="283" y="1435"/>
                  <a:pt x="227" y="1492"/>
                </a:cubicBezTo>
                <a:cubicBezTo>
                  <a:pt x="182" y="1618"/>
                  <a:pt x="255" y="1433"/>
                  <a:pt x="129" y="1622"/>
                </a:cubicBezTo>
                <a:cubicBezTo>
                  <a:pt x="87" y="1684"/>
                  <a:pt x="53" y="1747"/>
                  <a:pt x="0" y="1800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89160" y="2239920"/>
            <a:ext cx="957240" cy="2838600"/>
          </a:xfrm>
          <a:custGeom>
            <a:avLst/>
            <a:gdLst/>
            <a:ahLst/>
            <a:rect l="l" t="t" r="r" b="b"/>
            <a:pathLst>
              <a:path w="603" h="1788">
                <a:moveTo>
                  <a:pt x="194" y="0"/>
                </a:moveTo>
                <a:cubicBezTo>
                  <a:pt x="223" y="86"/>
                  <a:pt x="257" y="168"/>
                  <a:pt x="308" y="243"/>
                </a:cubicBezTo>
                <a:cubicBezTo>
                  <a:pt x="326" y="298"/>
                  <a:pt x="356" y="325"/>
                  <a:pt x="389" y="373"/>
                </a:cubicBezTo>
                <a:cubicBezTo>
                  <a:pt x="408" y="433"/>
                  <a:pt x="443" y="507"/>
                  <a:pt x="486" y="552"/>
                </a:cubicBezTo>
                <a:cubicBezTo>
                  <a:pt x="523" y="700"/>
                  <a:pt x="493" y="644"/>
                  <a:pt x="551" y="730"/>
                </a:cubicBezTo>
                <a:cubicBezTo>
                  <a:pt x="546" y="853"/>
                  <a:pt x="603" y="1187"/>
                  <a:pt x="437" y="1298"/>
                </a:cubicBezTo>
                <a:cubicBezTo>
                  <a:pt x="377" y="1338"/>
                  <a:pt x="378" y="1312"/>
                  <a:pt x="340" y="1363"/>
                </a:cubicBezTo>
                <a:cubicBezTo>
                  <a:pt x="245" y="1489"/>
                  <a:pt x="317" y="1432"/>
                  <a:pt x="227" y="1492"/>
                </a:cubicBezTo>
                <a:cubicBezTo>
                  <a:pt x="208" y="1547"/>
                  <a:pt x="178" y="1574"/>
                  <a:pt x="145" y="1622"/>
                </a:cubicBezTo>
                <a:cubicBezTo>
                  <a:pt x="140" y="1638"/>
                  <a:pt x="140" y="1658"/>
                  <a:pt x="129" y="1671"/>
                </a:cubicBezTo>
                <a:cubicBezTo>
                  <a:pt x="108" y="1698"/>
                  <a:pt x="70" y="1709"/>
                  <a:pt x="48" y="1736"/>
                </a:cubicBezTo>
                <a:cubicBezTo>
                  <a:pt x="6" y="1788"/>
                  <a:pt x="37" y="1784"/>
                  <a:pt x="0" y="1784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600280" y="2265480"/>
            <a:ext cx="920880" cy="2755800"/>
          </a:xfrm>
          <a:custGeom>
            <a:avLst/>
            <a:gdLst/>
            <a:ahLst/>
            <a:rect l="l" t="t" r="r" b="b"/>
            <a:pathLst>
              <a:path w="580" h="1736">
                <a:moveTo>
                  <a:pt x="227" y="0"/>
                </a:moveTo>
                <a:cubicBezTo>
                  <a:pt x="265" y="116"/>
                  <a:pt x="240" y="70"/>
                  <a:pt x="292" y="146"/>
                </a:cubicBezTo>
                <a:cubicBezTo>
                  <a:pt x="320" y="258"/>
                  <a:pt x="298" y="191"/>
                  <a:pt x="373" y="341"/>
                </a:cubicBezTo>
                <a:cubicBezTo>
                  <a:pt x="416" y="428"/>
                  <a:pt x="417" y="565"/>
                  <a:pt x="487" y="633"/>
                </a:cubicBezTo>
                <a:cubicBezTo>
                  <a:pt x="524" y="745"/>
                  <a:pt x="495" y="706"/>
                  <a:pt x="551" y="763"/>
                </a:cubicBezTo>
                <a:cubicBezTo>
                  <a:pt x="580" y="928"/>
                  <a:pt x="563" y="1079"/>
                  <a:pt x="470" y="1217"/>
                </a:cubicBezTo>
                <a:cubicBezTo>
                  <a:pt x="433" y="1329"/>
                  <a:pt x="462" y="1290"/>
                  <a:pt x="405" y="1347"/>
                </a:cubicBezTo>
                <a:cubicBezTo>
                  <a:pt x="347" y="1465"/>
                  <a:pt x="264" y="1548"/>
                  <a:pt x="146" y="1606"/>
                </a:cubicBezTo>
                <a:cubicBezTo>
                  <a:pt x="126" y="1626"/>
                  <a:pt x="37" y="1736"/>
                  <a:pt x="0" y="1736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00200" y="2417760"/>
            <a:ext cx="2073240" cy="477720"/>
          </a:xfrm>
          <a:custGeom>
            <a:avLst/>
            <a:gdLst/>
            <a:ahLst/>
            <a:rect l="l" t="t" r="r" b="b"/>
            <a:pathLst>
              <a:path w="580" h="1736">
                <a:moveTo>
                  <a:pt x="227" y="0"/>
                </a:moveTo>
                <a:cubicBezTo>
                  <a:pt x="265" y="116"/>
                  <a:pt x="240" y="70"/>
                  <a:pt x="292" y="146"/>
                </a:cubicBezTo>
                <a:cubicBezTo>
                  <a:pt x="320" y="258"/>
                  <a:pt x="298" y="191"/>
                  <a:pt x="373" y="341"/>
                </a:cubicBezTo>
                <a:cubicBezTo>
                  <a:pt x="416" y="428"/>
                  <a:pt x="417" y="565"/>
                  <a:pt x="487" y="633"/>
                </a:cubicBezTo>
                <a:cubicBezTo>
                  <a:pt x="524" y="745"/>
                  <a:pt x="495" y="706"/>
                  <a:pt x="551" y="763"/>
                </a:cubicBezTo>
                <a:cubicBezTo>
                  <a:pt x="580" y="928"/>
                  <a:pt x="563" y="1079"/>
                  <a:pt x="470" y="1217"/>
                </a:cubicBezTo>
                <a:cubicBezTo>
                  <a:pt x="433" y="1329"/>
                  <a:pt x="462" y="1290"/>
                  <a:pt x="405" y="1347"/>
                </a:cubicBezTo>
                <a:cubicBezTo>
                  <a:pt x="347" y="1465"/>
                  <a:pt x="264" y="1548"/>
                  <a:pt x="146" y="1606"/>
                </a:cubicBezTo>
                <a:cubicBezTo>
                  <a:pt x="126" y="1626"/>
                  <a:pt x="37" y="1736"/>
                  <a:pt x="0" y="1736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828800" y="2417760"/>
            <a:ext cx="1844640" cy="1087560"/>
          </a:xfrm>
          <a:custGeom>
            <a:avLst/>
            <a:gdLst/>
            <a:ahLst/>
            <a:rect l="l" t="t" r="r" b="b"/>
            <a:pathLst>
              <a:path w="580" h="1736">
                <a:moveTo>
                  <a:pt x="227" y="0"/>
                </a:moveTo>
                <a:cubicBezTo>
                  <a:pt x="265" y="116"/>
                  <a:pt x="240" y="70"/>
                  <a:pt x="292" y="146"/>
                </a:cubicBezTo>
                <a:cubicBezTo>
                  <a:pt x="320" y="258"/>
                  <a:pt x="298" y="191"/>
                  <a:pt x="373" y="341"/>
                </a:cubicBezTo>
                <a:cubicBezTo>
                  <a:pt x="416" y="428"/>
                  <a:pt x="417" y="565"/>
                  <a:pt x="487" y="633"/>
                </a:cubicBezTo>
                <a:cubicBezTo>
                  <a:pt x="524" y="745"/>
                  <a:pt x="495" y="706"/>
                  <a:pt x="551" y="763"/>
                </a:cubicBezTo>
                <a:cubicBezTo>
                  <a:pt x="580" y="928"/>
                  <a:pt x="563" y="1079"/>
                  <a:pt x="470" y="1217"/>
                </a:cubicBezTo>
                <a:cubicBezTo>
                  <a:pt x="433" y="1329"/>
                  <a:pt x="462" y="1290"/>
                  <a:pt x="405" y="1347"/>
                </a:cubicBezTo>
                <a:cubicBezTo>
                  <a:pt x="347" y="1465"/>
                  <a:pt x="264" y="1548"/>
                  <a:pt x="146" y="1606"/>
                </a:cubicBezTo>
                <a:cubicBezTo>
                  <a:pt x="126" y="1626"/>
                  <a:pt x="37" y="1736"/>
                  <a:pt x="0" y="1736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2417760"/>
            <a:ext cx="1768320" cy="1849320"/>
          </a:xfrm>
          <a:custGeom>
            <a:avLst/>
            <a:gdLst/>
            <a:ahLst/>
            <a:rect l="l" t="t" r="r" b="b"/>
            <a:pathLst>
              <a:path w="580" h="1736">
                <a:moveTo>
                  <a:pt x="227" y="0"/>
                </a:moveTo>
                <a:cubicBezTo>
                  <a:pt x="265" y="116"/>
                  <a:pt x="240" y="70"/>
                  <a:pt x="292" y="146"/>
                </a:cubicBezTo>
                <a:cubicBezTo>
                  <a:pt x="320" y="258"/>
                  <a:pt x="298" y="191"/>
                  <a:pt x="373" y="341"/>
                </a:cubicBezTo>
                <a:cubicBezTo>
                  <a:pt x="416" y="428"/>
                  <a:pt x="417" y="565"/>
                  <a:pt x="487" y="633"/>
                </a:cubicBezTo>
                <a:cubicBezTo>
                  <a:pt x="524" y="745"/>
                  <a:pt x="495" y="706"/>
                  <a:pt x="551" y="763"/>
                </a:cubicBezTo>
                <a:cubicBezTo>
                  <a:pt x="580" y="928"/>
                  <a:pt x="563" y="1079"/>
                  <a:pt x="470" y="1217"/>
                </a:cubicBezTo>
                <a:cubicBezTo>
                  <a:pt x="433" y="1329"/>
                  <a:pt x="462" y="1290"/>
                  <a:pt x="405" y="1347"/>
                </a:cubicBezTo>
                <a:cubicBezTo>
                  <a:pt x="347" y="1465"/>
                  <a:pt x="264" y="1548"/>
                  <a:pt x="146" y="1606"/>
                </a:cubicBezTo>
                <a:cubicBezTo>
                  <a:pt x="126" y="1626"/>
                  <a:pt x="37" y="1736"/>
                  <a:pt x="0" y="1736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34040" y="1989000"/>
            <a:ext cx="428904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Adoran a Atenea, diosa de la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guerra y de la inteligencia,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se representan con una red,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toman la forma de la tarea que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deben resolver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Muy buenas para situacion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ambiantes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No muy eficientes en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situaciones previsibles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801800" y="4222800"/>
            <a:ext cx="1687680" cy="461880"/>
          </a:xfrm>
          <a:custGeom>
            <a:avLst/>
            <a:gdLst/>
            <a:ahLst/>
            <a:rect l="l" t="t" r="r" b="b"/>
            <a:pathLst>
              <a:path w="1063" h="291">
                <a:moveTo>
                  <a:pt x="0" y="260"/>
                </a:moveTo>
                <a:cubicBezTo>
                  <a:pt x="187" y="270"/>
                  <a:pt x="381" y="291"/>
                  <a:pt x="568" y="260"/>
                </a:cubicBezTo>
                <a:cubicBezTo>
                  <a:pt x="583" y="257"/>
                  <a:pt x="587" y="235"/>
                  <a:pt x="600" y="227"/>
                </a:cubicBezTo>
                <a:cubicBezTo>
                  <a:pt x="656" y="193"/>
                  <a:pt x="734" y="167"/>
                  <a:pt x="795" y="146"/>
                </a:cubicBezTo>
                <a:cubicBezTo>
                  <a:pt x="829" y="134"/>
                  <a:pt x="858" y="109"/>
                  <a:pt x="892" y="97"/>
                </a:cubicBezTo>
                <a:cubicBezTo>
                  <a:pt x="930" y="60"/>
                  <a:pt x="918" y="63"/>
                  <a:pt x="973" y="49"/>
                </a:cubicBezTo>
                <a:cubicBezTo>
                  <a:pt x="1000" y="42"/>
                  <a:pt x="1030" y="47"/>
                  <a:pt x="1054" y="33"/>
                </a:cubicBezTo>
                <a:cubicBezTo>
                  <a:pt x="1063" y="27"/>
                  <a:pt x="1054" y="11"/>
                  <a:pt x="1054" y="0"/>
                </a:cubicBezTo>
              </a:path>
            </a:pathLst>
          </a:custGeom>
          <a:noFill/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10B4-F272-42CE-A0D2-66B3083DFB6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0000"/>
                </a:solidFill>
                <a:latin typeface="Times New Roman"/>
              </a:rPr>
              <a:t>Cultura de Dionisio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3880" y="2133720"/>
            <a:ext cx="1600200" cy="259056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5434400">
            <a:off x="2323800" y="2552040"/>
            <a:ext cx="838440" cy="6098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52480" y="2514600"/>
            <a:ext cx="487440" cy="569880"/>
          </a:xfrm>
          <a:custGeom>
            <a:avLst/>
            <a:gdLst/>
            <a:ahLst/>
            <a:rect l="l" t="t" r="r" b="b"/>
            <a:pathLst>
              <a:path w="307" h="359">
                <a:moveTo>
                  <a:pt x="142" y="48"/>
                </a:moveTo>
                <a:cubicBezTo>
                  <a:pt x="252" y="75"/>
                  <a:pt x="235" y="79"/>
                  <a:pt x="272" y="194"/>
                </a:cubicBezTo>
                <a:cubicBezTo>
                  <a:pt x="307" y="302"/>
                  <a:pt x="304" y="207"/>
                  <a:pt x="304" y="259"/>
                </a:cubicBezTo>
                <a:cubicBezTo>
                  <a:pt x="283" y="260"/>
                  <a:pt x="258" y="252"/>
                  <a:pt x="240" y="263"/>
                </a:cubicBezTo>
                <a:cubicBezTo>
                  <a:pt x="202" y="287"/>
                  <a:pt x="144" y="359"/>
                  <a:pt x="144" y="359"/>
                </a:cubicBezTo>
                <a:cubicBezTo>
                  <a:pt x="84" y="299"/>
                  <a:pt x="60" y="227"/>
                  <a:pt x="0" y="167"/>
                </a:cubicBezTo>
                <a:cubicBezTo>
                  <a:pt x="32" y="135"/>
                  <a:pt x="64" y="103"/>
                  <a:pt x="96" y="71"/>
                </a:cubicBezTo>
                <a:cubicBezTo>
                  <a:pt x="150" y="17"/>
                  <a:pt x="146" y="0"/>
                  <a:pt x="142" y="48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38280" y="3429000"/>
            <a:ext cx="487440" cy="569880"/>
          </a:xfrm>
          <a:custGeom>
            <a:avLst/>
            <a:gdLst/>
            <a:ahLst/>
            <a:rect l="l" t="t" r="r" b="b"/>
            <a:pathLst>
              <a:path w="307" h="359">
                <a:moveTo>
                  <a:pt x="142" y="48"/>
                </a:moveTo>
                <a:cubicBezTo>
                  <a:pt x="252" y="75"/>
                  <a:pt x="235" y="79"/>
                  <a:pt x="272" y="194"/>
                </a:cubicBezTo>
                <a:cubicBezTo>
                  <a:pt x="307" y="302"/>
                  <a:pt x="304" y="207"/>
                  <a:pt x="304" y="259"/>
                </a:cubicBezTo>
                <a:cubicBezTo>
                  <a:pt x="283" y="260"/>
                  <a:pt x="258" y="252"/>
                  <a:pt x="240" y="263"/>
                </a:cubicBezTo>
                <a:cubicBezTo>
                  <a:pt x="202" y="287"/>
                  <a:pt x="144" y="359"/>
                  <a:pt x="144" y="359"/>
                </a:cubicBezTo>
                <a:cubicBezTo>
                  <a:pt x="84" y="299"/>
                  <a:pt x="60" y="227"/>
                  <a:pt x="0" y="167"/>
                </a:cubicBezTo>
                <a:cubicBezTo>
                  <a:pt x="32" y="135"/>
                  <a:pt x="64" y="103"/>
                  <a:pt x="96" y="71"/>
                </a:cubicBezTo>
                <a:cubicBezTo>
                  <a:pt x="150" y="17"/>
                  <a:pt x="146" y="0"/>
                  <a:pt x="142" y="48"/>
                </a:cubicBezTo>
                <a:close/>
              </a:path>
            </a:pathLst>
          </a:custGeom>
          <a:solidFill>
            <a:srgbClr val="0000cc"/>
          </a:solidFill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505320"/>
            <a:ext cx="487440" cy="569880"/>
          </a:xfrm>
          <a:custGeom>
            <a:avLst/>
            <a:gdLst/>
            <a:ahLst/>
            <a:rect l="l" t="t" r="r" b="b"/>
            <a:pathLst>
              <a:path w="307" h="359">
                <a:moveTo>
                  <a:pt x="142" y="48"/>
                </a:moveTo>
                <a:cubicBezTo>
                  <a:pt x="252" y="75"/>
                  <a:pt x="235" y="79"/>
                  <a:pt x="272" y="194"/>
                </a:cubicBezTo>
                <a:cubicBezTo>
                  <a:pt x="307" y="302"/>
                  <a:pt x="304" y="207"/>
                  <a:pt x="304" y="259"/>
                </a:cubicBezTo>
                <a:cubicBezTo>
                  <a:pt x="283" y="260"/>
                  <a:pt x="258" y="252"/>
                  <a:pt x="240" y="263"/>
                </a:cubicBezTo>
                <a:cubicBezTo>
                  <a:pt x="202" y="287"/>
                  <a:pt x="144" y="359"/>
                  <a:pt x="144" y="359"/>
                </a:cubicBezTo>
                <a:cubicBezTo>
                  <a:pt x="84" y="299"/>
                  <a:pt x="60" y="227"/>
                  <a:pt x="0" y="167"/>
                </a:cubicBezTo>
                <a:cubicBezTo>
                  <a:pt x="32" y="135"/>
                  <a:pt x="64" y="103"/>
                  <a:pt x="96" y="71"/>
                </a:cubicBezTo>
                <a:cubicBezTo>
                  <a:pt x="150" y="17"/>
                  <a:pt x="146" y="0"/>
                  <a:pt x="142" y="48"/>
                </a:cubicBezTo>
                <a:close/>
              </a:path>
            </a:pathLst>
          </a:custGeom>
          <a:solidFill>
            <a:srgbClr val="ffff66"/>
          </a:solidFill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57400" y="4038480"/>
            <a:ext cx="487440" cy="569880"/>
          </a:xfrm>
          <a:custGeom>
            <a:avLst/>
            <a:gdLst/>
            <a:ahLst/>
            <a:rect l="l" t="t" r="r" b="b"/>
            <a:pathLst>
              <a:path w="307" h="359">
                <a:moveTo>
                  <a:pt x="142" y="48"/>
                </a:moveTo>
                <a:cubicBezTo>
                  <a:pt x="252" y="75"/>
                  <a:pt x="235" y="79"/>
                  <a:pt x="272" y="194"/>
                </a:cubicBezTo>
                <a:cubicBezTo>
                  <a:pt x="307" y="302"/>
                  <a:pt x="304" y="207"/>
                  <a:pt x="304" y="259"/>
                </a:cubicBezTo>
                <a:cubicBezTo>
                  <a:pt x="283" y="260"/>
                  <a:pt x="258" y="252"/>
                  <a:pt x="240" y="263"/>
                </a:cubicBezTo>
                <a:cubicBezTo>
                  <a:pt x="202" y="287"/>
                  <a:pt x="144" y="359"/>
                  <a:pt x="144" y="359"/>
                </a:cubicBezTo>
                <a:cubicBezTo>
                  <a:pt x="84" y="299"/>
                  <a:pt x="60" y="227"/>
                  <a:pt x="0" y="167"/>
                </a:cubicBezTo>
                <a:cubicBezTo>
                  <a:pt x="32" y="135"/>
                  <a:pt x="64" y="103"/>
                  <a:pt x="96" y="71"/>
                </a:cubicBezTo>
                <a:cubicBezTo>
                  <a:pt x="150" y="17"/>
                  <a:pt x="146" y="0"/>
                  <a:pt x="142" y="48"/>
                </a:cubicBezTo>
                <a:close/>
              </a:path>
            </a:pathLst>
          </a:custGeom>
          <a:solidFill>
            <a:srgbClr val="ffffff"/>
          </a:solidFill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676520" y="3048120"/>
            <a:ext cx="487080" cy="569880"/>
          </a:xfrm>
          <a:custGeom>
            <a:avLst/>
            <a:gdLst/>
            <a:ahLst/>
            <a:rect l="l" t="t" r="r" b="b"/>
            <a:pathLst>
              <a:path w="307" h="359">
                <a:moveTo>
                  <a:pt x="142" y="48"/>
                </a:moveTo>
                <a:cubicBezTo>
                  <a:pt x="252" y="75"/>
                  <a:pt x="235" y="79"/>
                  <a:pt x="272" y="194"/>
                </a:cubicBezTo>
                <a:cubicBezTo>
                  <a:pt x="307" y="302"/>
                  <a:pt x="304" y="207"/>
                  <a:pt x="304" y="259"/>
                </a:cubicBezTo>
                <a:cubicBezTo>
                  <a:pt x="283" y="260"/>
                  <a:pt x="258" y="252"/>
                  <a:pt x="240" y="263"/>
                </a:cubicBezTo>
                <a:cubicBezTo>
                  <a:pt x="202" y="287"/>
                  <a:pt x="144" y="359"/>
                  <a:pt x="144" y="359"/>
                </a:cubicBezTo>
                <a:cubicBezTo>
                  <a:pt x="84" y="299"/>
                  <a:pt x="60" y="227"/>
                  <a:pt x="0" y="167"/>
                </a:cubicBezTo>
                <a:cubicBezTo>
                  <a:pt x="32" y="135"/>
                  <a:pt x="64" y="103"/>
                  <a:pt x="96" y="71"/>
                </a:cubicBezTo>
                <a:cubicBezTo>
                  <a:pt x="150" y="17"/>
                  <a:pt x="146" y="0"/>
                  <a:pt x="142" y="48"/>
                </a:cubicBezTo>
                <a:close/>
              </a:path>
            </a:pathLst>
          </a:custGeom>
          <a:solidFill>
            <a:srgbClr val="009900"/>
          </a:solidFill>
          <a:ln w="1260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46240" y="1757520"/>
            <a:ext cx="427392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Adoran al dios del placer y el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disfrut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Se representan con la paleta d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un pintor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Son organizaciones al servicio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de sus miembros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Cuando funcionan logran lo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máximo de cada uno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cc"/>
                </a:solidFill>
                <a:latin typeface="Verdana"/>
              </a:rPr>
              <a:t>Suelen ser imprevisibles.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209-67E7-467A-84A4-E2CDE0EEB8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cc"/>
                </a:solidFill>
                <a:latin typeface="Verdana"/>
              </a:rPr>
              <a:t>Recorrid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Qué cosa es el conocimient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Diferencias entre conocimiento e información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Qué cosa es la organización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Cómo las organizaciones generan, transfieren, retienen y destruyen conocimient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Aprender en el trabajo y reflexionar en la acción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Cómo ayudar a los adultos a aprender en su trabaj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F8AE-F6D7-48F7-BEA4-E70ADF8F5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763640" y="2060640"/>
            <a:ext cx="5590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Verdana"/>
              </a:rPr>
              <a:t>Las cosas más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Verdana"/>
              </a:rPr>
              <a:t>importantes el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Verdana"/>
              </a:rPr>
              <a:t>jefe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Verdana"/>
              </a:rPr>
              <a:t>las enseña mientras 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0000"/>
                </a:solidFill>
                <a:latin typeface="Verdana"/>
              </a:rPr>
              <a:t>está distraíd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48480" y="311040"/>
            <a:ext cx="7188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6600" spc="-1" strike="noStrike">
                <a:solidFill>
                  <a:srgbClr val="ff0000"/>
                </a:solidFill>
                <a:latin typeface="Verdana"/>
              </a:rPr>
              <a:t>Corolario de Gore</a:t>
            </a:r>
            <a:endParaRPr b="0" lang="en-US" sz="6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63A7-3297-4752-A151-1D4E0EA7088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00"/>
                </a:solidFill>
                <a:latin typeface="Times New Roman"/>
              </a:rPr>
              <a:t>Dos grandes estrategias para gestionar conocimiento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imes New Roman"/>
              </a:rPr>
              <a:t>Codificar: </a:t>
            </a:r>
            <a:r>
              <a:rPr b="0" lang="es-ES" sz="2800" spc="-1" strike="noStrike">
                <a:solidFill>
                  <a:srgbClr val="0000cc"/>
                </a:solidFill>
                <a:latin typeface="Times New Roman"/>
              </a:rPr>
              <a:t>información rápida, confiable y de alta calidad a través de sistemas basados en la reutilización de conocimiento codificado.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imes New Roman"/>
              </a:rPr>
              <a:t>Personalizar: </a:t>
            </a:r>
            <a:r>
              <a:rPr b="0" lang="es-ES" sz="2800" spc="-1" strike="noStrike">
                <a:solidFill>
                  <a:srgbClr val="0000cc"/>
                </a:solidFill>
                <a:latin typeface="Times New Roman"/>
              </a:rPr>
              <a:t>construcción de conocimiento riguroso canalizando las experiencias individuales o grupales a través de interacciones personales.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02A-49A7-4A6C-ABA7-FE16F9E97A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Verdana"/>
              </a:rPr>
              <a:t>Lecturas complementarias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Verdana"/>
              </a:rPr>
              <a:t>Argyris, C. Conocimiento para la acción, (1998) Buenos Aires: Granica.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Verdana"/>
              </a:rPr>
              <a:t>Gore, E.; La educación en la empresa. El aprendizaje en contextos organizativos (2004); Buenos Aires, Granica.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Verdana"/>
              </a:rPr>
              <a:t>Gore, E. y M. Vázquez Mazzini; Una introducción a la formación en el trabajo. Hacer visible lo invisible (2004); Buenos Aires: Fondo de Cultura Económica.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cc"/>
                </a:solidFill>
                <a:latin typeface="Verdana"/>
              </a:rPr>
              <a:t>Nonaka, I. La empresa creadora de conocimientos, en Gestión del Conocimiento (1998), Harvard Business Review, Bilbao:Deusto.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cc"/>
                </a:solidFill>
                <a:latin typeface="Verdana"/>
              </a:rPr>
              <a:t>Schön, D. Educando al profesional reflexivo (1989); Buenos Aires: Paidos.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enger, E.; </a:t>
            </a:r>
            <a:r>
              <a:rPr b="0" lang="es-ES" sz="1800" spc="-1" strike="noStrike">
                <a:solidFill>
                  <a:srgbClr val="0000cc"/>
                </a:solidFill>
                <a:latin typeface="Verdana"/>
              </a:rPr>
              <a:t>Comunidades de Práctica. Aprendizaje, significado e identidad (2001); Barcelona: Paidos.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Verdana"/>
              </a:rPr>
              <a:t>Wenger, E.; Cultivating communities of practice (2002); Boston: Harvard Business School Press.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7894-8565-4A34-986D-26C3AF7A00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00"/>
                </a:solidFill>
                <a:latin typeface="Times New Roman"/>
              </a:rPr>
              <a:t>Conocimiento inerte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cc"/>
                </a:solidFill>
                <a:latin typeface="Times New Roman"/>
              </a:rPr>
              <a:t>AB= 8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cc"/>
                </a:solidFill>
                <a:latin typeface="Times New Roman"/>
              </a:rPr>
              <a:t>CB= 3,5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cc"/>
                </a:solidFill>
                <a:latin typeface="Times New Roman"/>
              </a:rPr>
              <a:t>CM=X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276640"/>
            <a:ext cx="3456000" cy="3456000"/>
          </a:xfrm>
          <a:prstGeom prst="ellipse">
            <a:avLst/>
          </a:prstGeom>
          <a:solidFill>
            <a:srgbClr val="e6eb05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4005360"/>
            <a:ext cx="34560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35640" y="2276640"/>
            <a:ext cx="0" cy="34574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35640" y="4941720"/>
            <a:ext cx="14414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877080" y="4005000"/>
            <a:ext cx="0" cy="93636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35640" y="4005000"/>
            <a:ext cx="1441440" cy="93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8520" y="364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02360" y="5753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0580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89800" y="3573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012-CD29-499B-9709-2571D23E504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300" spc="-1" strike="noStrike">
                <a:solidFill>
                  <a:srgbClr val="333300"/>
                </a:solidFill>
                <a:latin typeface="Verdana"/>
              </a:rPr>
              <a:t>  </a:t>
            </a:r>
            <a:r>
              <a:rPr b="1" lang="es-MX" sz="3300" spc="-1" strike="noStrike">
                <a:solidFill>
                  <a:srgbClr val="ff0000"/>
                </a:solidFill>
                <a:latin typeface="Verdana"/>
              </a:rPr>
              <a:t>Datos, información y conocimiento</a:t>
            </a:r>
            <a:endParaRPr b="0" lang="en-US" sz="33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2200" y="1627200"/>
            <a:ext cx="2324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628640"/>
            <a:ext cx="2664000" cy="1152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Verdana"/>
              </a:rPr>
              <a:t>DATO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5640" y="3141720"/>
            <a:ext cx="2664000" cy="107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Verdana"/>
              </a:rPr>
              <a:t>INFORMACIÓ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4797360"/>
            <a:ext cx="2664000" cy="93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cc"/>
                </a:solidFill>
                <a:latin typeface="Verdana"/>
              </a:rPr>
              <a:t>CONOCIMIENTO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1268280"/>
            <a:ext cx="4535280" cy="1513080"/>
          </a:xfrm>
          <a:prstGeom prst="rect">
            <a:avLst/>
          </a:prstGeom>
          <a:solidFill>
            <a:srgbClr val="edf4aa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Hechos,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Diferencias que hacen una diferencia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Fáciles de almacenar y de transmiti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Difíciles de interpretar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2924280"/>
            <a:ext cx="4535280" cy="1512720"/>
          </a:xfrm>
          <a:prstGeom prst="rect">
            <a:avLst/>
          </a:prstGeom>
          <a:solidFill>
            <a:srgbClr val="edf4aa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Datos relacionados con un contexto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Tienen sentido, significado y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relevancia para alguien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4581360"/>
            <a:ext cx="4535280" cy="1513080"/>
          </a:xfrm>
          <a:prstGeom prst="rect">
            <a:avLst/>
          </a:prstGeom>
          <a:solidFill>
            <a:srgbClr val="edf4aa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92360" y="1916280"/>
            <a:ext cx="503280" cy="433080"/>
          </a:xfrm>
          <a:prstGeom prst="rightArrow">
            <a:avLst>
              <a:gd name="adj1" fmla="val 50000"/>
              <a:gd name="adj2" fmla="val 29052"/>
            </a:avLst>
          </a:prstGeom>
          <a:solidFill>
            <a:srgbClr val="3333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2360" y="350028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solidFill>
            <a:srgbClr val="3333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5084640"/>
            <a:ext cx="503280" cy="433440"/>
          </a:xfrm>
          <a:prstGeom prst="rightArrow">
            <a:avLst>
              <a:gd name="adj1" fmla="val 50000"/>
              <a:gd name="adj2" fmla="val 29028"/>
            </a:avLst>
          </a:prstGeom>
          <a:solidFill>
            <a:srgbClr val="333300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4724280"/>
            <a:ext cx="4562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Implica más que información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Sistema de ideas que nunca pasó 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  </a:t>
            </a: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por los sentidos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cc"/>
                </a:solidFill>
                <a:latin typeface="Verdana"/>
              </a:rPr>
              <a:t>Toma formas diversas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E945-8ADF-4657-967E-1049B7E361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Verdana"/>
              </a:rPr>
              <a:t>Conocimiento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2276640"/>
            <a:ext cx="1439640" cy="1439640"/>
          </a:xfrm>
          <a:prstGeom prst="triangle">
            <a:avLst>
              <a:gd name="adj" fmla="val 50000"/>
            </a:avLst>
          </a:prstGeom>
          <a:solidFill>
            <a:srgbClr val="cc00ff"/>
          </a:solidFill>
          <a:ln w="0">
            <a:noFill/>
          </a:ln>
          <a:effectLst>
            <a:outerShdw dist="107932" dir="135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924360" y="3716280"/>
            <a:ext cx="1439640" cy="1440000"/>
          </a:xfrm>
          <a:prstGeom prst="triangle">
            <a:avLst>
              <a:gd name="adj" fmla="val 50056"/>
            </a:avLst>
          </a:prstGeom>
          <a:solidFill>
            <a:srgbClr val="cc00ff"/>
          </a:solidFill>
          <a:ln w="0">
            <a:noFill/>
          </a:ln>
          <a:effectLst>
            <a:outerShdw dist="107932" dir="135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84680" y="522936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CREENCIA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357336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SENTIDO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7440" y="1628640"/>
            <a:ext cx="23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INFORMACIÓN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66160" y="35002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VÍNCULOS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4001-DAB7-4DFD-AFDF-0F2D25FB3D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900000" y="2276640"/>
            <a:ext cx="6624720" cy="3384360"/>
            <a:chOff x="900000" y="2276640"/>
            <a:chExt cx="6624720" cy="3384360"/>
          </a:xfrm>
        </p:grpSpPr>
        <p:sp>
          <p:nvSpPr>
            <p:cNvPr id="144" name=""/>
            <p:cNvSpPr/>
            <p:nvPr/>
          </p:nvSpPr>
          <p:spPr>
            <a:xfrm>
              <a:off x="2484360" y="2924280"/>
              <a:ext cx="5040360" cy="2736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13080" y="227664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cc0000"/>
                  </a:solidFill>
                  <a:latin typeface="Verdana"/>
                </a:rPr>
                <a:t>Tácito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60360" y="350028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cc0000"/>
                  </a:solidFill>
                  <a:latin typeface="Verdana"/>
                </a:rPr>
                <a:t>Tácito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05440" y="2276640"/>
              <a:ext cx="23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cc0000"/>
                  </a:solidFill>
                  <a:latin typeface="Verdana"/>
                </a:rPr>
                <a:t>Explícito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00000" y="4724280"/>
              <a:ext cx="23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cc0000"/>
                  </a:solidFill>
                  <a:latin typeface="Verdana"/>
                </a:rPr>
                <a:t>Explícito</a:t>
              </a:r>
              <a:endParaRPr b="0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932360" y="2924280"/>
            <a:ext cx="0" cy="27367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84360" y="4292640"/>
            <a:ext cx="50403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3284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cc"/>
                </a:solidFill>
                <a:latin typeface="Arial"/>
              </a:rPr>
              <a:t>Internalizació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6000" y="3284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cc"/>
                </a:solidFill>
                <a:latin typeface="Arial"/>
              </a:rPr>
              <a:t>Socializació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6000" y="465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cc"/>
                </a:solidFill>
                <a:latin typeface="Arial"/>
              </a:rPr>
              <a:t>Explicitació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32360" y="4653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cc"/>
                </a:solidFill>
                <a:latin typeface="Arial"/>
              </a:rPr>
              <a:t>Combinación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0000" y="549360"/>
            <a:ext cx="761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Verdana"/>
              </a:rPr>
              <a:t>Circulación del conocimiento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6ED1-2B00-4417-A642-EA13185548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cc"/>
                </a:solidFill>
                <a:latin typeface="Verdana"/>
              </a:rPr>
              <a:t>Recorrido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Qué cosa es el conocimient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Diferencias entre conocimiento e información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Qué cosa es la organización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Cómo las organizaciones generan, transfieren, retienen y destruyen conocimient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Aprender en el trabajo y reflexionar en la acción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00cc"/>
                </a:solidFill>
                <a:latin typeface="Verdana"/>
              </a:rPr>
              <a:t>Cómo ayudar a los adultos a aprender en su trabajo</a:t>
            </a:r>
            <a:endParaRPr b="0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E911-4C57-49AA-8386-4E7CDAD9DC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Verdana"/>
              </a:rPr>
              <a:t>Tener en cuenta: relaciones peligrosas</a:t>
            </a:r>
            <a:endParaRPr b="0" lang="en-US" sz="4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00000" y="1916280"/>
            <a:ext cx="2448000" cy="129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Creencia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individual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1640" y="4581360"/>
            <a:ext cx="2448000" cy="129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Respuestas del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ambiente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12000" y="4508640"/>
            <a:ext cx="2447640" cy="129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Decisiones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colectiva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1916280"/>
            <a:ext cx="2448000" cy="1296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Decisiones 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personales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19640" y="2565360"/>
            <a:ext cx="230472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020000" y="3284640"/>
            <a:ext cx="0" cy="1152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564000" y="5229360"/>
            <a:ext cx="2448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050920" y="3357360"/>
            <a:ext cx="0" cy="1150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995280" y="2205000"/>
            <a:ext cx="64764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23640" y="311616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Efecto audiencia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804000" y="3428640"/>
            <a:ext cx="574560" cy="28908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99280" y="378936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00ff"/>
                </a:solidFill>
                <a:latin typeface="Arial"/>
              </a:rPr>
              <a:t>Efecto espectador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427640" y="4941720"/>
            <a:ext cx="504720" cy="719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59480" y="443088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ff00"/>
                </a:solidFill>
                <a:latin typeface="Arial"/>
              </a:rPr>
              <a:t>Superstición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63640" y="3789360"/>
            <a:ext cx="720720" cy="28728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36200" y="3639960"/>
            <a:ext cx="172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c6600"/>
                </a:solidFill>
                <a:latin typeface="Arial"/>
              </a:rPr>
              <a:t>Ambigüedad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653B-D6AE-45BB-A9E0-A90F284D99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0000"/>
                </a:solidFill>
                <a:latin typeface="Verdana"/>
              </a:rPr>
              <a:t>A veces el vínculo dificulta aprender</a:t>
            </a:r>
            <a:endParaRPr b="0" lang="en-US" sz="3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ff"/>
                </a:solidFill>
                <a:latin typeface="Verdana"/>
              </a:rPr>
              <a:t>El esquema parece funcionar así: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ff"/>
                </a:solidFill>
                <a:latin typeface="Verdana"/>
              </a:rPr>
              <a:t>finja acordar, sobre todo cuando no está de acuerdo,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ff"/>
                </a:solidFill>
                <a:latin typeface="Verdana"/>
              </a:rPr>
              <a:t>cuando vea resistencia, enfatice el problema y minimice la resistencia,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ff"/>
                </a:solidFill>
                <a:latin typeface="Verdana"/>
              </a:rPr>
              <a:t>si esto no funciona, apriete, para algo es el jefe (o hágase el distraído si es empleado)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ff"/>
                </a:solidFill>
                <a:latin typeface="Verdana"/>
              </a:rPr>
              <a:t>mantenga esta estrategia en secreto.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2 de agosto 2005 Go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0EEB-EB12-408E-9D1F-7CFDCE4AFFB2}" type="slidenum">
              <a:t>9</a:t>
            </a:fld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13:27:20Z</dcterms:created>
  <dc:creator>mc16071</dc:creator>
  <dc:description/>
  <dc:language>en-US</dc:language>
  <cp:lastModifiedBy>C.P.C.E.C.A.B.A.</cp:lastModifiedBy>
  <dcterms:modified xsi:type="dcterms:W3CDTF">2005-09-12T13:24:10Z</dcterms:modified>
  <cp:revision>43</cp:revision>
  <dc:subject/>
  <dc:title>Una teoría evolutiva de la capacitación y el aprendizaje</dc:title>
</cp:coreProperties>
</file>