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42C-8877-4D64-88BF-A62667B4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3840-AD27-41EE-B91D-CE204308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B19-D532-4D35-829B-530A7613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3E14-A708-48E3-9D91-DA441EE9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D98E-7D11-40A2-92E9-031419F2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10B7-EF6C-4474-AE5E-D95D8556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3EE-8780-4939-9B05-B84F12110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59CB-B70B-4EEC-92A7-2FE1004A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6E33-ED76-4CDE-A13F-08B9F217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7343-4894-449A-BB9D-72DA58EF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A53-3244-4400-BD68-CF97BA35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F8F0-E697-48C1-A947-C7A4FFD5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AA07-9B0D-4175-AB2C-F9F2B9D6CB3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slide" Target="slide13.xml"/><Relationship Id="rId4" Type="http://schemas.openxmlformats.org/officeDocument/2006/relationships/image" Target="../media/image7.wmf"/><Relationship Id="rId5" Type="http://schemas.openxmlformats.org/officeDocument/2006/relationships/slide" Target="slide8.xml"/><Relationship Id="rId6" Type="http://schemas.openxmlformats.org/officeDocument/2006/relationships/slide" Target="slide16.xml"/><Relationship Id="rId7" Type="http://schemas.openxmlformats.org/officeDocument/2006/relationships/slide" Target="slide11.xml"/><Relationship Id="rId8" Type="http://schemas.openxmlformats.org/officeDocument/2006/relationships/slide" Target="slide24.xm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0" y="4114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1066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dd7a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057400"/>
            <a:ext cx="9144000" cy="1981080"/>
          </a:xfrm>
          <a:prstGeom prst="rect">
            <a:avLst/>
          </a:prstGeom>
          <a:solidFill>
            <a:srgbClr val="9dd7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55840" y="577800"/>
            <a:ext cx="429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Buenos 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ultad de Ciencias Eco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escudocolor" descr=""/>
          <p:cNvPicPr/>
          <p:nvPr/>
        </p:nvPicPr>
        <p:blipFill>
          <a:blip r:embed="rId2"/>
          <a:stretch/>
        </p:blipFill>
        <p:spPr>
          <a:xfrm>
            <a:off x="7238880" y="380880"/>
            <a:ext cx="105264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UBAbn" descr=""/>
          <p:cNvPicPr/>
          <p:nvPr/>
        </p:nvPicPr>
        <p:blipFill>
          <a:blip r:embed="rId3"/>
          <a:stretch/>
        </p:blipFill>
        <p:spPr>
          <a:xfrm>
            <a:off x="685800" y="380880"/>
            <a:ext cx="1143000" cy="1098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47760" y="1219320"/>
            <a:ext cx="4724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15238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VALOR DE LA EMPRES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APITAL INTELEC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AS NORMAS CONT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98240" y="5443560"/>
            <a:ext cx="57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ositor: JUAN CARLOS VIE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ño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228600"/>
            <a:ext cx="7315200" cy="121932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OBTENCIÓN DEL FLUJO DE FONDOS</a:t>
            </a:r>
            <a:br>
              <a:rPr sz="2800"/>
            </a:b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AUTOGENERADO POR EL CICLO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600200"/>
            <a:ext cx="8305560" cy="4800600"/>
          </a:xfrm>
          <a:prstGeom prst="rect">
            <a:avLst/>
          </a:prstGeom>
          <a:solidFill>
            <a:srgbClr val="ccccff"/>
          </a:solidFill>
          <a:ln w="936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EBITDA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cia. antes de Int. e Imp., Depreciaciones y Amort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590920"/>
            <a:ext cx="800100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do. operativo + Amort. Bs. Uso + Amort. Intang.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linos 2004 = 61,0 + 69,3 +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520" y="3657600"/>
            <a:ext cx="7543800" cy="228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linos 2004 = 142,3 millones (48,5 mill U$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linos 2003 = 169,8 millones (67,4 mill U$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linos 2002 = 177,7 millones (62,7 mill U$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linos 2001 = 177,0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linos 2000 = 156,8 mill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olinos 1999 = 159,2 millon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7997760" y="63928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Narrow"/>
              </a:rPr>
              <a:t>ACTIVOS INTANGI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31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1400" indent="-868680"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rus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rus BT"/>
              </a:rPr>
              <a:t>COSTO ORIGINAL- AMORTIZ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1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1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rus BT"/>
              </a:rPr>
              <a:t>TRATAMIENTO DE LOS INTANGI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1400" indent="-8686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rus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rus BT"/>
              </a:rPr>
              <a:t>AUTOGENER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1400" indent="-8686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Arrus B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rus BT"/>
              </a:rPr>
              <a:t>EL CAPITAL INTELECTUAL COMO RECURSO ESTRATEGICO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1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rus BT"/>
              </a:rPr>
              <a:t>NO SE RECONOCERAN COMO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1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1617840"/>
            <a:ext cx="8458200" cy="112536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rus BT"/>
              </a:rPr>
              <a:t>NO SE RECONOCE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rus BT"/>
              </a:rPr>
              <a:t>COMO ACTI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228600"/>
            <a:ext cx="84772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ONDO DE COMERCIO GENERADO INTERNAMENTE  NIC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048120"/>
            <a:ext cx="84772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OTROS ACTIVOS INTANGIBLES GENERADOS INTERNAMENTE  NIC3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4417920"/>
            <a:ext cx="8458200" cy="21160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ase de investigación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No se reconoce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ase de desarrollo: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n la medida que se demuest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que puede generar  probables benefic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conómicos en el futu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792468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440" y="1198440"/>
            <a:ext cx="8839440" cy="14875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Es un activo identificable, de carácter n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onetario y sin apariencia fís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28600"/>
            <a:ext cx="7772400" cy="781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CTIVO INTANGIBLE NIC 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819520"/>
            <a:ext cx="8839080" cy="3771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Un activo es identificable cu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 es susceptible de ser separado o escindi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entidad vendido, cedido, dado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otación, arrendado o intercambiado, ya se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mente o con el activo o pasivo con 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guarde relació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(b) surge de derechos contractuales o de o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derechos leg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792468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95400"/>
            <a:ext cx="7772400" cy="628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Narrow"/>
              </a:rPr>
              <a:t>ACTIVO INTANGIBLE NIC 3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914400"/>
            <a:ext cx="8839080" cy="26668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: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 importe de efectivo  pagados, o el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razonable de la contraprestación entregad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para compra o construcción. El im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inicialmen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ocido 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NIIF 2 : Pagos bas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en accion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732120"/>
            <a:ext cx="8839080" cy="303048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programas informátic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las patente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los derechos de autor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las películ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las listas de client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las franquicia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Arial"/>
              </a:rPr>
              <a:t>los derechos de comercialización etc.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2" action="ppaction://hlinksldjump"/>
          </p:cNvPr>
          <p:cNvSpPr/>
          <p:nvPr/>
        </p:nvSpPr>
        <p:spPr>
          <a:xfrm>
            <a:off x="7924680" y="6324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 Narrow"/>
              </a:rPr>
              <a:t>ACTIVOS INTANGI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1581120"/>
            <a:ext cx="9144000" cy="2226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CTIVOS INTANGIBLES CON VIDA INDEFINIDA NIC 38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uando no existe un límite preciso sobre el cual se espera generé flujos de efectivo para el 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ahoma"/>
              </a:rPr>
              <a:t>NO SE AMORTIZ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505320"/>
            <a:ext cx="91440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LAVE ADQUIRIDA EN COMBIN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Se prueba por desvalorización cuando exista ind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Si no integra una UGE a la fecha de cierre, de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exponerse el importe no asignado y las razones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</a:rPr>
              <a:t>que no se asign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2" action="ppaction://hlinksldjump"/>
          </p:cNvPr>
          <p:cNvSpPr/>
          <p:nvPr/>
        </p:nvSpPr>
        <p:spPr>
          <a:xfrm>
            <a:off x="800100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ital Intele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a actividad de la gente se expresa: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"medios" tangible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(como cuando pinta un cuadro, compra mercadería o producto bienes) o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intangible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(como cuando construye relaciones con clientes o proveedores; crean nuevos servicios que agregan valor; un equipo aplica ideas nuevas para mejorar un proces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ructura del mod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grupando los activos intangibles en función de su natural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Capital Hu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 Capital Estruc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) Capital Rel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pital Huma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tisfacción del Pers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pología del Pers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etencias de  las Person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iderazg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bajo en equip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abilidad: El riesgo de pérdi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jora de las competencias de las personas o de su grado de desempeñ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apacidad de innovación de las personas y equipo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al Rela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Base de Clientes Releva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Lealtad de los Cli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tensidad de la Relación con el Cl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Satisfacción del Cl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cesos de Servicio y de Apoyo al Cl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ercanía al Merca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toriedad de la mar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eputación/Nombre de Empres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Alianzas Estratég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terrelación con proveed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Interrelación con otros agen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8080" y="0"/>
            <a:ext cx="8845560" cy="8589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99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 Narrow"/>
              </a:rPr>
              <a:t>OBJETIVOS DE LOS ESTADOS CONTABLES  RESOLUCIÓN TÉCNICA Nª 16  Y LAS N.I.C. 1</a:t>
            </a:r>
            <a:r>
              <a:rPr b="1" i="1" lang="en-US" sz="3200" spc="-1" strike="noStrike">
                <a:solidFill>
                  <a:srgbClr val="99ff33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8480"/>
            <a:ext cx="4495680" cy="5789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Black"/>
              </a:rPr>
              <a:t>F.A.C.P.C.E : R.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30b44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30b44"/>
                </a:solidFill>
                <a:latin typeface="Arial Narrow"/>
              </a:rPr>
              <a:t>ESTADOS CONTABLES</a:t>
            </a:r>
            <a:r>
              <a:rPr b="1" i="1" lang="en-US" sz="2800" spc="-1" strike="noStrike">
                <a:solidFill>
                  <a:srgbClr val="c30b44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c30b44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30b44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30b44"/>
                </a:solidFill>
                <a:latin typeface="Arial Black"/>
              </a:rPr>
              <a:t>SON LOS QUE SE DIRIGEN A LOS </a:t>
            </a:r>
            <a:r>
              <a:rPr b="0" i="1" lang="en-US" sz="1800" spc="-1" strike="noStrike">
                <a:solidFill>
                  <a:srgbClr val="c30b44"/>
                </a:solidFill>
                <a:latin typeface="Arial Black"/>
              </a:rPr>
              <a:t>USUARIOS TIP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0" y="990720"/>
            <a:ext cx="4572000" cy="5867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 Black"/>
              </a:rPr>
              <a:t>I.A.S.C. : N.I.C.</a:t>
            </a:r>
            <a:r>
              <a:rPr b="1" i="1" lang="en-US" sz="3200" spc="-1" strike="noStrike">
                <a:solidFill>
                  <a:srgbClr val="000099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 Black"/>
              </a:rPr>
              <a:t>ESTADOS FINANCI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PÓSI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igidos  a cubrir las necesidades  de  los usuarios que no se encuentran en la posición de exigir a un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ntid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n informe que satisfaga necesidades  específ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31800" y="3479760"/>
            <a:ext cx="2840040" cy="1092240"/>
          </a:xfrm>
          <a:prstGeom prst="ellipse">
            <a:avLst/>
          </a:prstGeom>
          <a:gradFill rotWithShape="0">
            <a:gsLst>
              <a:gs pos="0">
                <a:srgbClr val="80e4cb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INVERSORE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CREE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828880"/>
            <a:ext cx="1390680" cy="969840"/>
          </a:xfrm>
          <a:prstGeom prst="wedgeRoundRectCallout">
            <a:avLst>
              <a:gd name="adj1" fmla="val 89041"/>
              <a:gd name="adj2" fmla="val 29379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C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TEN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27040" y="5848200"/>
            <a:ext cx="3014640" cy="882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e0e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3333ff"/>
                </a:solidFill>
                <a:latin typeface="Arial Black"/>
              </a:rPr>
              <a:t>ENTIDADES S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 Black"/>
              </a:rPr>
              <a:t>FINES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Arial Black"/>
              </a:rPr>
              <a:t>Y GUBERNAM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360" y="4375080"/>
            <a:ext cx="1606680" cy="531720"/>
          </a:xfrm>
          <a:prstGeom prst="wedgeRoundRectCallout">
            <a:avLst>
              <a:gd name="adj1" fmla="val 74208"/>
              <a:gd name="adj2" fmla="val 30597"/>
              <a:gd name="adj3" fmla="val 16667"/>
            </a:avLst>
          </a:prstGeom>
          <a:solidFill>
            <a:srgbClr val="797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ICIONAL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31880" y="4648320"/>
            <a:ext cx="2840040" cy="1092240"/>
          </a:xfrm>
          <a:prstGeom prst="ellipse">
            <a:avLst/>
          </a:prstGeom>
          <a:gradFill rotWithShape="0">
            <a:gsLst>
              <a:gs pos="0">
                <a:srgbClr val="fdfefe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 Narrow"/>
              </a:rPr>
              <a:t>SOCIOS  ASOC. CIVIL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 Narrow"/>
              </a:rPr>
              <a:t>CUERPOS LEGISL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 Narrow"/>
              </a:rPr>
              <a:t>Y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920" y="5076720"/>
            <a:ext cx="1440000" cy="1214640"/>
          </a:xfrm>
          <a:custGeom>
            <a:avLst/>
            <a:gdLst>
              <a:gd name="textAreaLeft" fmla="*/ 192960 w 1440000"/>
              <a:gd name="textAreaRight" fmla="*/ 1247040 w 1440000"/>
              <a:gd name="textAreaTop" fmla="*/ 223920 h 1214640"/>
              <a:gd name="textAreaBottom" fmla="*/ 88308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62" stAng="-5400000" swAng="-5400000"/>
                <a:lnTo>
                  <a:pt x="0" y="11719"/>
                </a:lnTo>
                <a:arcTo wR="21600" hR="7962" stAng="10800000" swAng="-2087293"/>
                <a:lnTo>
                  <a:pt x="11476" y="20671"/>
                </a:lnTo>
                <a:lnTo>
                  <a:pt x="21600" y="17803"/>
                </a:lnTo>
                <a:lnTo>
                  <a:pt x="11476" y="13076"/>
                </a:lnTo>
                <a:lnTo>
                  <a:pt x="11476" y="14995"/>
                </a:lnTo>
                <a:arcTo wR="21600" hR="7962" stAng="8712707" swAng="1780453"/>
                <a:lnTo>
                  <a:pt x="610" y="9841"/>
                </a:lnTo>
                <a:arcTo wR="21600" hR="7962" stAng="-10493159" swAng="5093159"/>
                <a:close/>
              </a:path>
              <a:path fill="darkenLess" w="21600" h="21600">
                <a:moveTo>
                  <a:pt x="21600" y="0"/>
                </a:moveTo>
                <a:arcTo wR="21600" hR="7962" stAng="-5400000" swAng="-5400000"/>
                <a:lnTo>
                  <a:pt x="0" y="7962"/>
                </a:lnTo>
                <a:arcTo wR="21600" hR="7962" stAng="10800000" swAng="-306841"/>
                <a:lnTo>
                  <a:pt x="610" y="9841"/>
                </a:lnTo>
                <a:arcTo wR="21600" hR="7962" stAng="-10493159" swAng="5093159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13200" y="1523880"/>
            <a:ext cx="811080" cy="563760"/>
          </a:xfrm>
          <a:prstGeom prst="leftRightArrow">
            <a:avLst>
              <a:gd name="adj1" fmla="val 50000"/>
              <a:gd name="adj2" fmla="val 28640"/>
            </a:avLst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pital Estruc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ltura Organizaci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losofía d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os de reflexión estratég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tructura de la organiz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piedad intelectu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cnología de procesos:Tecnología de Producto y Procesos de Apoy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ecanismos de Captación de Conoci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ecanismos de Transmisión y Comunic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enetración de la Tecnología de la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ceso de Innov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ón del Capital Intelectu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p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La medición del capital intelectual como elemento integrante del “valor total de la empresa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La medición del capital intelectual a los fines de su administración y contr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TAS PARA MEDIR EL CAPITAL INTELECT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or rel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odelos d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empeño de subsist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untos de referencia (benchmark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iqueza de los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rificar los procesos de los nego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 de conoc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luación de la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 del valor intang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053000" indent="-221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Ampliación del modelo contable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actual, para incluir en el activo ciertas inversiones en recursos intangibles que hoy no son reconocidos como 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3000" indent="-221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Mantener el modelo contable actual y emplear otro modelo adicional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 para informar sobre la realidad económica de los recursos intelectuales y sus vari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egunda alternativa fue desarrollada por la empresa sueca de servicios financieros y de seguros Skandia desde 1994 (Edvisson 199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7997760" y="6324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10800"/>
                </a:moveTo>
                <a:lnTo>
                  <a:pt x="33994" y="3794"/>
                </a:lnTo>
                <a:lnTo>
                  <a:pt x="33994" y="17806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UE DILIGEN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 LA DEBIDA DIL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rvicio de investigación, analítico y cuantitativo de naturalez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3480" indent="76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INANCIER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3480" indent="76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TAB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3480" indent="76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ERCIA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3480" indent="763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RGANIZA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3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3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4800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lvl="2" marL="31212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inado a satisfacer las necesidades de u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rador de una compañía o de los inversionistas de empresas que se fusion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DE INVESTIGACIÓN DEL DUE DI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de la industria o nego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ción en el merc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r el potencial y desempeño de los canales de distrib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r el desempeño de la Alta Ger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r el impacto de las principales regulaciones del sect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r la tecnología y recursos humanos exis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DE INVESTIGACIÓN DEL DUE DI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bilidad de la contabilidad y las finanz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r la calidad y utilización de los 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ar ac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r la política de ajustes cont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tación y legislación lab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r e identificar posibles contingencias legales, sociales y tribut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zar un análisis de documentación leg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DE INVESTIGACIÓN DEL DUE DI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izar el marco legal de la regulación Ambien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soría en valoración de activos y obliga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 fluctuaciones en los result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ción y determinación de ajustes pro-for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l presupuesto y los resultados re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REAS DE INVESTIGACIÓN DEL DUE DILIG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rentabilidad por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precio/volu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variabilidad de costos operativos y gas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sensibilidad y estacionalidad de capital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nálisis de inversiones de capi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valuación de proyección financie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ABILIDAD SOCIAL CORPOR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ión, Visión y Ética de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idad de vida en la empre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o amb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omiso con la comun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ercialización y Marketing respons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696080" y="6324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379520"/>
            <a:ext cx="7350120" cy="76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IN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228600"/>
            <a:ext cx="7691400" cy="93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Black"/>
              </a:rPr>
              <a:t>N.I.C.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446200"/>
            <a:ext cx="7772400" cy="36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NFORMACIÓN SOBRE LA POSICIÓN FINANCIERA -DESEMPEÑO DEL FLUJO DE EFECTIVO DE LA ENTID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ÚTIL PARA GRAN VARIEDAD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UESTRAN LOS RESULTADOS DE LA ADMINISTRACIÓN DE LOS RECUR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E SOCI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e complementario al estado financiero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eneficios y acciones sociales dirigidas a los empleados, inversionistas, accionistas, y a la comun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formación para los Stakehold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4114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 JONES SUSTAINTABILITY INDEX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105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oche; Adidas; Merrill Lynch; L’Oréal;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914400"/>
            <a:ext cx="883908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200" spc="-1" strike="noStrike">
                <a:solidFill>
                  <a:srgbClr val="000000"/>
                </a:solidFill>
                <a:latin typeface="Book Antiqua"/>
              </a:rPr>
              <a:t>MUCHAS GRACIA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7200" spc="-1" strike="noStrike">
                <a:solidFill>
                  <a:srgbClr val="000000"/>
                </a:solidFill>
                <a:latin typeface="Book Antiqua"/>
              </a:rPr>
              <a:t>viegas@econ.uba.ar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560" y="1224000"/>
            <a:ext cx="7350120" cy="7682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efee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INFORMACIÓN QUE DEBEN BRI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7691400" cy="93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F.A.C.P.C.E.  R.T. 1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STADOS CON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2125800"/>
            <a:ext cx="7658280" cy="41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SITUACIÓN PATRIMONI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VOLUCIÓN DE SU PATRIMONIO INCLUYENDO UN RESUMEN DE LAS CAUSAS DEL RESULTADOS ASIGNABLES EN ESE LAP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EVOLUCIÓN DE SU SITUACIÓN FINANCIERA QUE PERMITA CONCER LOS RESULTADOS DE LAS ACTIVIDADES DE INVERSIÓN Y FINANCIACIÓN QUE HUBIEREN TENIDO LU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39800" y="189000"/>
            <a:ext cx="77724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APROXIMACIÓN A LA REALID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¿Es un requisito objetivo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4640" y="1852560"/>
            <a:ext cx="8732880" cy="43974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efe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RESOLUCIÓN TÉCNICA Nª 16  FACP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nque la búsqueda de aproximación a la realidad es imperativa, es normal que la información contable sea inexact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 practicar las estimaciones , los emisores de estados contables deberán actuar c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prudencia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pero sin caer en el conservadurism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2240" y="2011320"/>
            <a:ext cx="2741760" cy="6177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ACTIVOS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RECUPER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 Black"/>
              </a:rPr>
              <a:t>CRITERIOS DE MEDICIÓ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69360" y="2119320"/>
            <a:ext cx="5133240" cy="6559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84000"/>
          </a:bodyPr>
          <a:p>
            <a:pPr marL="288000" indent="-288000" algn="ctr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DESTINO MÁS PROB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 Black"/>
              </a:rPr>
              <a:t>DE LOS AC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6600" y="4056120"/>
            <a:ext cx="5910120" cy="1639800"/>
          </a:xfrm>
          <a:prstGeom prst="rightArrow">
            <a:avLst>
              <a:gd name="adj1" fmla="val 50000"/>
              <a:gd name="adj2" fmla="val 901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66"/>
              </a:buClr>
              <a:buFont typeface="Arial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 INTENCIÓN Y POSIBILIDAD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CELACIÓN INMEDIATA DE PA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2400" y="5856120"/>
            <a:ext cx="8926200" cy="10018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VERIFICACIÓN DE LOS ELEMENTOS INCLUIDOS EN 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ACTIVO  APLICACIÓN DEL  CONCEPTO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DEVENGAMIENTO Y EVALUACIÓN DE LA CONTINUIDAD DEL 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28840" y="3235320"/>
            <a:ext cx="3017880" cy="6872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99"/>
                </a:solidFill>
                <a:latin typeface="Arial Black"/>
              </a:rPr>
              <a:t>VALORES LÍM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2240" y="2706840"/>
            <a:ext cx="2741760" cy="104112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SE PRACTICARÁ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JUS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 Black"/>
              </a:rPr>
              <a:t>ADIC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4040" y="3781440"/>
            <a:ext cx="2739960" cy="1146240"/>
          </a:xfrm>
          <a:prstGeom prst="rect">
            <a:avLst/>
          </a:prstGeom>
          <a:solidFill>
            <a:srgbClr val="ffcc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 Black"/>
              </a:rPr>
              <a:t>GRUP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 Black"/>
              </a:rPr>
              <a:t>HOMÓGE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 Black"/>
              </a:rPr>
              <a:t>ACTIVOS VAL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00"/>
                </a:solidFill>
                <a:latin typeface="Arial Black"/>
              </a:rPr>
              <a:t>RECUPE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02240" y="4876920"/>
            <a:ext cx="2741760" cy="6174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PASIVOS 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DE CANCE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2560" y="1976400"/>
            <a:ext cx="123840" cy="3392640"/>
          </a:xfrm>
          <a:custGeom>
            <a:avLst/>
            <a:gdLst>
              <a:gd name="textAreaLeft" fmla="*/ 79200 w 123840"/>
              <a:gd name="textAreaRight" fmla="*/ 124200 w 123840"/>
              <a:gd name="textAreaTop" fmla="*/ 88200 h 3392640"/>
              <a:gd name="textAreaBottom" fmla="*/ 3304440 h 3392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30000">
            <a:off x="0" y="2269800"/>
            <a:ext cx="306360" cy="3562200"/>
          </a:xfrm>
          <a:custGeom>
            <a:avLst/>
            <a:gdLst>
              <a:gd name="textAreaLeft" fmla="*/ 44280 w 306360"/>
              <a:gd name="textAreaRight" fmla="*/ 262440 w 306360"/>
              <a:gd name="textAreaTop" fmla="*/ 1697760 h 3562200"/>
              <a:gd name="textAreaBottom" fmla="*/ 3052080 h 3562200"/>
            </a:gdLst>
            <a:ahLst/>
            <a:rect l="textAreaLeft" t="textAreaTop" r="textAreaRight" b="textAreaBottom"/>
            <a:pathLst>
              <a:path w="21600" h="21600">
                <a:moveTo>
                  <a:pt x="0" y="13390"/>
                </a:moveTo>
                <a:lnTo>
                  <a:pt x="10295" y="13390"/>
                </a:lnTo>
                <a:lnTo>
                  <a:pt x="10295" y="3135"/>
                </a:lnTo>
                <a:lnTo>
                  <a:pt x="7200" y="3135"/>
                </a:lnTo>
                <a:lnTo>
                  <a:pt x="14400" y="0"/>
                </a:lnTo>
                <a:lnTo>
                  <a:pt x="21600" y="3135"/>
                </a:lnTo>
                <a:lnTo>
                  <a:pt x="18505" y="3135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124080"/>
            <a:ext cx="2740320" cy="10414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PLICA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OS CRITE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E VALUAC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PRIM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o de medi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912960" y="1986120"/>
          <a:ext cx="7437240" cy="5289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0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2960" y="1986120"/>
                    <a:ext cx="7437240" cy="52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>
            <a:hlinkClick r:id="rId5" action="ppaction://hlinksldjump"/>
          </p:cNvPr>
          <p:cNvSpPr/>
          <p:nvPr/>
        </p:nvSpPr>
        <p:spPr>
          <a:xfrm>
            <a:off x="1752480" y="43434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6" action="ppaction://hlinksldjump"/>
          </p:cNvPr>
          <p:cNvSpPr/>
          <p:nvPr/>
        </p:nvSpPr>
        <p:spPr>
          <a:xfrm>
            <a:off x="5334120" y="46483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7" action="ppaction://hlinksldjump"/>
          </p:cNvPr>
          <p:cNvSpPr/>
          <p:nvPr/>
        </p:nvSpPr>
        <p:spPr>
          <a:xfrm>
            <a:off x="7467480" y="32004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8" action="ppaction://hlinksldjump"/>
          </p:cNvPr>
          <p:cNvSpPr/>
          <p:nvPr/>
        </p:nvSpPr>
        <p:spPr>
          <a:xfrm>
            <a:off x="5715000" y="58672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380880"/>
            <a:ext cx="7315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TENCIÓN DEL FLUJO DE FONDO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GENERADOS POR EL CICLO OPER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Black"/>
              </a:rPr>
              <a:t>EBIT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arnings Before Interest an Taxes, Depreciation an Amor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anancia antes de intereses e impuestos, depreciación y amort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5257800"/>
            <a:ext cx="838440" cy="609480"/>
          </a:xfrm>
          <a:custGeom>
            <a:avLst/>
            <a:gdLst>
              <a:gd name="textAreaLeft" fmla="*/ 345600 w 838440"/>
              <a:gd name="textAreaRight" fmla="*/ 492840 w 8384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7543800" y="6172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0"/>
            <a:ext cx="7772400" cy="6858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ión de la Ren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90720"/>
            <a:ext cx="8077320" cy="54864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ructura del Estado de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entas (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Variables (C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ibución Marginal o Utilidad Bruta (U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fijos (C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de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astos de Comerci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dad Operativa antes de intereses e impuestos (E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r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dad antes de impuestos (EB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uestos a las gana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tilidad Neta después de impuestos (UN) o Net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362320"/>
            <a:ext cx="6019560" cy="0"/>
          </a:xfrm>
          <a:prstGeom prst="line">
            <a:avLst/>
          </a:prstGeom>
          <a:ln cap="sq"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4114800"/>
            <a:ext cx="7772400" cy="0"/>
          </a:xfrm>
          <a:prstGeom prst="line">
            <a:avLst/>
          </a:prstGeom>
          <a:ln cap="sq"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4952880"/>
            <a:ext cx="7772400" cy="0"/>
          </a:xfrm>
          <a:prstGeom prst="line">
            <a:avLst/>
          </a:prstGeom>
          <a:ln cap="sq"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5791320"/>
            <a:ext cx="7772400" cy="0"/>
          </a:xfrm>
          <a:prstGeom prst="line">
            <a:avLst/>
          </a:prstGeom>
          <a:ln cap="sq"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924680" y="64008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22:29:20Z</dcterms:created>
  <dc:creator>FCE</dc:creator>
  <dc:description/>
  <dc:language>en-US</dc:language>
  <cp:lastModifiedBy>C.P.C.E.C.A.B.A.</cp:lastModifiedBy>
  <dcterms:modified xsi:type="dcterms:W3CDTF">2005-09-01T16:59:14Z</dcterms:modified>
  <cp:revision>46</cp:revision>
  <dc:subject/>
  <dc:title>ACTIVOS INTANGIBLES</dc:title>
</cp:coreProperties>
</file>