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1FB-993F-43B5-8315-960AA276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6B4-6CA0-4D6C-82FA-14F7152C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C9C-F1D6-43AA-B315-155276E7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974-96AF-4999-9C71-ACC337A0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B39F-8BA5-4212-A398-5D024291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BEAC-8CE4-456F-97EA-20F54FD0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EFC-6CAB-404B-A7EB-64F55976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125-3F51-49E6-9B39-47AB4436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C04-0BE6-4681-AF35-538994EE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207-187B-4351-BED3-C0AB22B1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F56-B93D-47CE-BB87-8C6F9EA0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445-E344-46FF-A814-C263E774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 Narrow"/>
              </a:rPr>
              <a:t>Click to edit the title text format</a:t>
            </a:r>
            <a:endParaRPr b="1" lang="en-US" sz="15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500" spc="-1" strike="noStrike">
                <a:solidFill>
                  <a:srgbClr val="3333cc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 Narrow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3333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Arial Narrow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500" spc="-1" strike="noStrike">
                <a:solidFill>
                  <a:srgbClr val="3333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B769-63CD-4817-A22B-6F9F56A7CD6E}" type="slidenum">
              <a:rPr b="1" lang="en-US" sz="1500" spc="-1" strike="noStrike">
                <a:solidFill>
                  <a:srgbClr val="3333cc"/>
                </a:solidFill>
                <a:latin typeface="Arial Narrow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0066"/>
                </a:solidFill>
                <a:latin typeface="Trebuchet MS"/>
              </a:rPr>
              <a:t>INSCRIPCIONES ANTE LA </a:t>
            </a:r>
            <a:br>
              <a:rPr sz="5000"/>
            </a:br>
            <a:br>
              <a:rPr sz="5000"/>
            </a:br>
            <a:r>
              <a:rPr b="0" lang="es-ES_tradnl" sz="5000" spc="-1" strike="noStrike">
                <a:solidFill>
                  <a:srgbClr val="000066"/>
                </a:solidFill>
                <a:latin typeface="Trebuchet MS"/>
              </a:rPr>
              <a:t>INSPECCIÓN </a:t>
            </a:r>
            <a:br>
              <a:rPr sz="5000"/>
            </a:br>
            <a:r>
              <a:rPr b="0" lang="es-ES_tradnl" sz="5000" spc="-1" strike="noStrike">
                <a:solidFill>
                  <a:srgbClr val="000066"/>
                </a:solidFill>
                <a:latin typeface="Trebuchet MS"/>
              </a:rPr>
              <a:t>GENERAL DE JUSTICIA</a:t>
            </a:r>
            <a:br>
              <a:rPr sz="5000"/>
            </a:br>
            <a:endParaRPr b="1" lang="en-US" sz="50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Ernesto Daniel Balon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201-5583-4E60-9828-324B84B6ED4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08/2005</a:t>
            </a: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66"/>
                </a:solidFill>
                <a:latin typeface="Trebuchet MS"/>
              </a:rPr>
              <a:t>TRÁMITES HABITUALES</a:t>
            </a:r>
            <a:br>
              <a:rPr sz="5400"/>
            </a:br>
            <a:endParaRPr b="1" lang="en-US" sz="5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IMPLICA SIEMPRE REFORMA DE ESTATUTO O CONTRATO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SIEMPRE SE REQUIERE ASAMBLEA EXTRAORDINARIA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RESOLUCIÓN IGJ 9/2004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Si bien no es lo que dice la Ley, exige que el objeto además de preciso y determinado, sea único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Admite más de un objeto cuando sean complementarios o conexos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No hay obligación de reformar sociedades vigentes, pero ante reforma del objeto hay que adecuarse a Res. 9/2004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Además, el objeto debe guardar relación con el capital social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21932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66"/>
                </a:solidFill>
                <a:latin typeface="Trebuchet MS"/>
              </a:rPr>
              <a:t>CAMBIO DE OBJETO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Ernesto Daniel Balon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732-6063-4DB3-AE8B-98791DDF21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08/2005</a:t>
            </a: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66"/>
                </a:solidFill>
                <a:latin typeface="Trebuchet MS"/>
              </a:rPr>
              <a:t>TRÁMITES HABITUALES</a:t>
            </a:r>
            <a:br>
              <a:rPr sz="5400"/>
            </a:br>
            <a:endParaRPr b="1" lang="en-US" sz="5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SOCIEDADES POR ACCIONES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 (S.A. y S.C. p A.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12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Designación: Asamblea Ordinaria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12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Cese: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 algn="just">
              <a:lnSpc>
                <a:spcPct val="12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Remoción: Asamblea Ordinaria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 algn="just">
              <a:lnSpc>
                <a:spcPct val="12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Renuncia: La aprueba el mismo directorio. Si no lo hace  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      debe tratarlo la asamblea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just">
              <a:lnSpc>
                <a:spcPct val="12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algn="just">
              <a:lnSpc>
                <a:spcPct val="12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RESTO DE LAS SOCIEDADES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 (S.R.L., S.Col., S.C.S., S.C. e I.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12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Designan, remueven y tratan renuncia los socio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21932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66"/>
                </a:solidFill>
                <a:latin typeface="Trebuchet MS"/>
              </a:rPr>
              <a:t>DESIGNACIÓN Y CESE DE ADMINISTRADORES (1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Ernesto Daniel Balon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84D0-7D64-4DCF-8248-DECA82A092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08/2005</a:t>
            </a: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66"/>
                </a:solidFill>
                <a:latin typeface="Trebuchet MS"/>
              </a:rPr>
              <a:t>TRÁMITES HABITUALES</a:t>
            </a:r>
            <a:br>
              <a:rPr sz="5400"/>
            </a:br>
            <a:endParaRPr b="1" lang="en-US" sz="5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CONSECUENCIAS DE NO INSCRIBIR DESIGNACIÓN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Algunas entidades no reconocen nuevos administradore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La IGJ no aceptará trámites si no se respeta tracto registra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El profesional que dictamine trámites, debe dictaminar sobre correcto cumplimiento de tracto registral (Res. 20/04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CONSECUENCIAS DE NO INSCRIBIR CESE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Subsiste responsabilidad de administradores salientes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Ex administradores pueden obligar a la sociedad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Interdicción salida del país en caso de quiebra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Responsabilidad penal ?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21932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66"/>
                </a:solidFill>
                <a:latin typeface="Trebuchet MS"/>
              </a:rPr>
              <a:t>DESIGNACIÓN Y CESE DE ADMINISTRADORES (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Ernesto Daniel Balon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80BC-E612-4829-84A1-D9DB1FB4E5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08/2005</a:t>
            </a: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66"/>
                </a:solidFill>
                <a:latin typeface="Trebuchet MS"/>
              </a:rPr>
              <a:t>TRÁMITES HABITUALES</a:t>
            </a:r>
            <a:br>
              <a:rPr sz="5400"/>
            </a:br>
            <a:endParaRPr b="1" lang="en-US" sz="5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VOLUNTARIA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8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Asamblea Extraordinaria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8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Informe fundado del síndico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8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Publicación por 3 día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8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Derecho de acreedores a oponerse dentro de los 15 días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8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Excepto: Amortización acciones integradas con ganancias o reservas libres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POR PÉRDIDA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8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Para absorber resultados acumulados negativo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8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Asamblea Extraordinaria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8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No se publica ni hay derecho de oposición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OBLIGATORIA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 (Suspendida hasta 31/12/2005 por Dto. 540/05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8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Si las pérdidas insumen reservas y el 50 % del capita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8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Asamblea Extraordinaria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8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No se publica ni hay derecho de oposición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8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Responsabilidad si no se cumple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66"/>
                </a:solidFill>
                <a:latin typeface="Trebuchet MS"/>
              </a:rPr>
              <a:t>REDUCCIÓN DEL CAPITAL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Ernesto Daniel Balon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8B2-EAD1-476E-8401-7C256D7A70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08/2005</a:t>
            </a: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66"/>
                </a:solidFill>
                <a:latin typeface="Trebuchet MS"/>
              </a:rPr>
              <a:t>TRÁMITES HABITUALES</a:t>
            </a:r>
            <a:br>
              <a:rPr sz="5400"/>
            </a:br>
            <a:endParaRPr b="1" lang="en-US" sz="5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PRÓRROGA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Estando todavía vigente la sociedad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Asamblea Extraordinaria con mayorías agravada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En SRL, mayoría necesaria para modificar contrato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En Sociedades de Personas, Unanimidad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Debe solicitarse la inscripción estando vigente la sociedad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RECONDUCCIÓN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Decidida después de vencido el plazo de duración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Asamblea Extraordinaria con mayorías agravada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En SRL, mayoría necesaria para modificar contrato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En Sociedades de Personas, Unanimidad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Antes de que se designe liquidador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SI SE DESIGNÓ LIQUIDADOR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Unanimidad, cualquiera sea el tipo social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21932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66"/>
                </a:solidFill>
                <a:latin typeface="Trebuchet MS"/>
              </a:rPr>
              <a:t>PRÓRROGA Y RECONDUC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Ernesto Daniel Balon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E18-35D3-4F0F-8241-34F12CEB53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08/2005</a:t>
            </a: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Arial Narrow"/>
              </a:rPr>
              <a:t>CONSIDERACIONES GENERALES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Sociedades por Acciones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: (S.A. y S.C.p A.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Asamblea Ordinaria (Art. 234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Asamblea Extraordinaria (Art. 235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Asamblea Extraordinaria con mayorías agravadas (Art. 244 último párrafo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Sociedad de Responsabilidad Limitada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Asamblea (sólo si alcanzan capital Art. 299 inc. 2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La forma que establezca el contrato social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Si el contrato no dice nada: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Consulta a los socios por medio fehaciente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Declaración escrita donde los socios expresan su voto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Sociedades de Personas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:(S.Col., S.C.S. y S.C. e I.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Cualquier procedimiento que garantice manifestación de todos los socios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066680"/>
            <a:ext cx="75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rebuchet MS"/>
              </a:rPr>
              <a:t>FORMA DE ADOPTAR L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Ernesto Daniel Balon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C9A-439C-49AE-8A4D-A9C6012C64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08/2005</a:t>
            </a: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Arial Narrow"/>
              </a:rPr>
              <a:t>CONSIDERACIONES GENERALES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Sociedades por Acciones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: (S.A. y S.C. p A.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13160" indent="-274320">
              <a:lnSpc>
                <a:spcPct val="7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Regla </a:t>
            </a: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general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: Mayoría absoluta de votos presentes siempre que haya quórum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13160" indent="-274320">
              <a:lnSpc>
                <a:spcPct val="7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Excepción: Art. 244 último párrafo: Mayoría de acciones con derecho a voto. No rige voto plural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29040" indent="-329040">
              <a:lnSpc>
                <a:spcPct val="7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Sociedad de Responsabilidad Limitada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13160" indent="-274320">
              <a:lnSpc>
                <a:spcPct val="7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Reforma de contrato: (excepto design. y remoción gerente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2" marL="1097280" indent="-219240">
              <a:lnSpc>
                <a:spcPct val="7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75 % de los votos, salvo que el contrato establezca otro porcentaje, nunca inferior al 50 %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2" marL="1097280" indent="-219240">
              <a:lnSpc>
                <a:spcPct val="7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Por lo menos dos socio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13160" indent="-274320">
              <a:lnSpc>
                <a:spcPct val="7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Sin modificar contrato y design. y remoc. Gerente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2" marL="1097280" indent="-219240">
              <a:lnSpc>
                <a:spcPct val="7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Mayoría presente o que participa del acuerdo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29040" indent="-329040">
              <a:lnSpc>
                <a:spcPct val="7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Sociedades de Personas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:(S.Col., S.C.S. y S.C. e I.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13160" indent="-274320">
              <a:lnSpc>
                <a:spcPct val="7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Reforma de contrato: (excepto design. y remoción gerente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2" marL="1097280" indent="-219240">
              <a:lnSpc>
                <a:spcPct val="7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Salvo pacto en contrario, unanimidad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13160" indent="-274320">
              <a:lnSpc>
                <a:spcPct val="7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Sin modificar contrato y design. y remoc. Gerente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2" marL="1097280" indent="-219240">
              <a:lnSpc>
                <a:spcPct val="7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Mayoría absoluta del capital social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066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rebuchet MS"/>
              </a:rPr>
              <a:t>MAYORÍAS NECES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Ernesto Daniel Balon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D1F-1DBB-491F-B17F-1C0E5BA7C4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08/2005</a:t>
            </a: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Arial Narrow"/>
              </a:rPr>
              <a:t>CONSIDERACIONES GENERALES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66"/>
                </a:solidFill>
                <a:uFillTx/>
                <a:latin typeface="Trebuchet MS"/>
              </a:rPr>
              <a:t>Sociedades por Acciones</a:t>
            </a:r>
            <a:r>
              <a:rPr b="0" lang="es-ES_tradnl" sz="1800" spc="-1" strike="noStrike">
                <a:solidFill>
                  <a:srgbClr val="000066"/>
                </a:solidFill>
                <a:latin typeface="Trebuchet MS"/>
              </a:rPr>
              <a:t>: (S.A. y S.C.p A.)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rebuchet MS"/>
              </a:rPr>
              <a:t>Cuándo? En los supuestos del Art. 244 último párrafo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rebuchet MS"/>
              </a:rPr>
              <a:t>Quiénes? Los que votaron en contra y los ausentes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rebuchet MS"/>
              </a:rPr>
              <a:t>Cuándo? Los presentes dentro de los 5 días, los ausentes 15 días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rebuchet MS"/>
              </a:rPr>
              <a:t>Cómo se valúa? Conforme el último balance que se debió realizar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rebuchet MS"/>
              </a:rPr>
              <a:t>Cómo se evita? Revocación por otra asamblea dentro de 60 días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66"/>
                </a:solidFill>
                <a:uFillTx/>
                <a:latin typeface="Trebuchet MS"/>
              </a:rPr>
              <a:t>Sociedad de Responsabilidad Limitada</a:t>
            </a:r>
            <a:r>
              <a:rPr b="0" lang="es-ES_tradnl" sz="1800" spc="-1" strike="noStrike">
                <a:solidFill>
                  <a:srgbClr val="000066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rebuchet MS"/>
              </a:rPr>
              <a:t>Cuándo? Si se remueve al gerente puesto como condición esencial del contrato y en los casos del Art. 160 4º párrafo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rebuchet MS"/>
              </a:rPr>
              <a:t>Quiénes? Los que votaron en contra y los ausentes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rebuchet MS"/>
              </a:rPr>
              <a:t>Cuándo? Los presentes dentro de los 5 días, los ausentes 15 días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rebuchet MS"/>
              </a:rPr>
              <a:t>Cómo se valúa? Conforme el último balance que se debió realizar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rebuchet MS"/>
              </a:rPr>
              <a:t>Cómo se evita? Revocación dentro de 60 días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66"/>
                </a:solidFill>
                <a:uFillTx/>
                <a:latin typeface="Trebuchet MS"/>
              </a:rPr>
              <a:t>Sociedades de Personas</a:t>
            </a:r>
            <a:r>
              <a:rPr b="0" lang="es-ES_tradnl" sz="1800" spc="-1" strike="noStrike">
                <a:solidFill>
                  <a:srgbClr val="000066"/>
                </a:solidFill>
                <a:latin typeface="Trebuchet MS"/>
              </a:rPr>
              <a:t>:(S.Col., S.C.S. y S.C. e I.)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rebuchet MS"/>
              </a:rPr>
              <a:t>Cuándo? Si se remueve al gerente puesto como condición esencial del contrato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rebuchet MS"/>
              </a:rPr>
              <a:t>No se establece procedimiento. Se puede interpretar remisión a las normas de la sociedad anónima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066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rebuchet MS"/>
              </a:rPr>
              <a:t>DERECHO DE RE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Ernesto Daniel Balon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27E-9BD6-4D92-A5D9-F4B4CFCDD5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08/2005</a:t>
            </a: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66"/>
                </a:solidFill>
                <a:latin typeface="Trebuchet MS"/>
              </a:rPr>
              <a:t>TRÁMITES HABITUALES</a:t>
            </a:r>
            <a:br>
              <a:rPr sz="5400"/>
            </a:br>
            <a:endParaRPr b="1" lang="en-US" sz="5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7720" y="12949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Con Modificación del Estatuto (o contrato)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s-ES_tradnl" sz="1500" spc="-1" strike="noStrike">
                <a:solidFill>
                  <a:srgbClr val="000066"/>
                </a:solidFill>
                <a:latin typeface="Trebuchet MS"/>
              </a:rPr>
              <a:t>(requieren asamblea extraordinaria)</a:t>
            </a:r>
            <a:endParaRPr b="0" lang="en-US" sz="15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Aumento del capital (no Art. 188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Cambio de domicilio (jurisdicción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Cambio de objeto socia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Reducción del Capital (voluntaria, forzosa, por pérdidas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Prórroga y reconducción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Transformación, fusión y escisión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88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Reforma de otras cláusulas del estatuto </a:t>
            </a:r>
            <a:r>
              <a:rPr b="0" lang="es-ES_tradnl" sz="1500" spc="-1" strike="noStrike">
                <a:solidFill>
                  <a:srgbClr val="000066"/>
                </a:solidFill>
                <a:latin typeface="Trebuchet MS"/>
              </a:rPr>
              <a:t>(garantía directorio, número de directores, prescindencia síndico, etc.)</a:t>
            </a:r>
            <a:endParaRPr b="0" lang="en-US" sz="15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Sin Modificación del Estatuto (o contrato)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rebuchet MS"/>
              </a:rPr>
              <a:t>(basta con asamblea ordinaria, y en algunos casos con la decisión del órgano administrativo: directorio o gerencia)</a:t>
            </a:r>
            <a:endParaRPr b="0" lang="en-US" sz="15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Aumento del capital (conf. Art. 188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Designación y cese de administradore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Cambio de sede social (sin cambiar domicilio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Cambio fecha cierre ejercicio socia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Ernesto Daniel Balon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BEA2-8AF6-4ED5-8FC5-D28DFF1096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08/2005</a:t>
            </a: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66"/>
                </a:solidFill>
                <a:latin typeface="Trebuchet MS"/>
              </a:rPr>
              <a:t>TRÁMITES HABITUALES</a:t>
            </a:r>
            <a:br>
              <a:rPr sz="5400"/>
            </a:br>
            <a:endParaRPr b="1" lang="en-US" sz="5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Art. 188 Ley 19550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Hasta el quíntuplo del capital y prevista en el Estatuto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Se resuelve por Asamblea Ordinaria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No implica modificación del estatuto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No hay derecho de receso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No comprendido en Art. 188 Ley 19550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Excede del quíntuplo del capital fijado en el estatuto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No fue prevista la posibilidad en el estatuto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Se resuelve por Asamblea Extraordinaria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Implica Modificación del estatuto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En tanto el aumento implique desembolso para el socio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21932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66"/>
                </a:solidFill>
                <a:latin typeface="Trebuchet MS"/>
              </a:rPr>
              <a:t>AUMENTO DEL CAPITAL (1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Ernesto Daniel Balon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36E-E6BB-4AAD-BDCA-C7C8979916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08/2005</a:t>
            </a: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66"/>
                </a:solidFill>
                <a:latin typeface="Trebuchet MS"/>
              </a:rPr>
              <a:t>TRÁMITES HABITUALES</a:t>
            </a:r>
            <a:br>
              <a:rPr sz="5400"/>
            </a:br>
            <a:endParaRPr b="1" lang="en-US" sz="5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Variantes de efectivizar el aumento de capita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MEDIANTE ACCIONES A SER INTEGRADA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Aportes en efectivo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88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Aportes en especie </a:t>
            </a:r>
            <a:r>
              <a:rPr b="0" lang="es-ES_tradnl" sz="1500" spc="-1" strike="noStrike">
                <a:solidFill>
                  <a:srgbClr val="000066"/>
                </a:solidFill>
                <a:latin typeface="Trebuchet MS"/>
              </a:rPr>
              <a:t>(valuación será controlada por la I.G.J.-Art. 53-)</a:t>
            </a:r>
            <a:endParaRPr b="0" lang="en-US" sz="15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MEDIANTE EMISIÓN DE ACCIONES LIBERADA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Capitalización de reserva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Capitalización de resultados (dividendos en acciones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Capitalización de pasivo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Capitalización de Aportes Irrevocables (Res. IGJ 25/04)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>
              <a:spcBef>
                <a:spcPts val="12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En otros tipos sociale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Las variantes son las mismas, pero siempre implica modificación del contrato social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21932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66"/>
                </a:solidFill>
                <a:latin typeface="Trebuchet MS"/>
              </a:rPr>
              <a:t>AUMENTO DEL CAPITAL (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Ernesto Daniel Balon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046-A39F-45C5-BC8E-2507353CB4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08/2005</a:t>
            </a: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66"/>
                </a:solidFill>
                <a:latin typeface="Trebuchet MS"/>
              </a:rPr>
              <a:t>TRÁMITES HABITUALES</a:t>
            </a:r>
            <a:br>
              <a:rPr sz="5400"/>
            </a:br>
            <a:endParaRPr b="1" lang="en-US" sz="5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Derecho de preferencia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: Derecho de los accionistas a suscribir acciones de la nueva emisión en proporción a su tenencia anterior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Derecho de acrecer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: Derecho de los accionistas a utilizar el derecho de preferencia que los demás accionistas no han utilizado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Excepciones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: Aportes en especie o capitalización de pasivos, siempre que estén previstos en punto especial del orden del día, y aprobados por asamblea extraordinaria con mayorías Art. 244 último párrafo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Publicidad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: Para garantizar esos derechos, la decisión de aumentar se publica por 3 (tres) días en Boletín Oficial, y los accionistas tienen 30 (treinta) días para ejercer sus derechos, salvo que el estatuto fije plazo mayor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21932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66"/>
                </a:solidFill>
                <a:latin typeface="Trebuchet MS"/>
              </a:rPr>
              <a:t>AUMENTO DEL CAPITAL (3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Ernesto Daniel Balon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BAF-CE88-4243-8FF0-99F2779AE2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08/2005</a:t>
            </a: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66"/>
                </a:solidFill>
                <a:latin typeface="Trebuchet MS"/>
              </a:rPr>
              <a:t>TRÁMITES HABITUALES</a:t>
            </a:r>
            <a:br>
              <a:rPr sz="5400"/>
            </a:br>
            <a:endParaRPr b="1" lang="en-US" sz="5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DIFERENCIAS ENTRE DOMICILIO Y SEDE SOCIA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66"/>
                </a:solidFill>
                <a:uFillTx/>
                <a:latin typeface="Trebuchet MS"/>
              </a:rPr>
              <a:t>DOMICILIO</a:t>
            </a:r>
            <a:r>
              <a:rPr b="0" lang="es-ES_tradnl" sz="1600" spc="-1" strike="noStrike">
                <a:solidFill>
                  <a:srgbClr val="000066"/>
                </a:solidFill>
                <a:latin typeface="Trebuchet MS"/>
              </a:rPr>
              <a:t> (Ej. Ciudad de Buenos Aires)</a:t>
            </a:r>
            <a:endParaRPr b="0" lang="en-US" sz="16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 algn="just">
              <a:lnSpc>
                <a:spcPct val="90000"/>
              </a:lnSpc>
              <a:spcBef>
                <a:spcPts val="99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rebuchet MS"/>
              </a:rPr>
              <a:t>Implica jurisdicción, y no identificación de sede</a:t>
            </a:r>
            <a:endParaRPr b="0" lang="en-US" sz="16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 algn="just">
              <a:lnSpc>
                <a:spcPct val="90000"/>
              </a:lnSpc>
              <a:spcBef>
                <a:spcPts val="99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rebuchet MS"/>
              </a:rPr>
              <a:t>Debe necesariamente figurar en el estatuto o contrato</a:t>
            </a:r>
            <a:endParaRPr b="0" lang="en-US" sz="16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 algn="just">
              <a:lnSpc>
                <a:spcPct val="90000"/>
              </a:lnSpc>
              <a:spcBef>
                <a:spcPts val="99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rebuchet MS"/>
              </a:rPr>
              <a:t>Su modificación implica reforma de estatuto o contrato</a:t>
            </a:r>
            <a:endParaRPr b="0" lang="en-US" sz="16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66"/>
                </a:solidFill>
                <a:uFillTx/>
                <a:latin typeface="Trebuchet MS"/>
              </a:rPr>
              <a:t>SEDE SOCIAL</a:t>
            </a:r>
            <a:r>
              <a:rPr b="0" lang="es-ES_tradnl" sz="1600" spc="-1" strike="noStrike">
                <a:solidFill>
                  <a:srgbClr val="000066"/>
                </a:solidFill>
                <a:latin typeface="Trebuchet MS"/>
              </a:rPr>
              <a:t> (Ej. Tucumán 521 3º piso “A”, Buenos Aires)</a:t>
            </a:r>
            <a:endParaRPr b="0" lang="en-US" sz="16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 algn="just">
              <a:lnSpc>
                <a:spcPct val="90000"/>
              </a:lnSpc>
              <a:spcBef>
                <a:spcPts val="99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rebuchet MS"/>
              </a:rPr>
              <a:t>Implica identificar con precisión la sede social</a:t>
            </a:r>
            <a:endParaRPr b="0" lang="en-US" sz="16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 algn="just">
              <a:lnSpc>
                <a:spcPct val="90000"/>
              </a:lnSpc>
              <a:spcBef>
                <a:spcPts val="99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rebuchet MS"/>
              </a:rPr>
              <a:t>No necesariamente debe figurar en el estatuto</a:t>
            </a:r>
            <a:endParaRPr b="0" lang="en-US" sz="16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 algn="just">
              <a:lnSpc>
                <a:spcPct val="90000"/>
              </a:lnSpc>
              <a:spcBef>
                <a:spcPts val="99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rebuchet MS"/>
              </a:rPr>
              <a:t>Si no figura dentro del estatuto, su cambio no implica su reforma.</a:t>
            </a:r>
            <a:endParaRPr b="0" lang="en-US" sz="1600" spc="-1" strike="noStrike">
              <a:solidFill>
                <a:srgbClr val="000066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IMPORTANCIA</a:t>
            </a: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Trebuchet MS"/>
              </a:rPr>
              <a:t>La sociedad se considera notificada en la sede social inscripta. De allí que en caso de falta de inscripción queda latente el riesgo de quedar intimada o notificada de acciones judiciales en domicilios anteriores.</a:t>
            </a:r>
            <a:endParaRPr b="0" lang="en-US" sz="1600" spc="-1" strike="noStrike">
              <a:solidFill>
                <a:srgbClr val="000066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66"/>
                </a:solidFill>
                <a:uFillTx/>
                <a:latin typeface="Trebuchet MS"/>
              </a:rPr>
              <a:t>RESOLUCIÓN IGJ 12/2004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rebuchet MS"/>
              </a:rPr>
              <a:t>Multa a administradores de la sociedad (hasta $ 6.801,47)</a:t>
            </a:r>
            <a:endParaRPr b="0" lang="en-US" sz="16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rebuchet MS"/>
              </a:rPr>
              <a:t>Obligación del profesional de fiscalizar que en la sede funcione la dirección y administración de la sociedad o acompañar declaración jurada en tal sentido de administradores y síndicos</a:t>
            </a:r>
            <a:endParaRPr b="0" lang="en-US" sz="16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21932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66"/>
                </a:solidFill>
                <a:latin typeface="Trebuchet MS"/>
              </a:rPr>
              <a:t>CAMBIO DE DOMICILIO Y SEDE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Ernesto Daniel Balon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459-717C-48A7-8709-CE5B73A699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08/2005</a:t>
            </a: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.P.C.E.C.A.B.A.</cp:lastModifiedBy>
  <dcterms:modified xsi:type="dcterms:W3CDTF">2005-08-09T13:51:03Z</dcterms:modified>
  <cp:revision>17</cp:revision>
  <dc:subject/>
  <dc:title>INSCRIPCIONES ANTE LA   INSPECCIÓN  GENERAL DE JUSTICIA </dc:title>
</cp:coreProperties>
</file>