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BOLID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31B-67E6-4971-8DA1-E98F4CF0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269-7298-43CB-8589-BBA524A2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373-ACC9-4DE9-8D97-8CCA5470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F93-4179-42C3-82EE-3EB4FC51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3A7A-C198-464F-8B55-793E51B4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16ED-AD6A-4CAC-B271-4E5C8C0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9B39-6219-43F8-AEB3-3BA65ADA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BA36-CF1B-448E-92F3-210961A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2999-2020-47F6-A4A4-CC979AB6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691A-9391-4FEA-8513-542DBEAE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6D3-3C0C-47F0-82A8-72C0745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2B0-ABD1-409E-BFD4-29E11AC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C192-F5B4-4D4F-AABA-3B57A083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98D1-7A8F-4B47-BF71-96B495B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F7A1-E3A5-4B82-825B-A864FD84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D29-F906-4DDB-AC93-3DAE35ED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BCC3-7311-4A82-9618-E875F754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439-D9A9-44C5-893A-4424E753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4CA-C3D8-4126-9B18-B81300B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4BD-3E4E-441B-8C93-1B210B0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74C-157B-4577-B1EF-0B194936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BD1-6CA1-4F62-B202-7609D909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4A4-6603-4028-B43B-57DDEFB0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43B4-723D-4169-BE4C-843A36D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643-8783-4E83-B793-807C78A474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4F9F-9616-4AC0-8BDE-D688D1210EB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LIDO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3828960"/>
            <a:ext cx="6096240" cy="1905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280"/>
            <a:ext cx="7391520" cy="17877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Impact"/>
              </a:rPr>
              <a:t>IMPUESTO A LAS GANACIAS</a:t>
            </a:r>
            <a:br>
              <a:rPr sz="4000"/>
            </a:br>
            <a:r>
              <a:rPr b="0" lang="en-US" sz="2000" spc="-1" strike="noStrike">
                <a:solidFill>
                  <a:srgbClr val="ffcc00"/>
                </a:solidFill>
                <a:latin typeface="Impact"/>
              </a:rPr>
              <a:t>TEXTO ORDENADO EN 1.997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Impact"/>
              </a:rPr>
              <a:t>DECRETO REGLAMENTARIO 1.344/98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hevara"/>
              </a:rPr>
              <a:t>Resolucion General n* 1815/0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hevara"/>
              </a:rPr>
              <a:t>RESOLUC.GENERAL   729/9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hevara"/>
              </a:rPr>
              <a:t>RESOLUC.GENERAL  885/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844640"/>
            <a:ext cx="0" cy="18716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ENTIDADE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CON EXEN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SIN F: 709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76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RESOLU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FINITIV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RESOLU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N VENC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990720"/>
            <a:ext cx="1066680" cy="7617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8/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10666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31240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FIP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VERIFIC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SPEC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ORMA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OMICILI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ISC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4952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G 412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5562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.DD.JJ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MPTO Y S.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95480" y="6172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C.ART 8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NC. C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EY GCI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00600" y="31240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HAY OBSERVA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40384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QUERI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40384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UMPLIMEN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QUERIM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4952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. 4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5562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SDE F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EN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8/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5029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E CUMP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0120" y="2286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I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SOLU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838080"/>
            <a:ext cx="762120" cy="3812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457200"/>
            <a:ext cx="53352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457200"/>
            <a:ext cx="6858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533520"/>
            <a:ext cx="4572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60199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NO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ERDI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3429000"/>
            <a:ext cx="4572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3733920"/>
            <a:ext cx="0" cy="3045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8520" y="434340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67480" y="4648320"/>
            <a:ext cx="0" cy="3045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4648320"/>
            <a:ext cx="0" cy="3808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86400" y="5638680"/>
            <a:ext cx="0" cy="3812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6172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PUBLICA 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AGINA WE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920" y="20574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ENT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36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2209680"/>
            <a:ext cx="533520" cy="304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3124080"/>
            <a:ext cx="533160" cy="304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7339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IER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46483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S.FUN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I POSE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791320"/>
            <a:ext cx="1447920" cy="1066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SDE DI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G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V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366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914400"/>
            <a:ext cx="0" cy="11430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2362320"/>
            <a:ext cx="14479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2514600"/>
            <a:ext cx="0" cy="60948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2708280"/>
            <a:ext cx="0" cy="45720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342900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5257800"/>
            <a:ext cx="0" cy="5335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43280" y="206064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22 DE ABRI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23 DE MAY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0000" y="2349360"/>
            <a:ext cx="863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4800" y="206064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RT. 19 Y 2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G 181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4720" y="2349360"/>
            <a:ext cx="648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0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3520" y="304920"/>
            <a:ext cx="16002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FEC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4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914400"/>
            <a:ext cx="1600200" cy="15238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ERTIFICA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CONOC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OVIS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9200" y="152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CREDI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UNA 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 TRA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1219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E DEB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BONAR IMP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 LAS GCI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22096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E LE DEB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ACTIC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TENCIONES 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ERCEP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43800" y="1600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MPTO A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AS GC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3526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.V.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4191120"/>
            <a:ext cx="2057400" cy="18288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I LA 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CUADRA EN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RT.81 INC. C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OS DONANT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UEDEN DEDUCI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AS MISMAS, POR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MPORTE QU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DMITE LA LE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29718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BLIGA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3581280"/>
            <a:ext cx="14479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EN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D.JJ IMP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Y PREVISION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44956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D.JJ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NFORMATIV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5105520"/>
            <a:ext cx="25146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CTU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MO AGENTE DE RETE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Y/PERCEP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304920"/>
            <a:ext cx="0" cy="48006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304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2590920"/>
            <a:ext cx="129528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5105520"/>
            <a:ext cx="121896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1447920"/>
            <a:ext cx="1523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629400" y="2133720"/>
            <a:ext cx="914400" cy="3808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2514600"/>
            <a:ext cx="1371600" cy="8380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162920" y="76320"/>
            <a:ext cx="1447560" cy="10666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HAS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SION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 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 RECHAZO 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41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4572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6172200"/>
            <a:ext cx="5639040" cy="6094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UEGO DE LA EMISION DEL F:411, LA AFIP REALIZ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ISCALIZACION PARA EMISON DE F:709 NM O DEJAR SI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FECTO EL MISMO MEDIANTE RES.FUNDAD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6172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CURS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RT.74D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EY 11683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477120"/>
            <a:ext cx="13716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76720" y="2924280"/>
            <a:ext cx="2568600" cy="1563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5300640"/>
            <a:ext cx="8638920" cy="1584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0000" y="98100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8900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2232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Courier New"/>
              </a:rPr>
              <a:t>DOMICILIO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907920"/>
            <a:ext cx="2232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Courier New"/>
              </a:rPr>
              <a:t>R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88000" y="98100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FISC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00000" y="206064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C</a:t>
            </a: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OD.CIVI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8880" y="263700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R.G.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08880" y="3284640"/>
            <a:ext cx="177948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R.G. 3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MODIFICATO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507600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hevar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hevara"/>
              </a:rPr>
              <a:t>El domicilio fiscal de las personas jurídicas será el lugar donde se encuentre situada la dirección o administración principal y efectiva de las mismas, cuando el domicilio legal no coincida con dicho lugar         (.DICT.117/200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3286080"/>
            <a:ext cx="1779840" cy="647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A</a:t>
            </a: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RT. 44, 89 AL 1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08880" y="1989000"/>
            <a:ext cx="1779480" cy="648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L</a:t>
            </a: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EY 11.68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ART. 3*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763640" y="476280"/>
            <a:ext cx="165600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476280"/>
            <a:ext cx="0" cy="5047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92360" y="1628640"/>
            <a:ext cx="0" cy="432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92360" y="2708280"/>
            <a:ext cx="0" cy="5763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476280"/>
            <a:ext cx="21607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80360" y="476280"/>
            <a:ext cx="0" cy="431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51640" y="1628640"/>
            <a:ext cx="0" cy="360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3640" y="3038400"/>
            <a:ext cx="230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“</a:t>
            </a: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DONDE SE EJERCE LA ADMINISTRACIÓN SUPERIOR, EJECUTIVA Y GERENCIAL</a:t>
            </a: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 “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867280" y="3573360"/>
            <a:ext cx="720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4508640"/>
            <a:ext cx="0" cy="7920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58920" y="203760"/>
            <a:ext cx="8785080" cy="6403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Incorpòrase como inciso g) del artículo 3°, el siguient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" En todos los supuestos contemplados en los incisos precedentes, además de los recaudos propios que para cada caso se establecen, deberá acreditarse la existencia y veracidad del domicilio fiscal denunciado, acompañando como mínimo DOS (2) de las siguientes constancias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Chevara"/>
              </a:rPr>
              <a:t>Certificado de domicilio expedido por autoridad policial</a:t>
            </a: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Acta de constatación notarial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Fotocopia de alguna factura de servicio público a nombre del contribuyente o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Fotocopia del título de propiedad o contrato de alquiler o de "leasing", del inmueble cuyo domicilio se denunci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Fotocopia del extracto de cuenta bancaria o del resumen de tarjeta de crédito, cuando el solicitante sea el titular de tales servici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Fotocopia de la habilitación municipal o autorización municipal equivalente, cuando la actividad del solicitante se ejecute en inmuebles que requieran de la misma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hevara"/>
              </a:rPr>
              <a:t>En casos especiales o cuando circunstancias particulares lo justifiquen, la dependencia interviniente podrá requerir y/o aceptar otros documentos o comprobantes que, a su criterio, acrediten fehacientemente el domicilio fiscal denunciado."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800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hevara"/>
              </a:rPr>
              <a:t>R.G. 4.120/9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B.O. 05/02/199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20" y="2154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 Black"/>
              </a:rPr>
              <a:t>SUJE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7640" y="85896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ART. 1* RG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3272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 Black"/>
              </a:rPr>
              <a:t>ART.LEY GCI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 Black"/>
              </a:rPr>
              <a:t>49 INC. A Y B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987640" y="4170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NO 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72360" y="32846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urier New"/>
              </a:rPr>
              <a:t>EMP.UNIP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urier New"/>
              </a:rPr>
              <a:t>SOC.COOP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urier New"/>
              </a:rPr>
              <a:t>ART. 1* RG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15280" y="50846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RG N* 415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DICT. 14 /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04000" y="172260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SOC.COMERC.(19.55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TODO OTRO TIPO DE SO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SOC. CIVI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FIDEICOMIS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FONDOS COMUNES INVE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1052640"/>
            <a:ext cx="0" cy="10810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27280" y="1341360"/>
            <a:ext cx="0" cy="316728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27280" y="1341360"/>
            <a:ext cx="3603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27280" y="4508640"/>
            <a:ext cx="3603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2565360"/>
            <a:ext cx="4316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148360" y="691920"/>
            <a:ext cx="1584360" cy="6490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12000" y="1052640"/>
            <a:ext cx="0" cy="647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12000" y="3645000"/>
            <a:ext cx="0" cy="1944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48360" y="4581360"/>
            <a:ext cx="8636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12000" y="3716280"/>
            <a:ext cx="360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12000" y="5589720"/>
            <a:ext cx="504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4360" y="5827680"/>
            <a:ext cx="34560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NO PRESENTACIO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MULTA HASTA $ 5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ART. 38.1 LEY 26.04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582768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TODOS L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ADMINISTRA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000" y="431496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SE PRESENTA P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INTER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F: 65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4920" y="11592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DD.JJ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GANANCI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ART. 27 RG 181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19640" y="11592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SUJE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04000" y="11592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ENT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EMPADRONAD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74920" y="150660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PERIO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OBLIGATORI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64000" y="150660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EJERC. ANU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CERRA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31-08-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31622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FORMA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PRESENTAC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64000" y="3162240"/>
            <a:ext cx="216036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APLICATIV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Chevara"/>
              </a:rPr>
              <a:t>GANANCIA-SOCIEDADES -5.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cc"/>
                </a:solidFill>
                <a:latin typeface="Chevara"/>
              </a:rPr>
              <a:t>INF.P/FINES FISCALES 1.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3162240"/>
            <a:ext cx="21607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SE DEBE SEGUI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LAS PAUTAS DEL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2* PARRAFO ART 27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20" y="5106960"/>
            <a:ext cx="16556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SUJE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N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hevara"/>
              </a:rPr>
              <a:t>OBLIGAD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268360" y="4581360"/>
            <a:ext cx="179892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COOP. ESC. RECONO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RG 264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8920" y="4437000"/>
            <a:ext cx="1944720" cy="792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ENT. QUE ADM Y P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CT. HOSPITALARIAS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LA ADM.PUBLIC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7440" y="4581360"/>
            <a:ext cx="179856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BOMB.VOLU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RECONOCIDOS OFI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40000" y="602136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COM. INDI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NSC. RENAC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3800" y="6093000"/>
            <a:ext cx="2230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NST. RELIOGIOS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REG.SEC DE CULTO N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95640" y="47628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80000" y="54936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1916280"/>
            <a:ext cx="1728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68360" y="3645000"/>
            <a:ext cx="12956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24360" y="3573360"/>
            <a:ext cx="719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0920" y="4869000"/>
            <a:ext cx="0" cy="14396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50920" y="4869000"/>
            <a:ext cx="2174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50920" y="6308640"/>
            <a:ext cx="2890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6308640"/>
            <a:ext cx="792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67280" y="4797360"/>
            <a:ext cx="4334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4797360"/>
            <a:ext cx="792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5589720"/>
            <a:ext cx="287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0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3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189000"/>
            <a:ext cx="1798560" cy="936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Chevara"/>
              </a:rPr>
              <a:t>DON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68360" y="115920"/>
            <a:ext cx="179892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EN DINER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3440" y="189000"/>
            <a:ext cx="1798920" cy="10792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SE DEBE EFECTU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MEDIAN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POSI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BANCARI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(ART 34 INC.A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94520" y="44280"/>
            <a:ext cx="2049480" cy="1152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BO INFORM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 LA AFIP, SI  SO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NSCRIPTO 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GCIA , SI LA DONAC. N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LA HACE UN EMPLEAD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10520" y="1628640"/>
            <a:ext cx="1798560" cy="648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PLICATIV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XEXO I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GANANC- PERS. FIS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61080" y="170028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SE INF.POR INTERN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RG 134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86160" y="170028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HASTA EL MISMO DI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L MES INM SG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VTO DD.JJ G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2360" y="148428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NO PRESEN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MULTAS HASTA $ 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920" y="2924280"/>
            <a:ext cx="1798560" cy="936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INSTITU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ARTICULO 8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Chevara"/>
              </a:rPr>
              <a:t>INCISO C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8000" y="4653000"/>
            <a:ext cx="1798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EL OBJE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 u="sng">
                <a:solidFill>
                  <a:srgbClr val="003300"/>
                </a:solidFill>
                <a:uFillTx/>
                <a:latin typeface="Arial Black"/>
              </a:rPr>
              <a:t>PRINCIPAL</a:t>
            </a: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 DEBE S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3440" y="2637000"/>
            <a:ext cx="457056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OBRA MEDICA ASISTENCIA DE BENEFICENCIA SIN FIN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 LUCRO-(INFANCIA-VEJEZ-MINUSVALIA-DISCAPACIDAD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10160" y="3571920"/>
            <a:ext cx="4570200" cy="86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NVESTIGACION CIENTIFICA Y TECNOLOGICA DEBE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CONTAR CON UN CERTIFICADO DE CALIFICAC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EXRENDIDO POR LA SECRETARIA DE CIENCIAS DE CIEN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Y TECNOLOGIA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38520" y="4795920"/>
            <a:ext cx="4570560" cy="86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NVESTIGACION CIENTIFICA SOBRE CUESTIONES ECON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POLITICAS, Y SOCIALES ORIENTADAS AL DESARROLL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 LOS PLANES DE PARTIDOS POLITICO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38520" y="5950080"/>
            <a:ext cx="4570560" cy="86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CTIVIDAD EDUCATIVA SISTEMATICA Y DE GRADO PARA 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OTORGAMIENTO DE TITULOS RECONOCIDOS POR 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MINISTERIO DE CULTURA Y EDUCAC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8000" y="620640"/>
            <a:ext cx="360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04640"/>
            <a:ext cx="504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72360" y="620640"/>
            <a:ext cx="72072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6659280" y="1916280"/>
            <a:ext cx="6490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284720" y="1916280"/>
            <a:ext cx="5745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050920" y="1989000"/>
            <a:ext cx="4334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3860640"/>
            <a:ext cx="0" cy="7207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8000" y="4941720"/>
            <a:ext cx="13687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2781360"/>
            <a:ext cx="0" cy="345600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2852640"/>
            <a:ext cx="1295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8000" y="400536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5084640"/>
            <a:ext cx="1295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6237360"/>
            <a:ext cx="12240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08000" y="5950080"/>
            <a:ext cx="1798560" cy="792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BE PRESENT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F: 34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 </a:t>
            </a: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ENT. RELI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SIEMP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229360"/>
            <a:ext cx="0" cy="647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101080" y="1197000"/>
            <a:ext cx="0" cy="43164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68360" y="620640"/>
            <a:ext cx="1798920" cy="504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NO DIENERO EFECTIV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ART. 123 D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2360" y="1989000"/>
            <a:ext cx="179856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IMPUGNACION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DED. DEL 5% EN DD.J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36720" y="5950080"/>
            <a:ext cx="1440000" cy="7920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26/3 F 40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26/5 411 70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      </a:t>
            </a:r>
            <a:r>
              <a:rPr b="0" lang="es-ES" sz="1200" spc="-1" strike="noStrike">
                <a:solidFill>
                  <a:srgbClr val="ffffcc"/>
                </a:solidFill>
                <a:latin typeface="Chevara"/>
              </a:rPr>
              <a:t>709 N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195640" y="44280"/>
            <a:ext cx="4681440" cy="12747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4392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ANEXO II</a:t>
            </a:r>
            <a:br>
              <a:rPr sz="4000"/>
            </a:b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RESOL. GENERAL N* 1.815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4000" y="1413000"/>
            <a:ext cx="8424720" cy="55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ONSTANCIA DE INSCRIPCION (CUIT)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RESOLUCION EXPEDIDA LA AFIP, SI SE POSE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ONSTANCIAS DE PRESENTACION DE FORMULARIOS 698- 698/I, 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CUANDO SE POSEE F: 709 O F709 (NM), SE DEBE PRESENTAR JUNTO CO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FORMULARIO 373- SOLICITUD DE RENOVACION DE EXENCION-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 Black"/>
              </a:rPr>
              <a:t>ESTATUTOS O NORMAS DE FUNCIONAMIENTO- </a:t>
            </a: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FIRMADAS EN TODAS SU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HOJAS POR EL REPRESENTANTE LEG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MODIFICACIONES AL ESTATUTO, NO INFORMADAS AL ORGANISMO (FIRMADO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ULTIMA ACTA VIGENTE DE DESIGNACION DE AUTORIDADES ( F: 2 IGJ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N* DE RUBRICA,FECHA Y FOLIO DEL LIBRO, RUBRICADO X IGJ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S DE SITUACION PATRIMONIAL O BALANCES GENERA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S DE RECURSOS Y GA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 DE EVOLUCION DEL PATRIMONIO NE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ESTADO DE ORIGEN Y APLICACIÓN DE FOND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MEMO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TODA LA INFORMACION ANTES DETALLADA CORRESPONDE A LOS TRES (3) ULTIMOS EJERCICIOS ECONOMICOS VENCIDOS A L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cc"/>
                </a:solidFill>
                <a:latin typeface="Arial Black"/>
              </a:rPr>
              <a:t>FECHA DE SOLICITUD  DE EXENCIÒN, LOS ESTADOS CONTABLES DEBEN ESTAR CERTIFICADOS X EL CONSEJO PROFES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DATOS ACTUALIZADO DEL DOMICILI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CONSTANCIAS DE PRESENTACION DE DD.JJ DE GCIAS Y RG 4120, DE CORRESPOND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F: 347 DE DONA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 Black"/>
              </a:rPr>
              <a:t>ACREDITACION DE PERSONERIA JURIDIC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8" dur="indefinite" restart="never" nodeType="tmRoot">
          <p:childTnLst>
            <p:seq>
              <p:cTn id="2269" dur="indefinite" nodeType="mainSeq">
                <p:childTnLst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5" dur="10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2" dur="10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6" dur="10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10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7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4" dur="10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8" dur="1000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2" dur="1000"/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4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4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1000"/>
                                        <p:tgtEl>
                                          <p:spTgt spid="4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4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4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4" dur="1000"/>
                                        <p:tgtEl>
                                          <p:spTgt spid="4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4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46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46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NO PRESENT. DD.JJ GCIAS</a:t>
            </a:r>
            <a:br>
              <a:rPr sz="2800"/>
            </a:br>
            <a:r>
              <a:rPr b="0" lang="es-ES" sz="1400" spc="-1" strike="noStrike">
                <a:solidFill>
                  <a:srgbClr val="ffcc00"/>
                </a:solidFill>
                <a:latin typeface="Arial Black"/>
              </a:rPr>
              <a:t>ARTICULO 28 RG 1.815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SOCIACIONES COOPERADORAS RECONOCIDAS (ART. 1* RG 264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ASOC.FUND. Y DE DEMAS PERSONAS DE EXISTENCIA IDEAL SIN FINES DE LUCRO QUE DESTINEN   LOS FONDOS QUE ADMINISTREN Y/O DISPONGAN  A LA PROMOCIÒN DE ACTIVIDADES HOSPITALARIAS BAJO LA ORBITA DE LA ADMINISTRACION PUBLICA ( </a:t>
            </a:r>
            <a:r>
              <a:rPr b="0" lang="es-ES" sz="1200" spc="-1" strike="noStrike">
                <a:solidFill>
                  <a:srgbClr val="ffffcc"/>
                </a:solidFill>
                <a:latin typeface="Arial Black"/>
              </a:rPr>
              <a:t>NACIONAL, PROVINCIAL O MUNICIPAL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COMUNIDADES INDIGENAS, INSCRIPTAS EN EL  RENACI (LEY 23.302) O ASOCIACIONES SIN FINES DE LUCRO QUE  DESTINEN FONDOS AL MANTENIMIENTO Y FOMENTO DE LA CULTURA INDIGENA CUYOS INTEGRANTES RESULTEN SER MIEMBROS ACTIVOS DE ALGUNA COMINIDAD ABORIGEN (ART. 75 INC.17 CONST.NACIONAL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 Black"/>
              </a:rPr>
              <a:t>INSTITUCIONES RELIGIOSAS INSCRIPTA EN EL L REGISTRO EXISTENTE EN EL AMBITO DE LA SECRETARIA DE CULTO DE LA NA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7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2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7" dur="20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00360" y="189000"/>
            <a:ext cx="275112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RG 729/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B.0.01/12/19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REA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GISTRO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IDAD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T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52388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698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698/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160020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RE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14 Y 18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EBRERO 20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N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PRESENTA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hevara"/>
              </a:rPr>
              <a:t>ENT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hevara"/>
              </a:rPr>
              <a:t>GRAVAD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ART.20 RG 72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11480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R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885/2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15/08/2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195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CEP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.RELIGIOS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OPERADOR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4191120"/>
            <a:ext cx="1706760" cy="11095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ACREDITA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DE DO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PARA REC. EXE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41911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SE DEB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UTILIZ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PAR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41911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MPADRONAR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N EL R.E.E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791320"/>
            <a:ext cx="160020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SOLICITAR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RENOVACION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N.E. N* 4/20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1981080"/>
            <a:ext cx="60948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81080"/>
            <a:ext cx="457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981080"/>
            <a:ext cx="5331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200400"/>
            <a:ext cx="14475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200400"/>
            <a:ext cx="9907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572000"/>
            <a:ext cx="91440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464832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0984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105520"/>
            <a:ext cx="0" cy="6094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52480" y="44280"/>
            <a:ext cx="5811840" cy="64947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Entidade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que inician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actividad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Encuadradas en la Ley 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impuesto a las ganancias, tex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ordenado en 199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Impact"/>
              </a:rPr>
              <a:t>Articulo 20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Impact"/>
              </a:rPr>
              <a:t>INCISOS:</a:t>
            </a:r>
            <a:r>
              <a:rPr b="0" lang="en-US" sz="2400" spc="-1" strike="noStrike">
                <a:solidFill>
                  <a:srgbClr val="ffff66"/>
                </a:solidFill>
                <a:latin typeface="Chevara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hevara"/>
              </a:rPr>
              <a:t>b-d-e-f-g-m-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90920" y="152280"/>
            <a:ext cx="3886200" cy="21337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hevara"/>
              </a:rPr>
              <a:t>Para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hevara"/>
              </a:rPr>
              <a:t>reconoci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hevara"/>
              </a:rPr>
              <a:t>como ex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hevara"/>
              </a:rPr>
              <a:t>por la A.F.I.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Chevara"/>
              </a:rPr>
              <a:t>(</a:t>
            </a:r>
            <a:r>
              <a:rPr b="0" lang="es-ES_tradnl" sz="1600" spc="-1" strike="noStrike">
                <a:solidFill>
                  <a:srgbClr val="ffffcc"/>
                </a:solidFill>
                <a:latin typeface="Courier New"/>
              </a:rPr>
              <a:t>art. 34 DR deIMPTO GCIAS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4437000"/>
            <a:ext cx="6019560" cy="22100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hevara"/>
              </a:rPr>
              <a:t>Se deben empadronar en 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hevara"/>
              </a:rPr>
              <a:t>registro 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hevara"/>
              </a:rPr>
              <a:t>entidades exent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(resolucion general n* 729/99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2276640"/>
            <a:ext cx="0" cy="21603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66880" y="152280"/>
            <a:ext cx="35053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hevara"/>
              </a:rPr>
              <a:t>R</a:t>
            </a: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equisitos pa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Reempadronar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76520"/>
            <a:ext cx="30481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hevara"/>
              </a:rPr>
              <a:t>p</a:t>
            </a: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resentar en l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agencia de inscrip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1676520"/>
            <a:ext cx="2210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f:</a:t>
            </a: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 69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nuevo mode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60020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Documenta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Anexo ii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rg.1815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20040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sino pose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hevara"/>
              </a:rPr>
              <a:t>cu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0040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f:</a:t>
            </a: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 460/j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200400"/>
            <a:ext cx="2210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Cumplien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lo requeri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r.g. N* 1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28800" y="533520"/>
            <a:ext cx="8380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33520"/>
            <a:ext cx="0" cy="11430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057400"/>
            <a:ext cx="609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0574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514600"/>
            <a:ext cx="0" cy="6858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3657600"/>
            <a:ext cx="60984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35812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64832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hevara"/>
              </a:rPr>
              <a:t>A.F.I.P. verific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4648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No ha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observa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343400"/>
            <a:ext cx="2209680" cy="12193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mit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F.40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Chevara"/>
              </a:rPr>
              <a:t>certificado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Chevara"/>
              </a:rPr>
              <a:t>empadronamien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002b"/>
                </a:solidFill>
                <a:latin typeface="Chevara"/>
              </a:rPr>
              <a:t>en tram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hevara"/>
              </a:rPr>
              <a:t>Lo publica en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hevara"/>
              </a:rPr>
              <a:t>la pagi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hevara"/>
              </a:rPr>
              <a:t>instituc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Chevara"/>
              </a:rPr>
              <a:t>WWW.AFIP..GOV..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791320"/>
            <a:ext cx="22096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La entidad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s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empadron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029200"/>
            <a:ext cx="2286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501336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56272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15000" y="617220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520" y="6248520"/>
            <a:ext cx="8384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0"/>
            <a:ext cx="289548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hevara"/>
              </a:rPr>
              <a:t>A.F.I.P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hevara"/>
              </a:rPr>
              <a:t>CONST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hevara"/>
              </a:rPr>
              <a:t>FALT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hevara"/>
              </a:rPr>
              <a:t>INFORMA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Chevara"/>
              </a:rPr>
              <a:t>DENTRO DE LOS 20 DIAS 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Chevara"/>
              </a:rPr>
              <a:t>HABILES PRES. F699(NM)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Chevara"/>
              </a:rPr>
              <a:t>EMITE REQUERIMIENTO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8380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LA ENTIDAD CUMP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REQUERIMIEN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0360" y="24922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SE ARCHIVAN L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ACTUACIONES, SE LE APLIC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SANCION DE HASTA $ 5.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ART. 31 ANTULTIMO PARRF. RG 18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352680"/>
            <a:ext cx="281952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LA PETICI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ES UNA ENTID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GRAVADA EN imp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a las ganan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00280"/>
            <a:ext cx="28195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hevara"/>
              </a:rPr>
              <a:t>No </a:t>
            </a:r>
            <a:r>
              <a:rPr b="0" lang="en-US" sz="1400" spc="-1" strike="noStrike">
                <a:solidFill>
                  <a:srgbClr val="ffffcc"/>
                </a:solidFill>
                <a:latin typeface="Chevara"/>
              </a:rPr>
              <a:t> CUMPL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914400"/>
            <a:ext cx="7621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hevara"/>
              </a:rPr>
              <a:t>S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838080"/>
            <a:ext cx="2819160" cy="838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Emit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certificado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empadronamiento 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tramite (</a:t>
            </a:r>
            <a:r>
              <a:rPr b="0" lang="en-US" sz="12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 Black"/>
              </a:rPr>
              <a:t>f 409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819520"/>
            <a:ext cx="335304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Hasta que la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a.f.i.p. No emi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FORM,709 (n.m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 </a:t>
            </a:r>
            <a:r>
              <a:rPr b="0" lang="es-ES_tradnl" sz="1200" spc="-1" strike="noStrike">
                <a:solidFill>
                  <a:srgbClr val="ffffcc"/>
                </a:solidFill>
                <a:latin typeface="Chevara"/>
              </a:rPr>
              <a:t>o rechace  FOR.40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267080"/>
            <a:ext cx="4419720" cy="25909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1)</a:t>
            </a: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 LA ENTIDAD DEBE PRESENTAR DD.JJ PERO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BONAR IMPUESTO A LAS GCI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2) NO LE DEBERAN LOS TERCEROS PRACTIC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RETENCIONES Y/O PERCEPCION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3)SI LA ENTIDAD ENCUADRA EN EL ART.81 INC.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DE LA LEY DEL IMPTO A LAS GCIAS , LAS DON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DEDUCIDAS POR TERCEROS QUEDARAN SUJETAS A 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 QUE ESTA SEA RECONOCIDA POR LA AFI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4) LA ENTIDAD DEBE CUMPLIR CON LA OBLIGACION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ACTUAR COMO AGENTE DE RETENCION CUANDO CORRES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5) DEBE PRESENTAR LAS DD.JJ INFORMATIVAS SEGÚ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ourier New"/>
              </a:rPr>
              <a:t>LAS RESOLUCIONES GENERALES EN VIGENCI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267080"/>
            <a:ext cx="2819520" cy="16002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DEBE INGRESAR 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CORRESPO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SALDO DE IMPT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GANANCI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I.V.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Chevara"/>
              </a:rPr>
              <a:t>GCIA MIN.P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657600"/>
            <a:ext cx="0" cy="609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71600" y="1143000"/>
            <a:ext cx="9907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143000"/>
            <a:ext cx="0" cy="16765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.F.I.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ECHAZ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C.E.E. (F:409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LA ENT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PUE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2193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EMIT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ESOLUC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FUNDA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4382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TIFICA L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MISMA PROC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Courier New"/>
              </a:rPr>
              <a:t>ART. 100 LEY DE PROC.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76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.NUEVAMEN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699 (N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RRIGIEN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MOTIVO DE RECHAZ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1219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MANIFESTAR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ISCONFORM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12193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TA SIMPLE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CUERDO 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G 1128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12193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DENTRO DE L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15 DIAS HABIL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DMINIST.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TIFICAD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2590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RGUM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JURIDICO 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PRUEB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251460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L ORGANISM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UEDE PEDIR NUE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LEMEN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HASTA 20 DH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733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CUMPLIMENTA 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QUER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65760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LA ENT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ESPON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4876920"/>
            <a:ext cx="15238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SE ARCHIVAN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L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CTU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809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NTO DE LOS 2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.H.A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JUEZ ADM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 RESOLUC.FUN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809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CEP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EVE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CTO ADM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48640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 FORM.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TIFICA EL MISM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UBLICA EN PAG WE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9528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RECHAZ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DISCONFORMI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TIFIC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502920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A 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UE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609588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ENT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6095880"/>
            <a:ext cx="1295280" cy="76212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CURSO 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RT.74 D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LEY PRO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457200"/>
            <a:ext cx="30456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9144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2133720"/>
            <a:ext cx="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9144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1676520"/>
            <a:ext cx="4572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21337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2971800"/>
            <a:ext cx="53352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342900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4267080"/>
            <a:ext cx="30492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4267080"/>
            <a:ext cx="3812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724280"/>
            <a:ext cx="0" cy="7621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4724280"/>
            <a:ext cx="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14440" y="5334120"/>
            <a:ext cx="68580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33720" y="4191120"/>
            <a:ext cx="380880" cy="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57200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5791320"/>
            <a:ext cx="0" cy="5331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14600" y="6324480"/>
            <a:ext cx="8380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6324480"/>
            <a:ext cx="762120" cy="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.F.I.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EMIT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C.E.E. (F:409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04920"/>
            <a:ext cx="1981080" cy="4572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FISCALIZ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152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UMPL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ORM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990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CR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BANCARI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18288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MPORTA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666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NST.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NF.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BASE DE DA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3505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ACT. APO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3434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ONST.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OCUM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UMPL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BJETO SOCI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61722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STINO 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BIENES 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OND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0120" y="6172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TRAS PAUT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UDIT.FISC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33520"/>
            <a:ext cx="30456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533520"/>
            <a:ext cx="6858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60020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438280"/>
            <a:ext cx="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2767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411480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9528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5791320"/>
            <a:ext cx="0" cy="38088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6477120"/>
            <a:ext cx="9907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2952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OBSERVACION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371600"/>
            <a:ext cx="160020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E DETECTA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RREGULARI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2860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JUEZ ADM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S.FUN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1240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ORM.70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 PLAZ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40384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UBLICA 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AGINA WEB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762120"/>
            <a:ext cx="0" cy="5331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828800" y="1600200"/>
            <a:ext cx="9144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98108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289548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37339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21337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IST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RRE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ALV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30481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OCUMENTA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ATOS APOR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40384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JUEZ ADM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S.FUN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9520" y="49528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JANDO SI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FEC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409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609588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SDE PR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60958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GRAV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1905120"/>
            <a:ext cx="0" cy="2286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743200"/>
            <a:ext cx="0" cy="30492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3657600"/>
            <a:ext cx="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4648320"/>
            <a:ext cx="0" cy="3045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562720"/>
            <a:ext cx="0" cy="53316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64008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152280"/>
            <a:ext cx="144756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INTIMA L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PRESENTAD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1219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CUMPLIMEN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228600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PIER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EN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3276720"/>
            <a:ext cx="175248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HAST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GULARIZA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457200"/>
            <a:ext cx="45720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7621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1828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1000" y="2895480"/>
            <a:ext cx="0" cy="3812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40600" y="4403880"/>
            <a:ext cx="175248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MULTA DE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HASTA 5.000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RT.39.(26.044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28000" y="3860640"/>
            <a:ext cx="0" cy="576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765000"/>
            <a:ext cx="647640" cy="2160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2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ENTIDAD CON EXE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F:709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CON V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66880" y="15228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60 DIAS HABIL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DMINISTRA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NTES VENC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. F: 37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15228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SE DEBE INFORM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TODA MOFICA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ALIZ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447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.F.I.P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FISCALIZ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447920"/>
            <a:ext cx="198108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NO EXISTE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IRREGULARIDA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1447920"/>
            <a:ext cx="1981440" cy="91440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SE EMIT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FORM 709 N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urier New"/>
              </a:rPr>
              <a:t>A PLAZ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9718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XISTE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IRREG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NO SALVADA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38862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OCUMENTACIO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ATOS APOR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480060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JUEZ ADM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MI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RES.FUN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57913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JANDO SI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FECTO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 37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5791320"/>
            <a:ext cx="144792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SDE V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DE EXE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ANTERIO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579132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GRAVAD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11280" y="2565360"/>
            <a:ext cx="4191120" cy="1523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Bookman Old Style"/>
              </a:rPr>
              <a:t>DESDE LA FECHA DE VTO DE L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Bookman Old Style"/>
              </a:rPr>
              <a:t>EXENCION Y HASTA QUE LA AFIP S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Bookman Old Style"/>
              </a:rPr>
              <a:t>EXPIDA LA ENTIDAD CONSERVA SU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Bookman Old Style"/>
              </a:rPr>
              <a:t>CONDICION DE EXENTA, CUANDO E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9d7"/>
                </a:solidFill>
                <a:latin typeface="Bookman Old Style"/>
              </a:rPr>
              <a:t>F: 373 ESTA PRESENTADO EN TERMIN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60948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0948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066680"/>
            <a:ext cx="0" cy="3812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362320"/>
            <a:ext cx="0" cy="6094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3581280"/>
            <a:ext cx="0" cy="30492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4495680"/>
            <a:ext cx="0" cy="30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410080"/>
            <a:ext cx="0" cy="38124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6095880"/>
            <a:ext cx="7621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6095880"/>
            <a:ext cx="4572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1905120"/>
            <a:ext cx="5335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82880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64080" y="4437000"/>
            <a:ext cx="1447920" cy="6098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ourier New"/>
              </a:rPr>
              <a:t>ENTIDA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ourier New"/>
              </a:rPr>
              <a:t>APELA ART.74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Courier New"/>
              </a:rPr>
              <a:t>DR.LEY 1168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12080" y="5772240"/>
            <a:ext cx="1447560" cy="6094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PRESENT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Courier New"/>
              </a:rPr>
              <a:t>F:699 N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84720" y="6093000"/>
            <a:ext cx="935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19640" y="5084640"/>
            <a:ext cx="0" cy="72072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12:04:57Z</dcterms:created>
  <dc:creator>Investigaciones</dc:creator>
  <dc:description/>
  <dc:language>en-US</dc:language>
  <cp:lastModifiedBy>C.P.C.E.C.A.B.A.</cp:lastModifiedBy>
  <dcterms:modified xsi:type="dcterms:W3CDTF">2005-09-21T20:20:35Z</dcterms:modified>
  <cp:revision>45</cp:revision>
  <dc:subject/>
  <dc:title>Impuesto a las ganancias</dc:title>
</cp:coreProperties>
</file>