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C8E-9BF1-4DB7-8F82-11645C69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5AD-0474-4093-BF32-0B19B41D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200-242D-478A-AC8F-DE9F5562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FD4-C6F0-4195-88B0-CC5EFA64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8A69-C7EA-483C-8C2E-4F02D7F1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DB31-5FE7-4FEA-8220-F77AA431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7B35-7669-42E5-B266-AB552A7C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21B9-F69E-4B90-8A38-3DCA7C2B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9B8A-6871-45AF-8FE6-A2E91E9B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F178-60CC-4FB9-AE1B-E48EC783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D438-F537-45BC-932C-1F46BD63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C86-1443-4111-AB41-ACC82394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4785-0EB8-4584-ACFF-893B3D09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D48F-93C8-436C-830B-05CEBB08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90BD-900B-433A-B1B1-75BBB95C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5C95-900D-4055-A3EB-ECC777FE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83B4-C800-40C5-94F8-833497EC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DD9-A35D-4D41-8A12-0C2FB22F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B54-5BEE-492C-A3FA-A0426255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77D-C9AB-42D0-8EEB-36CF3969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C14-66FB-4502-BE1D-3606D14B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177-AD7B-4C2A-A9EF-0C057754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61B-5551-40D0-8828-FC29240F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5A3-9C62-482E-8B35-5E1D0211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0E1D-9338-485E-A59F-2B3FC0BDB34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8A92-4648-41A1-A4E9-004476B36E7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ASOCIACIONES CIVILES Y FUNDACI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ASPECTOS IMPOSITIVOS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257800" y="2971800"/>
            <a:ext cx="685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2590920"/>
            <a:ext cx="838080" cy="609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124080"/>
            <a:ext cx="838080" cy="609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343400" y="2590920"/>
            <a:ext cx="914400" cy="5331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2895480"/>
            <a:ext cx="685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3124080"/>
            <a:ext cx="914400" cy="5335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OTRAS OBLIGACIONES FORMAL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MISION DE COMPROB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GISTRACION DE OPER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DUCCIONES ADMITI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NTIDADES DEBEN ESTAR RECONOC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BJETO PRINCIP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OPE DEL 5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LÁUSULA DE DISOLU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a vez realizados todos los bienes y pagadas todas las deudas, el remanente se destinará a una Institución de bien común sin fines de lucro con personería jurídica, domiciliada en el país, con exención vigente otorgada y reconocida por la Administración Federal de Ingresos Públicos – Dirección General Impositiva o al Estado Nacional, Provincial o Municip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IMPUESTO A LAS GANANCI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UJETOS DEL IMPUE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ASA APLIC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BERES FOR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EXENCION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BJETIVAS - SUBJE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ART. 20 – Inc. 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INCIPIO DE REALIDAD ECONO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ANALISIS DEL ART. 20 INC. F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ICION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a) Objeto: asistencia soc., salud pública, caridad, benefic., educación, científicas (enunciativo y no taxativ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b) las ganancias y el patrimonio social se destinen a los fines de su cre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c) en ningún caso se distribuyan, directa o indirectamente, entre los soci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4508640"/>
            <a:ext cx="734544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XCLUSION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Times New Roman"/>
              </a:rPr>
              <a:t>a) entidades que obtienen sus recursos, en todo o en parte, de  la explotación de espectáculos públicos, juegos de azar, carreras de caballos y actividades simila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ANÁLISIS DEL ART. 20 INC. F</a:t>
            </a: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(Continuación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INAPLIC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a) fundaciones y asociaciones o entidades civiles de carácter gremial que desarrollen actividades industriales y/o comer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b) Abonen remuneraciones a elencos directivos, ejecutivos y de contralor por encima de determinada suma (Ley 24475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c) Entidades que tengan vedado el pago de esas remuneraciones (cualquiera sea su mont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RECONOCIMIENTO DE LA EXENC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BLIGACION DE SOLICITAR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REACION DEL REGISTRO DE ENTIDADES EX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SECUENCIAS DE NO SOLICITAR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OBLIGACIONES DE RETENE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GIMEN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OBRE SUEL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BENEFICIARIOS DEL EXT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OBLIGACIONES DE INFORMA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TENCIONES EFECTU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MPOSICION DEL CUERPO DIR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ONANTES Y DONACIONES EN DINERO Y EN ESPEC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SENTACION DE DECLARACIONES JUR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SENTACIÓN DE BCES. GRALES.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(solo p/grandes contribuyent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PEDRO M. GECIK pedrogecik@fibertel.com.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21:33:15Z</dcterms:created>
  <dc:creator>Pedro</dc:creator>
  <dc:description/>
  <dc:language>en-US</dc:language>
  <cp:lastModifiedBy>C.P.C.E.C.A.B.A.</cp:lastModifiedBy>
  <dcterms:modified xsi:type="dcterms:W3CDTF">2005-09-21T20:21:05Z</dcterms:modified>
  <cp:revision>87</cp:revision>
  <dc:subject/>
  <dc:title>ASOCIACIONES CIVILES Y FUNDACIONES</dc:title>
</cp:coreProperties>
</file>