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79487-B47A-43E8-BC16-FBBF1986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39583-B345-4B93-8288-880E37E1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FE4A2-C616-47F3-BD36-A5C7EF339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92858-921E-4833-8B11-BABA84FC6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A09E9-2A8F-4DE2-9830-9F642B988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86691-CB80-4662-91D6-FC168F37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23A7-EF6F-43A9-8FCF-B2B25ED41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8F8D5-7FAC-4A4F-A348-F2B2A37CC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1814F-057F-4591-AB92-66B772F17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EBA66-7D7D-4B57-8B7E-F5A05AA7B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B0FAF-D5DE-42C1-B21C-455FC4530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1B62C-4E2B-46F1-B9F2-C285B1684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5026C-1C83-4E14-8C8B-AC7A90065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CF6E2-557D-469C-8345-D3451CF99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DDCCE-B223-4773-A8D6-7C6ADA804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0B3E5-F408-4EC0-8E6A-660AFC774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614C1-6695-4242-9EB3-5C3A2FA75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6B211-5291-434B-A398-A1184C46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4974-807E-4522-863D-43B1A053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DB4C-1C20-4982-9706-A24882F27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8132-031A-4339-A932-07C8076E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94F8E-3FD8-4006-893E-255E38B57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DB11-5E2B-4EF8-A4F7-0B849C03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B98B8-3557-4AEC-A856-027070BF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6AA8-6146-43A7-A150-0A475E3DF7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A5F0-CB15-409A-8A67-CCABF758FB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afip.gov.ar/" TargetMode="External"/><Relationship Id="rId2" Type="http://schemas.openxmlformats.org/officeDocument/2006/relationships/hyperlink" Target="http://www.afip.gov.ar/" TargetMode="External"/><Relationship Id="rId3" Type="http://schemas.openxmlformats.org/officeDocument/2006/relationships/hyperlink" Target="http://www.afip.gov.ar/" TargetMode="External"/><Relationship Id="rId4" Type="http://schemas.openxmlformats.org/officeDocument/2006/relationships/hyperlink" Target="http://www.afip.gov.ar/" TargetMode="External"/><Relationship Id="rId5" Type="http://schemas.openxmlformats.org/officeDocument/2006/relationships/hyperlink" Target="http://www.afip.gov.ar/" TargetMode="External"/><Relationship Id="rId6" Type="http://schemas.openxmlformats.org/officeDocument/2006/relationships/hyperlink" Target="http://www.afip.gov.ar/" TargetMode="External"/><Relationship Id="rId7" Type="http://schemas.openxmlformats.org/officeDocument/2006/relationships/hyperlink" Target="http://www.afip.gov.ar/" TargetMode="External"/><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IMPUESTO A LAS GANANCIAS</a:t>
            </a:r>
            <a:endParaRPr b="0" lang="en-US" sz="4000" spc="-1" strike="noStrike">
              <a:solidFill>
                <a:srgbClr val="221304"/>
              </a:solidFill>
              <a:latin typeface="Times New Roman"/>
            </a:endParaRPr>
          </a:p>
        </p:txBody>
      </p:sp>
      <p:sp>
        <p:nvSpPr>
          <p:cNvPr id="9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iclo de charlas debate sobre fundaciones y asociaciones civiles sin fines de lucro.</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PTIEMBRE 2005</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EJO PROFESIONAL DE CIENCIAS ECONOMICAS DE LA CIUDAD AUTONOMA DE BUENOS AIRES.</a:t>
            </a:r>
            <a:endParaRPr b="0" lang="en-US" sz="2800" spc="-1" strike="noStrike">
              <a:solidFill>
                <a:srgbClr val="000000"/>
              </a:solidFill>
              <a:latin typeface="Times New Roman"/>
            </a:endParaRPr>
          </a:p>
          <a:p>
            <a:pPr marL="315360" indent="-3153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ta: Para una mejor interpretación, se recomienda acompañar la lectura del presente material, con los Dictámenes comentados. Los mismos podrán ser fácilmente recopilados a través de la página de Internet de la AFIP,  </a:t>
            </a:r>
            <a:r>
              <a:rPr b="0" lang="es-ES_tradnl" sz="2400" spc="-1" strike="noStrike" u="sng">
                <a:solidFill>
                  <a:srgbClr val="660066"/>
                </a:solidFill>
                <a:uFillTx/>
                <a:latin typeface="Times New Roman"/>
                <a:hlinkClick r:id="rId1"/>
              </a:rPr>
              <a:t>www</a:t>
            </a:r>
            <a:r>
              <a:rPr b="0" lang="es-ES_tradnl" sz="2400" spc="-1" strike="noStrike" u="sng">
                <a:solidFill>
                  <a:srgbClr val="660066"/>
                </a:solidFill>
                <a:uFillTx/>
                <a:latin typeface="Times New Roman"/>
                <a:hlinkClick r:id="rId2"/>
              </a:rPr>
              <a:t>.</a:t>
            </a:r>
            <a:r>
              <a:rPr b="0" lang="es-ES_tradnl" sz="2400" spc="-1" strike="noStrike" u="sng">
                <a:solidFill>
                  <a:srgbClr val="660066"/>
                </a:solidFill>
                <a:uFillTx/>
                <a:latin typeface="Times New Roman"/>
                <a:hlinkClick r:id="rId3"/>
              </a:rPr>
              <a:t>afip</a:t>
            </a:r>
            <a:r>
              <a:rPr b="0" lang="es-ES_tradnl" sz="2400" spc="-1" strike="noStrike" u="sng">
                <a:solidFill>
                  <a:srgbClr val="660066"/>
                </a:solidFill>
                <a:uFillTx/>
                <a:latin typeface="Times New Roman"/>
                <a:hlinkClick r:id="rId4"/>
              </a:rPr>
              <a:t>.</a:t>
            </a:r>
            <a:r>
              <a:rPr b="0" lang="es-ES_tradnl" sz="2400" spc="-1" strike="noStrike" u="sng">
                <a:solidFill>
                  <a:srgbClr val="660066"/>
                </a:solidFill>
                <a:uFillTx/>
                <a:latin typeface="Times New Roman"/>
                <a:hlinkClick r:id="rId5"/>
              </a:rPr>
              <a:t>gov</a:t>
            </a:r>
            <a:r>
              <a:rPr b="0" lang="es-ES_tradnl" sz="2400" spc="-1" strike="noStrike" u="sng">
                <a:solidFill>
                  <a:srgbClr val="660066"/>
                </a:solidFill>
                <a:uFillTx/>
                <a:latin typeface="Times New Roman"/>
                <a:hlinkClick r:id="rId6"/>
              </a:rPr>
              <a:t>.</a:t>
            </a:r>
            <a:r>
              <a:rPr b="0" lang="es-ES_tradnl" sz="2400" spc="-1" strike="noStrike" u="sng">
                <a:solidFill>
                  <a:srgbClr val="660066"/>
                </a:solidFill>
                <a:uFillTx/>
                <a:latin typeface="Times New Roman"/>
                <a:hlinkClick r:id="rId7"/>
              </a:rPr>
              <a:t>ar</a:t>
            </a:r>
            <a:r>
              <a:rPr b="0" lang="es-ES_tradnl" sz="2400" spc="-1" strike="noStrike">
                <a:solidFill>
                  <a:srgbClr val="000000"/>
                </a:solidFill>
                <a:latin typeface="Times New Roman"/>
              </a:rPr>
              <a:t> ,  en el link correspondiente a la Biblioteca electrónica.</a:t>
            </a:r>
            <a:endParaRPr b="0" lang="en-US" sz="2400" spc="-1" strike="noStrike">
              <a:solidFill>
                <a:srgbClr val="000000"/>
              </a:solidFill>
              <a:latin typeface="Times New Roman"/>
            </a:endParaRPr>
          </a:p>
        </p:txBody>
      </p:sp>
      <p:sp>
        <p:nvSpPr>
          <p:cNvPr id="91"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05D3E56-2276-49AF-B57A-A2D3E6716D54}" type="slidenum">
              <a:t>1</a:t>
            </a:fld>
          </a:p>
        </p:txBody>
      </p:sp>
    </p:spTree>
  </p:cSld>
  <p:transition>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ES</a:t>
            </a:r>
            <a:r>
              <a:rPr b="0" lang="es-ES_tradn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º 136/92 (DI ATEC) Asociación Civil XX. Provisión a los asociados de un servicio de administración y contralor de liquidaciones. La entidad, formada por líneas aéreas nacionales e internacionales, organiza los procedimientos de ventas de pasajes y su posterior cobranza. Su actividad sirve al interés comercial y rentable de sus asociados.</a:t>
            </a:r>
            <a:endParaRPr b="0" lang="en-US" sz="3200" spc="-1" strike="noStrike">
              <a:solidFill>
                <a:srgbClr val="000000"/>
              </a:solidFill>
              <a:latin typeface="Times New Roman"/>
            </a:endParaRPr>
          </a:p>
          <a:p>
            <a:pPr marL="3258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15DE84A-814A-4646-B88F-A5010F34D227}" type="slidenum">
              <a:t>10</a:t>
            </a:fld>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ICTAMEN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2/95 (DI ATEC). La valoración de la situaciones de hecho involucradas que lleven al juez administrativo al convencimiento de que la real actividad ejercida por la entidad es de naturaleza financiera, no procederá otorgarle el reconocimiento de sujeto exento.</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75/96 (DI ASLE).La finalidad de las actividades propuestas por la interesada desnaturalizaría el objeto de bien común que debieran perseguir las entidades para ser merecedoras del reconocimiento que nos ocupa.</a:t>
            </a:r>
            <a:endParaRPr b="0" lang="en-US" sz="2800" spc="-1" strike="noStrike">
              <a:solidFill>
                <a:srgbClr val="000000"/>
              </a:solidFill>
              <a:latin typeface="Times New Roman"/>
            </a:endParaRPr>
          </a:p>
        </p:txBody>
      </p:sp>
      <p:sp>
        <p:nvSpPr>
          <p:cNvPr id="123"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0B2E96C-8802-4588-9B06-600026D422DB}" type="slidenum">
              <a:t>11</a:t>
            </a:fld>
          </a:p>
        </p:txBody>
      </p:sp>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ICTAMENTES</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4/98 (DI ASLE) .Adjudicación de códigos de barra para productos. La actividad desarrollada por la Asociación no es mas que una etapa de la actividad comercial propia de los asociados (client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52/00 (DI ASLE). Cuando puede determinarse que la entidad de que se trate persigue fines lucrativos no resulta procedente la exención normada en el articulo 20, inciso f).</a:t>
            </a:r>
            <a:endParaRPr b="0" lang="en-US" sz="2800" spc="-1" strike="noStrike">
              <a:solidFill>
                <a:srgbClr val="000000"/>
              </a:solidFill>
              <a:latin typeface="Times New Roman"/>
            </a:endParaRPr>
          </a:p>
        </p:txBody>
      </p:sp>
      <p:sp>
        <p:nvSpPr>
          <p:cNvPr id="126"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61E74E2-B165-42AF-AD9D-84FE78D6C289}" type="slidenum">
              <a:t>12</a:t>
            </a:fld>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7617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a:t>
            </a:r>
            <a:br>
              <a:rPr sz="4000"/>
            </a:br>
            <a:endParaRPr b="0" lang="en-US" sz="4000" spc="-1" strike="noStrike">
              <a:solidFill>
                <a:srgbClr val="221304"/>
              </a:solidFill>
              <a:latin typeface="Times New Roman"/>
            </a:endParaRPr>
          </a:p>
        </p:txBody>
      </p:sp>
      <p:sp>
        <p:nvSpPr>
          <p:cNvPr id="12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ganancias y el patrimonio social de la entidad deben destinarse a los fines de su creación y en </a:t>
            </a:r>
            <a:r>
              <a:rPr b="1" lang="es-ES_tradnl" sz="2800" spc="-1" strike="noStrike">
                <a:solidFill>
                  <a:srgbClr val="000000"/>
                </a:solidFill>
                <a:latin typeface="Times New Roman"/>
              </a:rPr>
              <a:t>ningún caso podrán distribuirse, directa o indirectamente, entre los socio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bligación de traspasar el patrimonio, en caso de disolución  a otra entidad exenta “reconocid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actividades que las generan deben ser desarrolladas en el país y sus fondos destinados a la ejecución de sus propósitos sociales dentro del territorio nacional.</a:t>
            </a:r>
            <a:endParaRPr b="0" lang="en-US" sz="2800" spc="-1" strike="noStrike">
              <a:solidFill>
                <a:srgbClr val="000000"/>
              </a:solidFill>
              <a:latin typeface="Times New Roman"/>
            </a:endParaRPr>
          </a:p>
        </p:txBody>
      </p:sp>
      <p:sp>
        <p:nvSpPr>
          <p:cNvPr id="129"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58884C8E-DF46-4A2A-AFEC-896D2F3B60F4}" type="slidenum">
              <a:t>13</a:t>
            </a:fld>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ICTAMEN</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º 61/94 (DAL) La entidad “CC” tiene como propósitos fomentar entre sus asociados los vínculos sociales, la practica de toda clase de deportes, el cultivo de diversas manifestaciones artísticas del hombre...</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ndo se trate de entidades con personería jurídica, no es obstáculo actualmente para el reconocimiento de la exención, el hecho de que no se mencione en el estatuto el destino de los fondos al momento de la disolución. Pues ante el silencio de los Estatutos prevalece el artículo 50 del Código Civil, como norma supletoria. No obstante si algo dijeran esta no podría aplicarse.</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4B644ED-FF6F-47A7-A695-A142187AE983}" type="slidenum">
              <a:t>14</a:t>
            </a:fld>
          </a:p>
        </p:txBody>
      </p:sp>
    </p:spTree>
  </p:cSld>
  <p:transition>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a:t>
            </a:r>
            <a:r>
              <a:rPr b="0" lang="es-ES_tradnl"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excluyen a aquellas entidades que obtienen sus recursos, en todo o en parte, de </a:t>
            </a:r>
            <a:r>
              <a:rPr b="1" lang="es-ES_tradnl" sz="2800" spc="-1" strike="noStrike">
                <a:solidFill>
                  <a:srgbClr val="000000"/>
                </a:solidFill>
                <a:latin typeface="Times New Roman"/>
              </a:rPr>
              <a:t>la explotación de espectáculos públicos, juegos de azar, carreras de caballos y actividades similar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doctrina ha interpretado que la intención es evitar que los juegos de azar sean de una magnitud tal que se desnaturalice la finalidad de la entida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83C71F3-875C-47F0-AB51-A9203AFA5B73}" type="slidenum">
              <a:t>15</a:t>
            </a:fld>
          </a:p>
        </p:txBody>
      </p:sp>
    </p:spTree>
  </p:cSld>
  <p:transition>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 (cont.)</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be estarse al verdadero objeto que realiza la entidad y a la intención del Estado en otorgar a determinadas entidades el beneficio de la explotación de determinados juegos de azar.</a:t>
            </a:r>
            <a:endParaRPr b="0" lang="en-US" sz="3200" spc="-1" strike="noStrike">
              <a:solidFill>
                <a:srgbClr val="000000"/>
              </a:solidFill>
              <a:latin typeface="Times New Roman"/>
            </a:endParaRPr>
          </a:p>
        </p:txBody>
      </p:sp>
      <p:sp>
        <p:nvSpPr>
          <p:cNvPr id="138"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E406B36-D19C-40FF-996E-FC2137FAF4A6}" type="slidenum">
              <a:t>16</a:t>
            </a:fld>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a:t>
            </a:r>
            <a:endParaRPr b="0" lang="en-US" sz="4000" spc="-1" strike="noStrike">
              <a:solidFill>
                <a:srgbClr val="221304"/>
              </a:solidFill>
              <a:latin typeface="Times New Roman"/>
            </a:endParaRPr>
          </a:p>
        </p:txBody>
      </p:sp>
      <p:sp>
        <p:nvSpPr>
          <p:cNvPr id="14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º 13/98 (DI ASLE). Fundación Hospital SF. Obtención de recursos para la compra del material médico necesario y para lograr la capacitación de los profesionales del nosocomio. Por concesión del gobierno provincial efectúa la explotación de juegos de azar “Lotería Familiar”. Obtención de recursos casi en su totalidad de juegos de azar (entre un 95 y 99%).</a:t>
            </a:r>
            <a:endParaRPr b="0" lang="en-US" sz="3200" spc="-1" strike="noStrike">
              <a:solidFill>
                <a:srgbClr val="000000"/>
              </a:solidFill>
              <a:latin typeface="Times New Roman"/>
            </a:endParaRPr>
          </a:p>
        </p:txBody>
      </p:sp>
      <p:sp>
        <p:nvSpPr>
          <p:cNvPr id="141"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60BCE91-A596-4989-BED2-1EE07F7C0536}" type="slidenum">
              <a:t>17</a:t>
            </a:fld>
          </a:p>
        </p:txBody>
      </p:sp>
    </p:spTree>
  </p:cSld>
  <p:transition>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 (cont.)</a:t>
            </a:r>
            <a:endParaRPr b="0" lang="en-US" sz="4000" spc="-1" strike="noStrike">
              <a:solidFill>
                <a:srgbClr val="221304"/>
              </a:solidFill>
              <a:latin typeface="Times New Roman"/>
            </a:endParaRPr>
          </a:p>
        </p:txBody>
      </p:sp>
      <p:sp>
        <p:nvSpPr>
          <p:cNvPr id="14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conocimiento de la exención se fundo en lo determinado por la Dirección General de Asuntos Jurídicos del Ministerio de Economía en el Dictamen Nº 99.319 del 16/08/95, en el cual se trato una cuestión de similares características, referida a la Fundación Favaloro.</a:t>
            </a:r>
            <a:endParaRPr b="0" lang="en-US" sz="3200" spc="-1" strike="noStrike">
              <a:solidFill>
                <a:srgbClr val="000000"/>
              </a:solidFill>
              <a:latin typeface="Times New Roman"/>
            </a:endParaRPr>
          </a:p>
        </p:txBody>
      </p:sp>
      <p:sp>
        <p:nvSpPr>
          <p:cNvPr id="144"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7EA5458-9F4F-4AA7-BC27-7F4F0A451B6C}" type="slidenum">
              <a:t>18</a:t>
            </a:fld>
          </a:p>
        </p:txBody>
      </p:sp>
    </p:spTree>
  </p:cSld>
  <p:transition>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854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a:t>
            </a:r>
            <a:r>
              <a:rPr b="0" lang="es-ES_tradnl" sz="4400" spc="-1" strike="noStrike">
                <a:solidFill>
                  <a:srgbClr val="221304"/>
                </a:solidFill>
                <a:latin typeface="Times New Roman"/>
              </a:rPr>
              <a:t>	</a:t>
            </a:r>
            <a:br>
              <a:rPr sz="4400"/>
            </a:b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arrollo de </a:t>
            </a:r>
            <a:r>
              <a:rPr b="1" lang="es-ES_tradnl" sz="3200" spc="-1" strike="noStrike">
                <a:solidFill>
                  <a:srgbClr val="000000"/>
                </a:solidFill>
                <a:latin typeface="Times New Roman"/>
              </a:rPr>
              <a:t>actividades industriales y/o comerc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jetos comprendi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cep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ctamen Nº 6/00 (DI AS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ctamen Nº 49/00 (DI ATEC)</a:t>
            </a:r>
            <a:endParaRPr b="0" lang="en-US" sz="3200" spc="-1" strike="noStrike">
              <a:solidFill>
                <a:srgbClr val="000000"/>
              </a:solidFill>
              <a:latin typeface="Times New Roman"/>
            </a:endParaRPr>
          </a:p>
        </p:txBody>
      </p:sp>
      <p:sp>
        <p:nvSpPr>
          <p:cNvPr id="147"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D43A68C-F000-49D4-BA39-DDC38299240B}" type="slidenum">
              <a:t>19</a:t>
            </a:fld>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ENTIDADES SIN FINES DE LUCRO</a:t>
            </a:r>
            <a:endParaRPr b="0" lang="en-US" sz="4000" spc="-1" strike="noStrike">
              <a:solidFill>
                <a:srgbClr val="221304"/>
              </a:solidFill>
              <a:latin typeface="Times New Roman"/>
            </a:endParaRPr>
          </a:p>
        </p:txBody>
      </p:sp>
      <p:sp>
        <p:nvSpPr>
          <p:cNvPr id="93"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rtículo 33 Código Civil de la República Argentina.</a:t>
            </a:r>
            <a:endParaRPr b="0" lang="en-US" sz="3200" spc="-1" strike="noStrike">
              <a:solidFill>
                <a:srgbClr val="000000"/>
              </a:solidFill>
              <a:latin typeface="Times New Roman"/>
            </a:endParaRPr>
          </a:p>
        </p:txBody>
      </p:sp>
      <p:sp>
        <p:nvSpPr>
          <p:cNvPr id="94" name="PlaceHolder 3"/>
          <p:cNvSpPr>
            <a:spLocks noGrp="1"/>
          </p:cNvSpPr>
          <p:nvPr>
            <p:ph/>
          </p:nvPr>
        </p:nvSpPr>
        <p:spPr>
          <a:xfrm>
            <a:off x="4876560" y="1752480"/>
            <a:ext cx="3809880" cy="4114800"/>
          </a:xfrm>
          <a:prstGeom prst="rect">
            <a:avLst/>
          </a:prstGeom>
          <a:noFill/>
          <a:ln w="0">
            <a:noFill/>
          </a:ln>
        </p:spPr>
        <p:txBody>
          <a:bodyPr lIns="90000" rIns="90000" tIns="46800" bIns="46800"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s jurídicas de carácter privado, que tienen por objeto el bien común, poseen patrimonio propio, son capaces de adquirir bienes, no subsisten exclusivamente de asignaciones del Estado, y poseen autorización para funcionar.</a:t>
            </a:r>
            <a:endParaRPr b="0" lang="en-US" sz="2400" spc="-1" strike="noStrike">
              <a:solidFill>
                <a:srgbClr val="000000"/>
              </a:solidFill>
              <a:latin typeface="Times New Roman"/>
            </a:endParaRPr>
          </a:p>
        </p:txBody>
      </p:sp>
      <p:sp>
        <p:nvSpPr>
          <p:cNvPr id="95"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5" name="PlaceHolder 4"/>
          <p:cNvSpPr>
            <a:spLocks noGrp="1"/>
          </p:cNvSpPr>
          <p:nvPr>
            <p:ph type="sldNum" idx="3"/>
          </p:nvPr>
        </p:nvSpPr>
        <p:spPr/>
        <p:txBody>
          <a:bodyPr/>
          <a:p>
            <a:fld id="{44101228-10C1-407A-A353-FFA157BB2297}" type="slidenum">
              <a:t>2</a:t>
            </a:fld>
          </a:p>
        </p:txBody>
      </p:sp>
    </p:spTree>
  </p:cSld>
  <p:transition>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DICTAMENES</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6/00 (DI ASLE). El segundo párrafo del inciso f) del Art.. 20 resulta de aplicación a las fundaciones, asociaciones civiles sin personería jurídica de carácter gremial –artículo 46 CC- y las entidades gremiales con personería jurídica amparadas en las previsiones de la Ley Nº 23.551.</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º 49/00 (DI ATEC) La modificación introducida por la Ley Nº 25.239, tiene alcance sobre las asociaciones de carácter gremial.</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A7CEFCB-27DC-4A88-8389-DDAAEF54BB35}" type="slidenum">
              <a:t>20</a:t>
            </a:fld>
          </a:p>
        </p:txBody>
      </p:sp>
    </p:spTree>
  </p:cSld>
  <p:transition>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 (cont.)</a:t>
            </a:r>
            <a:endParaRPr b="0" lang="en-US" sz="4000" spc="-1" strike="noStrike">
              <a:solidFill>
                <a:srgbClr val="221304"/>
              </a:solidFill>
              <a:latin typeface="Times New Roman"/>
            </a:endParaRPr>
          </a:p>
        </p:txBody>
      </p:sp>
      <p:sp>
        <p:nvSpPr>
          <p:cNvPr id="15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alcance que corresponde acordar a esta limitación es el de no reconocer la exención a aquellas entidades cuyo objeto principal consista en una actividad industrial y/o comercial, debiendo definir en cada caso concreto si las mismas llevan a cabo dicha fun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BB0B1E9-0F9F-40E5-B858-71F20E9EEA2D}" type="slidenum">
              <a:t>21</a:t>
            </a:fld>
          </a:p>
        </p:txBody>
      </p:sp>
    </p:spTree>
  </p:cSld>
  <p:transition>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 (cont.)</a:t>
            </a:r>
            <a:endParaRPr b="0" lang="en-US" sz="4000" spc="-1" strike="noStrike">
              <a:solidFill>
                <a:srgbClr val="221304"/>
              </a:solidFill>
              <a:latin typeface="Times New Roman"/>
            </a:endParaRPr>
          </a:p>
        </p:txBody>
      </p:sp>
      <p:sp>
        <p:nvSpPr>
          <p:cNvPr id="1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actividad comercial o industrial que desarrolla una institución de bien público no resulta imprescindible para concretar su objeto, será de aplicación la exclusión del beneficio consagrada en el segundo párrafo del inciso f) del Art. 20º de la LIG.</a:t>
            </a:r>
            <a:endParaRPr b="0" lang="en-US" sz="3200" spc="-1" strike="noStrike">
              <a:solidFill>
                <a:srgbClr val="000000"/>
              </a:solidFill>
              <a:latin typeface="Times New Roman"/>
            </a:endParaRPr>
          </a:p>
        </p:txBody>
      </p:sp>
      <p:sp>
        <p:nvSpPr>
          <p:cNvPr id="156"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EF050C2-3FD8-4B9C-B613-893B81E75AB6}" type="slidenum">
              <a:t>22</a:t>
            </a:fld>
          </a:p>
        </p:txBody>
      </p:sp>
    </p:spTree>
  </p:cSld>
  <p:transition>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LIMITACIONES (cont.)</a:t>
            </a:r>
            <a:endParaRPr b="0" lang="en-US" sz="4000" spc="-1" strike="noStrike">
              <a:solidFill>
                <a:srgbClr val="221304"/>
              </a:solidFill>
              <a:latin typeface="Times New Roman"/>
            </a:endParaRPr>
          </a:p>
        </p:txBody>
      </p:sp>
      <p:sp>
        <p:nvSpPr>
          <p:cNvPr id="15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realización de actividades estatutarias de las cuales deriven ventajas económicas para los asociados a la entidad, no significa necesariamente la desnaturalización de los fines del sujeto, siempre que la misma constituya una actividad complementaria de los objetivos sociales expresamente mencionados en el inc. f) del art. 20 LIG . No obstante si sus ingresos y patrimonio no se destinan prioritariamente a los fines específicos de la entidad, desvirtuando los objetivos por los cuales se le ha otorgado la dispensa, cabría disponer su decaimient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D5C8BC7-FC56-4B73-9812-22FCF42CEAC3}" type="slidenum">
              <a:t>23</a:t>
            </a:fld>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ES</a:t>
            </a:r>
            <a:endParaRPr b="0" lang="en-US" sz="4000" spc="-1" strike="noStrike">
              <a:solidFill>
                <a:srgbClr val="221304"/>
              </a:solidFill>
              <a:latin typeface="Times New Roman"/>
            </a:endParaRPr>
          </a:p>
        </p:txBody>
      </p:sp>
      <p:sp>
        <p:nvSpPr>
          <p:cNvPr id="16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º 82/02 (DI ATEC). Si la actividad comercial o industrial que desarrolla una institución de bien publico no resulta imprescindible para concretar su objeto, será de aplicación la exclusión del beneficio consagrada por el segundo párrafo del inciso f) del artículo 20 de la LIG.</a:t>
            </a:r>
            <a:endParaRPr b="0" lang="en-US" sz="3200" spc="-1" strike="noStrike">
              <a:solidFill>
                <a:srgbClr val="000000"/>
              </a:solidFill>
              <a:latin typeface="Times New Roman"/>
            </a:endParaRPr>
          </a:p>
        </p:txBody>
      </p:sp>
      <p:sp>
        <p:nvSpPr>
          <p:cNvPr id="162"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4F0F1CF-92E3-48A0-B27E-6DE1BE18C158}" type="slidenum">
              <a:t>24</a:t>
            </a:fld>
          </a:p>
        </p:txBody>
      </p:sp>
    </p:spTree>
  </p:cSld>
  <p:transition>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Art. 20 in fine</a:t>
            </a:r>
            <a:r>
              <a:rPr b="0" lang="es-ES_tradnl" sz="4000" spc="-1" strike="noStrike">
                <a:solidFill>
                  <a:srgbClr val="221304"/>
                </a:solidFill>
                <a:latin typeface="Times New Roman"/>
              </a:rPr>
              <a:t>	</a:t>
            </a:r>
            <a:r>
              <a:rPr b="0" lang="es-ES_tradnl" sz="4000" spc="-1" strike="noStrike">
                <a:solidFill>
                  <a:srgbClr val="221304"/>
                </a:solidFill>
                <a:latin typeface="Times New Roman"/>
              </a:rPr>
              <a:t>LIG</a:t>
            </a:r>
            <a:endParaRPr b="0" lang="en-US" sz="40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uedarán excluidas del beneficio, las entidades qu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Durante el período fiscal abonen a cualquiera de las personas que formen parte de los elencos directivos, ejecutivos y de contralor de las mismas (directores, consejeros, síndicos, revisores de cuentas, etc.), cualquiera fuere su denominación, un importe por todo concepto, incluido los gastos de representación y similares, ...</a:t>
            </a:r>
            <a:endParaRPr b="0" lang="en-US" sz="2800" spc="-1" strike="noStrike">
              <a:solidFill>
                <a:srgbClr val="000000"/>
              </a:solidFill>
              <a:latin typeface="Times New Roman"/>
            </a:endParaRPr>
          </a:p>
        </p:txBody>
      </p:sp>
      <p:sp>
        <p:nvSpPr>
          <p:cNvPr id="165"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E8C508E-60A6-4C82-89B8-C81517466589}" type="slidenum">
              <a:t>25</a:t>
            </a:fld>
          </a:p>
        </p:txBody>
      </p:sp>
    </p:spTree>
  </p:cSld>
  <p:transition>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Art. 20 in fine</a:t>
            </a:r>
            <a:r>
              <a:rPr b="0" lang="es-ES_tradnl" sz="4000" spc="-1" strike="noStrike">
                <a:solidFill>
                  <a:srgbClr val="221304"/>
                </a:solidFill>
                <a:latin typeface="Times New Roman"/>
              </a:rPr>
              <a:t>	</a:t>
            </a:r>
            <a:r>
              <a:rPr b="0" lang="es-ES_tradnl" sz="4000" spc="-1" strike="noStrike">
                <a:solidFill>
                  <a:srgbClr val="221304"/>
                </a:solidFill>
                <a:latin typeface="Times New Roman"/>
              </a:rPr>
              <a:t>LIG (cont.)</a:t>
            </a:r>
            <a:endParaRPr b="0" lang="en-US" sz="40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erior en un 50% al promedio anual de las TRES mejores remuneraciones del personal administrativo.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go vedado por las normas que rijan la constitución y funcionamiento de la entidad.</a:t>
            </a:r>
            <a:endParaRPr b="0" lang="en-US" sz="3200" spc="-1" strike="noStrike">
              <a:solidFill>
                <a:srgbClr val="000000"/>
              </a:solidFill>
              <a:latin typeface="Times New Roman"/>
            </a:endParaRPr>
          </a:p>
        </p:txBody>
      </p:sp>
      <p:sp>
        <p:nvSpPr>
          <p:cNvPr id="168"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C3A7EB8-C0BE-4FC2-8B02-2BBC59F9EDF6}" type="slidenum">
              <a:t>26</a:t>
            </a:fld>
          </a:p>
        </p:txBody>
      </p:sp>
    </p:spTree>
  </p:cSld>
  <p:transition>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Art. 44º Dto. Reglamentario</a:t>
            </a:r>
            <a:endParaRPr b="0" lang="en-US" sz="40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imitación referida a las remuneraciones de los elencos directivos y de contralor de instituciones comprendidas en sus incisos f), g) y m), no será aplicable respecto de aquellas que retribuyan una función de naturaleza distinta efectivamente ejecutada por los mismos.</a:t>
            </a:r>
            <a:endParaRPr b="0" lang="en-US" sz="3200" spc="-1" strike="noStrike">
              <a:solidFill>
                <a:srgbClr val="000000"/>
              </a:solidFill>
              <a:latin typeface="Times New Roman"/>
            </a:endParaRPr>
          </a:p>
        </p:txBody>
      </p:sp>
      <p:sp>
        <p:nvSpPr>
          <p:cNvPr id="171"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277C5E4-29BF-4FA8-9A1F-0F4F97E494E5}" type="slidenum">
              <a:t>27</a:t>
            </a:fld>
          </a:p>
        </p:txBody>
      </p:sp>
    </p:spTree>
  </p:cSld>
  <p:transition>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ES</a:t>
            </a:r>
            <a:endParaRPr b="0" lang="en-US" sz="40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 19/97 (DAT) Ignacio ZZ y Asociados. Remuneración de elencos directivos y de contralor. El salario de los gerentes, subgerentes y jefes que realicen tareas administrativas en estas entidades, que no integran los elencos a que alude el anteúltimo párrafo del artículo 20, deben considerarse a los efectos del cálculo del límite previsto en el mism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D66DE3B-DA22-4839-872D-28E926EFFA46}" type="slidenum">
              <a:t>28</a:t>
            </a:fld>
          </a:p>
        </p:txBody>
      </p:sp>
    </p:spTree>
  </p:cSld>
  <p:transition>
    <p:pull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DICTAMENES</a:t>
            </a:r>
            <a:endParaRPr b="0" lang="en-US" sz="4000" spc="-1" strike="noStrike">
              <a:solidFill>
                <a:srgbClr val="221304"/>
              </a:solidFill>
              <a:latin typeface="Times New Roman"/>
            </a:endParaRPr>
          </a:p>
        </p:txBody>
      </p:sp>
      <p:sp>
        <p:nvSpPr>
          <p:cNvPr id="17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 45/01 (DI ATEC). Sociedad Argentina Asociación Civil. Esta entidad no solo administra un colegio, es la dueña del mismo. El rector y asesor del colegio reciben retribuciones por desempeño de funciones de naturaleza distinta a las remuneraciones que eventualmente podrían recibir por su función en el elenco directivo. Se aplican las normas del Art. 44º del Decreto Reglamentario de la LI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DA14A3F0-D8BF-414B-BD60-5D210AA2B655}" type="slidenum">
              <a:t>29</a:t>
            </a:fld>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6854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21304"/>
                </a:solidFill>
                <a:latin typeface="Times New Roman"/>
              </a:rPr>
              <a:t>FUNDACIONES, ASOCIACIONES Y ENTIDADES CIVILES</a:t>
            </a:r>
            <a:br>
              <a:rPr sz="3600"/>
            </a:br>
            <a:endParaRPr b="0" lang="en-US" sz="3600" spc="-1" strike="noStrike">
              <a:solidFill>
                <a:srgbClr val="221304"/>
              </a:solidFill>
              <a:latin typeface="Times New Roman"/>
            </a:endParaRPr>
          </a:p>
        </p:txBody>
      </p:sp>
      <p:sp>
        <p:nvSpPr>
          <p:cNvPr id="97"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1° Ley N° 19.83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3"/>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sonas jurídicas que se constituyen con un objeto de bien común, sin propósito de lucro, mediante el aporte patrimonial de una o mas personas, destinado a hacer posible sus fines.</a:t>
            </a:r>
            <a:endParaRPr b="0" lang="en-US" sz="2800" spc="-1" strike="noStrike">
              <a:solidFill>
                <a:srgbClr val="000000"/>
              </a:solidFill>
              <a:latin typeface="Times New Roman"/>
            </a:endParaRPr>
          </a:p>
        </p:txBody>
      </p:sp>
      <p:sp>
        <p:nvSpPr>
          <p:cNvPr id="99" name=""/>
          <p:cNvSpPr/>
          <p:nvPr/>
        </p:nvSpPr>
        <p:spPr>
          <a:xfrm>
            <a:off x="6019920" y="624852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5" name="PlaceHolder 4"/>
          <p:cNvSpPr>
            <a:spLocks noGrp="1"/>
          </p:cNvSpPr>
          <p:nvPr>
            <p:ph type="sldNum" idx="3"/>
          </p:nvPr>
        </p:nvSpPr>
        <p:spPr/>
        <p:txBody>
          <a:bodyPr/>
          <a:p>
            <a:fld id="{AB35EC11-7ECB-4F1D-9D2B-286C8F1D1CCE}" type="slidenum">
              <a:t>3</a:t>
            </a:fld>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IMPUESTO A LAS GANANCIAS</a:t>
            </a:r>
            <a:endParaRPr b="0" lang="en-US" sz="4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án exent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20 inciso f) : las ganancias que obtengan las asociaciones, fundaciones y entidades civiles de asistencia social, salud publica, caridad, beneficencia, educación e instrucción, científicas, literarias, artísticas, gremiales y las de cultura física o intelectu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EMPRE QUE:</a:t>
            </a:r>
            <a:endParaRPr b="0" lang="en-US" sz="2800" spc="-1" strike="noStrike">
              <a:solidFill>
                <a:srgbClr val="000000"/>
              </a:solidFill>
              <a:latin typeface="Times New Roman"/>
            </a:endParaRPr>
          </a:p>
        </p:txBody>
      </p:sp>
      <p:sp>
        <p:nvSpPr>
          <p:cNvPr id="102"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91B99D1-2EFD-4003-B6DC-4178002E58BE}" type="slidenum">
              <a:t>4</a:t>
            </a:fld>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21304"/>
                </a:solidFill>
                <a:latin typeface="Times New Roman"/>
              </a:rPr>
              <a:t>REQUISITO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endan al “Bien Común”</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alicen las actividades permitidas.</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us ganancias y patrimonio se destinen a los fines de su creación, no distribución.</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obtengan recursos de la explotación de espectáculos públicos, juegos de azar, etc.</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 desarrollen actividades industriales y/o comerciales. (Sujetos)</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mplan con las limitaciones en cuanto al pago de honorarios a los elencos directivos, etc.</a:t>
            </a:r>
            <a:endParaRPr b="0" lang="en-US" sz="2800" spc="-1" strike="noStrike">
              <a:solidFill>
                <a:srgbClr val="000000"/>
              </a:solidFill>
              <a:latin typeface="Times New Roman"/>
            </a:endParaRPr>
          </a:p>
        </p:txBody>
      </p:sp>
      <p:sp>
        <p:nvSpPr>
          <p:cNvPr id="105"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B9913A1F-3056-49D8-A5E6-839C78E55D3B}" type="slidenum">
              <a:t>5</a:t>
            </a:fld>
          </a:p>
        </p:txBody>
      </p:sp>
    </p:spTree>
  </p:cSld>
  <p:transition>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Elementos a considerar</a:t>
            </a:r>
            <a:endParaRPr b="0" lang="en-US" sz="4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aminar la documentación aportad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cuadrar a la entidad dentro de las prescripciones que rigen al benefici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valuar la congruencia entre la documentación y la realidad económica, hechos reales de la vida de la ent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4DB5631-D054-4266-B7F7-EC559668257B}" type="slidenum">
              <a:t>6</a:t>
            </a:fld>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Elementos a considerar (cont.)</a:t>
            </a:r>
            <a:endParaRPr b="0" lang="en-US" sz="4000" spc="-1" strike="noStrike">
              <a:solidFill>
                <a:srgbClr val="221304"/>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otorgamiento de reconocimientos a favor de las entidades que se consideran encuadradas en las respectivas normas exentivas, esta supeditado a que las cláusulas estatutarias y su funcionamiento se ajusten a aquellas normas, con la condición de que esas circunstancias se mantengan vigentes y sujetas al cumplimiento de los requisitos normativos.</a:t>
            </a:r>
            <a:endParaRPr b="0" lang="en-US" sz="3200" spc="-1" strike="noStrike">
              <a:solidFill>
                <a:srgbClr val="000000"/>
              </a:solidFill>
              <a:latin typeface="Times New Roman"/>
            </a:endParaRPr>
          </a:p>
        </p:txBody>
      </p:sp>
      <p:sp>
        <p:nvSpPr>
          <p:cNvPr id="111"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AEE73ECE-6F51-48CA-90A2-435634B15B55}" type="slidenum">
              <a:t>7</a:t>
            </a:fld>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BIEN COMUN</a:t>
            </a:r>
            <a:r>
              <a:rPr b="0" lang="es-ES_tradnl"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UTAS DE INTERPRETACION:</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olución General (DGI) N° 1432</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inalidad “socialmente útil”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aloraciones de contenido ético, correspondencia con los principios que conforman la moral publica y el espíritu tradicional,</a:t>
            </a:r>
            <a:endParaRPr b="0" lang="en-US" sz="3200" spc="-1" strike="noStrike">
              <a:solidFill>
                <a:srgbClr val="000000"/>
              </a:solidFill>
              <a:latin typeface="Times New Roman"/>
            </a:endParaRPr>
          </a:p>
        </p:txBody>
      </p:sp>
      <p:sp>
        <p:nvSpPr>
          <p:cNvPr id="114"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0C9FF709-341D-4AB0-B773-28538611ABB6}" type="slidenum">
              <a:t>8</a:t>
            </a:fld>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221304"/>
                </a:solidFill>
                <a:latin typeface="Times New Roman"/>
              </a:rPr>
              <a:t>BIEN COMUN</a:t>
            </a:r>
            <a:endParaRPr b="0" lang="en-US" sz="4000" spc="-1" strike="noStrike">
              <a:solidFill>
                <a:srgbClr val="221304"/>
              </a:solidFill>
              <a:latin typeface="Times New Roman"/>
            </a:endParaRPr>
          </a:p>
        </p:txBody>
      </p:sp>
      <p:sp>
        <p:nvSpPr>
          <p:cNvPr id="11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clusión de fines lucrativos para los asociad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utas de interpretación cuando la actividad desarrollada no se encuentra en la enumeración del inciso f),</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tricción a la luz del principio de realidad económic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6019920" y="62485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P. María Carolina Flyn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CFC0C2E9-EDF0-4980-ADA1-20B7422F15F2}" type="slidenum">
              <a:t>9</a:t>
            </a:fld>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3:25:31Z</dcterms:created>
  <dc:creator>AFIP</dc:creator>
  <dc:description/>
  <dc:language>en-US</dc:language>
  <cp:lastModifiedBy>C.P.C.E.C.A.B.A.</cp:lastModifiedBy>
  <dcterms:modified xsi:type="dcterms:W3CDTF">2005-09-21T20:20:06Z</dcterms:modified>
  <cp:revision>40</cp:revision>
  <dc:subject/>
  <dc:title>ENTIDADES SIN FINES DE LUCRO</dc:title>
</cp:coreProperties>
</file>