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7520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1527-DC08-4EB0-83FA-B00E8E32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183-EB3C-4408-8112-5B463652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57D-90E5-445D-AFC6-F3E46A4A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2CA9-95F3-4E36-8CCF-B7BFC52C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2B04-AC7D-4FC9-9B78-63B5BBEA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9FB5-C1AC-4F44-BE36-3A9B29B7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0E1B-A687-4F0D-827A-556FA359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E8AB-95D1-41CD-884F-E42732E5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37DA-AC83-4E8C-A014-9789DDF8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A035-97DA-4DDF-AC6D-F982C6EF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FA2A-D753-4B10-A78A-034354CD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DC0-8E01-4FCB-885D-443367A4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C9B4-709E-4763-8539-0E16ABEC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DA0F-E6AE-4929-8EF7-DEF66A52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BFC6-CBE5-4AEB-B9A4-FEEC1DA9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DCAB-5418-4402-A74A-AF0E0CCF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A754-82C0-43D9-A23F-23497C0B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11E0-DCCE-4A3C-8459-1C9B6B94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3D7-3D5A-4708-8F61-9922ABC3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BB22-4814-4109-BE3F-BA07BFCD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60F0-5708-4348-A7BD-B80A413F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D9C-BAF5-4F19-AB28-A9C449C3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0D4-BB0C-416C-B6EA-C6B450A3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29C-D478-496F-B4CC-EE453730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4BAB-2BB1-4D37-8842-728C7D203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E87C-88A2-40A0-89BC-F2AC5E963E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ahoma"/>
              </a:rPr>
              <a:t>Tablero  de comando de RRHH</a:t>
            </a:r>
            <a:r>
              <a:rPr b="0" lang="en-US" sz="3200" spc="-1" strike="noStrike">
                <a:solidFill>
                  <a:srgbClr val="cbcbc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3352680"/>
            <a:ext cx="617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Recursos Humanos como activo estratég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Control de costos y Creación de valor del Capital H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Valor potencial y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Lic. Rosa L. Fur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bcbcb"/>
                </a:solidFill>
                <a:latin typeface="Tahoma"/>
              </a:rPr>
              <a:t>Arquitectura de RRHH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87520" y="268704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4005360"/>
            <a:ext cx="18003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RH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4005360"/>
            <a:ext cx="18003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RH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59640" y="3933720"/>
            <a:ext cx="180000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RH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4437000"/>
            <a:ext cx="504720" cy="432000"/>
          </a:xfrm>
          <a:prstGeom prst="rightArrow">
            <a:avLst>
              <a:gd name="adj1" fmla="val 50000"/>
              <a:gd name="adj2" fmla="val 29208"/>
            </a:avLst>
          </a:prstGeom>
          <a:solidFill>
            <a:srgbClr val="00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24360" y="4365720"/>
            <a:ext cx="505080" cy="431640"/>
          </a:xfrm>
          <a:prstGeom prst="rightArrow">
            <a:avLst>
              <a:gd name="adj1" fmla="val 50000"/>
              <a:gd name="adj2" fmla="val 29254"/>
            </a:avLst>
          </a:prstGeom>
          <a:solidFill>
            <a:srgbClr val="00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1989000"/>
            <a:ext cx="2087640" cy="1297080"/>
          </a:xfrm>
          <a:prstGeom prst="wedgeRoundRectCallout">
            <a:avLst>
              <a:gd name="adj1" fmla="val -10379"/>
              <a:gd name="adj2" fmla="val 82435"/>
              <a:gd name="adj3" fmla="val 16667"/>
            </a:avLst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206064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quiere una dirección téc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Y una dirección estraté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08360" y="1989000"/>
            <a:ext cx="2087640" cy="1441440"/>
          </a:xfrm>
          <a:prstGeom prst="wedgeRoundRectCallout">
            <a:avLst>
              <a:gd name="adj1" fmla="val 1481"/>
              <a:gd name="adj2" fmla="val 72796"/>
              <a:gd name="adj3" fmla="val 16667"/>
            </a:avLst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0" y="1989000"/>
            <a:ext cx="208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lacio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- la g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- la compens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- la aline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- el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27640" y="2133720"/>
            <a:ext cx="26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sultados obtenidos en conductas productiv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- estratégicas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- de sit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27640" y="2060640"/>
            <a:ext cx="2592360" cy="1297080"/>
          </a:xfrm>
          <a:prstGeom prst="wedgeRoundRectCallout">
            <a:avLst>
              <a:gd name="adj1" fmla="val -12277"/>
              <a:gd name="adj2" fmla="val 79500"/>
              <a:gd name="adj3" fmla="val 16667"/>
            </a:avLst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. Rosa L. Fur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3400" y="15991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ducir la Estrategia a Términos Operativ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definir un perfil futuro y gestionar a travé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Conocimientos, habilidades, sistemas, herramientas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4191120" cy="2998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164360" y="2708280"/>
            <a:ext cx="1676520" cy="1689120"/>
          </a:xfrm>
          <a:prstGeom prst="irregularSeal1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2997360"/>
            <a:ext cx="15019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fil Fut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er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4076640"/>
            <a:ext cx="1873440" cy="720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do de RRH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67280" y="5661000"/>
            <a:ext cx="152388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659640" y="3789360"/>
            <a:ext cx="3841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9720" y="60948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ahoma"/>
              </a:rPr>
              <a:t>Planificación en 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. Rosa L. Fur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292720" y="4149720"/>
            <a:ext cx="2824200" cy="863640"/>
          </a:xfrm>
          <a:prstGeom prst="roundRect">
            <a:avLst>
              <a:gd name="adj" fmla="val 12495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2565360"/>
            <a:ext cx="3543480" cy="934920"/>
          </a:xfrm>
          <a:prstGeom prst="roundRect">
            <a:avLst>
              <a:gd name="adj" fmla="val 12495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2565360"/>
            <a:ext cx="3543120" cy="934920"/>
          </a:xfrm>
          <a:prstGeom prst="roundRect">
            <a:avLst>
              <a:gd name="adj" fmla="val 12495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4149720"/>
            <a:ext cx="2824200" cy="863640"/>
          </a:xfrm>
          <a:prstGeom prst="roundRect">
            <a:avLst>
              <a:gd name="adj" fmla="val 12495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56000" y="5443560"/>
            <a:ext cx="4248000" cy="649440"/>
          </a:xfrm>
          <a:prstGeom prst="roundRect">
            <a:avLst>
              <a:gd name="adj" fmla="val 12495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35280" y="1700280"/>
            <a:ext cx="1944720" cy="576360"/>
          </a:xfrm>
          <a:prstGeom prst="roundRect">
            <a:avLst>
              <a:gd name="adj" fmla="val 12495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bcbcb"/>
                </a:solidFill>
                <a:latin typeface="Tahoma"/>
              </a:rPr>
              <a:t>Efectividad de RRHH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1700280"/>
            <a:ext cx="1944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5240" y="2565360"/>
            <a:ext cx="8724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siones y Actividades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Decisiones y 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la Gerencia de RRHH.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las Otras G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4149720"/>
            <a:ext cx="7129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ectividad de la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Efectivida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ión de RRHH.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general de RRH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56000" y="5445000"/>
            <a:ext cx="417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ectividad de la orga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1" idx="3"/>
            <a:endCxn id="147" idx="0"/>
          </p:cNvCxnSpPr>
          <p:nvPr/>
        </p:nvCxnSpPr>
        <p:spPr>
          <a:xfrm>
            <a:off x="5580000" y="1988640"/>
            <a:ext cx="1124640" cy="57708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8" name=""/>
          <p:cNvCxnSpPr/>
          <p:nvPr/>
        </p:nvCxnSpPr>
        <p:spPr>
          <a:xfrm>
            <a:off x="4140360" y="3068280"/>
            <a:ext cx="778320" cy="108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9" name=""/>
          <p:cNvCxnSpPr>
            <a:stCxn id="151" idx="1"/>
            <a:endCxn id="148" idx="0"/>
          </p:cNvCxnSpPr>
          <p:nvPr/>
        </p:nvCxnSpPr>
        <p:spPr>
          <a:xfrm flipV="1" rot="10800000">
            <a:off x="2382120" y="1987920"/>
            <a:ext cx="1253160" cy="57708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0" name=""/>
          <p:cNvCxnSpPr>
            <a:stCxn id="147" idx="2"/>
            <a:endCxn id="146" idx="0"/>
          </p:cNvCxnSpPr>
          <p:nvPr/>
        </p:nvCxnSpPr>
        <p:spPr>
          <a:xfrm>
            <a:off x="6703560" y="3500280"/>
            <a:ext cx="2520" cy="6501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1" name=""/>
          <p:cNvSpPr/>
          <p:nvPr/>
        </p:nvSpPr>
        <p:spPr>
          <a:xfrm rot="10800000">
            <a:off x="3851280" y="4365360"/>
            <a:ext cx="1440000" cy="863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2123640" y="3716280"/>
            <a:ext cx="576360" cy="144360"/>
          </a:xfrm>
          <a:prstGeom prst="rightArrow">
            <a:avLst>
              <a:gd name="adj1" fmla="val 50000"/>
              <a:gd name="adj2" fmla="val 99813"/>
            </a:avLst>
          </a:prstGeom>
          <a:solidFill>
            <a:srgbClr val="00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6047640" y="3825000"/>
            <a:ext cx="433440" cy="2160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00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59280" y="3716280"/>
            <a:ext cx="3241440" cy="71640"/>
          </a:xfrm>
          <a:prstGeom prst="rect">
            <a:avLst/>
          </a:prstGeom>
          <a:solidFill>
            <a:srgbClr val="00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540800">
            <a:off x="2411280" y="3573000"/>
            <a:ext cx="720720" cy="7308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. Rosa L. Fur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bcbcb"/>
                </a:solidFill>
                <a:latin typeface="Tahoma"/>
              </a:rPr>
              <a:t>Proceso de Creación de Valor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5373720"/>
            <a:ext cx="4248000" cy="649080"/>
          </a:xfrm>
          <a:prstGeom prst="roundRect">
            <a:avLst>
              <a:gd name="adj" fmla="val 12495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pacidades de los trabaj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8560" y="5541840"/>
            <a:ext cx="29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prendizaje y cre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56000" y="3500280"/>
            <a:ext cx="3240360" cy="649440"/>
          </a:xfrm>
          <a:prstGeom prst="roundRect">
            <a:avLst>
              <a:gd name="adj" fmla="val 12495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trega a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4437000"/>
            <a:ext cx="3024360" cy="649440"/>
          </a:xfrm>
          <a:prstGeom prst="roundRect">
            <a:avLst>
              <a:gd name="adj" fmla="val 12495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ceso del ciclo temp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87640" y="4437000"/>
            <a:ext cx="2664000" cy="649440"/>
          </a:xfrm>
          <a:prstGeom prst="roundRect">
            <a:avLst>
              <a:gd name="adj" fmla="val 12495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ceso de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11640" y="2637000"/>
            <a:ext cx="3529080" cy="649080"/>
          </a:xfrm>
          <a:prstGeom prst="roundRect">
            <a:avLst>
              <a:gd name="adj" fmla="val 12495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ealtad de la client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51280" y="1700280"/>
            <a:ext cx="4248000" cy="649080"/>
          </a:xfrm>
          <a:prstGeom prst="roundRect">
            <a:avLst>
              <a:gd name="adj" fmla="val 12495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ntabilidad del capital emple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520" y="450864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ceso empresa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n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7200" y="3213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7360" y="191628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03360" y="6189840"/>
            <a:ext cx="400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uente: Robert S. Kaplan y David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2" idx="0"/>
            <a:endCxn id="173" idx="2"/>
          </p:cNvCxnSpPr>
          <p:nvPr/>
        </p:nvCxnSpPr>
        <p:spPr>
          <a:xfrm flipH="1" flipV="1">
            <a:off x="5974560" y="2348640"/>
            <a:ext cx="2520" cy="2883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79" name=""/>
          <p:cNvCxnSpPr>
            <a:stCxn id="169" idx="0"/>
            <a:endCxn id="172" idx="2"/>
          </p:cNvCxnSpPr>
          <p:nvPr/>
        </p:nvCxnSpPr>
        <p:spPr>
          <a:xfrm flipV="1">
            <a:off x="5976720" y="3285360"/>
            <a:ext cx="1080" cy="214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0" name=""/>
          <p:cNvSpPr/>
          <p:nvPr/>
        </p:nvSpPr>
        <p:spPr>
          <a:xfrm flipV="1">
            <a:off x="4284720" y="429228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08720" y="429228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84720" y="4292640"/>
            <a:ext cx="3024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012000" y="4149360"/>
            <a:ext cx="0" cy="142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796000" y="522900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84720" y="5229360"/>
            <a:ext cx="3024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284720" y="5084640"/>
            <a:ext cx="0" cy="144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308720" y="5084640"/>
            <a:ext cx="0" cy="144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. Rosa L. Fur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bcbcb"/>
                </a:solidFill>
                <a:latin typeface="Tahoma"/>
              </a:rPr>
              <a:t>Desarrollar un Tablero de Comand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71640" y="1773000"/>
            <a:ext cx="7850160" cy="388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609480" indent="-609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dentificar los productos de RRH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dicar el grad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dentificar un sistema de alin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arrollar los factores de contribución que marcarán eficiencia e Impac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quilibrar el control de Costos con la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. Rosa L. Fur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bcbcb"/>
                </a:solidFill>
                <a:latin typeface="Tahoma"/>
              </a:rPr>
              <a:t>Desarrollar un Tablero de Comand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27280" y="1557360"/>
            <a:ext cx="4321080" cy="431640"/>
          </a:xfrm>
          <a:prstGeom prst="roundRect">
            <a:avLst>
              <a:gd name="adj" fmla="val 12495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finir la estrategia empresa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2133720"/>
            <a:ext cx="5761080" cy="504720"/>
          </a:xfrm>
          <a:prstGeom prst="roundRect">
            <a:avLst>
              <a:gd name="adj" fmla="val 12495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rear conciencia de RRHH como activo estraté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43280" y="2997360"/>
            <a:ext cx="3887640" cy="360360"/>
          </a:xfrm>
          <a:prstGeom prst="roundRect">
            <a:avLst>
              <a:gd name="adj" fmla="val 12495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rear el mapa estraté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3573360"/>
            <a:ext cx="6624720" cy="289080"/>
          </a:xfrm>
          <a:prstGeom prst="roundRect">
            <a:avLst>
              <a:gd name="adj" fmla="val 12495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dentificar los productos de RRHH en el mapa estraté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4221000"/>
            <a:ext cx="7201080" cy="289080"/>
          </a:xfrm>
          <a:prstGeom prst="roundRect">
            <a:avLst>
              <a:gd name="adj" fmla="val 12495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binar la arquitectura de RRHH con los productos de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4941720"/>
            <a:ext cx="4032360" cy="358920"/>
          </a:xfrm>
          <a:prstGeom prst="roundRect">
            <a:avLst>
              <a:gd name="adj" fmla="val 12495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eñar el cuadro de m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40000" y="5661000"/>
            <a:ext cx="4896000" cy="647640"/>
          </a:xfrm>
          <a:prstGeom prst="roundRect">
            <a:avLst>
              <a:gd name="adj" fmla="val 12495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mplementar un sistema de dir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 través de la m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1" idx="2"/>
            <a:endCxn id="192" idx="0"/>
          </p:cNvCxnSpPr>
          <p:nvPr/>
        </p:nvCxnSpPr>
        <p:spPr>
          <a:xfrm>
            <a:off x="4788000" y="1989000"/>
            <a:ext cx="2160" cy="145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99" name=""/>
          <p:cNvCxnSpPr>
            <a:stCxn id="192" idx="2"/>
            <a:endCxn id="193" idx="0"/>
          </p:cNvCxnSpPr>
          <p:nvPr/>
        </p:nvCxnSpPr>
        <p:spPr>
          <a:xfrm flipH="1">
            <a:off x="4787640" y="2638080"/>
            <a:ext cx="2160" cy="3596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0" name=""/>
          <p:cNvCxnSpPr>
            <a:stCxn id="193" idx="2"/>
            <a:endCxn id="194" idx="0"/>
          </p:cNvCxnSpPr>
          <p:nvPr/>
        </p:nvCxnSpPr>
        <p:spPr>
          <a:xfrm>
            <a:off x="4788000" y="3357360"/>
            <a:ext cx="2160" cy="2163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1" name=""/>
          <p:cNvCxnSpPr>
            <a:stCxn id="194" idx="2"/>
            <a:endCxn id="195" idx="0"/>
          </p:cNvCxnSpPr>
          <p:nvPr/>
        </p:nvCxnSpPr>
        <p:spPr>
          <a:xfrm flipH="1">
            <a:off x="4787640" y="3862440"/>
            <a:ext cx="2160" cy="358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2" name=""/>
          <p:cNvCxnSpPr>
            <a:stCxn id="195" idx="2"/>
            <a:endCxn id="196" idx="0"/>
          </p:cNvCxnSpPr>
          <p:nvPr/>
        </p:nvCxnSpPr>
        <p:spPr>
          <a:xfrm>
            <a:off x="4787640" y="4509720"/>
            <a:ext cx="1080" cy="4323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3" name=""/>
          <p:cNvCxnSpPr>
            <a:stCxn id="196" idx="2"/>
            <a:endCxn id="197" idx="0"/>
          </p:cNvCxnSpPr>
          <p:nvPr/>
        </p:nvCxnSpPr>
        <p:spPr>
          <a:xfrm>
            <a:off x="4787640" y="5300280"/>
            <a:ext cx="1080" cy="36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4" name=""/>
          <p:cNvCxnSpPr>
            <a:stCxn id="197" idx="1"/>
            <a:endCxn id="193" idx="1"/>
          </p:cNvCxnSpPr>
          <p:nvPr/>
        </p:nvCxnSpPr>
        <p:spPr>
          <a:xfrm flipH="1" rot="10800000">
            <a:off x="2339640" y="3177360"/>
            <a:ext cx="504000" cy="2807640"/>
          </a:xfrm>
          <a:prstGeom prst="bentConnector3">
            <a:avLst>
              <a:gd name="adj1" fmla="val -328377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. Rosa L. Fur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bcbcb"/>
                </a:solidFill>
                <a:latin typeface="Tahoma"/>
              </a:rPr>
              <a:t>Principios de una buena medic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844640"/>
            <a:ext cx="7850520" cy="410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marL="609480" indent="-6094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Medir la función mediante una combinación cuanti-cualitati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entrar la atención en aspectos del 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alizar las mediciones de manera tal de poder evaluar los indicadores causa/efe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lacionar los indicadores clave y medir sus relaciones para aportar significado y comprender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. Rosa L. Fur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bcbcb"/>
                </a:solidFill>
                <a:latin typeface="Tahoma"/>
              </a:rPr>
              <a:t>Cuestiones a recordar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850160" cy="3889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609480" indent="-609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complejidad del sistema y la resistencia al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tentación de medirlo t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valuar causa y efecto en el mismo nivel de an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stinguir los indicadores de causa de los indicadores de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. Rosa L. Furm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5:31:50Z</dcterms:created>
  <dc:creator>ARMANDO</dc:creator>
  <dc:description/>
  <dc:language>en-US</dc:language>
  <cp:lastModifiedBy>C.P.C.E.C.A.B.A.</cp:lastModifiedBy>
  <cp:lastPrinted>1999-07-26T03:17:06Z</cp:lastPrinted>
  <dcterms:modified xsi:type="dcterms:W3CDTF">2005-08-24T18:04:30Z</dcterms:modified>
  <cp:revision>41</cp:revision>
  <dc:subject/>
  <dc:title>Una organización es un sistema de actividades conscientemente coordinadas formado por dos o más personas.      Chester Barnard</dc:title>
</cp:coreProperties>
</file>