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907588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979800" y="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991800" y="696600"/>
            <a:ext cx="5041800" cy="34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8441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979800" y="8844120"/>
            <a:ext cx="304344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F70A-2721-4DF6-9D80-E5979CD77DA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92160" y="696960"/>
            <a:ext cx="5043600" cy="349236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LEE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92160" y="696960"/>
            <a:ext cx="5043600" cy="34923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696960"/>
            <a:ext cx="5043600" cy="34923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36360" y="4420800"/>
            <a:ext cx="51498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696960"/>
            <a:ext cx="5043600" cy="34923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36720" y="5689440"/>
            <a:ext cx="4695840" cy="29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SON PREGUNTAS TON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RT 17  NCP DESARROLLO DE CUESTIONES DE APLIACIÓN GENERA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235A-3DD1-47B3-A5EB-5BB5CE5C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0880" y="4167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CEAC-7F56-4B24-99CE-D543321B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54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0880" y="4167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5480" y="4167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4A8-C8AD-4424-9B0F-DEB20B604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8120" y="2017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5000" y="2017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0880" y="4167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8120" y="4167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5000" y="4167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70F-EEBE-4AD5-A363-E9CE3F16B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603D-6EA3-453B-823D-EB8B331A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68D32-3DB4-4E05-A6F2-96277818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B5A2-FD98-49E7-AF5C-96F29DAC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595480" y="2017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3E4C-4033-4378-BB06-E15A379FA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4546-B3B9-489B-802F-6F28B270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245960" y="617040"/>
            <a:ext cx="84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09A5-EAC4-414D-BFF1-91BBA1CA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95480" y="2017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80880" y="4167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37D4-88F8-4E72-8BF0-EC72902C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8D9E-7217-4242-881C-BAB47975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5954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95480" y="4167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4B06-90F4-404D-A53B-78C60F32E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5954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80880" y="4167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D552-2CF1-4470-97A2-F9F52EB7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80880" y="4167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06F12-EBE4-475C-B82C-4A42FC457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954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80880" y="4167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595480" y="4167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59B6-D7FB-402B-B03A-336BDE240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28120" y="2017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75000" y="201780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80880" y="4167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128120" y="4167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975000" y="41673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2ED2-95F4-4C3E-BC82-3E63C7E3D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DBDD-3455-41A8-83E5-063CC380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5480" y="2017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8A16-BE66-4F23-B1FA-7CD9B61A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88F5-6723-4DC9-BA55-02EBBE5F5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5960" y="617040"/>
            <a:ext cx="84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181-E0A8-487E-BEC9-D09A60E7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5480" y="2017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0880" y="4167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15FC-07E0-44F4-878C-34C6AFFC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54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5480" y="41673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B827-B6ED-4FA3-B28B-0E08E2D1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480" y="201780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41673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90A-9E28-4B03-9E5F-BC57EA20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2520" y="1098720"/>
            <a:ext cx="4744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66880" y="1098720"/>
            <a:ext cx="355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85720" y="1521000"/>
            <a:ext cx="45900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7480" y="1521000"/>
            <a:ext cx="3985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8240" y="1447920"/>
            <a:ext cx="60624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5480" y="990720"/>
            <a:ext cx="3492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9520" y="1781280"/>
            <a:ext cx="89121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2040" y="632448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652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8EEAF-8DAD-4F02-AE6F-DD6FCDA3FE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759600" cy="1052640"/>
            <a:chOff x="0" y="2438280"/>
            <a:chExt cx="97596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314640" y="2546280"/>
              <a:ext cx="770040" cy="474840"/>
              <a:chOff x="314640" y="2546280"/>
              <a:chExt cx="77004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314640" y="2546280"/>
                <a:ext cx="47376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29360" y="2546280"/>
                <a:ext cx="355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48560" y="2968560"/>
              <a:ext cx="798840" cy="474840"/>
              <a:chOff x="448560" y="2968560"/>
              <a:chExt cx="7988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48560" y="2968560"/>
                <a:ext cx="45648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7800" y="2968560"/>
                <a:ext cx="3996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6069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87960" y="2438280"/>
              <a:ext cx="3420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42360" y="3260520"/>
              <a:ext cx="941724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72800" y="18284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107280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71448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742968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E55D-95E3-4CB3-A0FE-7C1EFA3D26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ebpaille@infovia.com.ar" TargetMode="External"/><Relationship Id="rId2" Type="http://schemas.openxmlformats.org/officeDocument/2006/relationships/hyperlink" Target="mailto:ebpaille@infovia.com.ar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86080" y="685440"/>
            <a:ext cx="751176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6000" spc="-1" strike="noStrike">
                <a:solidFill>
                  <a:srgbClr val="ff0000"/>
                </a:solidFill>
                <a:latin typeface="Tahoma"/>
              </a:rPr>
              <a:t>RT 22</a:t>
            </a:r>
            <a:br>
              <a:rPr sz="6000"/>
            </a:br>
            <a:r>
              <a:rPr b="1" lang="es-MX" sz="6000" spc="-1" strike="noStrike">
                <a:solidFill>
                  <a:srgbClr val="000000"/>
                </a:solidFill>
                <a:latin typeface="Tahoma"/>
              </a:rPr>
              <a:t>ACTIVIDAD AGROPECUARIA</a:t>
            </a:r>
            <a:br>
              <a:rPr sz="6000"/>
            </a:br>
            <a:r>
              <a:rPr b="1" lang="es-MX" sz="6000" spc="-1" strike="noStrike">
                <a:solidFill>
                  <a:srgbClr val="000000"/>
                </a:solidFill>
                <a:latin typeface="Tahoma"/>
              </a:rPr>
              <a:t>CPCE CABA</a:t>
            </a:r>
            <a:br>
              <a:rPr sz="6000"/>
            </a:br>
            <a:r>
              <a:rPr b="1" lang="es-MX" sz="6000" spc="-1" strike="noStrike">
                <a:solidFill>
                  <a:srgbClr val="000000"/>
                </a:solidFill>
                <a:latin typeface="Tahoma"/>
              </a:rPr>
              <a:t>13-08-2005</a:t>
            </a:r>
            <a:br>
              <a:rPr sz="6000"/>
            </a:br>
            <a:r>
              <a:rPr b="1" lang="es-MX" sz="3200" spc="-1" strike="noStrike">
                <a:solidFill>
                  <a:srgbClr val="ff0066"/>
                </a:solidFill>
                <a:latin typeface="Tahoma"/>
              </a:rPr>
              <a:t>Eduardo B. A. Paille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FECE-DA42-442A-8919-7DC2BC5AD2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0000ff"/>
                </a:solidFill>
                <a:latin typeface="Tahoma"/>
              </a:rPr>
              <a:t>ENFOQUE BIOLÓGIC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81240" y="1828800"/>
            <a:ext cx="7386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ANIM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0066"/>
                </a:solidFill>
                <a:latin typeface="Tahoma"/>
              </a:rPr>
              <a:t>PROCESOS CONTINUOS-GANADERÍ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9900"/>
                </a:solidFill>
                <a:latin typeface="Tahoma"/>
              </a:rPr>
              <a:t>VEGET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ff00"/>
                </a:solidFill>
                <a:latin typeface="Tahoma"/>
              </a:rPr>
              <a:t>TERMI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ff00"/>
                </a:solidFill>
                <a:latin typeface="Tahoma"/>
              </a:rPr>
              <a:t>CERE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ff00"/>
                </a:solidFill>
                <a:latin typeface="Tahoma"/>
              </a:rPr>
              <a:t>LEGUMB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e4a8"/>
                </a:solidFill>
                <a:latin typeface="Tahoma"/>
              </a:rPr>
              <a:t>PROLONG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e4a8"/>
                </a:solidFill>
                <a:latin typeface="Tahoma"/>
              </a:rPr>
              <a:t>DIRECTOS-FORES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e4a8"/>
                </a:solidFill>
                <a:latin typeface="Tahoma"/>
              </a:rPr>
              <a:t>INDIRECTOS-FRUT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738E-7B58-4D52-A4FA-91885FB8C3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4280" y="617040"/>
            <a:ext cx="7596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es-MX" sz="6000" spc="-1" strike="noStrike">
                <a:solidFill>
                  <a:srgbClr val="0000ff"/>
                </a:solidFill>
                <a:latin typeface="Tahoma"/>
              </a:rPr>
              <a:t>ALTERNATIVA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72800" y="21337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Comic Sans MS"/>
              </a:rPr>
              <a:t>ADAPTAR LOS BIENES BIOLÓGICOS A LOS CRITERIOS CONTABLES DE MEDICIÓ</a:t>
            </a: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AR" sz="2800" spc="-1" strike="noStrike">
                <a:solidFill>
                  <a:srgbClr val="339933"/>
                </a:solidFill>
                <a:latin typeface="Comic Sans MS"/>
              </a:rPr>
              <a:t>V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Comic Sans MS"/>
              </a:rPr>
              <a:t>ADAPTAR LOS CRITERIOS CONTABLES DE MEDICIÓN A LOS BIENES BIOLÓGIC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058-9444-434C-AC8C-607D51B8A7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394000" y="0"/>
            <a:ext cx="6356160" cy="160020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Times New Roman"/>
              </a:rPr>
              <a:t>ALTERNATIVA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50960" y="2438280"/>
            <a:ext cx="2971800" cy="15242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000000"/>
                </a:solidFill>
                <a:latin typeface="Times New Roman"/>
              </a:rPr>
              <a:t>NIC 4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26040" y="2514600"/>
            <a:ext cx="2971800" cy="15238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imes New Roman"/>
              </a:rPr>
              <a:t>RT 2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68520" y="914400"/>
            <a:ext cx="1073160" cy="2057400"/>
          </a:xfrm>
          <a:custGeom>
            <a:avLst/>
            <a:gdLst>
              <a:gd name="textAreaLeft" fmla="*/ 143640 w 1073160"/>
              <a:gd name="textAreaRight" fmla="*/ 929520 w 107316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02480" y="685800"/>
            <a:ext cx="1403640" cy="2590920"/>
          </a:xfrm>
          <a:custGeom>
            <a:avLst/>
            <a:gdLst>
              <a:gd name="textAreaLeft" fmla="*/ 187920 w 1403640"/>
              <a:gd name="textAreaRight" fmla="*/ 1215720 w 1403640"/>
              <a:gd name="textAreaTop" fmla="*/ 453240 h 2590920"/>
              <a:gd name="textAreaBottom" fmla="*/ 187848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46880" y="3962520"/>
            <a:ext cx="577800" cy="1371600"/>
          </a:xfrm>
          <a:prstGeom prst="downArrow">
            <a:avLst>
              <a:gd name="adj1" fmla="val 50000"/>
              <a:gd name="adj2" fmla="val 59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806560" y="3886200"/>
            <a:ext cx="578160" cy="1447920"/>
          </a:xfrm>
          <a:prstGeom prst="downArrow">
            <a:avLst>
              <a:gd name="adj1" fmla="val 50000"/>
              <a:gd name="adj2" fmla="val 62609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568520" y="5257800"/>
            <a:ext cx="3136680" cy="1219320"/>
          </a:xfrm>
          <a:prstGeom prst="hexagon">
            <a:avLst>
              <a:gd name="adj" fmla="val 64312"/>
              <a:gd name="vf" fmla="val 11547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NCP A B.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91280" y="5334120"/>
            <a:ext cx="3137040" cy="1218960"/>
          </a:xfrm>
          <a:prstGeom prst="hexagon">
            <a:avLst>
              <a:gd name="adj" fmla="val 64338"/>
              <a:gd name="vf" fmla="val 115470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.B. A NCP</a:t>
            </a:r>
            <a:r>
              <a:rPr b="1" lang="es-MX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292640" y="4267080"/>
            <a:ext cx="2394000" cy="9144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ADAP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3054240" y="4648320"/>
            <a:ext cx="1238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03840" y="4648320"/>
            <a:ext cx="107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E1B4-9360-4AA8-BD2B-9483619682D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38400" y="457200"/>
            <a:ext cx="8254800" cy="85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CRITERIO DE MEDICIÓN</a:t>
            </a:r>
            <a:br>
              <a:rPr sz="3200"/>
            </a:b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 COSTO</a:t>
            </a: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 vs. </a:t>
            </a:r>
            <a:r>
              <a:rPr b="1" lang="es-MX" sz="3200" spc="-1" strike="noStrike">
                <a:solidFill>
                  <a:srgbClr val="ff0000"/>
                </a:solidFill>
                <a:latin typeface="Tahoma"/>
              </a:rPr>
              <a:t>VNR</a:t>
            </a:r>
            <a:r>
              <a:rPr b="1" lang="es-MX" sz="32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82760" y="1905120"/>
          <a:ext cx="8940600" cy="3905280"/>
        </p:xfrm>
        <a:graphic>
          <a:graphicData uri="http://schemas.openxmlformats.org/drawingml/2006/table">
            <a:tbl>
              <a:tblPr/>
              <a:tblGrid>
                <a:gridCol w="4209840"/>
                <a:gridCol w="2336760"/>
                <a:gridCol w="2394000"/>
              </a:tblGrid>
              <a:tr h="98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DA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IGO 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6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TRIGO B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$ IMPLANT x h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20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RINDE x ha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3.0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ALOR al cost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200,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  <a:tr h="61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alor a VNR x k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32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0,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alor cosechd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0.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300.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8551-405A-4938-9B0C-589CD7BFAFA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38400" y="380520"/>
            <a:ext cx="82548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ESTADO PATRIMONIAL</a:t>
            </a:r>
            <a:br>
              <a:rPr sz="3200"/>
            </a:b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 AL CIER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363680" y="2093760"/>
          <a:ext cx="8089920" cy="3957840"/>
        </p:xfrm>
        <a:graphic>
          <a:graphicData uri="http://schemas.openxmlformats.org/drawingml/2006/table">
            <a:tbl>
              <a:tblPr/>
              <a:tblGrid>
                <a:gridCol w="2268360"/>
                <a:gridCol w="1776600"/>
                <a:gridCol w="1816200"/>
                <a:gridCol w="2228760"/>
              </a:tblGrid>
              <a:tr h="67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DAT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INICI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IERRE A CO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4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CIERRE A V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A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TRI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3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PAS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API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2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2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UTILIDA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9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6600"/>
                          </a:solidFill>
                          <a:latin typeface="Tahoma"/>
                        </a:rPr>
                        <a:t>100,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E7CB-5292-45FD-A790-A56B68FBDE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5960" y="763200"/>
            <a:ext cx="844380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ff"/>
                </a:solidFill>
                <a:latin typeface="Tahoma"/>
              </a:rPr>
              <a:t>PERÍODOS</a:t>
            </a:r>
            <a:br>
              <a:rPr sz="4400"/>
            </a:b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CONTABLES</a:t>
            </a: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 vs.  </a:t>
            </a:r>
            <a:r>
              <a:rPr b="1" lang="es-MX" sz="3200" spc="-1" strike="noStrike">
                <a:solidFill>
                  <a:srgbClr val="ff0000"/>
                </a:solidFill>
                <a:latin typeface="Tahoma"/>
              </a:rPr>
              <a:t>VEGETATIV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4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NU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6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RIMESTR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MENSU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573520" y="2017800"/>
            <a:ext cx="4127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ahoma"/>
              </a:rPr>
              <a:t>VARIABLE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ahoma"/>
              </a:rPr>
              <a:t>EN ESARROL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ahoma"/>
              </a:rPr>
              <a:t>TERMINAD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24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ahoma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5035680" y="2057400"/>
            <a:ext cx="0" cy="403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9CF8-26CB-4AFE-A613-0A965455B9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1905120"/>
            <a:ext cx="4952880" cy="1904760"/>
          </a:xfrm>
          <a:prstGeom prst="ellipse">
            <a:avLst/>
          </a:prstGeom>
          <a:solidFill>
            <a:srgbClr val="cc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VEGETA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00560" y="1981080"/>
            <a:ext cx="4705560" cy="1828800"/>
          </a:xfrm>
          <a:prstGeom prst="ellipse">
            <a:avLst/>
          </a:prstGeom>
          <a:solidFill>
            <a:srgbClr val="ffcf0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ANIMAL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900" spc="-1" strike="noStrike">
                <a:solidFill>
                  <a:srgbClr val="000000"/>
                </a:solidFill>
                <a:latin typeface="Times New Roman"/>
              </a:rPr>
              <a:t>PROCESO CONTINU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98640" y="457200"/>
            <a:ext cx="742968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SITUACIONES AL CIERRE DE EJERCICIOS CONTAB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4876920"/>
            <a:ext cx="1981080" cy="13716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568520" y="3429000"/>
            <a:ext cx="825480" cy="1600200"/>
          </a:xfrm>
          <a:prstGeom prst="downArrow">
            <a:avLst>
              <a:gd name="adj1" fmla="val 50000"/>
              <a:gd name="adj2" fmla="val 4846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01920" y="3429000"/>
            <a:ext cx="825480" cy="1600200"/>
          </a:xfrm>
          <a:prstGeom prst="downArrow">
            <a:avLst>
              <a:gd name="adj1" fmla="val 50000"/>
              <a:gd name="adj2" fmla="val 4846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1160" y="3429000"/>
            <a:ext cx="825480" cy="1600200"/>
          </a:xfrm>
          <a:prstGeom prst="downArrow">
            <a:avLst>
              <a:gd name="adj1" fmla="val 50000"/>
              <a:gd name="adj2" fmla="val 4846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4952880"/>
            <a:ext cx="2889360" cy="129564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C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876920"/>
            <a:ext cx="2889360" cy="1295280"/>
          </a:xfrm>
          <a:prstGeom prst="flowChartAlternateProcess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DESARO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924680" y="4876920"/>
            <a:ext cx="1981440" cy="1371600"/>
          </a:xfrm>
          <a:prstGeom prst="flowChartAlternate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V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37600" y="3429000"/>
            <a:ext cx="825480" cy="1600200"/>
          </a:xfrm>
          <a:prstGeom prst="downArrow">
            <a:avLst>
              <a:gd name="adj1" fmla="val 50000"/>
              <a:gd name="adj2" fmla="val 4846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F35-27B7-4230-A5BA-4A306B5C35B9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68544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400" spc="-1" strike="noStrike">
                <a:solidFill>
                  <a:srgbClr val="333399"/>
                </a:solidFill>
                <a:latin typeface="Tahoma"/>
              </a:rPr>
              <a:t>DISPOSICIONES RT 22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PRUEBA NCP para ACT. AGR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REEMPLAZA SECCIONES RT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DICIONA PÁRRAFOS RT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RECOMIENDA A LOS CP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TRATAMIENTO ACTA CATAMAR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IGENCIA EECC INICIO (1/1/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DIFUS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INVITA CPCE CAB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a ADOPTA por RES. MD. 1/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Vigencia balances iniciados el 1/7/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4881-9BF8-4DE5-8320-15062F551C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485720" y="2437920"/>
            <a:ext cx="6933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1 OBJE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2 ACTIVIDAD AGROPECU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339933"/>
                </a:solidFill>
                <a:latin typeface="Tahoma"/>
              </a:rPr>
              <a:t>3 ALC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4 AMBITO APL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66ff"/>
                </a:solidFill>
                <a:latin typeface="Tahoma"/>
              </a:rPr>
              <a:t>5 DEFINICI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cc66ff"/>
                </a:solidFill>
                <a:latin typeface="Tahoma"/>
              </a:rPr>
              <a:t>6 RECONOCI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00"/>
                </a:solidFill>
                <a:latin typeface="Tahoma"/>
              </a:rPr>
              <a:t>7 MEDICIÓ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3300"/>
                </a:solidFill>
                <a:latin typeface="Tahoma"/>
              </a:rPr>
              <a:t>8 EX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123640" y="617400"/>
            <a:ext cx="7201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33cc"/>
                </a:solidFill>
                <a:latin typeface="Tahoma"/>
              </a:rPr>
              <a:t>RT 22</a:t>
            </a:r>
            <a:br>
              <a:rPr sz="4400"/>
            </a:br>
            <a:r>
              <a:rPr b="0" lang="es-AR" sz="4400" spc="-1" strike="noStrike">
                <a:solidFill>
                  <a:srgbClr val="0033cc"/>
                </a:solidFill>
                <a:latin typeface="Tahoma"/>
              </a:rPr>
              <a:t>CONTENID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463B-E9DB-418A-84F2-4C90DA51CB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45960" y="1152000"/>
            <a:ext cx="8443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T 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Art. 1° OBJETIV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ahoma"/>
              </a:rPr>
              <a:t>CRITERIOS DE MEDICIÓ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0"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0000"/>
                </a:solidFill>
                <a:latin typeface="Tahoma"/>
              </a:rPr>
              <a:t>PAUTAS EXPOSICIÓ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Art. 2° ACTIVIDAD AGROPECUARI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spcBef>
                <a:spcPts val="1001"/>
              </a:spcBef>
              <a:buClr>
                <a:srgbClr val="ff0000"/>
              </a:buClr>
              <a:buSzPct val="55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9933"/>
                </a:solidFill>
                <a:latin typeface="Tahoma"/>
              </a:rPr>
              <a:t>DEFINICIÓ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A19E-54FE-4B61-8623-C620A9206C7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5240" y="380520"/>
            <a:ext cx="8750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Res. MD. 1/2005</a:t>
            </a:r>
            <a:br>
              <a:rPr sz="4400"/>
            </a:br>
            <a:r>
              <a:rPr b="0" lang="es-AR" sz="4000" spc="-1" strike="noStrike">
                <a:solidFill>
                  <a:srgbClr val="333399"/>
                </a:solidFill>
                <a:latin typeface="Tahoma"/>
              </a:rPr>
              <a:t>Adoptada por el</a:t>
            </a:r>
            <a:r>
              <a:rPr b="0" lang="es-AR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C.P.C.E.C.A.B.A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7920" y="2285640"/>
            <a:ext cx="833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UBLICADA B.O. 12/2/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PRUEBA LA SEGUNDA PARTE DE LA RT. 22 de la FACP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ORMAS CONTABLES PROFESIONALES: ACTIVIDAD AGROPECUAR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ahoma"/>
              </a:rPr>
              <a:t>VIG. EJ. INIC. 01/06/2005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218-C4BA-470E-B9BB-995735675E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71160" y="3805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T 22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20840" y="1219320"/>
            <a:ext cx="8370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cc"/>
                </a:solidFill>
                <a:latin typeface="Tahoma"/>
              </a:rPr>
              <a:t>Art. 3° ALC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CTIVOS BIOLÓGIC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PRODUCTOS AGROPECUARI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HASTA SU DISPOSI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Comic Sans MS"/>
              </a:rPr>
              <a:t>UTILIZACIÓN COMO </a:t>
            </a:r>
            <a:r>
              <a:rPr b="1" lang="es-MX" sz="2400" spc="-1" strike="noStrike" u="sng">
                <a:solidFill>
                  <a:srgbClr val="ff3300"/>
                </a:solidFill>
                <a:uFillTx/>
                <a:latin typeface="Comic Sans MS"/>
              </a:rPr>
              <a:t>INSUMO 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RESUL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TRIBUÍDOS PROD. AGROP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EF38-B8B1-4D32-9180-D457D71076C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31640" y="693720"/>
            <a:ext cx="824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Tahoma"/>
              </a:rPr>
              <a:t>RT 22 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72800" y="914040"/>
            <a:ext cx="82551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t. 3°. ALCANCE (cont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Esta resolución técnica no incluye  otros rubros que no tienen o no tuvieron desarrollo biológico, tales como la tierra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No obstante, si el uso agropecuario disminuye sus condiciones, el deterioro es un cos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No incluye el tratamiento del procesamiento</a:t>
            </a: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800" spc="-1" strike="noStrike">
                <a:solidFill>
                  <a:srgbClr val="333399"/>
                </a:solidFill>
                <a:latin typeface="Tahoma"/>
              </a:rPr>
              <a:t>posterior a su obtención (uva-vin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BB3C-596A-4A82-83B9-CE73B604BC9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45960" y="1152000"/>
            <a:ext cx="84438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RT 2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Art. 4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ÁMBITO DE APLIC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TODOS LOS ENTES QUE DESARROLLAN ACTIVIDAD AGROPECURIA, INCLUYENDO AQUELLAS QUE HACEN UN USO MENOR O NULO DE LA TIER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AB4B-BE79-4DE8-9B6D-7FFC0A0DB40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403280" y="1980720"/>
            <a:ext cx="7429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Tahoma"/>
              </a:rPr>
              <a:t>TRANSFORMACIÓN BIOLÓGIC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Tahoma"/>
              </a:rPr>
              <a:t>ACTIVOS BIOLÓGIC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N DESARROL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EN PRODU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TERMIN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Tahoma"/>
              </a:rPr>
              <a:t>OBTENCIÓN DE PROD. AGROP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Tahoma"/>
              </a:rPr>
              <a:t>PRODUCTOS AGROPECUARI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Tahoma"/>
              </a:rPr>
              <a:t>MERCADO ACTIV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Tahoma"/>
              </a:rPr>
              <a:t>ETAPAS DEL DESARROLLO BIO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INICIAL DE DES. BIOLÓG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ahoma"/>
              </a:rPr>
              <a:t>SIGUIENTE DEL DES. BIOLÓGIC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3300"/>
                </a:solidFill>
                <a:latin typeface="Tahoma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0000ff"/>
                </a:solidFill>
                <a:uFillTx/>
                <a:latin typeface="Tahoma"/>
              </a:rPr>
              <a:t>RT 22 -  5-</a:t>
            </a:r>
            <a:r>
              <a:rPr b="1" lang="es-MX" sz="4400" spc="-1" strike="noStrike" u="sng">
                <a:solidFill>
                  <a:srgbClr val="0000ff"/>
                </a:solidFill>
                <a:uFillTx/>
                <a:latin typeface="Tahoma"/>
              </a:rPr>
              <a:t>	</a:t>
            </a:r>
            <a:r>
              <a:rPr b="1" lang="es-MX" sz="4400" spc="-1" strike="noStrike" u="sng">
                <a:solidFill>
                  <a:srgbClr val="0000ff"/>
                </a:solidFill>
                <a:uFillTx/>
                <a:latin typeface="Tahoma"/>
              </a:rPr>
              <a:t>DEFINIC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0EC-392E-4230-A0CE-6D93ED6D48F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45960" y="617400"/>
            <a:ext cx="7995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RCADO ACTIV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20840" y="1371240"/>
            <a:ext cx="83707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 u="sng">
                <a:solidFill>
                  <a:srgbClr val="000000"/>
                </a:solidFill>
                <a:uFillTx/>
                <a:latin typeface="Arial Unicode MS"/>
                <a:ea typeface="Times New Roman"/>
              </a:rPr>
              <a:t>REQUISITOS A CUMPL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oductos</a:t>
            </a: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es-AR" sz="4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omogéneos;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mpradores y vendedores</a:t>
            </a: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suficientes en forma habitual, es decir que deben existir </a:t>
            </a:r>
            <a:r>
              <a:rPr b="1" lang="es-AR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transacciones en la fecha o fechas cercanas</a:t>
            </a: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a la de las mediciones contables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los </a:t>
            </a:r>
            <a:r>
              <a:rPr b="1" lang="es-AR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precios </a:t>
            </a: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 las transacciones deben ser </a:t>
            </a:r>
            <a:r>
              <a:rPr b="1" lang="es-AR" sz="36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conocidos</a:t>
            </a:r>
            <a:r>
              <a:rPr b="0" lang="es-AR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por los entes que operan en dichos mercado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73B6-3F41-4902-B2D0-4BC942277DF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485720" y="9140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ff"/>
                </a:solidFill>
                <a:latin typeface="Tahoma"/>
              </a:rPr>
              <a:t>ART. 6° RECONOCIMIENT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86080" y="1599840"/>
            <a:ext cx="7594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OS ENTES DESCRIPTOS DEBEN RECONOCER LA EXISTENCIA DE UN ACTIVO BIOLÓGICO O DE UN PRODUCTO AGROPECUARIO SÓLO CUANDO SE HAYAN SATISFECHO  REQUISITOS 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SECCIÓN 5 de la RT 1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CAP. 4 (ELEMENTOS DE LOS EECC) ver 4.2.2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CAP. 3 punto 3.1.2. (Confiabilidad credibilida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Tahoma"/>
              </a:rPr>
              <a:t>SECCIÓN 2.1 DE LA RT 17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Tahoma"/>
              </a:rPr>
              <a:t>Reconocimien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7701-7EA4-4F6F-B4FE-86F30025872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71160" y="380520"/>
            <a:ext cx="8420040" cy="1295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Tahoma"/>
              </a:rPr>
              <a:t>VALOR LÍMITE</a:t>
            </a:r>
            <a:br>
              <a:rPr sz="4400"/>
            </a:br>
            <a:r>
              <a:rPr b="1" lang="es-MX" sz="4400" spc="-1" strike="noStrike">
                <a:solidFill>
                  <a:srgbClr val="000000"/>
                </a:solidFill>
                <a:latin typeface="Tahoma"/>
              </a:rPr>
              <a:t>RT 17 4.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NINGÚN ACTIVO PODRÁ  TEN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UN VALOR SUPERIOR AL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 u="sng">
                <a:solidFill>
                  <a:srgbClr val="ff3300"/>
                </a:solidFill>
                <a:uFillTx/>
                <a:latin typeface="Tahoma"/>
              </a:rPr>
              <a:t>VALOR RECUPERAB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QUE ES EL MAYOR ENTRE VNR 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es-MX" sz="3200" spc="-1" strike="noStrike">
                <a:solidFill>
                  <a:srgbClr val="0000ff"/>
                </a:solidFill>
                <a:latin typeface="Tahoma"/>
              </a:rPr>
              <a:t>su VALOR USO (FFFesperad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CF95-9A73-428B-AC20-79FFC190AB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0000"/>
                </a:solidFill>
                <a:latin typeface="Tahoma"/>
              </a:rPr>
              <a:t>7 MEDICIÓN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PARA LA MEDICIÓN CONTABL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DE LOS ACTIVOS BIOLÓGICOS DEBEN EMPLEARSE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Tahoma"/>
              </a:rPr>
              <a:t>LOS SIGUIENTES CRITERIOS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FE29-E385-4C1B-A40B-DEF37247CE2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1238400" y="0"/>
          <a:ext cx="776448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0" y="0"/>
                    <a:ext cx="776448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269-1A9F-4806-A223-5722EF6E962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111320"/>
            <a:ext cx="9991800" cy="46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B95-CE3D-4A1A-9A6B-6262C8CDB9D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6160" y="845640"/>
            <a:ext cx="7851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ff0000"/>
                </a:solidFill>
                <a:latin typeface="Times New Roman"/>
              </a:rPr>
              <a:t>ANTECEDENTES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73160" y="2362320"/>
            <a:ext cx="8832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INF. 1 y 2 CAPEA (12/1991-4/1992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INF. 19 FACPCE (199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NIC 41 (12/2000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RT 22 (3/2004:vigencia 1/1/2005)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6336-BD8A-4E20-AD15-C5798BEE81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3" name=""/>
          <p:cNvGraphicFramePr/>
          <p:nvPr/>
        </p:nvGraphicFramePr>
        <p:xfrm>
          <a:off x="990720" y="1752480"/>
          <a:ext cx="8502480" cy="4140360"/>
        </p:xfrm>
        <a:graphic>
          <a:graphicData uri="http://schemas.openxmlformats.org/drawingml/2006/table">
            <a:tbl>
              <a:tblPr/>
              <a:tblGrid>
                <a:gridCol w="5778360"/>
                <a:gridCol w="2724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RITERIOS MEDI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RT</a:t>
                      </a:r>
                      <a:r>
                        <a:rPr b="1" lang="es-AR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17</a:t>
                      </a:r>
                      <a:r>
                        <a:rPr b="1" lang="es-AR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 </a:t>
                      </a:r>
                      <a:r>
                        <a:rPr b="1" lang="es-AR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CRITERIO BIOLÓG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0066"/>
                          </a:solidFill>
                          <a:latin typeface="Tahoma"/>
                        </a:rPr>
                        <a:t>V.CTTE./F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N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-4.3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V- MERCADO REFERENCI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22-7.1.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FLUJOS FONDOS DESCO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22.7.1.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R. BS.SIMILAR ADQ. 3ro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339933"/>
                          </a:solidFill>
                          <a:latin typeface="Tahoma"/>
                        </a:rPr>
                        <a:t>22.7.2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OSTO DE REPOSIC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-4.3.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0000ff"/>
                          </a:solidFill>
                          <a:latin typeface="Tahoma"/>
                        </a:rPr>
                        <a:t>COSTO ORIG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17-4.3.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00"/>
                </a:solidFill>
                <a:latin typeface="Tahoma"/>
              </a:rPr>
              <a:t>ACTIVOS BIOLÓGICOS CRITERIOS MED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8460-85CC-42B3-A25C-E4140E5EA02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45960" y="632880"/>
            <a:ext cx="8443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7.3 ACTIVOS BIOLÓGICOS CON PROCESOS PRODUCTIVOS CONTINU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20840" y="1828800"/>
            <a:ext cx="8585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LA PRODUCCIÓN GENERADA POR ACTIVOS BIOLOGICOS PODRA SER DETERMINADA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AL M° OCURR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N FORMA MENSU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EN UN PERIODO MAYOR SOLO SÍ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IMPOSIBLE O MUY COSTOS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SE CONSIDERE NO ORIGINARÁ DIFERENCIAS SUSTANCIA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F5C1-2A0A-4BA3-82E6-609545C3362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ahoma"/>
              </a:rPr>
              <a:t>PRODUCCIÓN </a:t>
            </a:r>
            <a:br>
              <a:rPr sz="4400"/>
            </a:br>
            <a:r>
              <a:rPr b="1" lang="es-ES" sz="3200" spc="-1" strike="noStrike">
                <a:solidFill>
                  <a:srgbClr val="3333cc"/>
                </a:solidFill>
                <a:latin typeface="Tahoma"/>
              </a:rPr>
              <a:t>GENERADA POR </a:t>
            </a:r>
            <a:br>
              <a:rPr sz="3200"/>
            </a:br>
            <a:r>
              <a:rPr b="1" lang="es-ES" sz="3200" spc="-1" strike="noStrike">
                <a:solidFill>
                  <a:srgbClr val="3333cc"/>
                </a:solidFill>
                <a:latin typeface="Tahoma"/>
              </a:rPr>
              <a:t>ACTIVOS BIOLÓGIC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 PRODUCCIÓN SE GENERA EN FORMA </a:t>
            </a:r>
            <a:r>
              <a:rPr b="1" lang="en-US" sz="3200" spc="-1" strike="noStrike">
                <a:solidFill>
                  <a:srgbClr val="ff0066"/>
                </a:solidFill>
                <a:latin typeface="Tahoma"/>
              </a:rPr>
              <a:t>¿CONTINU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A PRODUCCIÓN GENERADA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Tahoma"/>
              </a:rPr>
              <a:t>PODRÁ SER DETERMINAD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 MOMENTO DE SU OCURRENC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 FORMA MENS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ÍODO MAYOR PREDETERMINADO Y EXPLICITA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7E5-C81F-4E79-B367-4FE3D630B53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ahoma"/>
              </a:rPr>
              <a:t>DADO QUE GENERALMENTE ES CONTINU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UEG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SU MEDICIÓN PERIÓDICA RESULTA MAS REPRESENTATIVA QUE SI SE EFECTÚA AL CIERRE DEL PERÍODO CON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66"/>
                </a:solidFill>
                <a:uFillTx/>
                <a:latin typeface="Tahoma"/>
              </a:rPr>
              <a:t>¿PORQUÉ? </a:t>
            </a:r>
            <a:r>
              <a:rPr b="1" lang="es-ES" sz="2800" spc="-1" strike="noStrike" u="sng">
                <a:solidFill>
                  <a:srgbClr val="3333cc"/>
                </a:solidFill>
                <a:uFillTx/>
                <a:latin typeface="Tahoma"/>
              </a:rPr>
              <a:t>¿ESTACIONALIDA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0066"/>
                </a:solidFill>
                <a:uFillTx/>
                <a:latin typeface="Tahoma"/>
              </a:rPr>
              <a:t>¿LA PRODUCCIÓN ES IGUAL EN TODAS LAS ESTACI</a:t>
            </a:r>
            <a:r>
              <a:rPr b="1" lang="es-AR" sz="2800" spc="-1" strike="noStrike" u="sng">
                <a:solidFill>
                  <a:srgbClr val="ff0066"/>
                </a:solidFill>
                <a:uFillTx/>
                <a:latin typeface="Tahoma"/>
              </a:rPr>
              <a:t>O</a:t>
            </a:r>
            <a:r>
              <a:rPr b="1" lang="es-ES" sz="2800" spc="-1" strike="noStrike" u="sng">
                <a:solidFill>
                  <a:srgbClr val="ff0066"/>
                </a:solidFill>
                <a:uFillTx/>
                <a:latin typeface="Tahoma"/>
              </a:rPr>
              <a:t>NES DEL AÑ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NO OBSTANTE PODRA ADOPTARSE EL CRITERIO DE PRODUCCIÒN 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6677-F129-416C-946A-04184C6A8A4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46320" y="617400"/>
            <a:ext cx="7999200" cy="6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OPTADO EL CRITERIO 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485720" y="167616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R AL MOMENTO DE OCURRENCIA O PERIÓDICAME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 MISMA DEBERA SER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¿AJUSTADA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FUNCIÓN DEL CRECIMIENTO O DECRECIMIEN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OCURRIDO ENTRE LA FECHA DE MEDICIÓN Y EL CIERRE DEL PERÍODO CON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 TODOS LOS CASOS EL ACTIVO SUBYACENT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BERÁ SER MEDIDO AL CIERRE DEL PERÍODO CONTABLE 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¿O ES EL ACTIVO EL QUE DETERMINA LA PRODUCCIÒ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9E49-0522-4319-894E-A7070E841CB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ahoma"/>
              </a:rPr>
              <a:t>Resultados generados por el cambio de valor de los productos agropecuarios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ahoma"/>
              </a:rPr>
              <a:t>SI SON MEDIDO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3333cc"/>
                </a:solidFill>
                <a:uFillTx/>
                <a:latin typeface="Tahoma"/>
              </a:rPr>
              <a:t>con posterioridad a su obtención</a:t>
            </a: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A VN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serán </a:t>
            </a:r>
            <a:r>
              <a:rPr b="1" lang="es-AR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EXPUESTOS</a:t>
            </a:r>
            <a:r>
              <a:rPr b="0" lang="es-AR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 como </a:t>
            </a:r>
            <a:r>
              <a:rPr b="1" lang="es-AR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resultado por valuación de bienes de cambio</a:t>
            </a:r>
            <a:r>
              <a:rPr b="0" lang="es-AR" sz="2400" spc="-1" strike="noStrike">
                <a:solidFill>
                  <a:srgbClr val="ff0066"/>
                </a:solidFill>
                <a:latin typeface="Tahoma"/>
                <a:ea typeface="Times New Roman"/>
              </a:rPr>
              <a:t> </a:t>
            </a:r>
            <a:r>
              <a:rPr b="1" lang="es-AR" sz="2400" spc="-1" strike="noStrike" u="sng">
                <a:solidFill>
                  <a:srgbClr val="ff0066"/>
                </a:solidFill>
                <a:uFillTx/>
                <a:latin typeface="Tahoma"/>
                <a:ea typeface="Times New Roman"/>
              </a:rPr>
              <a:t>a V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COSTO REPOSI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rán expuestos como </a:t>
            </a:r>
            <a:r>
              <a:rPr b="1" lang="es-A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SULTADOS POR TENENC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255-D8B2-4373-8D7C-34B7E40F78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45960" y="0"/>
            <a:ext cx="865980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UALQUIER CAMBIO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EN LOS VALORE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E MERCAD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IGNADO A LA PRODUCCIÓN SERÁ CONSIDERADO RESULTADO POR TENENCIA SERÁN (VER 8.2.2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RÁN RESULTADOS POR TENENCI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RÁN RESULTADOS POR LA VALUACIÓN DE BIENES DE CAMBIO A V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5A49-A336-4B55-8C85-A9507169C7E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457880" y="380880"/>
            <a:ext cx="4127400" cy="1371600"/>
          </a:xfrm>
          <a:prstGeom prst="rect">
            <a:avLst/>
          </a:prstGeom>
          <a:solidFill>
            <a:srgbClr val="ff0066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75080" y="2133720"/>
            <a:ext cx="3549600" cy="1143000"/>
          </a:xfrm>
          <a:prstGeom prst="plus">
            <a:avLst>
              <a:gd name="adj" fmla="val 25000"/>
            </a:avLst>
          </a:prstGeom>
          <a:solidFill>
            <a:srgbClr val="ff9966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OCURR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75080" y="3657600"/>
            <a:ext cx="4622760" cy="1219320"/>
          </a:xfrm>
          <a:prstGeom prst="plus">
            <a:avLst>
              <a:gd name="adj" fmla="val 25000"/>
            </a:avLst>
          </a:prstGeom>
          <a:solidFill>
            <a:srgbClr val="cc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ERIÓD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49600" y="5181480"/>
            <a:ext cx="5448240" cy="1219320"/>
          </a:xfrm>
          <a:prstGeom prst="plus">
            <a:avLst>
              <a:gd name="adj" fmla="val 25000"/>
            </a:avLst>
          </a:prstGeom>
          <a:solidFill>
            <a:srgbClr val="ffff99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AN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238400" y="1676520"/>
            <a:ext cx="2063520" cy="1523880"/>
          </a:xfrm>
          <a:prstGeom prst="ellipse">
            <a:avLst/>
          </a:prstGeom>
          <a:solidFill>
            <a:srgbClr val="ccff33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DEVE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486080" y="0"/>
            <a:ext cx="1568160" cy="1447920"/>
          </a:xfrm>
          <a:prstGeom prst="ellipse">
            <a:avLst/>
          </a:prstGeom>
          <a:solidFill>
            <a:srgbClr val="33cc33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71800" y="0"/>
            <a:ext cx="1486080" cy="762120"/>
          </a:xfrm>
          <a:prstGeom prst="leftArrow">
            <a:avLst>
              <a:gd name="adj1" fmla="val 50000"/>
              <a:gd name="adj2" fmla="val 48748"/>
            </a:avLst>
          </a:prstGeom>
          <a:solidFill>
            <a:srgbClr val="ff0066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28760" y="1371600"/>
            <a:ext cx="412920" cy="685800"/>
          </a:xfrm>
          <a:prstGeom prst="downArrow">
            <a:avLst>
              <a:gd name="adj1" fmla="val 50000"/>
              <a:gd name="adj2" fmla="val 41521"/>
            </a:avLst>
          </a:prstGeom>
          <a:solidFill>
            <a:srgbClr val="339933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01920" y="2057400"/>
            <a:ext cx="1155960" cy="685800"/>
          </a:xfrm>
          <a:prstGeom prst="rightArrow">
            <a:avLst>
              <a:gd name="adj1" fmla="val 50000"/>
              <a:gd name="adj2" fmla="val 42139"/>
            </a:avLst>
          </a:prstGeom>
          <a:solidFill>
            <a:srgbClr val="ff9966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37040" y="3352680"/>
            <a:ext cx="2476440" cy="1143000"/>
          </a:xfrm>
          <a:prstGeom prst="lightningBolt">
            <a:avLst/>
          </a:prstGeom>
          <a:solidFill>
            <a:srgbClr val="cc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5480" y="3048120"/>
            <a:ext cx="2889360" cy="2743200"/>
          </a:xfrm>
          <a:prstGeom prst="flowChartMagneticTape">
            <a:avLst/>
          </a:prstGeom>
          <a:solidFill>
            <a:srgbClr val="ffff99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Ver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Oto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Invie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imes New Roman"/>
              </a:rPr>
              <a:t>Primav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394000" y="5181480"/>
            <a:ext cx="2476440" cy="1143000"/>
          </a:xfrm>
          <a:prstGeom prst="lightningBolt">
            <a:avLst/>
          </a:prstGeom>
          <a:solidFill>
            <a:srgbClr val="ccffff"/>
          </a:solidFill>
          <a:ln cap="sq"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8823-AB99-438B-9462-B52D7877954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403280" y="1905120"/>
            <a:ext cx="1486080" cy="39621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A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C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T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I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V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O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 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301920" y="4191120"/>
            <a:ext cx="743040" cy="1600200"/>
          </a:xfrm>
          <a:prstGeom prst="upArrow">
            <a:avLst>
              <a:gd name="adj1" fmla="val 50000"/>
              <a:gd name="adj2" fmla="val 5384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210200" y="3886200"/>
            <a:ext cx="742680" cy="1905120"/>
          </a:xfrm>
          <a:prstGeom prst="upArrow">
            <a:avLst>
              <a:gd name="adj1" fmla="val 50000"/>
              <a:gd name="adj2" fmla="val 6413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78360" y="1828800"/>
            <a:ext cx="743040" cy="3962520"/>
          </a:xfrm>
          <a:prstGeom prst="upArrow">
            <a:avLst>
              <a:gd name="adj1" fmla="val 50000"/>
              <a:gd name="adj2" fmla="val 133321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2895480"/>
            <a:ext cx="743040" cy="2895840"/>
          </a:xfrm>
          <a:prstGeom prst="upArrow">
            <a:avLst>
              <a:gd name="adj1" fmla="val 50000"/>
              <a:gd name="adj2" fmla="val 97432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82000" y="1905120"/>
            <a:ext cx="1485720" cy="39621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1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4267080"/>
            <a:ext cx="5118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40320" y="3886200"/>
            <a:ext cx="4457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65800" y="2971800"/>
            <a:ext cx="354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91280" y="1828800"/>
            <a:ext cx="206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549600" y="914400"/>
            <a:ext cx="2889360" cy="8380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TRIMES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94560" y="4724280"/>
            <a:ext cx="990720" cy="5335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29680" y="3809880"/>
            <a:ext cx="1072800" cy="3812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512120" y="3124080"/>
            <a:ext cx="907920" cy="60984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12120" y="2133720"/>
            <a:ext cx="990360" cy="685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603840" y="457200"/>
            <a:ext cx="2806920" cy="1371600"/>
          </a:xfrm>
          <a:prstGeom prst="downArrowCallout">
            <a:avLst>
              <a:gd name="adj1" fmla="val 51166"/>
              <a:gd name="adj2" fmla="val 51161"/>
              <a:gd name="adj3" fmla="val 16667"/>
              <a:gd name="adj4" fmla="val 6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PRODUCC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=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D803-BD12-4708-A3E9-B960C64C10C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28760" y="1828800"/>
            <a:ext cx="1486080" cy="39625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1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044960" y="2438280"/>
            <a:ext cx="1320840" cy="335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94000" y="685800"/>
            <a:ext cx="1155600" cy="762120"/>
          </a:xfrm>
          <a:prstGeom prst="downArrowCallout">
            <a:avLst>
              <a:gd name="adj1" fmla="val 37911"/>
              <a:gd name="adj2" fmla="val 37907"/>
              <a:gd name="adj3" fmla="val 16667"/>
              <a:gd name="adj4" fmla="val 6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VN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75080" y="685800"/>
            <a:ext cx="1155600" cy="762120"/>
          </a:xfrm>
          <a:prstGeom prst="downArrowCallout">
            <a:avLst>
              <a:gd name="adj1" fmla="val 37911"/>
              <a:gd name="adj2" fmla="val 37907"/>
              <a:gd name="adj3" fmla="val 16667"/>
              <a:gd name="adj4" fmla="val 6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VM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778360" y="2666880"/>
            <a:ext cx="3467160" cy="2438640"/>
          </a:xfrm>
          <a:prstGeom prst="beve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TEN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03720" y="533520"/>
            <a:ext cx="8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VM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952880" y="1676520"/>
            <a:ext cx="3137040" cy="685800"/>
          </a:xfrm>
          <a:prstGeom prst="rightArrow">
            <a:avLst>
              <a:gd name="adj1" fmla="val 50000"/>
              <a:gd name="adj2" fmla="val 11435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ahoma"/>
              </a:rPr>
              <a:t>DIF=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A02C-E89E-4F4D-B6BB-B7AB01CE9C1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68160" y="457200"/>
            <a:ext cx="7677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ff0066"/>
                </a:solidFill>
                <a:latin typeface="Tahoma"/>
              </a:rPr>
              <a:t>ACTIVIDAD AGROPECUA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38400" y="2286000"/>
            <a:ext cx="8089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¿PORQUÉ DE UNA RT ESPECÍFICA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¿QUÉ ESPECIFICIDAD PRESENTA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¿CUÁLES SON LAS DIFERENCIAS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92F-89F9-4389-B30C-D9A9D58838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333399"/>
                </a:solidFill>
                <a:latin typeface="Tahoma"/>
              </a:rPr>
              <a:t>EXPOSICIÓ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90000"/>
              </a:lnSpc>
              <a:spcBef>
                <a:spcPts val="1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339933"/>
                </a:solidFill>
                <a:latin typeface="Tahoma"/>
              </a:rPr>
              <a:t>ACTIVOS BIOLÓGICOS: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INCLUIDOS OBLIGATORIAMEN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com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3300"/>
                </a:solidFill>
                <a:latin typeface="Tahoma"/>
              </a:rPr>
              <a:t>BIEN DE CAMBI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3300"/>
                </a:solidFill>
                <a:latin typeface="Tahoma"/>
              </a:rPr>
              <a:t>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ff3300"/>
                </a:solidFill>
                <a:latin typeface="Tahoma"/>
              </a:rPr>
              <a:t>BIEN DE USO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9D82-8335-410F-B250-7B9C90B3515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85720" y="457200"/>
            <a:ext cx="7429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ff"/>
                </a:solidFill>
                <a:latin typeface="Tahoma"/>
                <a:ea typeface="Times New Roman"/>
              </a:rPr>
              <a:t>8.1 EXPOSICIÓN </a:t>
            </a:r>
            <a:br>
              <a:rPr sz="3600"/>
            </a:br>
            <a:r>
              <a:rPr b="1" lang="es-MX" sz="3600" spc="-1" strike="noStrike">
                <a:solidFill>
                  <a:srgbClr val="0000ff"/>
                </a:solidFill>
                <a:latin typeface="Tahoma"/>
                <a:ea typeface="Times New Roman"/>
              </a:rPr>
              <a:t>EN ESTADO DE SITUACIÓN PATRIMONI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733040" y="1828800"/>
            <a:ext cx="7347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ENES DE CAMB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RMIN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 PRODU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IENES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 DESARROLL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ERMINAD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 PRODUC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LICAR POR NO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NO USO 7.2.2 PORQUE NO 7.2.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O COSTO DE REPOSI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7.1.3. NO USO CONDICIONES M.ACTIV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DF9F-8716-4AB4-997D-DEEB58E7033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85720" y="533520"/>
            <a:ext cx="84200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ff"/>
                </a:solidFill>
                <a:latin typeface="Tahoma"/>
                <a:ea typeface="Times New Roman"/>
              </a:rPr>
              <a:t>8.2 EXPOSICIÓ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8.2 EXPOSICIÓN DE INGRESOS POR PRODUC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8.2.1 RECONOCIMIENTO INGRESOS POR PRODUC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s el incremento de valor por cambios cuantitativos o cualitativos –volumen físico y/o calidad- en los bienes con crecimiento vegetativo, como consecuencia de sus procesos biológic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DAMENTO= HECHO FÍSICO/BIOLÓGI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B031-CE0A-4BA5-A3EB-1B7DB330B06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3300"/>
                </a:solidFill>
                <a:latin typeface="Tahoma"/>
              </a:rPr>
              <a:t>8.2.1. RECONOCIMIENTO INGRESO POR P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MOMENTO DE OBTEN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CUANDO SE LOGRA EL PRODUCT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j. SOJA, MAÍZ, TRIGO, ET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PROCESOS CONTINU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L MOMENTO DE CIERRE DEL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j. RODEOS GANADERO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PROCESOS PROLONG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AL MOMENTO DE CIERRE DEL PERÍODO SI EL CRITERIO DE MEDICIÓN PERMITE MEDIR EL CRECIMIENTO VEGETATIV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E3AA-9D42-4C5A-ACE1-68D1670268A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ff0066"/>
                </a:solidFill>
                <a:latin typeface="Tahoma"/>
              </a:rPr>
              <a:t>8.2.2 UBICACIÓN INGRESOS POR PRODUCCIÓ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EL RESULTADO NETO SE INCLUIRÁ EN EL CUERPO DEL ESTADO EN UN RUBRO ESPECÍFICO ENT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COSTO Y BS. Y SERV. PRESTA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RDO. POR VALUAR BC. A VN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EL RESULTADO ESTA COMPUE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VALOR PS. AGROP. OBTENID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VALORIZACIÓN A.B. DURANTE PERI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DESVALORIZACIÓN A.B. DURANTE PERI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Tahoma"/>
              </a:rPr>
              <a:t>COSTOS TRANSFORMACIÓN BIOLÓGIC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5492-FA9C-4553-89A9-A59FE2D385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73160" y="457200"/>
            <a:ext cx="84535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ff"/>
                </a:solidFill>
                <a:latin typeface="Tahoma"/>
              </a:rPr>
              <a:t>8.2.2. Cont. UBICACIÓN  INGRESOS P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80880" y="3007800"/>
            <a:ext cx="842004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DETERMINA QUE EL INGRESO POR PRODUCCIÓN ES LA PRINCIPAL FUENTE  DEL RESULTADO EN ESTE TIPO DE ENTES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ahoma"/>
              </a:rPr>
              <a:t>NO OBSTANT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41AD-7D8B-4E72-81C4-66193C750A3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3300"/>
                </a:solidFill>
                <a:latin typeface="Tahoma"/>
              </a:rPr>
              <a:t>8.2.2 UBICACIÓN </a:t>
            </a:r>
            <a:br>
              <a:rPr sz="3600"/>
            </a:br>
            <a:r>
              <a:rPr b="1" lang="es-MX" sz="3600" spc="-1" strike="noStrike">
                <a:solidFill>
                  <a:srgbClr val="ff3300"/>
                </a:solidFill>
                <a:latin typeface="Tahoma"/>
              </a:rPr>
              <a:t>INGRESOS POR PRODUCCIÓ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EN LAS EMPRESAS CON PRINCIPAL ACTIVADAD AGROPECUARIAS ENCABEZARAN EL CUADRO DE RESULTAD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EN LAS EMPRESAS OBLIGADAS A COMPLIR CON FORMATOS ESPECÍFICOS (COTIZAN EN BOLSAS) FIGURAN EN UNA LINEA ENTRE EL COSTO DE BIENES VENDIDOS Y SERVICIOS PRESTADO Y EL RSULTADO POR VALUACIÓN DE BIENES DE CAMBIO A VALOR NETO DE RE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6D8D-0010-45A7-96D9-64A71C863CE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cc"/>
                </a:solidFill>
                <a:latin typeface="Tahoma"/>
              </a:rPr>
              <a:t>RESULTADOS POR TENENCI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LOS RESULTADOS POR TENENCIAS SE DIVIDIRAN 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OS ORIGINADOS COMO CONSECUENCIA DE VALUAR A VALOR NETO DE REALIZ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66"/>
                </a:solidFill>
                <a:latin typeface="Tahoma"/>
              </a:rPr>
              <a:t>SE UBICAN A CONTINUACIÓN DEL RESULTADO BRU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ahoma"/>
              </a:rPr>
              <a:t>LOS ORIGINADOS COMO CONSECUENCIA DE VALUAR COSTO DE REPOSI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SE UBICAN  COMO RESULTADOS DE TENENCI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C26A-903D-4BD4-B35F-0CD771E959D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8. EXPOSI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1403280" y="0"/>
            <a:ext cx="7346880" cy="28195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8. EXPOSICIÓ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0240" y="2286000"/>
            <a:ext cx="4457880" cy="2209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1 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SI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PATRI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48240" y="1600200"/>
            <a:ext cx="3632400" cy="20574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2 ES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RD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46320" y="5943600"/>
            <a:ext cx="907920" cy="9144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46320" y="4267080"/>
            <a:ext cx="907920" cy="7621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46320" y="5105520"/>
            <a:ext cx="907920" cy="7617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715000"/>
            <a:ext cx="1238400" cy="685800"/>
          </a:xfrm>
          <a:prstGeom prst="flowChartDisplay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4191120"/>
            <a:ext cx="1238400" cy="761760"/>
          </a:xfrm>
          <a:prstGeom prst="flowChartDisplay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19480" y="5105520"/>
            <a:ext cx="2146320" cy="685800"/>
          </a:xfrm>
          <a:custGeom>
            <a:avLst/>
            <a:gdLst>
              <a:gd name="textAreaLeft" fmla="*/ 80640 w 2146320"/>
              <a:gd name="textAreaRight" fmla="*/ 2065680 w 2146320"/>
              <a:gd name="textAreaTop" fmla="*/ 80640 h 685800"/>
              <a:gd name="textAreaBottom" fmla="*/ 605160 h 685800"/>
            </a:gdLst>
            <a:ahLst/>
            <a:rect l="textAreaLeft" t="textAreaTop" r="textAreaRight" b="textAreaBottom"/>
            <a:pathLst>
              <a:path w="6757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3976" y="21600"/>
                </a:lnTo>
                <a:arcTo wR="3600" hR="3600" stAng="10800000" swAng="5400000"/>
                <a:lnTo>
                  <a:pt x="67576" y="3600"/>
                </a:lnTo>
                <a:arcTo wR="3600" hR="3600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al C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384720" y="4419720"/>
            <a:ext cx="1568160" cy="533160"/>
          </a:xfrm>
          <a:custGeom>
            <a:avLst/>
            <a:gdLst>
              <a:gd name="textAreaLeft" fmla="*/ 62640 w 1568160"/>
              <a:gd name="textAreaRight" fmla="*/ 1505520 w 1568160"/>
              <a:gd name="textAreaTop" fmla="*/ 62640 h 533160"/>
              <a:gd name="textAreaBottom" fmla="*/ 470520 h 533160"/>
            </a:gdLst>
            <a:ahLst/>
            <a:rect l="textAreaLeft" t="textAreaTop" r="textAreaRight" b="textAreaBottom"/>
            <a:pathLst>
              <a:path w="63503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903" y="21600"/>
                </a:lnTo>
                <a:arcTo wR="3600" hR="3600" stAng="10800000" swAng="5400000"/>
                <a:lnTo>
                  <a:pt x="63503" y="3600"/>
                </a:lnTo>
                <a:arcTo wR="3600" hR="3600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01920" y="5943600"/>
            <a:ext cx="1733760" cy="914400"/>
          </a:xfrm>
          <a:custGeom>
            <a:avLst/>
            <a:gdLst>
              <a:gd name="textAreaLeft" fmla="*/ 107640 w 1733760"/>
              <a:gd name="textAreaRight" fmla="*/ 1626120 w 17337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4094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7347" y="21600"/>
                </a:lnTo>
                <a:arcTo wR="3600" hR="3600" stAng="10800000" swAng="5400000"/>
                <a:lnTo>
                  <a:pt x="40947" y="3600"/>
                </a:lnTo>
                <a:arcTo wR="3600" hR="3600" stAng="5400000" swAng="5400000"/>
                <a:close/>
              </a:path>
            </a:pathLst>
          </a:cu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Natu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rale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07920" y="4267080"/>
            <a:ext cx="825480" cy="83844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5638680"/>
            <a:ext cx="907920" cy="814680"/>
          </a:xfrm>
          <a:prstGeom prst="bevel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48240" y="3657600"/>
            <a:ext cx="3054240" cy="1981080"/>
          </a:xfrm>
          <a:prstGeom prst="downArrowCallout">
            <a:avLst>
              <a:gd name="adj1" fmla="val 38546"/>
              <a:gd name="adj2" fmla="val 38543"/>
              <a:gd name="adj3" fmla="val 16667"/>
              <a:gd name="adj4" fmla="val 6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ONO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502480" y="3581280"/>
            <a:ext cx="578160" cy="1981440"/>
          </a:xfrm>
          <a:custGeom>
            <a:avLst/>
            <a:gdLst>
              <a:gd name="textAreaLeft" fmla="*/ 77400 w 578160"/>
              <a:gd name="textAreaRight" fmla="*/ 500760 w 578160"/>
              <a:gd name="textAreaTop" fmla="*/ 346680 h 1981440"/>
              <a:gd name="textAreaBottom" fmla="*/ 14367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3360" y="5638680"/>
            <a:ext cx="4044960" cy="1219320"/>
          </a:xfrm>
          <a:prstGeom prst="rect">
            <a:avLst/>
          </a:prstGeom>
          <a:gradFill rotWithShape="0">
            <a:gsLst>
              <a:gs pos="0">
                <a:srgbClr val="5e7546"/>
              </a:gs>
              <a:gs pos="50000">
                <a:srgbClr val="ccff99"/>
              </a:gs>
              <a:gs pos="100000">
                <a:srgbClr val="5e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UBICACI</a:t>
            </a:r>
            <a:r>
              <a:rPr b="1" lang="es-AR" sz="2800" spc="-1" strike="noStrike">
                <a:solidFill>
                  <a:srgbClr val="ff0066"/>
                </a:solidFill>
                <a:latin typeface="Tahoma"/>
              </a:rPr>
              <a:t>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66"/>
                </a:solidFill>
                <a:latin typeface="Tahoma"/>
              </a:rPr>
              <a:t>PRODUCCIO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080640" y="4876920"/>
            <a:ext cx="825480" cy="1143000"/>
          </a:xfrm>
          <a:custGeom>
            <a:avLst/>
            <a:gdLst>
              <a:gd name="textAreaLeft" fmla="*/ 275040 w 825480"/>
              <a:gd name="textAreaRight" fmla="*/ 707040 w 825480"/>
              <a:gd name="textAreaTop" fmla="*/ 658440 h 1143000"/>
              <a:gd name="textAreaBottom" fmla="*/ 9792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63080" y="1219320"/>
            <a:ext cx="743040" cy="3733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2590920"/>
            <a:ext cx="1320840" cy="1981080"/>
          </a:xfrm>
          <a:custGeom>
            <a:avLst/>
            <a:gdLst>
              <a:gd name="textAreaLeft" fmla="*/ 176760 w 1320840"/>
              <a:gd name="textAreaRight" fmla="*/ 1144080 w 132084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403280" y="5105520"/>
            <a:ext cx="577800" cy="533160"/>
          </a:xfrm>
          <a:prstGeom prst="rightArrow">
            <a:avLst>
              <a:gd name="adj1" fmla="val 50000"/>
              <a:gd name="adj2" fmla="val 27093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06560" y="5105520"/>
            <a:ext cx="578160" cy="533160"/>
          </a:xfrm>
          <a:prstGeom prst="rightArrow">
            <a:avLst>
              <a:gd name="adj1" fmla="val 50000"/>
              <a:gd name="adj2" fmla="val 2711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8C3C-40DD-4B6B-ADCE-152AF45AC1A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412920" y="457200"/>
            <a:ext cx="9493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1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ahoma"/>
              </a:rPr>
              <a:t>Cualquier duda o pregunta: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1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ahoma"/>
              </a:rPr>
              <a:t>A continuación o en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1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ebpaille</a:t>
            </a:r>
            <a:r>
              <a:rPr b="0" lang="es-ES" sz="4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@infovia.com.a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lnSpc>
                <a:spcPct val="21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ahoma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5745-968D-4357-99BF-C902A75EBAB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85720" y="304920"/>
            <a:ext cx="842004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ff"/>
                </a:solidFill>
                <a:latin typeface="Tahoma"/>
              </a:rPr>
              <a:t>FACTORES DIFERENCIALES DE LA PRODUCCIÓN AGROPECUARI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2240" y="2437920"/>
            <a:ext cx="7883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Tahoma"/>
              </a:rPr>
              <a:t>SUELO Y CLI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0000"/>
                </a:solidFill>
                <a:latin typeface="Tahoma"/>
              </a:rPr>
              <a:t>ACTIVOS BIOLÓGICOS QUE IMPLICA </a:t>
            </a:r>
            <a:r>
              <a:rPr b="1" lang="es-AR" sz="4000" spc="-1" strike="noStrike">
                <a:solidFill>
                  <a:srgbClr val="33cc33"/>
                </a:solidFill>
                <a:latin typeface="Tahoma"/>
              </a:rPr>
              <a:t>CRECIMIENTO AUTOGENERADO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33cc33"/>
                </a:solidFill>
                <a:uFillTx/>
                <a:latin typeface="Comic Sans MS"/>
              </a:rPr>
              <a:t>   </a:t>
            </a:r>
            <a:r>
              <a:rPr b="1" lang="es-AR" sz="3600" spc="-1" strike="noStrike" u="sng">
                <a:solidFill>
                  <a:srgbClr val="33cc33"/>
                </a:solidFill>
                <a:uFillTx/>
                <a:latin typeface="Comic Sans MS"/>
              </a:rPr>
              <a:t>PRODUCCIÓN AGROPECUARI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29A-FF70-4BF8-93D3-9367879CB6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99"/>
                </a:solidFill>
                <a:latin typeface="Tahoma"/>
              </a:rPr>
              <a:t>ACTIVOS AGROPECU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CARACTERÍSTICAS DIFERENCIA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ORIGEN BIOLÓGIC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AUTOGENERAN VAL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CICLOS PRODUC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HOMOGENEIDA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COMERCIALIZABLES SIN ESFUERZOS SIGNIFICATIVO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ahoma"/>
              </a:rPr>
              <a:t>MERCADOS AMPLIOS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5280-AF49-43C4-8B54-9E7D1DB86F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  <a:ea typeface="Arial"/>
              </a:rPr>
              <a:t>RT 16 - 4.2.2. </a:t>
            </a:r>
            <a:br>
              <a:rPr sz="4400"/>
            </a:br>
            <a:r>
              <a:rPr b="0" lang="es-ES_tradnl" sz="3200" spc="-1" strike="noStrike">
                <a:solidFill>
                  <a:srgbClr val="333399"/>
                </a:solidFill>
                <a:latin typeface="Arial"/>
                <a:ea typeface="Arial"/>
              </a:rPr>
              <a:t>Ingresos, gastos, ganancias y pérdidas.</a:t>
            </a: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2º párraf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Los ingresos resultan generalmente de ventas de bienes y servicios pero también pueden resultar de actividades internas, </a:t>
            </a:r>
            <a:r>
              <a:rPr b="1" lang="es-ES_tradnl" sz="3200" spc="-1" strike="noStrike" u="sng">
                <a:solidFill>
                  <a:srgbClr val="ff0066"/>
                </a:solidFill>
                <a:uFillTx/>
                <a:latin typeface="Arial"/>
                <a:ea typeface="Arial"/>
              </a:rPr>
              <a:t>como el crecimiento natural o inducido de determinados activos en una explotación agropecuaria</a:t>
            </a: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 o la extracción de petróleo o gas en esta industr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3A2-8E6E-4BD3-B807-401B21E1B5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85720" y="1279080"/>
            <a:ext cx="842004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MODELO CONTABLE </a:t>
            </a:r>
            <a:br>
              <a:rPr sz="4000"/>
            </a:br>
            <a:r>
              <a:rPr b="0" lang="es-MX" sz="4000" spc="-1" strike="noStrike">
                <a:solidFill>
                  <a:srgbClr val="333399"/>
                </a:solidFill>
                <a:latin typeface="Tahoma"/>
              </a:rPr>
              <a:t>RT1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55600" y="2209680"/>
            <a:ext cx="4044960" cy="419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ahoma"/>
              </a:rPr>
              <a:t>MONEDA DE CUEN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ahoma"/>
              </a:rPr>
              <a:t>CRITERIOS DE MEDICIÓN CO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Tahoma"/>
              </a:rPr>
              <a:t>CAPITAL A MANTE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ff"/>
                </a:solidFill>
                <a:latin typeface="Tahoma"/>
              </a:rPr>
              <a:t>(para que exist</a:t>
            </a:r>
            <a:r>
              <a:rPr b="1" lang="es-MX" sz="2000" spc="-1" strike="noStrike">
                <a:solidFill>
                  <a:srgbClr val="0000ff"/>
                </a:solidFill>
                <a:latin typeface="Tahoma"/>
              </a:rPr>
              <a:t>a</a:t>
            </a:r>
            <a:r>
              <a:rPr b="1" lang="es-ES" sz="2000" spc="-1" strike="noStrike">
                <a:solidFill>
                  <a:srgbClr val="0000ff"/>
                </a:solidFill>
                <a:latin typeface="Tahoma"/>
              </a:rPr>
              <a:t> gananci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737320" y="2133360"/>
            <a:ext cx="4168800" cy="42670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HOMOGEN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DE LOS ACT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DESTINO+PROB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DE LOS PASIV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INTENCIÓN y POSIBILID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FINANCI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DA7-6FCF-4B13-8EF4-690803DD111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45960" y="617040"/>
            <a:ext cx="84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000000"/>
                </a:solidFill>
                <a:latin typeface="Tahoma"/>
              </a:rPr>
              <a:t>ENFOQUE CONTABLE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80880" y="20178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ff0066"/>
                </a:solidFill>
                <a:uFillTx/>
                <a:latin typeface="Tahoma"/>
              </a:rPr>
              <a:t>DESTINADOS A LA VENTA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CON MERCAD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SIN MERCAD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 u="sng">
                <a:solidFill>
                  <a:srgbClr val="cc0000"/>
                </a:solidFill>
                <a:uFillTx/>
                <a:latin typeface="Tahoma"/>
              </a:rPr>
              <a:t>DESTINADOS A FACTOR DE LA PRODUCCIÓ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CON MERCADO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0000"/>
                </a:solidFill>
                <a:latin typeface="Tahoma"/>
              </a:rPr>
              <a:t>SIN MERCAD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B5D0-0A91-42A1-87E3-14619F9F9C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8T21:37:54Z</dcterms:created>
  <dc:creator>E.Paillet</dc:creator>
  <dc:description/>
  <dc:language>en-US</dc:language>
  <cp:lastModifiedBy>Thelma Karen Stretcu</cp:lastModifiedBy>
  <dcterms:modified xsi:type="dcterms:W3CDTF">2005-06-13T14:38:19Z</dcterms:modified>
  <cp:revision>77</cp:revision>
  <dc:subject/>
  <dc:title>6. Modelo contable </dc:title>
</cp:coreProperties>
</file>